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1A8-C459-42C2-8C9F-111EE465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32C-FDBE-4C05-B656-A4A8D51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054-112B-432A-96E5-F6A80BE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872-7237-4DE7-92F5-81B86DB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12C-A4B7-400D-BBA0-278E61ED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EE0-ADC7-4746-97F0-8ED25612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081-A72E-4E09-994C-5483BEB4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221-A6C5-4EBF-9072-6ECDC82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335-BDEF-4940-AD77-E529B99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EB5-9EFD-4F20-87DA-458EA7EF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78A-D279-4BD5-938C-52567DC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809-D6C4-43BD-8BF3-7ACC029D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882-C653-4C4E-A046-27F923960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General Ec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普通生态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现在大气成分及含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42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种主要气体：氮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70.08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氧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.95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氩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0.93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，共占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99.96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水汽：随时空及温度变化，占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0-3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液固态微粒：水滴、尘埃、花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表面的温度和化学组成是受地球表面的生命总体（生物圈）主动调节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大气受干扰而发生变化，生物通过改变其生长和代谢，如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光合作用和呼吸作用等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缓和地球表面的这些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Gaia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假说认为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Gaia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假说的现实生态学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前，环境问题威胁着人类的可持续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大量化石燃料燃烧，森林面积的急剧减小，大气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CO</a:t>
            </a:r>
            <a:r>
              <a:rPr b="0" lang="zh-CN" sz="4000" spc="-1" strike="noStrike" baseline="-30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浓度的升高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三、生物多样性（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Biodiversity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前地球上的生物至少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0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万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组成了地球上最大的功能单元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（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Biosphere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四、生物圈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Biospher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：是地球上所有动物、植物和微生物等生物有机体及其活动空间的总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的核心部分，即地表面以上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米至水面下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米之间，集中了绝大部分生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圈产生的“泵”的作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以生物过程推动能量、水、物质、动量的输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一般包括：生产者、消费者、分解者和无机环境四部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圈的两个重要部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植被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是生物圈中最重要的组成部分，同各圈存在紧密联系。进行物质和能量的交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植被的分布影响地气系统的辐射平衡和动量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6920" y="836280"/>
            <a:ext cx="685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物理气候系统中的植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、海洋浮游生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特别是海洋浮游植物，是生物圈的一个重要部分。是碳循环的重要组成部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546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人类能否生活在其它星球上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课程的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-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绪论及生物与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3-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种群生态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6-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、生物群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9-1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生态系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环境保护与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人们居住的地球被称为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； 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和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将建在南北极，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准备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2020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年发射到月球上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1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雨林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2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疏林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海洋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沼澤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3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沙漠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4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密集的農耕地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5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人類棲地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6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和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7) 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人造肺部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8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能源中心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9)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冷却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第二节  生态学的形成及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一、生态学的定义及研究对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二、生态学的形成与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三、生态学的方法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态学是研究生物及环境间相互关系的科学。即：生物及其群体与环境相互作用的过程及其相互规律的科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的是指导人与生物圈的协调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近代生态学定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二）生态学的研究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态学属宏观生物学范畴，但现代生态学向微观和宏观两个方向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1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根据研究对象的组织水平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分子生态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lecular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进化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Evolutionary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个体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ut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Physiological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种群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Population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群落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ommunity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yn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生态系统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Ecosystem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景观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Landscape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全球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现代生物学组织层次划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研究对象的分类学类群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lant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动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nimal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微生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icrobial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昆虫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sect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人类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Human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研究对象的生境类别划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淡水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Fresh-water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海洋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Marine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河口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stuary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湿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Wetland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热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rop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陆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errestri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陆地生态学又可分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森林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Forest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草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rassland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荒漠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Desert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冻原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undra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。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4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交叉学科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数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mathemat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化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chem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物理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phys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地理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eograph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生理生态学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physiolog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进化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volutionary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行为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behavior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遗传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enet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经济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conom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第一节  地球上的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5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应用领域划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农业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Agro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城市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Urban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污染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Pollution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渔业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Fishery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放射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Radio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资源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Resource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二、生态学的形成与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（一）生态学萌芽时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在公元前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00-10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年间，朦胧的生态学思想已见诸于希腊和中国的古歌谣和著作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Aristotle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按栖息地划分了动物类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群落生态学方面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,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先后提出了诸如顶极群落、演替动态、生物群落类型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biom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）、植被连续性和排序等重要的概念，对生态学理论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的发展起了重要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形成了几个中心或学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北欧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他们重视群落分析、森林群落与土壤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H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值关系，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1935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年以后，与法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瑞学派合流，合称西欧学派，或叫大陆学派。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法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瑞学派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这学派的特点是重视群落研究的方法，用特征种和区别种划分群落的类型，建立了严密的植被等级分类系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英美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是重视群落的动态，从植物群落演替观点提出演替系列、演替阶段、群落分类方法，并提出了演替顶极的概念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(Climax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前苏联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注重建群种与优势种，建立了一个植被等级分类系统，并重视植被生态与植被地理工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四）现代生态学的时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研究对象的多层次性更明显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研究手段的更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在理论、应用方面获得了全面的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研究的国际性是其发展的趋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三、生态学的方法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（一）树立生态学的基本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层次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整体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系统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协同进化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二）掌握基本的研究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原地观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受控实验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生态学的综合方法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一、什么是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命是具有自我复制和具负载遗传信息功能的核酸等生物大分子，高度组织化的物质结构；通过生物膜实现内外的分隔，形成细胞，构成组织与生物体，并实现内外物质交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三）学会理论联系实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首先要掌握生态学的基本原理。认真阅读教材，深入理解，归纳总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脚踏实地开展实践活动，增强独立科研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二、生命的起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维生环境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的形成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与组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化学进化阶段：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上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3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年前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简单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生物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缺少氧气、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紫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、毒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、溫度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变化极大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环境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学进化：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年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前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蓝绿藻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Cyanophyta</a:t>
            </a: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出現，光合作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而产生氧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逐渐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改变大气环境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01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对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地球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大气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形成的影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600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空气中的氧含量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左右；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若高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于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25%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木材也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会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燃火；若是低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于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15%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则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燃火就很困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难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最早的光合作用可能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S + C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→ C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S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从运用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4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S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转变</a:t>
            </a: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运</a:t>
            </a: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用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4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01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逐渐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演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为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C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 → C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有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年，光合作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都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转变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成氧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铁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积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海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光合作用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年至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20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年前，光合作用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才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开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始在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中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累计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真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核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eukaryotic)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生物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约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在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年前出現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当时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大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的氧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量只有現在的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%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现在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地球有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58%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的氧形成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e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38%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与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岩石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O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2-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结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合成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大陆红床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 beds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只有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4%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进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入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成的臭氧层吸收紫外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普通 生态学</cp:keywords>
  <dc:language>en-US</dc:language>
  <cp:lastModifiedBy/>
  <cp:revision>0</cp:revision>
  <dc:subject/>
  <dc:title/>
</cp:coreProperties>
</file>