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21.wmf" ContentType="image/x-wmf"/>
  <Override PartName="/ppt/media/image4.wmf" ContentType="image/x-wmf"/>
  <Override PartName="/ppt/media/image20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wmf" ContentType="image/x-wmf"/>
  <Override PartName="/ppt/media/image14.gif" ContentType="image/gi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0C4-4413-4802-9717-21189E91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605-F24D-4CA7-81F1-C5FC5F57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E2F-A867-4D48-A063-337DF397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A79-1F4F-46B5-A117-02E43048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C817-CFC7-44F6-A780-0BEBC6F6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FA01-8D19-4D58-B5E0-5DD7F21F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DD81-8BDA-4194-97DB-6E7AEEED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4DAE-6427-4424-A477-19172C5F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C018-E88F-4772-803C-053DD510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8E6C-4FB5-4C8C-AAD3-55CEE0C4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FC29-58CB-4102-AC61-078B093E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AE5-EC3B-4C26-9097-6773D39F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6F56-FE72-402C-8265-6B65F000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6CE9-CD0C-4384-8956-A92BEDC9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86C0-9983-4775-8141-C0A5B59E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DFE1-69BD-44FB-B699-29658A67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0A28-A027-4E79-9B3B-2B51308B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93E-D305-4FFE-9DFB-B03629A9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C78-0A6A-4E7B-857A-27CE914B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0B1-355A-4A12-9DF2-AB20EA39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508-4858-415E-AE29-1D4D2E3C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A1C-CA84-4D37-B6C0-1E005CE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2A8-5365-48CE-9D91-8C5A5BC4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A45-2091-4FCE-BD25-CE0BA56F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4412-4523-4386-9578-7D9170B3B1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BA70-56E9-4398-80D4-36F292BFA6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5050"/>
                </a:solidFill>
                <a:latin typeface="Times New Roman"/>
                <a:ea typeface="华文彩云"/>
              </a:rPr>
              <a:t>轻轻松松上初中</a:t>
            </a:r>
            <a:endParaRPr b="0" lang="en-US" sz="9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72392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数学是好玩的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012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再看一个更悬的，标题是：这怎么可能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19320" y="2795760"/>
          <a:ext cx="761976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95760"/>
                    <a:ext cx="761976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数学是有趣的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学们听说过阿凡提分马的故事吗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古时一位老人有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19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匹马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要分给他的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个儿子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.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他对儿子说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: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我死后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这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19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匹马就是你们的财产了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你们要爱护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真主保佑你们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!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这些马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老大得二分之一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老二得四分之一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老三得五分之一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  ……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还没说完就咽气了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.</a:t>
            </a:r>
            <a:r>
              <a:rPr b="0" lang="zh-CN" sz="36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238880" y="4419720"/>
          <a:ext cx="104796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4419720"/>
                    <a:ext cx="104796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数学是美丽的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0120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1206"/>
                </a:solidFill>
                <a:latin typeface="隶书"/>
                <a:ea typeface="隶书"/>
              </a:rPr>
              <a:t>现有各种形状的公园若干个（如下图），正多边形公园的各个顶点处均设置有亭子，现要在公园内设计道路，使从每一个亭子出来可以走到任意另一个亭子（不经过其它亭子），并且道路要尽可能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4952880"/>
            <a:ext cx="1143000" cy="838440"/>
          </a:xfrm>
          <a:prstGeom prst="triangle">
            <a:avLst>
              <a:gd name="adj" fmla="val 5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952880"/>
            <a:ext cx="838080" cy="762120"/>
          </a:xfrm>
          <a:prstGeom prst="rect">
            <a:avLst/>
          </a:prstGeom>
          <a:solidFill>
            <a:srgbClr val="e99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5029200"/>
            <a:ext cx="990720" cy="838080"/>
          </a:xfrm>
          <a:prstGeom prst="hexagon">
            <a:avLst>
              <a:gd name="adj" fmla="val 29553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4876920"/>
            <a:ext cx="1066680" cy="990360"/>
          </a:xfrm>
          <a:prstGeom prst="pentagon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20eba"/>
                </a:solidFill>
                <a:latin typeface="Times New Roman"/>
                <a:ea typeface="华文新魏"/>
              </a:rPr>
              <a:t>怎样让学习更有效率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心理学博士：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作为一个学习者，有不同的学习通道。其中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29%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的人是视觉学习者；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34%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是听觉学习者；还有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37%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是动觉学习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当前家长的教育方式有两个易犯的错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4d19f5"/>
                </a:solidFill>
                <a:latin typeface="隶书"/>
                <a:ea typeface="隶书"/>
              </a:rPr>
              <a:t>◆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用外在条件刺激孩子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4d19f5"/>
                </a:solidFill>
                <a:latin typeface="隶书"/>
                <a:ea typeface="隶书"/>
              </a:rPr>
              <a:t>◆  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用时间长度衡量孩子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2924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f072f"/>
                </a:solidFill>
                <a:latin typeface="Times New Roman"/>
                <a:ea typeface="华文新魏"/>
              </a:rPr>
              <a:t>学习知识和提高能力的关系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19f5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基础知识是提高能力的基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19f5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最有价值的知识是方法的知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19f5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· </a:t>
            </a: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能力是赢得竞争的关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             </a:t>
            </a: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19f5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· </a:t>
            </a: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初中阶段是培养能力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             </a:t>
            </a: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大好时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2262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d19f5"/>
                </a:solidFill>
                <a:latin typeface="Times New Roman"/>
                <a:ea typeface="华文新魏"/>
              </a:rPr>
              <a:t>全面发展和个性特长的关系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20e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0eba"/>
                </a:solidFill>
                <a:latin typeface="Times New Roman"/>
                <a:ea typeface="华文隶书"/>
              </a:rPr>
              <a:t>社会需要全面发展的综合性人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20e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0eba"/>
                </a:solidFill>
                <a:latin typeface="Times New Roman"/>
                <a:ea typeface="华文隶书"/>
              </a:rPr>
              <a:t>科学进步也要高尖端的专业骨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20e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0eba"/>
                </a:solidFill>
                <a:latin typeface="Times New Roman"/>
                <a:ea typeface="华文隶书"/>
              </a:rPr>
              <a:t>青少年的个性特长要鼓励发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20e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0eba"/>
                </a:solidFill>
                <a:latin typeface="Times New Roman"/>
                <a:ea typeface="华文隶书"/>
              </a:rPr>
              <a:t>适合自己的才是最好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81480" y="4343400"/>
            <a:ext cx="3124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00d02"/>
                </a:solidFill>
                <a:latin typeface="Times New Roman"/>
                <a:ea typeface="华文彩云"/>
              </a:rPr>
              <a:t> </a:t>
            </a:r>
            <a:r>
              <a:rPr b="0" lang="zh-CN" sz="4400" spc="-1" strike="noStrike">
                <a:solidFill>
                  <a:srgbClr val="a00d02"/>
                </a:solidFill>
                <a:latin typeface="Times New Roman"/>
                <a:ea typeface="华文彩云"/>
              </a:rPr>
              <a:t>信息时代背景下新的学习理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e0977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  </a:t>
            </a: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基础与能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e0977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  </a:t>
            </a: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过程与结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e0977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  </a:t>
            </a: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人脑与电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e0977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  </a:t>
            </a: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方法与思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590560" cy="158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2590920" cy="1581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25909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在初中学习中的几个</a:t>
            </a:r>
            <a:br>
              <a:rPr sz="5400"/>
            </a:b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重要环节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剖析结构  建立知识网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94bc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精选范例  挖掘教学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94bc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变式训练  优化数学思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94bc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分析错误  夯实必备基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94bc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揭示本质  深化思想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 rot="5400000">
            <a:off x="6172200" y="358128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以能力立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6091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b133f"/>
                </a:solidFill>
                <a:latin typeface="Times New Roman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fb133f"/>
                </a:solidFill>
                <a:latin typeface="Times New Roman"/>
                <a:ea typeface="华文新魏"/>
              </a:rPr>
              <a:t>自主性学习”的课堂学习模式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314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主总结知识系统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概念间建立联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主分析典型例题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给思维推理搭“脚手架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主剖析错误原因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维持对记忆的强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主选择课后作业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留有适当的探索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5191200"/>
            <a:ext cx="1295280" cy="981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629400" y="167652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不同的学生不同的学习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▲</a:t>
            </a: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优秀学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  </a:t>
            </a: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超前复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▲</a:t>
            </a: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良好学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  </a:t>
            </a: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自学为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▲</a:t>
            </a: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一般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  </a:t>
            </a: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课堂重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▲</a:t>
            </a: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有困难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  </a:t>
            </a: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补在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038480" y="2919240"/>
            <a:ext cx="1465560" cy="1401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435560" y="3048120"/>
            <a:ext cx="1114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11430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方正舒体"/>
                <a:ea typeface="方正舒体"/>
              </a:rPr>
              <a:t>媒体戏称我们</a:t>
            </a:r>
            <a:r>
              <a:rPr b="0" lang="zh-CN" sz="4400" spc="-1" strike="noStrike">
                <a:solidFill>
                  <a:srgbClr val="3333ff"/>
                </a:solidFill>
                <a:latin typeface="方正舒体"/>
                <a:ea typeface="方正舒体"/>
              </a:rPr>
              <a:t>90</a:t>
            </a:r>
            <a:r>
              <a:rPr b="0" lang="zh-CN" sz="4400" spc="-1" strike="noStrike">
                <a:solidFill>
                  <a:srgbClr val="3333ff"/>
                </a:solidFill>
                <a:latin typeface="方正舒体"/>
                <a:ea typeface="方正舒体"/>
              </a:rPr>
              <a:t>年代的孩子</a:t>
            </a:r>
            <a:r>
              <a:rPr b="0" lang="zh-CN" sz="4400" spc="-1" strike="noStrike">
                <a:solidFill>
                  <a:srgbClr val="3333ff"/>
                </a:solidFill>
                <a:latin typeface="方正舒体"/>
                <a:ea typeface="方正舒体"/>
              </a:rPr>
              <a:t>---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0120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华文新魏"/>
                <a:ea typeface="华文新魏"/>
              </a:rPr>
              <a:t>一出生就用上了尿不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0120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华文新魏"/>
                <a:ea typeface="华文新魏"/>
              </a:rPr>
              <a:t>一开口就吃上了肯得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0120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华文新魏"/>
                <a:ea typeface="华文新魏"/>
              </a:rPr>
              <a:t>一交流就联上了因特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0120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华文新魏"/>
                <a:ea typeface="华文新魏"/>
              </a:rPr>
              <a:t>一成长就感觉了竞争压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0120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华文新魏"/>
                <a:ea typeface="华文新魏"/>
              </a:rPr>
              <a:t>……</a:t>
            </a:r>
            <a:r>
              <a:rPr b="0" lang="zh-CN" sz="4000" spc="-1" strike="noStrike">
                <a:solidFill>
                  <a:srgbClr val="b01206"/>
                </a:solidFill>
                <a:latin typeface="华文新魏"/>
                <a:ea typeface="华文新魏"/>
              </a:rPr>
              <a:t>　　……　　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4724280"/>
            <a:ext cx="38098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2408ae"/>
                </a:solidFill>
                <a:latin typeface="Times New Roman"/>
                <a:ea typeface="黑体"/>
              </a:rPr>
              <a:t>我国基础教育的优势和不足</a:t>
            </a:r>
            <a:endParaRPr b="0" lang="en-US" sz="41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幼圆"/>
              </a:rPr>
              <a:t>基础知识扎实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幼圆"/>
              </a:rPr>
              <a:t>基本技能熟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幼圆"/>
              </a:rPr>
              <a:t>解题技巧较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幼圆"/>
              </a:rPr>
              <a:t>勤奋刻苦精神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43400" y="3504960"/>
            <a:ext cx="4191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幼圆"/>
              </a:rPr>
              <a:t>知识面窄内容陈旧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幼圆"/>
              </a:rPr>
              <a:t>脱离学生认知水平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幼圆"/>
              </a:rPr>
              <a:t>脱节现代科学技术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幼圆"/>
              </a:rPr>
              <a:t>学生情感体验较差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4952880"/>
            <a:ext cx="3124080" cy="1559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923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f072f"/>
                </a:solidFill>
                <a:latin typeface="Times New Roman"/>
                <a:ea typeface="华文新魏"/>
              </a:rPr>
              <a:t>对教育的反思之幽默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600" spc="-1" strike="noStrike">
                <a:solidFill>
                  <a:srgbClr val="009999"/>
                </a:solidFill>
                <a:latin typeface="方正舒体"/>
                <a:ea typeface="方正舒体"/>
              </a:rPr>
              <a:t>在一所国际学校里，教师给各国学生出了一道题：“有谁思考过世界上其他国家粮食紧缺的问题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方正舒体"/>
                <a:ea typeface="方正舒体"/>
              </a:rPr>
              <a:t>      </a:t>
            </a:r>
            <a:r>
              <a:rPr b="0" lang="zh-CN" sz="3600" spc="-1" strike="noStrike">
                <a:solidFill>
                  <a:srgbClr val="009999"/>
                </a:solidFill>
                <a:latin typeface="方正舒体"/>
                <a:ea typeface="方正舒体"/>
              </a:rPr>
              <a:t>学生们都说“不知道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方正舒体"/>
                <a:ea typeface="方正舒体"/>
              </a:rPr>
              <a:t>      </a:t>
            </a:r>
            <a:r>
              <a:rPr b="0" lang="zh-CN" sz="3600" spc="-1" strike="noStrike">
                <a:solidFill>
                  <a:srgbClr val="009999"/>
                </a:solidFill>
                <a:latin typeface="方正舒体"/>
                <a:ea typeface="方正舒体"/>
              </a:rPr>
              <a:t>非洲学生不知道什么叫“粮食”；欧洲学生不知道什么叫“紧缺”；美国学生不知道什么叫“其他国家”；而中国学生不知道什么叫“思考”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从小学到初中的变化…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从儿童成为了少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学习内容、学习环境和学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   </a:t>
            </a: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方式的不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老师的教学方式，促成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   </a:t>
            </a: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的自主学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调节心理因素，保持良好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   </a:t>
            </a: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态，面对竞争压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934320" y="1905120"/>
            <a:ext cx="1546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新课标的重要理念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012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Times New Roman"/>
                <a:ea typeface="隶书"/>
              </a:rPr>
              <a:t>突出体现基础性、普及性和发展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012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Times New Roman"/>
                <a:ea typeface="隶书"/>
              </a:rPr>
              <a:t>人人学有价值的数学；人人都能获得必需的数学；不同的人在数学上得到不同的发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012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Times New Roman"/>
                <a:ea typeface="隶书"/>
              </a:rPr>
              <a:t>动手实践、自主探索与合作交流是学生学习数学的重要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012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Times New Roman"/>
                <a:ea typeface="隶书"/>
              </a:rPr>
              <a:t>学生是数学学习的主人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289548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新课标下四大学习领域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4bc3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94bc3"/>
                </a:solidFill>
                <a:latin typeface="楷体_GB2312"/>
                <a:ea typeface="楷体_GB2312"/>
              </a:rPr>
              <a:t>数与代数”  “空间与图形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4bc3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094bc3"/>
                </a:solidFill>
                <a:latin typeface="楷体_GB2312"/>
                <a:ea typeface="楷体_GB2312"/>
              </a:rPr>
              <a:t>统计与概率”“实践与综合应用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数学活动，发展学生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bd83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培养</a:t>
            </a:r>
            <a:r>
              <a:rPr b="1" lang="zh-CN" sz="3200" spc="-1" strike="noStrike">
                <a:solidFill>
                  <a:srgbClr val="221304"/>
                </a:solidFill>
                <a:latin typeface="楷体_GB2312"/>
                <a:ea typeface="楷体_GB2312"/>
              </a:rPr>
              <a:t>数感、符号感、空间观念、统计观念，以及应用意识与推理能力</a:t>
            </a:r>
            <a:r>
              <a:rPr b="0" lang="zh-CN" sz="3200" spc="-1" strike="noStrike">
                <a:solidFill>
                  <a:srgbClr val="221304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943600" y="5121360"/>
            <a:ext cx="28494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33"/>
                </a:solidFill>
                <a:latin typeface="方正舒体"/>
                <a:ea typeface="方正舒体"/>
              </a:rPr>
              <a:t>崭新的面貌</a:t>
            </a:r>
            <a:r>
              <a:rPr b="0" lang="zh-CN" sz="5400" spc="-1" strike="noStrike">
                <a:solidFill>
                  <a:srgbClr val="990033"/>
                </a:solidFill>
                <a:latin typeface="方正舒体"/>
                <a:ea typeface="方正舒体"/>
              </a:rPr>
              <a:t>--</a:t>
            </a:r>
            <a:r>
              <a:rPr b="0" lang="zh-CN" sz="5400" spc="-1" strike="noStrike">
                <a:solidFill>
                  <a:srgbClr val="990033"/>
                </a:solidFill>
                <a:latin typeface="方正舒体"/>
                <a:ea typeface="方正舒体"/>
              </a:rPr>
              <a:t>课本扉页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亲爱的同学：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数学并不神秘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每个人都可以学好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数学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.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学好数学重要的是要有充分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信心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足够的毅力和良好的方法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.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们殷切地希望你认真地阅读课文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思考其中的问题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;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认真地听老师分析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与同伴交流和讨论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有困难时多动脑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动手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想办法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读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做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弄懂每一个概念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定理和方法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数学一定会成为你的好朋友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14475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数学是好玩的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012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先看一个简单的拼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游戏：把一个正方形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成</a:t>
            </a: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块，拼成一个矩形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这样的拼图正确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486400" y="1676520"/>
          <a:ext cx="3416400" cy="43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676520"/>
                    <a:ext cx="341640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教育 轻轻松松 初中</cp:keywords>
  <dc:language>en-US</dc:language>
  <cp:lastModifiedBy/>
  <cp:revision>0</cp:revision>
  <dc:subject/>
  <dc:title/>
</cp:coreProperties>
</file>