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075-845A-4193-B80B-6D77A023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50E-1DBB-473A-AD8D-89A3638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C43-0838-4517-B4D9-D8BE3DFE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698-FD5A-46AE-B20F-C94DA08E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4D0-9855-4484-BBE1-E3752E61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0B1-58AA-471D-9579-0E76302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3A3-DCA7-4196-A3CD-1C34B07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2FF1-2765-4AE1-B024-A62D45E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659-01EB-47A9-AA53-4B5758A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1C29-2F06-41CB-9761-3EEC67B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7503-20A6-401D-9142-B157D86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D1C-E1D6-495A-87AC-85CF23E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92A-4F5D-43AB-A680-E3353AF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1C0-02C4-43C6-9428-8D93B5C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D86C-6F74-4D6E-BEBD-6AEA41A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55F-4B10-4401-8A6A-EEBD2133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6A5-39E3-4E4E-8176-5A3DE4C4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F67-3A29-415C-86BE-C90210CC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3DC-5CCE-4225-8067-192B1CFF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C74-7516-4BAC-87BA-7D0F35B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0B0-187C-4E01-8A9E-1915021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998-01F1-4910-A433-7E922DD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69C-1084-49B6-AECB-32CD3937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CE6-3E00-4068-A0B6-7F5F629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DF2-D745-4E3D-B115-32CABAD7D4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311-7133-4C26-87B4-FBA4FF81D1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趋势曲线模型预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      36        204     -1    83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 S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 =        36     204      1296           410.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4   1296     8772         2458.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9464       -0.9013       0.0893        83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    -0.9107       0.5100       -0.0536      410.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0893        -0.0536       0.006        2458.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16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      0.44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04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故 预测模型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= 7.1602 + 0.4447x + 0.0480 x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495680"/>
            <a:ext cx="76320" cy="990720"/>
          </a:xfrm>
          <a:custGeom>
            <a:avLst/>
            <a:gdLst>
              <a:gd name="textAreaLeft" fmla="*/ 0 w 76320"/>
              <a:gd name="textAreaRight" fmla="*/ 5364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3526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33526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35268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3526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057400"/>
            <a:ext cx="42840" cy="946080"/>
          </a:xfrm>
          <a:custGeom>
            <a:avLst/>
            <a:gdLst>
              <a:gd name="textAreaLeft" fmla="*/ 12600 w 42840"/>
              <a:gd name="textAreaRight" fmla="*/ 43200 w 42840"/>
              <a:gd name="textAreaTop" fmla="*/ 39240 h 946080"/>
              <a:gd name="textAreaBottom" fmla="*/ 906840 h 9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2133720"/>
            <a:ext cx="76320" cy="91116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1160"/>
              <a:gd name="textAreaBottom" fmla="*/ 87336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096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13372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0:x 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7.1602 + 0.444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0.04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9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15.05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1:x = 10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7.1602 + 0.444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0.04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1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16.4072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绝对误差    相对误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实际值比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19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.77  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809      –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5.64   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672      -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拟合多项式的次数确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作图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实际数据，选择合适坐标，采用图上打点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观察打点曲线，并选择一条比较合用的多项式趋势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若趋势线出现拐点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拐点定义，若出现一个拐点，至少应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次多项式拟合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若出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个拐点，至少应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+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多项式拟合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分判断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分定义：当自变量呈等距分布时，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=f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- f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称为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变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一阶差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有更高阶的差分由进一步的差分得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16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 -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-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+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类推至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阶差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▽</a:t>
            </a:r>
            <a:r>
              <a:rPr b="0" lang="zh-CN" sz="2400" spc="-1" strike="noStrike" baseline="30000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▽(▽</a:t>
            </a:r>
            <a:r>
              <a:rPr b="0" lang="zh-CN" sz="2400" spc="-1" strike="noStrike" baseline="30000">
                <a:solidFill>
                  <a:srgbClr val="ffffff"/>
                </a:solidFill>
                <a:latin typeface="宋体"/>
              </a:rPr>
              <a:t>k-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差分对多项式判断中的应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例：含线性趋势确定性时间序列数据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宋体"/>
              </a:rPr>
              <a:t>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2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      0        1          2          3          4       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t       0        2          4          6          8        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阶差分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        2          2          2         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0          0           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2362320"/>
                <a:ext cx="17524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次曲线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= ax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+ bx +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     0       1           2                 3               4             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t    c    a+b+c   4a+2b+c   9a+3b+c  16a+4b+c  25a+5b+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 阶差分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+b        3a+b         5a+b         7a+b          9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a              2a              2a           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阶差分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     0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此可得出判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若一批自变量为等距分布的数据，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差分之后，形成常数或差分后在某一定值上下波动，则可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多项式拟合此批数据变动趋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利用数据确定曲线时，要排除偶然发生的那一类数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第二节   成长曲线预测模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Gompert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曲线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成长曲线主要应用两个原则：相似性原则与延续性原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①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决定过去技术发展的因素，很大程度的也将决定未来的发展，条件是不变的或变化不大的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②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展过程属于渐进的，影响过程的规律不发生突变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③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增长曲线即生命周期与生物生长过程相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孕育—出生—成长—成熟—老化—死亡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明—定型—推广—成熟—老化—淘汰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验公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三个系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,  b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层指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取常用对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lgK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lg 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参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,a,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确定（三和法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假定有若干原始数据，取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1,t = 1,2,3,…….3n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且满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lgK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lg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321300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2133720"/>
                <a:ext cx="1600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4114800"/>
                <a:ext cx="1524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排列成表如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           1          2        3       ……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……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+1     n+2     n+3      ……   2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1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……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n+1   2n+2    2n+3    ……   3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1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……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共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个数据，平均分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组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27432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8862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8006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281952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一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8098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二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35920" y="480060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三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组：求和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= nlg K + 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    ……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组：求和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= nlg K + (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+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  ②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三组：求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= nlg K+(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+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+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②: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 =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(b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1)lg a …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: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 =  (b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1)lg a ……⑤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2057400"/>
                <a:ext cx="99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0200" y="4876920"/>
                <a:ext cx="33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43000" y="3276720"/>
                <a:ext cx="458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90720" y="4267080"/>
                <a:ext cx="333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514600" y="4876920"/>
                <a:ext cx="333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3880" y="5410080"/>
                <a:ext cx="397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14600" y="5486400"/>
                <a:ext cx="37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多次式曲线模型预测法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三章所谈及的回归分析，是在已知统计资料基础上，利用线性或非线性回归技术进行模拟，利用趋势外推进行预测，而模型的项数均为常数项加一次项或非线性构成。事实上，若采用多项式进行模拟，也是一种行之有效的方法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8080" y="1523880"/>
                <a:ext cx="1295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95480" y="990720"/>
                <a:ext cx="26352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95280" y="2514600"/>
                <a:ext cx="838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2120" y="4419720"/>
                <a:ext cx="18478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入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43200" y="4114800"/>
                <a:ext cx="3962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2362320"/>
                <a:ext cx="3568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：某厂产品销售总额历史数据：（万元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 1968      1969       1970       1971      1972        197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407         418         432         447        463          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2.61       2.62        2.64        2.65        2.67        2.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1974       1975       1976       1977       1978       197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8          535         566        602          644         69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2.71        2.73       2.75         2.78        2.81       2.84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1980       1981       1982       1983       1984      198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734         826         912        1018       1148       13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2.88        2.92        2.96        3.01        3.06        3.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述数据的模型识别，一般采用作图法或计算机模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上述公式，可求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 = 305,      a= 1.3;     b = 1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预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销售额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21,    y =                 = 2125.7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403280" y="3933720"/>
                <a:ext cx="15112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700360" y="501336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关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omper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曲线的讨论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 a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)       0 &lt; b &lt;1                                      b)    b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57400" y="2895480"/>
            <a:ext cx="0" cy="231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8951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006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72428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048120"/>
            <a:ext cx="2819160" cy="1384200"/>
          </a:xfrm>
          <a:custGeom>
            <a:avLst/>
            <a:gdLst/>
            <a:ahLst/>
            <a:rect l="l" t="t" r="r" b="b"/>
            <a:pathLst>
              <a:path w="1776" h="872">
                <a:moveTo>
                  <a:pt x="0" y="0"/>
                </a:moveTo>
                <a:cubicBezTo>
                  <a:pt x="44" y="100"/>
                  <a:pt x="88" y="200"/>
                  <a:pt x="144" y="288"/>
                </a:cubicBezTo>
                <a:cubicBezTo>
                  <a:pt x="200" y="376"/>
                  <a:pt x="240" y="456"/>
                  <a:pt x="336" y="528"/>
                </a:cubicBezTo>
                <a:cubicBezTo>
                  <a:pt x="432" y="600"/>
                  <a:pt x="576" y="672"/>
                  <a:pt x="720" y="720"/>
                </a:cubicBezTo>
                <a:cubicBezTo>
                  <a:pt x="864" y="768"/>
                  <a:pt x="1048" y="792"/>
                  <a:pt x="1200" y="816"/>
                </a:cubicBezTo>
                <a:cubicBezTo>
                  <a:pt x="1352" y="840"/>
                  <a:pt x="1536" y="856"/>
                  <a:pt x="1632" y="864"/>
                </a:cubicBezTo>
                <a:cubicBezTo>
                  <a:pt x="1728" y="872"/>
                  <a:pt x="1752" y="868"/>
                  <a:pt x="1776" y="8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3352680"/>
            <a:ext cx="2438280" cy="114300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0" y="1104"/>
                </a:moveTo>
                <a:cubicBezTo>
                  <a:pt x="60" y="1092"/>
                  <a:pt x="120" y="1080"/>
                  <a:pt x="192" y="1056"/>
                </a:cubicBezTo>
                <a:cubicBezTo>
                  <a:pt x="264" y="1032"/>
                  <a:pt x="320" y="1024"/>
                  <a:pt x="432" y="960"/>
                </a:cubicBezTo>
                <a:cubicBezTo>
                  <a:pt x="544" y="896"/>
                  <a:pt x="736" y="792"/>
                  <a:pt x="864" y="672"/>
                </a:cubicBezTo>
                <a:cubicBezTo>
                  <a:pt x="992" y="552"/>
                  <a:pt x="1120" y="352"/>
                  <a:pt x="1200" y="240"/>
                </a:cubicBezTo>
                <a:cubicBezTo>
                  <a:pt x="1280" y="128"/>
                  <a:pt x="1320" y="48"/>
                  <a:pt x="13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495680"/>
            <a:ext cx="2741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572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5181480"/>
            <a:ext cx="4114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0,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↗ ,       yt↗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细胞分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核爆后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5486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无抑制上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105520"/>
            <a:ext cx="2209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0,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↗ ,       yt↘                                       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54100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41008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33720" y="34286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05720" y="365724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267080"/>
            <a:ext cx="2590920" cy="914400"/>
          </a:xfrm>
          <a:custGeom>
            <a:avLst/>
            <a:gdLst/>
            <a:ahLst/>
            <a:rect l="l" t="t" r="r" b="b"/>
            <a:pathLst>
              <a:path w="1632" h="624">
                <a:moveTo>
                  <a:pt x="0" y="624"/>
                </a:moveTo>
                <a:cubicBezTo>
                  <a:pt x="196" y="596"/>
                  <a:pt x="392" y="568"/>
                  <a:pt x="528" y="528"/>
                </a:cubicBezTo>
                <a:cubicBezTo>
                  <a:pt x="664" y="488"/>
                  <a:pt x="712" y="456"/>
                  <a:pt x="816" y="384"/>
                </a:cubicBezTo>
                <a:cubicBezTo>
                  <a:pt x="920" y="312"/>
                  <a:pt x="1016" y="160"/>
                  <a:pt x="1152" y="96"/>
                </a:cubicBezTo>
                <a:cubicBezTo>
                  <a:pt x="1288" y="32"/>
                  <a:pt x="1544" y="16"/>
                  <a:pt x="16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4114800"/>
            <a:ext cx="2514600" cy="1168560"/>
          </a:xfrm>
          <a:custGeom>
            <a:avLst/>
            <a:gdLst/>
            <a:ahLst/>
            <a:rect l="l" t="t" r="r" b="b"/>
            <a:pathLst>
              <a:path w="1584" h="736">
                <a:moveTo>
                  <a:pt x="0" y="0"/>
                </a:moveTo>
                <a:cubicBezTo>
                  <a:pt x="76" y="4"/>
                  <a:pt x="152" y="8"/>
                  <a:pt x="240" y="48"/>
                </a:cubicBezTo>
                <a:cubicBezTo>
                  <a:pt x="328" y="88"/>
                  <a:pt x="456" y="192"/>
                  <a:pt x="528" y="240"/>
                </a:cubicBezTo>
                <a:cubicBezTo>
                  <a:pt x="600" y="288"/>
                  <a:pt x="616" y="296"/>
                  <a:pt x="672" y="336"/>
                </a:cubicBezTo>
                <a:cubicBezTo>
                  <a:pt x="728" y="376"/>
                  <a:pt x="800" y="432"/>
                  <a:pt x="864" y="480"/>
                </a:cubicBezTo>
                <a:cubicBezTo>
                  <a:pt x="928" y="528"/>
                  <a:pt x="976" y="584"/>
                  <a:pt x="1056" y="624"/>
                </a:cubicBezTo>
                <a:cubicBezTo>
                  <a:pt x="1136" y="664"/>
                  <a:pt x="1256" y="704"/>
                  <a:pt x="1344" y="720"/>
                </a:cubicBezTo>
                <a:cubicBezTo>
                  <a:pt x="1432" y="736"/>
                  <a:pt x="1508" y="728"/>
                  <a:pt x="1584" y="7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4191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40384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动植物生命衰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371600"/>
            <a:ext cx="70866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②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a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      0 &lt; b &lt;1                                      b)    b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上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称为最大步长值，或饱和点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 ：家电生产及销售，农田亩产，机器工作效率等，耐用消费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Gomper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曲线是双层指数，又称双指数模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.Logistic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曲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该曲线为美国生物学家，人口统计学家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R.Pearl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博士通过利用微分方程表示生物生长速度，求解得到的公式，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Logistic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增长曲线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数学模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微分方程形式为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dy/dt =k y(K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k, K&gt;o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常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0 &lt;y&lt;k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为可分离变量一阶微分方程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解出为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 = 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-bt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其中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 =  e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-c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为积分常数）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b = k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书中公式为                    是变形的一种。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1/2005/4/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602136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∞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y=K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极限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称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曲线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变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只影响曲线位置变动而不改变形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置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变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只影响曲线形状而不改变位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  ( 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形状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此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8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代曾用于闭路电视发展预测，结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美家庭将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200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9.5%,20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7.17%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使美联邦通讯委员会从禁止到支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429000"/>
            <a:ext cx="548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320" y="137124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1752480"/>
            <a:ext cx="4206960" cy="1479600"/>
          </a:xfrm>
          <a:custGeom>
            <a:avLst/>
            <a:gdLst/>
            <a:ahLst/>
            <a:rect l="l" t="t" r="r" b="b"/>
            <a:pathLst>
              <a:path w="2832" h="1112">
                <a:moveTo>
                  <a:pt x="0" y="1112"/>
                </a:moveTo>
                <a:cubicBezTo>
                  <a:pt x="252" y="1096"/>
                  <a:pt x="504" y="1080"/>
                  <a:pt x="720" y="1016"/>
                </a:cubicBezTo>
                <a:cubicBezTo>
                  <a:pt x="936" y="952"/>
                  <a:pt x="1144" y="832"/>
                  <a:pt x="1296" y="728"/>
                </a:cubicBezTo>
                <a:cubicBezTo>
                  <a:pt x="1448" y="624"/>
                  <a:pt x="1464" y="504"/>
                  <a:pt x="1632" y="392"/>
                </a:cubicBezTo>
                <a:cubicBezTo>
                  <a:pt x="1800" y="280"/>
                  <a:pt x="2104" y="112"/>
                  <a:pt x="2304" y="56"/>
                </a:cubicBezTo>
                <a:cubicBezTo>
                  <a:pt x="2504" y="0"/>
                  <a:pt x="2752" y="56"/>
                  <a:pt x="2832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19810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175248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22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1981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3429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429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参数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已知三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点为起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0 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另两点分别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2n 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即从时间上均匀分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设曲线序列始点选定为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(1+a)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,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[1+a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n 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终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2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,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[1+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2b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推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(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/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[1+a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/a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= [ln a +ln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ln(K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/n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将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解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代入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{1 + (K-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/ [(K-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/ 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}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整理得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=[y0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y2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y0 y1y2]/[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0 y2]…..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⑥⑤④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三式共同组成参数估计公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9640" y="3429000"/>
            <a:ext cx="36036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 rot="19607400">
            <a:off x="7543440" y="3428280"/>
            <a:ext cx="360360" cy="356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．正规方程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谓多项式回归，就是已知统计资料给出，当预测变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自变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用一个多项式进行模拟时，利用一元非线性回归技术，来作出模拟并用于预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实际值为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方便多项式次数测定，数据选取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∆x = 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模型模拟值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有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f(x) =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+……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然，这是一个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次多项式，同时假定已知数据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   i = 1,2,……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5840" y="3213000"/>
                <a:ext cx="292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20120" y="396252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600200" y="4495680"/>
                <a:ext cx="303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线性回归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前提是假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已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公式变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y =  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自然对数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n a – bt = ln(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令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n(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=y’, ln a =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 ,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– b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构成线性方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’ =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一元线性回归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’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进而求出预测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近似积分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见书介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三和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举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国家用缝纫机市场需求量转折点预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0—198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统计资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       1970     1971     1972     1973     1974      19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普及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%     5.49      6.676     7.910    9.125    10.544   12.0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6      1977      1978      1979      1980      1981     19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694   15.363     17.282  19.459    22.980   27.054   31.2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于欧洲市场已饱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参考统计数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同名             日   英       法         苏         芬           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%)   80   35    47.619   62.50   30.303    71.4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据专家估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国由于广阔的农村市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饱和率可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’= 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 =7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用回归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线性化及预测方程：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= a0 + a1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中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0 = ln a, a1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 , yt ’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 ln(K/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1)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∵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已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 ∴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已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18.1174 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1.39365 , 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30.96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 = 13 ,  t = 7.0  ,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819, ∑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76.551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26708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4648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4038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572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线性回归中求参数公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bx = y’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x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(1/n)∑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x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t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2.453620    → a =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11.63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176662   →  b =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0.1766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相关系数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-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n∑x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][n∑yi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0.99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70/[1+11.6304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0.176662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]   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7432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514600"/>
            <a:ext cx="106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981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981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1981080"/>
            <a:ext cx="11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374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52640"/>
            <a:ext cx="11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2362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419720"/>
            <a:ext cx="434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4495680"/>
            <a:ext cx="418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90560" y="48006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4495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求转折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’= [K/(1+ 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]’= -K[-b·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]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Ka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 y/dx = Kb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令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” = 0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a =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t = ln a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t = (lna)/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转折点为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ln a)/b,K/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(ln a)/b = ln11.6304/0.17666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.89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 = K/2=70/2(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14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为缝纫机市场需求量转折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198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国缝纫机普及率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5%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研究转折点原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于持续增长率将开始下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无其他原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将逐步趋于饱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增长速度亦应下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规模不要再扩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库存尽可能不要积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应重点抓住更新如促销手段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增强竞争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加紧试制新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以便及时转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转折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K/[1+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 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[(ln a)/b, k/2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1/(k+a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 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[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n k – ln 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)/ln b,1/(2k)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004/11/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假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是相关的，对应任意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，都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由回归分析，最佳拟合为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Q = 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Q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利用最小二乘法，对系数求偏导数，有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Q/a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  <a:ea typeface="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’ = 0 →2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e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’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</a:rPr>
              <a:t>a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其中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k = 0,1,2,3,……,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因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 …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所以有：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-- 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(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=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得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∑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a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∑ 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k+1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k+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11426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1430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38858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8862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167652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09680" y="4800600"/>
                <a:ext cx="43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23880" y="5257800"/>
                <a:ext cx="47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28800" y="2362320"/>
                <a:ext cx="2362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Δ</m:t>
                        </m:r>
                      </m:lim>
                    </m:limUp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280040" y="3282840"/>
                <a:ext cx="583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2376360"/>
                <a:ext cx="1828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建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方程组成的正规方程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…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   :                          :        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..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矩阵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…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…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+1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 s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 = SA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A = S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U = 1/|S| S*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唯一解，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,a1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am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可唯一求出，于是预测方程可以求得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{2004/11/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429000"/>
            <a:ext cx="75960" cy="1371600"/>
          </a:xfrm>
          <a:custGeom>
            <a:avLst/>
            <a:gdLst>
              <a:gd name="textAreaLeft" fmla="*/ 0 w 75960"/>
              <a:gd name="textAreaRight" fmla="*/ 5328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4290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4290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3886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案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某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2---197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业产值统计资料如表，企业多项式模型，并预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工业产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2    1973   1974   1975   1976   1977    1978    19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序号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       2         3         4         5          6          7         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产值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54    8.76   8.23    9.92   10.65   11.65   12.56   13.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描点，观察，做趋势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图所示，用二次曲线描述合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即预测模型可取为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 = 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+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523880" y="3276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956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752480" y="403812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0384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38280" y="3809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666880" y="35809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35049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352680"/>
            <a:ext cx="3049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32763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200400"/>
            <a:ext cx="2438280" cy="1066680"/>
          </a:xfrm>
          <a:custGeom>
            <a:avLst/>
            <a:gdLst/>
            <a:ahLst/>
            <a:rect l="l" t="t" r="r" b="b"/>
            <a:pathLst>
              <a:path w="1536" h="672">
                <a:moveTo>
                  <a:pt x="0" y="672"/>
                </a:moveTo>
                <a:cubicBezTo>
                  <a:pt x="240" y="636"/>
                  <a:pt x="480" y="600"/>
                  <a:pt x="672" y="528"/>
                </a:cubicBezTo>
                <a:cubicBezTo>
                  <a:pt x="864" y="456"/>
                  <a:pt x="1008" y="328"/>
                  <a:pt x="1152" y="240"/>
                </a:cubicBezTo>
                <a:cubicBezTo>
                  <a:pt x="1296" y="152"/>
                  <a:pt x="1472" y="40"/>
                  <a:pt x="1536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516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由正规方程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 = S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= S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宋体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 = 1,2,………,8.    K = 0,1,2,3,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8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36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20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1296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87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        36        2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∴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S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36       204       12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4     1296      87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03848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114800"/>
            <a:ext cx="76320" cy="106668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819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352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62120" y="1371600"/>
                <a:ext cx="7391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2120" y="2514600"/>
                <a:ext cx="2361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00400" y="2514600"/>
                <a:ext cx="2438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15000" y="2498760"/>
                <a:ext cx="2590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124080" y="3505320"/>
                <a:ext cx="26672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5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趋势曲线 模型 预测</cp:keywords>
  <dc:language>en-US</dc:language>
  <cp:lastModifiedBy/>
  <cp:revision>0</cp:revision>
  <dc:subject/>
  <dc:title/>
</cp:coreProperties>
</file>