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AB5F7-3D33-4200-9212-1C1C5A8D4E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BFF72-D4FE-4544-934E-0FBD8C7D00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880FA-9D49-4AB6-BCFD-9440D5204B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25678-18EB-46A4-B2B9-E97E043345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0D202-ED52-44C8-9C82-C361636C24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1E4B6-8914-4569-926C-DB60073C91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6D116-A877-476C-9ED1-A1AE0EAE0F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959AB-0063-4423-883A-F27A04C150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31216-2C16-4470-84CE-578A3D0FAC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60520-1C2F-491C-91FA-0B7155250B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A5FC4-FB34-4DB6-9503-8F03CE30C0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53602-9D09-4015-863B-A38FA57178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9E0C6-9B98-4BB8-BE86-389A42F221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1C815-D5B8-4AEC-8B65-136CFC982D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E62B7-9ACC-4769-B146-8D552640A5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D0D0C-2A3F-4F68-8306-073DA3A4F0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F8956-14EA-444E-851D-AC0E44A7F6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A8451-E205-4AF4-9E8F-4E639F6791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E4F61-A347-4D5D-B03A-01FA68EC3C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594BF-0397-40DF-A3E5-F5749973F0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3CFC0-430E-4B5F-9952-625885399A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0B1F0-EF48-433B-9224-8CB08AD526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E3929-1BFE-4EB6-AF05-FE0E6264C3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E3808-2B3A-4046-BD42-E29004D094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1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2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5F7D-6903-4DEB-BF29-145FB891A09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-1440" y="0"/>
            <a:ext cx="9145080" cy="6867360"/>
            <a:chOff x="-1440" y="0"/>
            <a:chExt cx="9145080" cy="6867360"/>
          </a:xfrm>
        </p:grpSpPr>
        <p:grpSp>
          <p:nvGrpSpPr>
            <p:cNvPr id="104" name=""/>
            <p:cNvGrpSpPr/>
            <p:nvPr/>
          </p:nvGrpSpPr>
          <p:grpSpPr>
            <a:xfrm>
              <a:off x="-1440" y="0"/>
              <a:ext cx="9065520" cy="6867360"/>
              <a:chOff x="-1440" y="0"/>
              <a:chExt cx="9065520" cy="6867360"/>
            </a:xfrm>
          </p:grpSpPr>
          <p:sp>
            <p:nvSpPr>
              <p:cNvPr id="105" name=""/>
              <p:cNvSpPr/>
              <p:nvPr/>
            </p:nvSpPr>
            <p:spPr>
              <a:xfrm>
                <a:off x="-1440" y="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504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0312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5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076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6032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91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0648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1752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36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5220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7472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82664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97892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13156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384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43612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58876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74104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89332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04596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19824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35052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50316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6550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80736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96000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1122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26456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41720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5694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72176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87440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02668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17896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33160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48352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78844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94072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4564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39792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70284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85512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16004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196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46424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61688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76916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92144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07408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22636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37864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128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68356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83584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988480" y="9360"/>
                <a:ext cx="7560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682560" y="0"/>
              <a:ext cx="84610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40" y="0"/>
              <a:ext cx="91422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A33C-6A92-4670-AC87-A485531FB3B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projctor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hyperlink" Target="file:///tmp/home/.config/libreoffice/4/user/gallery/projctor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rojctor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6" descr=""/>
          <p:cNvPicPr/>
          <p:nvPr/>
        </p:nvPicPr>
        <p:blipFill>
          <a:blip r:embed="rId1"/>
          <a:stretch/>
        </p:blipFill>
        <p:spPr>
          <a:xfrm>
            <a:off x="1370160" y="2514600"/>
            <a:ext cx="6402240" cy="38862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79400" y="1096920"/>
            <a:ext cx="7678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187280" y="1125360"/>
            <a:ext cx="5486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楷体_GB2312"/>
              </a:rPr>
              <a:t>市场经济的一般特征</a:t>
            </a:r>
            <a:endParaRPr b="0" lang="en-US" sz="4800" spc="-1" strike="noStrike">
              <a:ln w="9360">
                <a:solidFill>
                  <a:srgbClr val="ff990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211" name="PE01832_" descr=""/>
          <p:cNvPicPr/>
          <p:nvPr/>
        </p:nvPicPr>
        <p:blipFill>
          <a:blip r:embed="rId2"/>
          <a:stretch/>
        </p:blipFill>
        <p:spPr>
          <a:xfrm>
            <a:off x="6172200" y="3809880"/>
            <a:ext cx="2744640" cy="28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0BA7C-D4BF-4A98-BDB3-F5C5B267752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327680" y="63504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竞争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2360" y="190512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）含义：经济活动参加者之间存在着广泛竞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10760" y="266688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）原因：价值规律决定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808360" y="3429000"/>
            <a:ext cx="360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）作用：商品交换得以进行的前提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促使商品生产者和经营者改进技术、提高劳动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产率，优胜劣汰促进资源优化配置的实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27160" y="495288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）如何正确开展公平竞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902680" y="563868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）负面效应：社会资源的浪费、垄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C8F95-3475-4A04-88B7-9A15AD6CDD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80640" y="83556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宋体"/>
              </a:rPr>
              <a:t>法制性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332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>
            <a:off x="990720" y="1828800"/>
            <a:ext cx="76960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含义：社会经济运行有健全的法制基础，生产者和经营者的经济活动依据市场经济的法规进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3657600"/>
            <a:ext cx="777240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作用：健全的法制是处理矛盾，体现公平的依据和准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90720" y="4800600"/>
            <a:ext cx="81532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要求：学法，懂法，守法，用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BB51C-1817-4663-BE5D-B71AF87A8E7C}" type="slidenum">
              <a:t>11</a:t>
            </a:fld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宋体"/>
              </a:rPr>
              <a:t>开放性</a:t>
            </a:r>
            <a:r>
              <a:rPr b="0" lang="en-US" sz="4400" spc="-1" strike="noStrike">
                <a:solidFill>
                  <a:srgbClr val="003366"/>
                </a:solidFill>
                <a:latin typeface="宋体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>
            <a:off x="1066680" y="19051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）含义：市场不是相互封闭的，全国是一个统一的大市场并且与世界市场联系在一起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3733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）原因：市场经济条件下，生产经营的特点决定社会分工和生产专业化的要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66680" y="54100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）作用：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达到资源优化配置的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066680" y="601992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）要求：对外开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24801-26A5-483A-99D1-69225BA2F850}" type="slidenum">
              <a:t>12</a:t>
            </a:fld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914400" y="2971800"/>
            <a:ext cx="73915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市场经济的优越性：是实现资源配置的一种有效形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四个特征的联系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2600" y="228600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一般特征是市场经济所固有的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63CB1-A21C-4C02-B98A-D0DDEB9648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931680" y="380880"/>
            <a:ext cx="732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ahoma"/>
                <a:ea typeface="华文彩云"/>
              </a:rPr>
              <a:t>练习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46800" y="1066680"/>
            <a:ext cx="618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1.</a:t>
            </a:r>
            <a:r>
              <a:rPr b="0" lang="zh-CN" sz="2400" spc="-1" strike="noStrike">
                <a:solidFill>
                  <a:srgbClr val="003366"/>
                </a:solidFill>
                <a:latin typeface="Tahoma"/>
              </a:rPr>
              <a:t>实现资源配置的有效形式是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A.</a:t>
            </a:r>
            <a:r>
              <a:rPr b="0" lang="zh-CN" sz="2400" spc="-1" strike="noStrike">
                <a:solidFill>
                  <a:srgbClr val="003366"/>
                </a:solidFill>
                <a:latin typeface="Tahoma"/>
              </a:rPr>
              <a:t>商品经济     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B.</a:t>
            </a:r>
            <a:r>
              <a:rPr b="0" lang="zh-CN" sz="2400" spc="-1" strike="noStrike">
                <a:solidFill>
                  <a:srgbClr val="003366"/>
                </a:solidFill>
                <a:latin typeface="Tahoma"/>
              </a:rPr>
              <a:t>计划经济     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C.</a:t>
            </a:r>
            <a:r>
              <a:rPr b="0" lang="zh-CN" sz="2400" spc="-1" strike="noStrike">
                <a:solidFill>
                  <a:srgbClr val="003366"/>
                </a:solidFill>
                <a:latin typeface="Tahoma"/>
              </a:rPr>
              <a:t>市场经济     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D.</a:t>
            </a:r>
            <a:r>
              <a:rPr b="0" lang="zh-CN" sz="2400" spc="-1" strike="noStrike">
                <a:solidFill>
                  <a:srgbClr val="003366"/>
                </a:solidFill>
                <a:latin typeface="Tahoma"/>
              </a:rPr>
              <a:t>自然经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90720" y="20574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2.</a:t>
            </a:r>
            <a:r>
              <a:rPr b="0" lang="zh-CN" sz="2400" spc="-1" strike="noStrike">
                <a:solidFill>
                  <a:srgbClr val="003366"/>
                </a:solidFill>
                <a:latin typeface="Tahoma"/>
              </a:rPr>
              <a:t>市场经济条件下的竞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①</a:t>
            </a:r>
            <a:r>
              <a:rPr b="0" lang="zh-CN" sz="2400" spc="-1" strike="noStrike">
                <a:solidFill>
                  <a:srgbClr val="003366"/>
                </a:solidFill>
                <a:latin typeface="Tahoma"/>
              </a:rPr>
              <a:t>会克服垄断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,</a:t>
            </a:r>
            <a:r>
              <a:rPr b="0" lang="zh-CN" sz="2400" spc="-1" strike="noStrike">
                <a:solidFill>
                  <a:srgbClr val="003366"/>
                </a:solidFill>
                <a:latin typeface="Tahoma"/>
              </a:rPr>
              <a:t>从而有利于资源的优化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②</a:t>
            </a:r>
            <a:r>
              <a:rPr b="0" lang="zh-CN" sz="2400" spc="-1" strike="noStrike">
                <a:solidFill>
                  <a:srgbClr val="003366"/>
                </a:solidFill>
                <a:latin typeface="Tahoma"/>
              </a:rPr>
              <a:t>是由市场经济的基本规律决定的必然现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③</a:t>
            </a:r>
            <a:r>
              <a:rPr b="0" lang="zh-CN" sz="2400" spc="-1" strike="noStrike">
                <a:solidFill>
                  <a:srgbClr val="003366"/>
                </a:solidFill>
                <a:latin typeface="Tahoma"/>
              </a:rPr>
              <a:t>是协调和处理矛盾、体现公平的依据和准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④</a:t>
            </a:r>
            <a:r>
              <a:rPr b="0" lang="zh-CN" sz="2400" spc="-1" strike="noStrike">
                <a:solidFill>
                  <a:srgbClr val="003366"/>
                </a:solidFill>
                <a:latin typeface="Tahoma"/>
              </a:rPr>
              <a:t>是市场经济有效运行的必要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A. ①②③④     B.②④     C. ①③④      D. ②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680" y="10638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黑体"/>
              </a:rPr>
              <a:t>(</a:t>
            </a:r>
            <a:r>
              <a:rPr b="0" lang="zh-CN" sz="2400" spc="-1" strike="noStrike">
                <a:solidFill>
                  <a:srgbClr val="003366"/>
                </a:solidFill>
                <a:latin typeface="Tahoma"/>
                <a:ea typeface="黑体"/>
              </a:rPr>
              <a:t>单选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680" y="43434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黑体"/>
              </a:rPr>
              <a:t>(</a:t>
            </a:r>
            <a:r>
              <a:rPr b="0" lang="zh-CN" sz="2400" spc="-1" strike="noStrike">
                <a:solidFill>
                  <a:srgbClr val="003366"/>
                </a:solidFill>
                <a:latin typeface="Tahoma"/>
                <a:ea typeface="黑体"/>
              </a:rPr>
              <a:t>多选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96200" y="4343400"/>
            <a:ext cx="4063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1.</a:t>
            </a:r>
            <a:r>
              <a:rPr b="0" lang="zh-CN" sz="2400" spc="-1" strike="noStrike">
                <a:solidFill>
                  <a:srgbClr val="003366"/>
                </a:solidFill>
                <a:latin typeface="Tahoma"/>
              </a:rPr>
              <a:t>市场经济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A.</a:t>
            </a:r>
            <a:r>
              <a:rPr b="0" lang="zh-CN" sz="2400" spc="-1" strike="noStrike">
                <a:solidFill>
                  <a:srgbClr val="003366"/>
                </a:solidFill>
                <a:latin typeface="Tahoma"/>
              </a:rPr>
              <a:t>是和商品经济同时产生和发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B.</a:t>
            </a:r>
            <a:r>
              <a:rPr b="0" lang="zh-CN" sz="2400" spc="-1" strike="noStrike">
                <a:solidFill>
                  <a:srgbClr val="003366"/>
                </a:solidFill>
                <a:latin typeface="Tahoma"/>
              </a:rPr>
              <a:t>是市场在资源配置中起基础性作用的经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C.</a:t>
            </a:r>
            <a:r>
              <a:rPr b="0" lang="zh-CN" sz="2400" spc="-1" strike="noStrike">
                <a:solidFill>
                  <a:srgbClr val="003366"/>
                </a:solidFill>
                <a:latin typeface="Tahoma"/>
              </a:rPr>
              <a:t>是社会化的商品经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D.</a:t>
            </a:r>
            <a:r>
              <a:rPr b="0" lang="zh-CN" sz="2400" spc="-1" strike="noStrike">
                <a:solidFill>
                  <a:srgbClr val="003366"/>
                </a:solidFill>
                <a:latin typeface="Tahoma"/>
              </a:rPr>
              <a:t>可以存在于各种社会制度之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8AF37-7B62-48BC-9F4E-17C18E174C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011840" y="228600"/>
            <a:ext cx="11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一、市场经济的一般特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61560" y="914400"/>
            <a:ext cx="23032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（一）资源和资源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资源的定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05440" y="1752480"/>
            <a:ext cx="1294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资源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59920" y="2514600"/>
            <a:ext cx="3214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4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资源配置的方式：计划与市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895480"/>
            <a:ext cx="3740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（二）市场和市场经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rId1"/>
          </p:cNvPr>
          <p:cNvSpPr/>
          <p:nvPr/>
        </p:nvSpPr>
        <p:spPr>
          <a:xfrm>
            <a:off x="2159640" y="3581280"/>
            <a:ext cx="779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市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048120" y="3352680"/>
            <a:ext cx="877320" cy="853560"/>
            <a:chOff x="3048120" y="3352680"/>
            <a:chExt cx="877320" cy="853560"/>
          </a:xfrm>
        </p:grpSpPr>
        <p:sp>
          <p:nvSpPr>
            <p:cNvPr id="219" name=""/>
            <p:cNvSpPr/>
            <p:nvPr/>
          </p:nvSpPr>
          <p:spPr>
            <a:xfrm>
              <a:off x="3048120" y="3504960"/>
              <a:ext cx="228600" cy="6858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98120" y="3352680"/>
              <a:ext cx="42732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狭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楷体_GB2312"/>
                </a:rPr>
                <a:t>广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>
            <a:hlinkClick r:id="rId2"/>
          </p:cNvPr>
          <p:cNvSpPr/>
          <p:nvPr/>
        </p:nvSpPr>
        <p:spPr>
          <a:xfrm>
            <a:off x="2523240" y="4191120"/>
            <a:ext cx="1846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市场经济的含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05000" y="4572000"/>
            <a:ext cx="3553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市场经济和商品经济的联系与区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4952880"/>
            <a:ext cx="4572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（三）市场经济的一般特征：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133720" y="5410080"/>
            <a:ext cx="12189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3300"/>
                </a:solidFill>
                <a:latin typeface="楷体_GB2312"/>
              </a:rPr>
              <a:t>1.</a:t>
            </a:r>
            <a:r>
              <a:rPr b="0" lang="zh-CN" sz="2800" spc="-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3300"/>
                </a:solidFill>
                <a:latin typeface="楷体_GB2312"/>
              </a:rPr>
              <a:t>平等性</a:t>
            </a:r>
            <a:endParaRPr b="0" lang="en-US" sz="2800" spc="-1" strike="noStrike">
              <a:ln w="9360">
                <a:solidFill>
                  <a:srgbClr val="333399"/>
                </a:solidFill>
                <a:miter/>
              </a:ln>
              <a:solidFill>
                <a:srgbClr val="ff3300"/>
              </a:solidFill>
              <a:latin typeface="楷体_GB2312"/>
              <a:ea typeface="楷体_GB2312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48320" y="5410080"/>
            <a:ext cx="12189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2.</a:t>
            </a:r>
            <a:r>
              <a:rPr b="0" lang="zh-CN" sz="2800" spc="-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竞争性</a:t>
            </a:r>
            <a:endParaRPr b="0" lang="en-US" sz="2800" spc="-1" strike="noStrike">
              <a:ln w="9360">
                <a:solidFill>
                  <a:srgbClr val="333399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057400" y="5943600"/>
            <a:ext cx="12952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3300"/>
                </a:solidFill>
                <a:latin typeface="楷体_GB2312"/>
              </a:rPr>
              <a:t>3.</a:t>
            </a:r>
            <a:r>
              <a:rPr b="0" lang="zh-CN" sz="2800" spc="-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3300"/>
                </a:solidFill>
                <a:latin typeface="楷体_GB2312"/>
              </a:rPr>
              <a:t>法制性</a:t>
            </a:r>
            <a:endParaRPr b="0" lang="en-US" sz="2800" spc="-1" strike="noStrike">
              <a:ln w="9360">
                <a:solidFill>
                  <a:srgbClr val="333399"/>
                </a:solidFill>
                <a:miter/>
              </a:ln>
              <a:solidFill>
                <a:srgbClr val="ff3300"/>
              </a:solidFill>
              <a:latin typeface="楷体_GB2312"/>
              <a:ea typeface="楷体_GB2312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48320" y="5943600"/>
            <a:ext cx="1218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3300"/>
                </a:solidFill>
                <a:latin typeface="楷体_GB2312"/>
              </a:rPr>
              <a:t>4.</a:t>
            </a:r>
            <a:r>
              <a:rPr b="0" lang="zh-CN" sz="2800" spc="-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3300"/>
                </a:solidFill>
                <a:latin typeface="楷体_GB2312"/>
              </a:rPr>
              <a:t>开放性</a:t>
            </a:r>
            <a:endParaRPr b="0" lang="en-US" sz="2800" spc="-1" strike="noStrike">
              <a:ln w="9360">
                <a:solidFill>
                  <a:srgbClr val="000099"/>
                </a:solidFill>
                <a:miter/>
              </a:ln>
              <a:solidFill>
                <a:srgbClr val="ff3300"/>
              </a:solidFill>
              <a:latin typeface="楷体_GB2312"/>
              <a:ea typeface="楷体_GB2312"/>
            </a:endParaRPr>
          </a:p>
        </p:txBody>
      </p:sp>
      <p:sp>
        <p:nvSpPr>
          <p:cNvPr id="228" name="">
            <a:hlinkClick r:id="rId3"/>
          </p:cNvPr>
          <p:cNvSpPr/>
          <p:nvPr/>
        </p:nvSpPr>
        <p:spPr>
          <a:xfrm>
            <a:off x="2523600" y="2133720"/>
            <a:ext cx="1934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3.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资源的合理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BD14565_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52880" y="419112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413BD-93FF-47C8-895B-7388225DD3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777680" y="2514600"/>
            <a:ext cx="526464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市场经济的含义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市场经济是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社会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商品经济，是市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资源配置中起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基础性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用的经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9B2C6-76DB-456C-9F7E-A1FAF432FB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343400" y="0"/>
            <a:ext cx="4267080" cy="76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人类社会发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过程中，人们为争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使</a:t>
            </a:r>
            <a:r>
              <a:rPr b="0" lang="zh-CN" sz="36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有限资源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得到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充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合理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利用，以</a:t>
            </a:r>
            <a:r>
              <a:rPr b="0" lang="zh-CN" sz="36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最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限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地满足自己生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发展的需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48280" y="254160"/>
            <a:ext cx="1642680" cy="33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00"/>
                </a:solidFill>
                <a:latin typeface="黑体"/>
                <a:ea typeface="黑体"/>
              </a:rPr>
              <a:t>资 源 的 合 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00"/>
                </a:solidFill>
                <a:latin typeface="黑体"/>
                <a:ea typeface="黑体"/>
              </a:rPr>
              <a:t>配 置 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8FDD9-F60E-42AA-A662-1099644E8FB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83556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宋体"/>
              </a:rPr>
              <a:t>（二）市场和市场经济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914400" y="1905120"/>
            <a:ext cx="64008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市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rId1"/>
          </p:cNvPr>
          <p:cNvSpPr/>
          <p:nvPr/>
        </p:nvSpPr>
        <p:spPr>
          <a:xfrm>
            <a:off x="914400" y="2438280"/>
            <a:ext cx="69343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狭义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宋体"/>
              </a:rPr>
              <a:t>有形市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无形市场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2"/>
          </p:cNvPr>
          <p:cNvSpPr/>
          <p:nvPr/>
        </p:nvSpPr>
        <p:spPr>
          <a:xfrm>
            <a:off x="914400" y="3809880"/>
            <a:ext cx="82296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广义：包括有形市场和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宋体"/>
              </a:rPr>
              <a:t>无形市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B0B41-206D-4C5D-B3B8-D954F5FE2B23}" type="slidenum">
              <a:t>5</a:t>
            </a:fld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377720" y="2057400"/>
            <a:ext cx="539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楷体_GB2312"/>
              </a:rPr>
              <a:t>个别劳动时间     社会必要劳动时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10640" y="19051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10640" y="23623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&l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033040" y="16765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楷体_GB2312"/>
              </a:rPr>
              <a:t>亏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33040" y="2286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楷体_GB2312"/>
              </a:rPr>
              <a:t>盈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757440" y="3505320"/>
            <a:ext cx="1757160" cy="520560"/>
            <a:chOff x="757440" y="3505320"/>
            <a:chExt cx="1757160" cy="520560"/>
          </a:xfrm>
        </p:grpSpPr>
        <p:sp>
          <p:nvSpPr>
            <p:cNvPr id="244" name=""/>
            <p:cNvSpPr/>
            <p:nvPr/>
          </p:nvSpPr>
          <p:spPr>
            <a:xfrm>
              <a:off x="757440" y="3505320"/>
              <a:ext cx="1034280" cy="5205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  <a:ea typeface="楷体_GB2312"/>
                </a:rPr>
                <a:t>价格上涨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09680" y="378144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891160" y="3505320"/>
            <a:ext cx="1757160" cy="520560"/>
            <a:chOff x="2891160" y="3505320"/>
            <a:chExt cx="1757160" cy="520560"/>
          </a:xfrm>
        </p:grpSpPr>
        <p:sp>
          <p:nvSpPr>
            <p:cNvPr id="247" name=""/>
            <p:cNvSpPr/>
            <p:nvPr/>
          </p:nvSpPr>
          <p:spPr>
            <a:xfrm>
              <a:off x="2891160" y="3505320"/>
              <a:ext cx="1034280" cy="5205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  <a:ea typeface="楷体_GB2312"/>
                </a:rPr>
                <a:t>获利增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43400" y="378144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024520" y="3505320"/>
            <a:ext cx="1757160" cy="520560"/>
            <a:chOff x="5024520" y="3505320"/>
            <a:chExt cx="1757160" cy="520560"/>
          </a:xfrm>
        </p:grpSpPr>
        <p:sp>
          <p:nvSpPr>
            <p:cNvPr id="250" name=""/>
            <p:cNvSpPr/>
            <p:nvPr/>
          </p:nvSpPr>
          <p:spPr>
            <a:xfrm>
              <a:off x="5024520" y="3505320"/>
              <a:ext cx="1034280" cy="5205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  <a:ea typeface="楷体_GB2312"/>
                </a:rPr>
                <a:t>生产扩大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76760" y="378144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7158240" y="3505320"/>
            <a:ext cx="1034280" cy="1371600"/>
            <a:chOff x="7158240" y="3505320"/>
            <a:chExt cx="1034280" cy="1371600"/>
          </a:xfrm>
        </p:grpSpPr>
        <p:sp>
          <p:nvSpPr>
            <p:cNvPr id="253" name=""/>
            <p:cNvSpPr/>
            <p:nvPr/>
          </p:nvSpPr>
          <p:spPr>
            <a:xfrm>
              <a:off x="7158240" y="3505320"/>
              <a:ext cx="1034280" cy="5205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  <a:ea typeface="楷体_GB2312"/>
                </a:rPr>
                <a:t>供过于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20120" y="411480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6553080" y="5033880"/>
            <a:ext cx="1639440" cy="520560"/>
            <a:chOff x="6553080" y="5033880"/>
            <a:chExt cx="1639440" cy="520560"/>
          </a:xfrm>
        </p:grpSpPr>
        <p:sp>
          <p:nvSpPr>
            <p:cNvPr id="256" name=""/>
            <p:cNvSpPr/>
            <p:nvPr/>
          </p:nvSpPr>
          <p:spPr>
            <a:xfrm>
              <a:off x="7158240" y="5033880"/>
              <a:ext cx="1034280" cy="5205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  <a:ea typeface="楷体_GB2312"/>
                </a:rPr>
                <a:t>价格下降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553080" y="533376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495680" y="5029200"/>
            <a:ext cx="1639440" cy="520560"/>
            <a:chOff x="4495680" y="5029200"/>
            <a:chExt cx="1639440" cy="520560"/>
          </a:xfrm>
        </p:grpSpPr>
        <p:sp>
          <p:nvSpPr>
            <p:cNvPr id="259" name=""/>
            <p:cNvSpPr/>
            <p:nvPr/>
          </p:nvSpPr>
          <p:spPr>
            <a:xfrm>
              <a:off x="5100840" y="5029200"/>
              <a:ext cx="1034280" cy="5205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  <a:ea typeface="楷体_GB2312"/>
                </a:rPr>
                <a:t>获利减少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95680" y="53290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286000" y="5029200"/>
            <a:ext cx="1639440" cy="520560"/>
            <a:chOff x="2286000" y="5029200"/>
            <a:chExt cx="1639440" cy="520560"/>
          </a:xfrm>
        </p:grpSpPr>
        <p:sp>
          <p:nvSpPr>
            <p:cNvPr id="262" name=""/>
            <p:cNvSpPr/>
            <p:nvPr/>
          </p:nvSpPr>
          <p:spPr>
            <a:xfrm>
              <a:off x="2891160" y="5029200"/>
              <a:ext cx="1034280" cy="5205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  <a:ea typeface="楷体_GB2312"/>
                </a:rPr>
                <a:t>生产缩小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86000" y="53290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833760" y="4191120"/>
            <a:ext cx="1034280" cy="1358280"/>
            <a:chOff x="833760" y="4191120"/>
            <a:chExt cx="1034280" cy="1358280"/>
          </a:xfrm>
        </p:grpSpPr>
        <p:sp>
          <p:nvSpPr>
            <p:cNvPr id="265" name=""/>
            <p:cNvSpPr/>
            <p:nvPr/>
          </p:nvSpPr>
          <p:spPr>
            <a:xfrm>
              <a:off x="1295640" y="41911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3760" y="5028840"/>
              <a:ext cx="1034280" cy="52056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  <a:ea typeface="楷体_GB2312"/>
                </a:rPr>
                <a:t>供不应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C92D6-5101-44ED-874B-B7E32FDBB0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价值规律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价值规律的内容：商品的价值量是由生产商品的社会必要劳动时间决定的，商品交换要以 人价值量为基础，实行等价交换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价值规律的作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第一：调节生产资料和劳动力在各生产部门的分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第二：刺激商品生产者改进生产技术，改善经管理，提高劳动生产率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第三：促使生产者在竞争中优胜劣汰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031E7-4EF8-41D7-99F0-A0AAD2F6D3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71560" y="859320"/>
            <a:ext cx="21002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宋体"/>
              </a:rPr>
              <a:t>平等性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642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762120" y="20494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）含义：是指在市场上经济活动                                                    参加者之间的关系是平等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3352680"/>
            <a:ext cx="75438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原因：价值规律决定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41148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要求：当事人身份平等，交易平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BA53A-2414-4B3B-80F7-964BA8D705AD}" type="slidenum">
              <a:t>8</a:t>
            </a:fld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952880" y="304920"/>
            <a:ext cx="2857680" cy="5895720"/>
            <a:chOff x="4952880" y="304920"/>
            <a:chExt cx="2857680" cy="5895720"/>
          </a:xfrm>
        </p:grpSpPr>
        <p:pic>
          <p:nvPicPr>
            <p:cNvPr id="278" name="对联" descr=""/>
            <p:cNvPicPr/>
            <p:nvPr/>
          </p:nvPicPr>
          <p:blipFill>
            <a:blip r:embed="rId1"/>
            <a:srcRect l="0" t="0" r="60522" b="0"/>
            <a:stretch/>
          </p:blipFill>
          <p:spPr>
            <a:xfrm>
              <a:off x="4952880" y="304920"/>
              <a:ext cx="2857680" cy="58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5140080" y="914040"/>
              <a:ext cx="1521000" cy="45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茶  泡茶  泡好茶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2286000" y="304920"/>
            <a:ext cx="2857680" cy="5895720"/>
            <a:chOff x="2286000" y="304920"/>
            <a:chExt cx="2857680" cy="5895720"/>
          </a:xfrm>
        </p:grpSpPr>
        <p:pic>
          <p:nvPicPr>
            <p:cNvPr id="281" name="对联" descr=""/>
            <p:cNvPicPr/>
            <p:nvPr/>
          </p:nvPicPr>
          <p:blipFill>
            <a:blip r:embed="rId2"/>
            <a:srcRect l="0" t="0" r="60522" b="0"/>
            <a:stretch/>
          </p:blipFill>
          <p:spPr>
            <a:xfrm>
              <a:off x="2286000" y="304920"/>
              <a:ext cx="2857680" cy="58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2457360" y="914040"/>
              <a:ext cx="1521000" cy="45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坐  请坐  请上坐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763560" y="7621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对联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4120" y="1946160"/>
            <a:ext cx="66780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出自：郑板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70316-426C-42D7-94BE-6FF0C8D74A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市场 经济</cp:keywords>
  <dc:language>en-US</dc:language>
  <cp:lastModifiedBy/>
  <cp:revision>0</cp:revision>
  <dc:subject/>
  <dc:title/>
</cp:coreProperties>
</file>