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024-9446-47E0-B1EB-9083CC6A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F5E-D841-4BA0-8F08-AECAB5B2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215-D9E7-4CB9-B36D-BB6CD015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B2D-5506-44C8-B5A3-5449CBDC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B4C-D684-45E0-94FB-A2F7F728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0A72-1344-4C65-877F-249A1787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9A0F-3D9C-435F-B0FC-40E19816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2BF6-70C2-4E5E-88A2-F4540CBB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A941-A3DA-4357-9860-57EEBC50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E215-DA4C-413F-A8C6-20899EE0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628B-6831-45C8-9E99-59DA2083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EA8-874B-4AD7-A94A-3D9D5C32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17C8-0953-4AC8-A936-51A62BC2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28EA-DC91-42DF-8DF4-9916030D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853C-9BCF-4086-BD58-9BBEB2F4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C550-9D0A-4939-87C6-FFC2E63E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2A41-CA57-4636-8944-011620F4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03F-A197-4711-AF09-DE272571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BA8-3B5B-47A4-9864-00892C40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0D8-1318-4DF0-A2A0-C2D7B765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7B4-7DBE-4E96-BD84-37DE07EC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EEA-E4CF-4760-82C0-F83AC9A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FC7-F312-4014-9EF3-8E8504A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F64-2684-407B-BCC8-48FECDA7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7CC5-84B5-43B9-9ADF-4079D693C56F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7B4A-541F-49E5-80F8-688B355D39F2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762120"/>
            <a:ext cx="815328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zh-CN" sz="6000" spc="-1" strike="noStrike">
                <a:solidFill>
                  <a:srgbClr val="660066"/>
                </a:solidFill>
                <a:latin typeface="黑体"/>
                <a:ea typeface="黑体"/>
              </a:rPr>
              <a:t>1500</a:t>
            </a:r>
            <a:r>
              <a:rPr b="1" lang="zh-CN" sz="6000" spc="-1" strike="noStrike">
                <a:solidFill>
                  <a:srgbClr val="660066"/>
                </a:solidFill>
                <a:latin typeface="黑体"/>
                <a:ea typeface="黑体"/>
              </a:rPr>
              <a:t>年的四大传统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黑体"/>
                <a:ea typeface="黑体"/>
              </a:rPr>
              <a:t>文明及其关系格局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35053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b2d0b"/>
                </a:solidFill>
                <a:latin typeface="Tahoma"/>
                <a:ea typeface="黑体"/>
              </a:rPr>
              <a:t>对外交往：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3760" y="28191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2d0b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b2d0b"/>
                </a:solidFill>
                <a:latin typeface="Tahoma"/>
              </a:rPr>
              <a:t>纳贡关系是古代中国处理国际关系的主要形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b2d0b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b2d0b"/>
                </a:solidFill>
                <a:latin typeface="Tahoma"/>
              </a:rPr>
              <a:t>郑和下西洋：规模、技术水平都远远高于同时期的西方，却没有产生后来的地理大发现那样的成果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952880" cy="4145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" y="5867280"/>
            <a:ext cx="495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郑和船队行经路线示意图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410080" y="152280"/>
            <a:ext cx="3581640" cy="2565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04920" y="-11340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郑和宝船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b2d0b"/>
                </a:solidFill>
                <a:latin typeface="Tahoma"/>
                <a:ea typeface="黑体"/>
              </a:rPr>
              <a:t>印度河文明</a:t>
            </a:r>
            <a:r>
              <a:rPr b="1" lang="zh-CN" sz="5400" spc="-1" strike="noStrike">
                <a:solidFill>
                  <a:srgbClr val="8b2d0b"/>
                </a:solidFill>
                <a:latin typeface="Tahoma"/>
              </a:rPr>
              <a:t>：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1640" y="19047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8b2d0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b2d0b"/>
                </a:solidFill>
                <a:latin typeface="Tahoma"/>
              </a:rPr>
              <a:t>早在公元前三千纪，曾有过一个“印度河文明”，习惯上称之为“哈拉巴文化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8b2d0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b2d0b"/>
                </a:solidFill>
                <a:latin typeface="Tahoma"/>
              </a:rPr>
              <a:t>古代世界面积最广阔的青铜文化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011840" cy="455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黑体"/>
              </a:rPr>
              <a:t>印度河文明</a:t>
            </a:r>
            <a:r>
              <a:rPr b="1" lang="zh-CN" sz="4800" spc="-1" strike="noStrike">
                <a:solidFill>
                  <a:srgbClr val="000066"/>
                </a:solidFill>
                <a:latin typeface="Tahoma"/>
              </a:rPr>
              <a:t>：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2895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8b2d0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b2d0b"/>
                </a:solidFill>
                <a:latin typeface="Tahoma"/>
              </a:rPr>
              <a:t>公元前</a:t>
            </a:r>
            <a:r>
              <a:rPr b="1" lang="zh-CN" sz="3600" spc="-1" strike="noStrike">
                <a:solidFill>
                  <a:srgbClr val="8b2d0b"/>
                </a:solidFill>
                <a:latin typeface="Times New Roman"/>
              </a:rPr>
              <a:t>1400</a:t>
            </a:r>
            <a:r>
              <a:rPr b="1" lang="zh-CN" sz="3600" spc="-1" strike="noStrike">
                <a:solidFill>
                  <a:srgbClr val="8b2d0b"/>
                </a:solidFill>
                <a:latin typeface="Tahoma"/>
              </a:rPr>
              <a:t>年左右，突然衰落消失，消失的原因迄今无定论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5486400" cy="3146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52680" y="51055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摩亨约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Tahoma"/>
              </a:rPr>
              <a:t>•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达罗遗址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（摩亨约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Tahoma"/>
              </a:rPr>
              <a:t>•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达罗，印度河文明的两大城市之一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b2d0b"/>
                </a:solidFill>
                <a:latin typeface="Tahoma"/>
                <a:ea typeface="黑体"/>
              </a:rPr>
              <a:t>印度文明的三个时代</a:t>
            </a:r>
            <a:r>
              <a:rPr b="0" lang="zh-CN" sz="4800" spc="-1" strike="noStrike">
                <a:solidFill>
                  <a:srgbClr val="8b2d0b"/>
                </a:solidFill>
                <a:latin typeface="Tahoma"/>
              </a:rPr>
              <a:t>：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d531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531d"/>
                </a:solidFill>
                <a:latin typeface="黑体"/>
                <a:ea typeface="黑体"/>
              </a:rPr>
              <a:t>印度</a:t>
            </a:r>
            <a:r>
              <a:rPr b="1" lang="zh-CN" sz="3200" spc="-1" strike="noStrike">
                <a:solidFill>
                  <a:srgbClr val="ed531d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ed531d"/>
                </a:solidFill>
                <a:latin typeface="黑体"/>
                <a:ea typeface="黑体"/>
              </a:rPr>
              <a:t>雅利安</a:t>
            </a: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文明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时代（公元前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1400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公元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8b2d0b"/>
                </a:solidFill>
                <a:latin typeface="Times New Roman"/>
              </a:rPr>
              <a:t> ）。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又称吠陀文明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d531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印度教文明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时代（公元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-1206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年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d531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伊斯兰</a:t>
            </a: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印度文明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时代（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1206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-1757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年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8b2d0b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三个文明都不曾统一过整个次大陆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93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印度</a:t>
            </a: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-</a:t>
            </a: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雅利安文明时代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166a5"/>
                </a:solidFill>
                <a:latin typeface="Tahoma"/>
              </a:rPr>
              <a:t>该文明是雅利安入侵者的文化和印度土著文化的混合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166a5"/>
                </a:solidFill>
                <a:latin typeface="Tahoma"/>
              </a:rPr>
              <a:t>为印度文明的发展定下结构性的基调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255920" cy="5410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26920" y="5638680"/>
            <a:ext cx="343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右图：古代印度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世纪</a:t>
            </a:r>
            <a:r>
              <a:rPr b="0" lang="en-US" sz="2800" spc="-1" strike="noStrike">
                <a:solidFill>
                  <a:srgbClr val="2166a5"/>
                </a:solidFill>
                <a:latin typeface="黑体"/>
                <a:ea typeface="黑体"/>
              </a:rPr>
              <a:t>BC-</a:t>
            </a: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世纪</a:t>
            </a:r>
            <a:r>
              <a:rPr b="0" lang="en-US" sz="2800" spc="-1" strike="noStrike">
                <a:solidFill>
                  <a:srgbClr val="2166a5"/>
                </a:solidFill>
                <a:latin typeface="黑体"/>
                <a:ea typeface="黑体"/>
              </a:rPr>
              <a:t>AD</a:t>
            </a:r>
            <a:r>
              <a:rPr b="0" lang="en-US" sz="2800" spc="-1" strike="noStrike">
                <a:solidFill>
                  <a:srgbClr val="2166a5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Tahoma"/>
                <a:ea typeface="黑体"/>
              </a:rPr>
              <a:t>印度教文明时代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57440" y="533160"/>
            <a:ext cx="36939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耆那教、佛教衰落，印度教成为占主导地位的宗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印度历史上最混乱的群雄割据时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商业的荣衰常常能决定其最富裕地区内各帝国的兴亡（</a:t>
            </a:r>
            <a:r>
              <a:rPr b="1" lang="zh-CN" sz="2800" spc="-1" strike="noStrike">
                <a:solidFill>
                  <a:srgbClr val="2166a5"/>
                </a:solidFill>
                <a:latin typeface="Tahoma"/>
              </a:rPr>
              <a:t>布罗代尔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3645000" cy="5105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41400" y="1676520"/>
            <a:ext cx="1033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66a5"/>
                </a:solidFill>
                <a:latin typeface="Tahoma"/>
              </a:rPr>
              <a:t>左图：舞王湿婆（青铜雕像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43000"/>
            <a:ext cx="762012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伊斯兰</a:t>
            </a: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-</a:t>
            </a: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印度文明时代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572000" cy="5410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2880" y="1219320"/>
            <a:ext cx="399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伊斯兰教文化的入侵，遭到印度教文化的顽强抗拒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次大陆的矛盾复杂化，社会发展受到阻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经济上农工商并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66a5"/>
                </a:solidFill>
                <a:latin typeface="Tahoma"/>
                <a:ea typeface="黑体"/>
              </a:rPr>
              <a:t>左图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66a5"/>
                </a:solidFill>
                <a:latin typeface="Tahoma"/>
                <a:ea typeface="黑体"/>
              </a:rPr>
              <a:t>莫卧儿帝国在印度的扩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5280" y="1143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166a5"/>
                </a:solidFill>
                <a:latin typeface="Tahoma"/>
                <a:ea typeface="黑体"/>
              </a:rPr>
              <a:t>印度文明三大基本特征</a:t>
            </a: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村社制度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种姓制度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印度教（</a:t>
            </a:r>
            <a:r>
              <a:rPr b="0" lang="en-US" sz="4800" spc="-1" strike="noStrike">
                <a:solidFill>
                  <a:srgbClr val="2166a5"/>
                </a:solidFill>
                <a:latin typeface="Arial"/>
                <a:ea typeface="楷体_GB2312"/>
              </a:rPr>
              <a:t>Hinduism</a:t>
            </a:r>
            <a:r>
              <a:rPr b="1" lang="en-US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）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77836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Tahoma"/>
                <a:ea typeface="黑体"/>
              </a:rPr>
              <a:t>伊斯兰教的兴起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黑体"/>
              </a:rPr>
              <a:t>三个重要的社会特征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迎合的主要是当时半开化的沙漠游牧民贝杜因人的精神需要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具有一定的原始平等的色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相当重视商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29076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537040" y="1600200"/>
            <a:ext cx="606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ahoma"/>
              </a:rPr>
              <a:t>左图：麦地那</a:t>
            </a:r>
            <a:r>
              <a:rPr b="1" lang="zh-CN" sz="2800" spc="-1" strike="noStrike">
                <a:solidFill>
                  <a:srgbClr val="008080"/>
                </a:solidFill>
                <a:latin typeface="Tahoma"/>
                <a:ea typeface="_x000b__x000c_"/>
              </a:rPr>
              <a:t>印经局刊本《古兰经》扉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80"/>
                </a:solidFill>
                <a:latin typeface="Tahoma"/>
                <a:ea typeface="黑体"/>
              </a:rPr>
              <a:t>阿拉伯帝国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5000" y="1447560"/>
            <a:ext cx="324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23232f"/>
                </a:solidFill>
                <a:latin typeface="Tahoma"/>
              </a:rPr>
              <a:t>它将阿拉伯世界由阿拉伯半岛扩展到整个西亚北非，并奠立了一个以中东地区为核心的广阔的区域文明－－伊斯兰文明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5715000" cy="396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6095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3232f"/>
                </a:solidFill>
                <a:latin typeface="Tahoma"/>
              </a:rPr>
              <a:t>全盛时期的阿拉伯帝国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37e32"/>
                </a:solidFill>
                <a:latin typeface="Tahoma"/>
                <a:ea typeface="黑体"/>
              </a:rPr>
              <a:t>四大传统文明及其相互关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617b31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17b31"/>
                </a:solidFill>
                <a:latin typeface="Tahoma"/>
                <a:ea typeface="黑体"/>
              </a:rPr>
              <a:t>中华文明（儒家文化圈）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617b31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17b31"/>
                </a:solidFill>
                <a:latin typeface="Tahoma"/>
                <a:ea typeface="黑体"/>
              </a:rPr>
              <a:t>印度文明（印度教佛教文化圈）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617b31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17b31"/>
                </a:solidFill>
                <a:latin typeface="Tahoma"/>
                <a:ea typeface="黑体"/>
              </a:rPr>
              <a:t>中东文明（伊斯兰教文化圈）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617b31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17b31"/>
                </a:solidFill>
                <a:latin typeface="Tahoma"/>
                <a:ea typeface="黑体"/>
              </a:rPr>
              <a:t>欧洲文明（基督教文化圈）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7160" y="50760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Tahoma"/>
                <a:ea typeface="黑体"/>
              </a:rPr>
              <a:t>中东文明的特点</a:t>
            </a:r>
            <a:r>
              <a:rPr b="0" lang="zh-CN" sz="4400" spc="-1" strike="noStrike">
                <a:solidFill>
                  <a:srgbClr val="008080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8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ahoma"/>
              </a:rPr>
              <a:t>特别注重对知识的追求，为保存古希腊罗马濒于灭绝的科学文化作出过重要贡献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008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ahoma"/>
              </a:rPr>
              <a:t>但伊斯兰科学成就限于一种“量的积累”，对科学的探索不成系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008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ahoma"/>
              </a:rPr>
              <a:t>扩张性极强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2096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7160" y="42696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Tahoma"/>
              </a:rPr>
              <a:t>4. </a:t>
            </a:r>
            <a:r>
              <a:rPr b="0" lang="zh-CN" sz="6000" spc="-1" strike="noStrike">
                <a:solidFill>
                  <a:srgbClr val="660066"/>
                </a:solidFill>
                <a:latin typeface="Tahoma"/>
                <a:ea typeface="黑体"/>
              </a:rPr>
              <a:t>欧洲文明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年的欧洲文明，其本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质是西方的基督教文明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要想了解欧洲文明，就不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能不了解基督教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  <a:ea typeface="黑体"/>
              </a:rPr>
              <a:t>基督教的特点（一）：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十分重视“理性”的作用，即使在中世纪最黑暗的年代基督教的理性精神也不曾完全泯灭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右图：圣奥古斯丁（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aint Augustine, 354-430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83080" y="1600200"/>
            <a:ext cx="326088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  <a:ea typeface="黑体"/>
              </a:rPr>
              <a:t>基督教的特点（二）：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91320" y="182844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信奉“普济主义” —— 即以救赎全人类为己任，充斥着改变异端信仰的狂热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左图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十字军东征示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5410080" cy="41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410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黑体"/>
              </a:rPr>
              <a:t>基督教文明也是非典型的农业文明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343040" y="1447560"/>
            <a:ext cx="4459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畜牧业在经济中占很大的比重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比较重视工商业，商人在社会生活中有较高的地位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左图：卖酒商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93760" y="1447920"/>
            <a:ext cx="387504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5840"/>
            <a:ext cx="42670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531d"/>
                </a:solidFill>
                <a:latin typeface="黑体"/>
                <a:ea typeface="黑体"/>
              </a:rPr>
              <a:t>1.</a:t>
            </a:r>
            <a:r>
              <a:rPr b="1" lang="zh-CN" sz="6000" spc="-1" strike="noStrike">
                <a:solidFill>
                  <a:srgbClr val="ed531d"/>
                </a:solidFill>
                <a:latin typeface="黑体"/>
                <a:ea typeface="黑体"/>
              </a:rPr>
              <a:t>中华文明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0" y="13716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7775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ed531d"/>
                </a:solidFill>
                <a:latin typeface="Tahoma"/>
              </a:rPr>
              <a:t>虽非最古老的，却是最长命的，是上古时代人类文明的硕果仅存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7775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1d7775"/>
                </a:solidFill>
                <a:latin typeface="Tahoma"/>
              </a:rPr>
              <a:t>左上：长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7775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1d7775"/>
                </a:solidFill>
                <a:latin typeface="Tahoma"/>
              </a:rPr>
              <a:t>左下：丝绸之路上的驼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496040" cy="2666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49604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25142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ahoma"/>
              </a:rPr>
              <a:t>中华文明何以有如此独特的延续性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ahom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  <a:ea typeface="楷体_GB2312"/>
              </a:rPr>
              <a:t>斯塔夫里阿诺斯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地理上与外界严重隔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由发达的农业导致的极其庞大的人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以农为本的生活方式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统一的文字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科举制度及儒家学说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76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391520" y="261144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上图：清明上河图（局部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d531d"/>
                </a:solidFill>
                <a:latin typeface="Tahoma"/>
                <a:ea typeface="黑体"/>
              </a:rPr>
              <a:t>农业发达</a:t>
            </a:r>
            <a:r>
              <a:rPr b="0" lang="zh-CN" sz="7200" spc="-1" strike="noStrike">
                <a:solidFill>
                  <a:srgbClr val="617b31"/>
                </a:solidFill>
                <a:latin typeface="Tahoma"/>
                <a:ea typeface="黑体"/>
              </a:rPr>
              <a:t> </a:t>
            </a:r>
            <a:r>
              <a:rPr b="0" lang="zh-CN" sz="4000" spc="-1" strike="noStrike">
                <a:solidFill>
                  <a:srgbClr val="333333"/>
                </a:solidFill>
                <a:latin typeface="Tahoma"/>
                <a:ea typeface="黑体"/>
              </a:rPr>
              <a:t>是最关键的因素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00240" y="13712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中国农业何以发达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斯氏的解释是：中国土壤和气候条件的结合特别有利于农作物生长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          ——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此说不实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汤因比的“挑战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-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应战”理论：并不优越的自然条件促使了中国人的才智和潜能的充分发挥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4496040" cy="3200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3341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上图：牛耕砖画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（甘肃嘉峪关出土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1240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531d"/>
                </a:solidFill>
                <a:latin typeface="Tahoma"/>
              </a:rPr>
              <a:t>中华文明是一种经典形态的农业文明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562360" y="1980720"/>
            <a:ext cx="2895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ahoma"/>
              </a:rPr>
              <a:t>中国农业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集约而纯粹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自给自足的封闭性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800600" cy="3310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8600" y="51814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上图：同庆丰年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（清末 天津杨柳青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重农”对中华文明产生的影响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4120" y="1752120"/>
            <a:ext cx="3620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使中国长期维持一种大一统的专制政治结构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以农为本，重本轻末，工商业的发展受到抑制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严重抑制了技术的进步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5029200" cy="3396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5486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上图：福寿康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（清末 天津杨柳青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7160" y="5698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d531d"/>
                </a:solidFill>
                <a:latin typeface="Tahoma"/>
                <a:ea typeface="黑体"/>
              </a:rPr>
              <a:t>儒学</a:t>
            </a:r>
            <a:r>
              <a:rPr b="1" lang="zh-CN" sz="5400" spc="-1" strike="noStrike">
                <a:solidFill>
                  <a:srgbClr val="65451b"/>
                </a:solidFill>
                <a:latin typeface="Tahoma"/>
                <a:ea typeface="黑体"/>
              </a:rPr>
              <a:t>：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81280" y="2361960"/>
            <a:ext cx="472464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5451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注重此岸的世俗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幸福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5451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家国相通的伦理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政治观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593800" cy="453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7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黑体"/>
              </a:rPr>
              <a:t>中华文明的巨大贡献：四大发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486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图示：指南针、造纸术、印刷术、火药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四大文明 关系格局</cp:keywords>
  <dc:language>en-US</dc:language>
  <cp:lastModifiedBy/>
  <cp:revision>0</cp:revision>
  <dc:subject/>
  <dc:title/>
</cp:coreProperties>
</file>