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C1F-58A7-4AAE-B8F2-3C31D7FF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1E8-C342-4BD8-A3AA-1EA2DEF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474-B1EB-4DB8-80A5-D167E897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5D6-107D-48ED-B328-4C8290F8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2D7-F801-4235-BAB2-0AC69A0A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C0B-14EA-4B4F-B23D-EC00659C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567-B57B-42B6-8F08-4F24702D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DB5E-4545-425C-BC15-13BBE037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CDD8-A95A-4147-A2C8-693DC4D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E04B-3AF0-44EB-A4C5-DEB6DC2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75AD-3787-42AA-B084-D0A73DC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977-CB5F-49A2-A842-16F6296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335-AD8E-4A9B-A941-48C02A2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A766-F2A5-4371-A962-767B0A3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47AA-534F-4068-8A13-5F53E22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30E-3E01-44CA-B4AA-C70952FC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D99-7430-4CFB-B39F-82D69187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BDD-CF43-4896-A70B-BA347250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D1B-ADE9-411E-B298-AD05115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758-95A4-4739-91BB-FC0089C0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800-4762-40C3-BD38-6815165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C35-3CD0-4C39-A488-E6A72EA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F9F-2E7F-486D-84D0-E261CE2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FB7-21E9-4B87-B898-61B0168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6C7-B660-45EB-8907-F42EC2DD65CF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9B0-AAFF-43E4-B7DB-503C73263EBC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../../../download/&#38451;&#20851;&#19977;&#21472;.mp3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./../../download/yll.ex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../download/yll.ex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../download/&#38451;&#20851;&#19977;&#21472;.mp3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50840" y="38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0840" y="1295280"/>
            <a:ext cx="16437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ae4828"/>
                </a:solidFill>
                <a:uFillTx/>
                <a:latin typeface="Times New Roman"/>
                <a:ea typeface="华文彩云"/>
                <a:hlinkClick r:id="rId2"/>
              </a:rPr>
              <a:t>阳关三叠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诗歌鉴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4600" y="2743200"/>
            <a:ext cx="111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《送元二使安西》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164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王维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33920" y="838080"/>
            <a:ext cx="27432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685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舒体"/>
              </a:rPr>
              <a:t>伤离别</a:t>
            </a:r>
            <a:endParaRPr b="1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方正舒体"/>
              <a:ea typeface="方正舒体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828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写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1905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实写（所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虚写（所想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话情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离别前（心理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867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离别后（心理）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81952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34340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欣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49120" y="487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离别时（情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209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20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8160" y="2133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景中含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处处是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41911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48840" y="42069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依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不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88360" y="5410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痛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思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449568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66360" y="409284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情景交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字字是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94520" y="1143000"/>
            <a:ext cx="292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执手相看泪眼，竟无语凝噎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24382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谢谢光临！</a:t>
            </a:r>
            <a:endParaRPr b="1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1800" y="533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方正舒体"/>
              </a:rPr>
              <a:t>离别相思最苦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6002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浮云游子意，落日故人情。挥手自兹去，萧萧班马鸣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白《送友人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971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297180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剪不断，理还乱，是离愁。别是一般滋味在心头。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煜《相见欢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离恨恰如春草，更行更远还生。    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煜《清平乐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41008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蜡烛有心还惜别，替人垂泪到天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杜牧《赠别二首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5335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  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柳永：是</a:t>
            </a:r>
            <a:r>
              <a:rPr b="1" lang="zh-CN" sz="36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词人，字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耆卿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原名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三变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因排名第七，又曾做过屯田员外郎，世称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柳七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柳屯田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满腹才华，但仕途坎坷，终身潦倒失意，因此流连坊曲写下了大量受普通市民喜欢的词作。他的词流传很广：“凡有井水饮处，即能歌柳词”。其中以写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羁旅行役、离情别绪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最为出色，感情纯真、大胆，善于运用铺叙的手法、通俗的语言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59436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欣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32480" y="609480"/>
            <a:ext cx="911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折柳相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66360" y="3886200"/>
            <a:ext cx="1277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柳”即“留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7760" y="685800"/>
            <a:ext cx="3570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昔我往矣，杨柳依依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今我来思，雨雪霏霏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行道迟迟，载渴载饥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我心伤悲，莫知我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1840" y="609480"/>
            <a:ext cx="3232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水边杨柳曲成丝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立马烦君折一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唯有春风最相惜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殷勤更向水中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171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别时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762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寒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长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骤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648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别后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烟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暮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杨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晓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残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0520" y="1371600"/>
            <a:ext cx="1399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一 切 景 语 皆 情 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143000"/>
            <a:ext cx="380880" cy="4876920"/>
          </a:xfrm>
          <a:custGeom>
            <a:avLst/>
            <a:gdLst>
              <a:gd name="textAreaLeft" fmla="*/ 0 w 380880"/>
              <a:gd name="textAreaRight" fmla="*/ 137520 w 38088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实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虚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6000" y="1219320"/>
            <a:ext cx="1399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景中含情   处处是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0666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733920"/>
            <a:ext cx="152280" cy="2590560"/>
          </a:xfrm>
          <a:custGeom>
            <a:avLst/>
            <a:gdLst>
              <a:gd name="textAreaLeft" fmla="*/ 97200 w 152280"/>
              <a:gd name="textAreaRight" fmla="*/ 15264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13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5120" y="30492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意象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0760" y="8492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融入主观情意的客观物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080" y="19051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是构成诗歌意境的细小单位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8120" y="275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砖石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5840" y="3276720"/>
            <a:ext cx="12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意境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3920" y="40384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诗人主观情意和客观事物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1000" y="5029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互相交融而形成的艺术境界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45120" y="5791320"/>
            <a:ext cx="160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建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59436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音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32760" y="838080"/>
            <a:ext cx="1826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</a:rPr>
              <a:t>天若有情天亦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6640" y="838080"/>
            <a:ext cx="292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执手相看泪眼，竟无语凝噎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5080" y="1219320"/>
            <a:ext cx="1277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执子之手，与子偕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71960" y="1219320"/>
            <a:ext cx="733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6120" y="37980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此时无声胜有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53040" y="1940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相见时难别亦难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09080" y="990720"/>
            <a:ext cx="2355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隶书"/>
              </a:rPr>
              <a:t>虚写离别后的痛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华文行楷"/>
              </a:rPr>
              <a:t>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69920" y="685800"/>
            <a:ext cx="2754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多情自古伤离别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     </a:t>
            </a: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更哪堪冷落清秋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457200"/>
            <a:ext cx="5249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方正舒体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此去经年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应是良辰好景虚设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便纵有千种风情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       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更于何人说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2438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话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1371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时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276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371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心理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情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心理）－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7960" y="1371600"/>
            <a:ext cx="127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细黑"/>
              </a:rPr>
              <a:t>依舍依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66360" y="2895480"/>
            <a:ext cx="1277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细黑"/>
              </a:rPr>
              <a:t>苦念痛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52388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752480"/>
            <a:ext cx="533520" cy="1905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7242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舒体"/>
              </a:rPr>
              <a:t> 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情景交融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字字是情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808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2615"/>
                </a:solidFill>
                <a:latin typeface="Arial"/>
                <a:ea typeface="隶书"/>
              </a:rPr>
              <a:t>伤 离 别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诗歌 鉴赏</cp:keywords>
  <dc:language>en-US</dc:language>
  <cp:lastModifiedBy/>
  <cp:revision>0</cp:revision>
  <dc:subject/>
  <dc:title/>
</cp:coreProperties>
</file>