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19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6.wmf" ContentType="image/x-wmf"/>
  <Override PartName="/ppt/media/image7.png" ContentType="image/png"/>
  <Override PartName="/ppt/media/image15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799C-8877-44C1-8786-D0D5C0A6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4EF0-EA05-4361-8C75-04F20462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FE27-F878-47FD-B984-271E5B464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4CAF-8987-481E-9CE9-CCFA18AF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40A4-F4B6-405D-A17E-DE898CC4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51C6-C1AF-4865-8CD3-6F368317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A4F0-250F-49D8-BDD6-CAFF0924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B887-66F6-404D-B853-FCD7C5D7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59C2-0C5F-4448-9366-9CB4D7CB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28A6-0AE3-45C6-9079-F49DE059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D032-D0A5-4569-92EF-54038DD3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8808-146E-4684-9E16-C7E6515E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F771-F806-40BB-8875-3ECA337F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0A50-F543-40B2-86A3-0B6C236F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6683-1ABA-4BD0-872E-9825ADAE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167E-6153-454F-ABE1-ABE96EFB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AB34-14DD-4EA9-9BC6-E2E0F12E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2F09-A3C7-4EA3-ACB7-C2FC7C1A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8765-5A57-4A6B-B83B-DBF869CE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55D5-43EA-4CA8-B566-C3A71966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D097-487A-4489-B4C5-8F9C0269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5EA9-8ED2-4B26-8847-DE9E8352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5EB7-AF2E-4DBB-8D24-756D6AD9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C887-0C0F-49F2-8ED0-FE7AFC8D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B08D-E26F-4C2C-B7E3-35A496E68DF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06DC-1A50-4D33-9B9A-BC7976F4F6C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社会主义市场经济理论与现代企业制度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479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68600" y="2000160"/>
            <a:ext cx="4006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兼并的目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99840" y="17521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获得对方的技术优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扩大企业规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高市场占有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进入新领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实现管理者的其他目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2469960" cy="4038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505320" y="5334120"/>
            <a:ext cx="504720" cy="914400"/>
          </a:xfrm>
          <a:custGeom>
            <a:avLst/>
            <a:gdLst>
              <a:gd name="textAreaLeft" fmla="*/ 67320 w 504720"/>
              <a:gd name="textAreaRight" fmla="*/ 437400 w 50472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社会主义市场经济的基本体制框架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代企业制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开放竞争有序的市场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按劳分配为主与按要素分配相结合的个人收入分配制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多层次的社会保障制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间接调控为主的宏观调控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社会主义市场体系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商品市场：消费品市场，生产资料市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金融市场：资金市场，资本市场，黄金市场，      外汇市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劳动力市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技术信息市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房地产市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486400" y="3886200"/>
            <a:ext cx="2286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按劳分配为主多种分配并存的个人收入分配方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按劳分配收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直接劳动收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资金资产收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经营收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技术信息收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投机收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952880" y="32767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多层次的社会保障制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会保险：养老保险，医疗保险，失业保险，公积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会救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会福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会优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35812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间接为主的宏观调控体系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调控手段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经济手段：运用经济政策和经济杠杆调节控制经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经济杠杆主要包括：存款准备金率，再贴现率，公开市场业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经济政策主要包括：财政政策，货币政策，收入政策，消费政策，产业政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法律手段：国家通过经济立法规范市场主体的行为，调整经济关系。包括立法与司法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行政手段：行政机构用强制性指令方式管理经济，国家在必要时运用行政手段进行直接调控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486400" y="4495680"/>
            <a:ext cx="2133720" cy="19051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143000" y="5410080"/>
            <a:ext cx="609480" cy="990720"/>
          </a:xfrm>
          <a:custGeom>
            <a:avLst/>
            <a:gdLst>
              <a:gd name="textAreaLeft" fmla="*/ 81360 w 609480"/>
              <a:gd name="textAreaRight" fmla="*/ 528120 w 60948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政府职能与宏观调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政府职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资产所有者：资产管理，保值增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社会管理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教育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基础设施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维持秩序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发展战略：可持续发展战略，科教兴国战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宏观调控者：调节控制宏观经济运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876920" y="3048120"/>
            <a:ext cx="2666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宏观调控的根本目标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公平与效率的统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公平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收入平等——基尼系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机会平等—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表现在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公平竞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受教育的机会平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生产资料利用的机会平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03880" y="25909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宏观调控具体目标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一   充分就业：有工作能力并愿意工作的人都找到了工作。   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周期性失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季节性失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结构性失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摩擦性失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充分就业是指只存在结构性失业和摩擦性失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二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经济持续均衡增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稳定物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四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平衡国际收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2438280"/>
            <a:ext cx="457200" cy="1524240"/>
          </a:xfrm>
          <a:custGeom>
            <a:avLst/>
            <a:gdLst>
              <a:gd name="textAreaLeft" fmla="*/ 292320 w 457200"/>
              <a:gd name="textAreaRight" fmla="*/ 457560 w 4572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2892600"/>
            <a:ext cx="1067040" cy="45720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失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5643720"/>
            <a:ext cx="657360" cy="985680"/>
          </a:xfrm>
          <a:custGeom>
            <a:avLst/>
            <a:gdLst>
              <a:gd name="textAreaLeft" fmla="*/ 87840 w 657360"/>
              <a:gd name="textAreaRight" fmla="*/ 569520 w 65736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一讲市场经济与政府职能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经济的一般原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3366ff"/>
                </a:solidFill>
                <a:uFillTx/>
                <a:latin typeface="Times New Roman"/>
              </a:rPr>
              <a:t>社会主义市场经济体制的基本框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3366ff"/>
                </a:solidFill>
                <a:uFillTx/>
                <a:latin typeface="Times New Roman"/>
              </a:rPr>
              <a:t>政府职能与宏观调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3366ff"/>
                </a:solidFill>
                <a:uFillTx/>
                <a:latin typeface="Times New Roman"/>
              </a:rPr>
              <a:t>政企分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248520" y="4572000"/>
            <a:ext cx="1726920" cy="2057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政企分开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取消企业行政级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分离企业办社会的职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实行股份制改造，实现产权多元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715000" y="4343400"/>
            <a:ext cx="251460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1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6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二讲现代企业制度的主要内容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明确界定的所有者和经营者的委托代理关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有限财产责任制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三法人财产制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四法人治理结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五科学管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34120" y="2895480"/>
            <a:ext cx="26733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明确界定的委托代理关系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关键是建立激励约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）建立激励约束机制的必要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）激励约束形式的探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年薪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股票期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29494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有限财产责任制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004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投资者：责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以出资额为限负有限责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权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选择管理者，决策，剩余                         索取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企业：责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----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以法人财产为限的有限责任，资产保值增值，依法纳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权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----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企业资产的日常经营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三        法人财产制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8052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企业财产掌握在企业法人手中，而非投资者自然人手中。投资者无权干预企业的生产，经营活动，企业有完全的权力不受干预地行使资产占有，支配，使用与经营收益的权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14600" y="4114800"/>
            <a:ext cx="4114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五    法人治理结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股东（大）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董事会                              监事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经理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完善法人治理结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尽可能通过市场选聘经营人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处理好新三会与老三会的关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健全董事会制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724280" y="3322800"/>
            <a:ext cx="376416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9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五    科学管理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抓方向，抓机遇，搞好企业发展战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建立重大决策的责任制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完善资金管理与财务会计报表管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352680" y="4114800"/>
            <a:ext cx="2895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会计信息失真的形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会计信息失真，即会计凭证失真。主要表现为不合法，不合理，不完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会计帐簿失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信息源失真引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抽单不入帐，设小金库。假帐真做，真帐假做，或真帐不做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会计报表失真：虚设利润；挤占成本，凭空编造；帐外帐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解决措施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加强立法与执法力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抓会计职业道德教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加强监督检查力度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建立会计职业联盟，优化会计队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实行会计委派制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4114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市场经济的一般原理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资源配置的含义，原因，目标与要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资源配置的方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机制及其运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9880" y="3886200"/>
            <a:ext cx="487692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资源配置的涵义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各种资源在不同使用方向之间的分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352680" y="4267080"/>
            <a:ext cx="26924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资源配置的原因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" y="3962520"/>
            <a:ext cx="3581280" cy="2133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人的需要的多样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资源的稀缺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资源配置的目标与要求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按比例：能满足人类多方面的需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有效率：能使有限资源得到最大限度的       利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038480" y="4114800"/>
            <a:ext cx="3391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资源配置的方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计划配置：由政府通过行政指令，经济政策等手段配置资源的一种方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市场配置：通过市场机制的作用配置资源的一种方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791320" y="4495680"/>
            <a:ext cx="2895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市场机制及其运行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价格机制：价格的形成是由商品和货币背后的市场主体—生产者和消费者共同决定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供求机制：价格下降，生产减少；价格上涨，生产增加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竞争机制：手段有价格竞争与非价格竞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非价格竞争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4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方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质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品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服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广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兼并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267080" y="236232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社会主义 市场经济 现代企业 制度</cp:keywords>
  <dc:language>en-US</dc:language>
  <cp:lastModifiedBy/>
  <cp:revision>0</cp:revision>
  <dc:subject/>
  <dc:title/>
</cp:coreProperties>
</file>