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E24-6177-4BC9-BB49-AE5F6333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A32-EF08-4772-AC21-A0092A51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143-46E2-444D-90EC-43160ADA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B3A-E036-4A83-8412-BF420469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5C87-4780-4C26-9323-BF69C61A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8A24-1AD9-4B5D-B6D4-B5F9E7A2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6282-956E-4078-82E3-C99A6F06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3A33-0FDF-444A-8C52-6AEAA4D9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3E2A-9733-4130-B33C-798DB728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036B-31A1-46A9-8C06-5D624CD7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0D4C-83BA-4E17-AD3A-11452B5A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FE1-287B-4E7C-821F-2B20217C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8820-972A-4C3F-8E03-DB6312B8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E323-39B4-4679-B104-AB10B4E1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35E5-3AA9-463C-8FD9-3C127CF8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00B8-C17A-40DB-A123-D4B1F1B7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2ADB-B9A5-4CFC-A801-6698EB5A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813-6EA3-424A-B873-DAE8738F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2CF-7303-4330-8945-DC25C533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327-5678-40A2-8CFE-FD3F8AD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4C0-B6BD-4ED2-939E-BA04F9B2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F2D-2F84-4DCB-A757-91FB6EA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3D3-EC89-433B-B407-5419588C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0DE-3B23-4823-AE82-A284B39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E4AB-9271-435A-8C24-ABF18C722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10B2-B50F-4AFE-AB79-55E8DCC02F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58665" t="33198" r="0" b="23753"/>
          <a:stretch/>
        </p:blipFill>
        <p:spPr>
          <a:xfrm>
            <a:off x="5364000" y="2276640"/>
            <a:ext cx="3780000" cy="295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1080" y="6526080"/>
            <a:ext cx="426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5480" y="44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966F-3655-461E-9013-DAD25C0E93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15:39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40:19Z</dcterms:modified>
  <cp:revision>258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