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2.gif" ContentType="image/gif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ACD-AC46-45AB-8CA0-02021CDD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483-D18F-4716-B848-C0DD6BC4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9EA-CE46-48AB-88EF-E1F97B1B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558-BED0-4184-905B-40B51ADF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A191-6A12-4DD0-A78F-4552D49B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9617-001F-46CF-A392-21CD3CBA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4F7A-B600-406F-AF11-BEDC0662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3C16-65E7-4921-801A-6484F10F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7A02-833B-4D36-89F5-45D20460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A6E7-B444-4896-B32D-C81C2318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65AE-B3AF-409D-B7AB-4235D3B1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423-F4C6-44B2-B413-E34402B0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3B65-6897-4F3B-A0BC-4BC3FB90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338E-A4A8-4E1C-A46B-6F6F96B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EAFE-915F-434F-ACCD-A4E3B019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C294-C9BF-40DA-BC28-918A166E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6CC0-38A6-49FB-B5A1-C2BF6374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268-025D-4D7A-B7B9-B36C0AF7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A31-BD91-49E4-BE62-AE8C6A8F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FDF9-D7D4-48EE-8E39-C5ED665B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276-812F-49EA-B803-715016EB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4F2-6FBD-416F-97E9-D448DD77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25B-F180-467C-823D-891478CA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BBD-69EA-4338-A189-A8727035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2C9F-3A22-4157-BC90-794AB2874AD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8960-B47A-4276-8B3C-CC33272FF99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331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生态系统的成分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8120" y="1981080"/>
            <a:ext cx="4937400" cy="403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95280" y="60958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池塘生态系统图解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17524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维持池塘生态系统持续发展的能量之源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32004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除绿色植物外，还有哪些生物是生产者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4876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怎样才能使池塘生态系统长久生机勃勃，而不变成一坛死水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0480" y="2209680"/>
            <a:ext cx="79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447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观察与思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88640" y="272880"/>
            <a:ext cx="299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能量流动的起点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3360" y="1143000"/>
            <a:ext cx="40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生产者固定的全部太阳能开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2057400"/>
            <a:ext cx="4092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能量流动的数量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6920" y="2895480"/>
            <a:ext cx="5634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流经生态系统的总能量，是生产者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固定的全部太阳光能。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3160" y="4311720"/>
            <a:ext cx="4092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能量流动的途径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320" y="2743200"/>
            <a:ext cx="609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9320" y="2203560"/>
            <a:ext cx="1079640" cy="1079280"/>
          </a:xfrm>
          <a:prstGeom prst="rect">
            <a:avLst/>
          </a:prstGeom>
          <a:solidFill>
            <a:srgbClr val="ffcc99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2286000"/>
            <a:ext cx="1409760" cy="884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44"/>
                </a:solidFill>
                <a:latin typeface="Times New Roman"/>
              </a:rPr>
              <a:t>生产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44"/>
                </a:solidFill>
                <a:latin typeface="Times New Roman"/>
              </a:rPr>
              <a:t>（植物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1371240"/>
            <a:ext cx="38088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8080" y="91440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743200"/>
            <a:ext cx="4572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79520" y="2279520"/>
            <a:ext cx="1765440" cy="1079640"/>
          </a:xfrm>
          <a:prstGeom prst="rect">
            <a:avLst/>
          </a:prstGeom>
          <a:solidFill>
            <a:srgbClr val="ffcc99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59520" y="2362320"/>
            <a:ext cx="1370520" cy="884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44"/>
                </a:solidFill>
                <a:latin typeface="Times New Roman"/>
              </a:rPr>
              <a:t>初级消费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44"/>
                </a:solidFill>
                <a:latin typeface="Times New Roman"/>
              </a:rPr>
              <a:t>（植食动物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352680" y="1599840"/>
            <a:ext cx="38124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7760" y="99072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89560" y="2279520"/>
            <a:ext cx="1612800" cy="927360"/>
          </a:xfrm>
          <a:prstGeom prst="rect">
            <a:avLst/>
          </a:prstGeom>
          <a:solidFill>
            <a:srgbClr val="ffcc99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2362320"/>
            <a:ext cx="2286000" cy="702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次级消费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（肉食动物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46960" y="2355840"/>
            <a:ext cx="1434960" cy="750960"/>
          </a:xfrm>
          <a:prstGeom prst="rect">
            <a:avLst/>
          </a:prstGeom>
          <a:solidFill>
            <a:srgbClr val="ffcc99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2362320"/>
            <a:ext cx="1717560" cy="702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三级消费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44"/>
                </a:solidFill>
                <a:latin typeface="Times New Roman"/>
              </a:rPr>
              <a:t>（肉食动物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38480" y="274320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2666880"/>
            <a:ext cx="3812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181480" y="1676160"/>
            <a:ext cx="22860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58000" y="1676160"/>
            <a:ext cx="38088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97960" y="114300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26760" y="121932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3560" y="4232160"/>
            <a:ext cx="5956200" cy="1116000"/>
          </a:xfrm>
          <a:prstGeom prst="rect">
            <a:avLst/>
          </a:prstGeom>
          <a:solidFill>
            <a:srgbClr val="ffcc66"/>
          </a:solidFill>
          <a:ln w="255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4"/>
                </a:solidFill>
                <a:latin typeface="Times New Roman"/>
              </a:rPr>
              <a:t>分  解  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3276720"/>
            <a:ext cx="1067040" cy="7617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3352680"/>
            <a:ext cx="76212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3200400"/>
            <a:ext cx="609840" cy="914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772040" y="3124080"/>
            <a:ext cx="22860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4648320"/>
            <a:ext cx="60948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78840" y="5181480"/>
            <a:ext cx="6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22520" y="272880"/>
            <a:ext cx="447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生态系统能量流动的特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4840" y="1066680"/>
            <a:ext cx="251208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一、能量流动不是循环的而是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单向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生产者→初级消费者→次级消费者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级消费者→……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12760" y="3597120"/>
            <a:ext cx="511200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二、能量流动是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逐级递减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传递率为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～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563868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200400" y="5607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能量金字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06960" y="228600"/>
            <a:ext cx="4747320" cy="64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研究生态系统能量流动的目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52920" y="914400"/>
            <a:ext cx="5515920" cy="64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问：能不能改变生态系统能量流动的规律？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13240" y="1676520"/>
            <a:ext cx="5634720" cy="489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不能，人们虽然不能改变能量流动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客观规律，但可设法调整能量流动方向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使能量流向对人类最有益的部分。例如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森林中，最好使能量多储存在木材中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草原牧场上，则最好使能量多流向到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羊等牲畜体内，获得更多的毛、肉、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奶等畜产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16880" y="115920"/>
            <a:ext cx="794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总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4600" y="990720"/>
            <a:ext cx="57535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能量传递过程看，流经生态系统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能量就是绿色植物所固定的全部太阳能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这些能量沿着食物链和食物网的各个营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级传递，可见生产者是消费者和分解者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得能量的源泉，是生态系统存在和发展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基础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77160" y="685800"/>
            <a:ext cx="592632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能量传递的数量和效率看，能量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经各营养级是逐级递减的，单向不循环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传递率为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，因为大部分能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用于各营养级自身的新陈代谢等生命活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另一部分随遗体等被分解者所利用，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正流入下一个营养级的能量只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734840" y="345960"/>
            <a:ext cx="578988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所以， 食物链一般不超过五个营养级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到第五营养级时，可利用的能量已减少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不能维持其生存的程度了。 因为能量每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经一级都要丢失一大部分，所以食物链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长，流量流失就越多。缩短食物链，如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吃生产者为主，就可使有限的土地供养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多人口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336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320" y="457200"/>
            <a:ext cx="8085240" cy="58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能量流动的起点：从生产者固定太阳能开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流经生态系统的总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能量流动的数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生产者所固定的全部太阳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态系统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能量流动的途径：太阳能→第一营养级→第二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能量流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养级→‥‥‥第五营养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向流动不循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能量流动的特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逐级递减传递率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％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设法调整能量流动关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研究的目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能量流向对人类最有益的部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762120"/>
            <a:ext cx="230040" cy="4346280"/>
          </a:xfrm>
          <a:custGeom>
            <a:avLst/>
            <a:gdLst/>
            <a:ahLst/>
            <a:rect l="l" t="t" r="r" b="b"/>
            <a:pathLst>
              <a:path w="145" h="2738">
                <a:moveTo>
                  <a:pt x="144" y="0"/>
                </a:moveTo>
                <a:lnTo>
                  <a:pt x="137" y="0"/>
                </a:lnTo>
                <a:lnTo>
                  <a:pt x="129" y="4"/>
                </a:lnTo>
                <a:lnTo>
                  <a:pt x="122" y="9"/>
                </a:lnTo>
                <a:lnTo>
                  <a:pt x="116" y="18"/>
                </a:lnTo>
                <a:lnTo>
                  <a:pt x="110" y="26"/>
                </a:lnTo>
                <a:lnTo>
                  <a:pt x="104" y="39"/>
                </a:lnTo>
                <a:lnTo>
                  <a:pt x="98" y="53"/>
                </a:lnTo>
                <a:lnTo>
                  <a:pt x="93" y="66"/>
                </a:lnTo>
                <a:lnTo>
                  <a:pt x="88" y="83"/>
                </a:lnTo>
                <a:lnTo>
                  <a:pt x="84" y="101"/>
                </a:lnTo>
                <a:lnTo>
                  <a:pt x="81" y="118"/>
                </a:lnTo>
                <a:lnTo>
                  <a:pt x="77" y="140"/>
                </a:lnTo>
                <a:lnTo>
                  <a:pt x="75" y="158"/>
                </a:lnTo>
                <a:lnTo>
                  <a:pt x="73" y="180"/>
                </a:lnTo>
                <a:lnTo>
                  <a:pt x="72" y="206"/>
                </a:lnTo>
                <a:lnTo>
                  <a:pt x="72" y="228"/>
                </a:lnTo>
                <a:lnTo>
                  <a:pt x="72" y="1139"/>
                </a:lnTo>
                <a:lnTo>
                  <a:pt x="71" y="1160"/>
                </a:lnTo>
                <a:lnTo>
                  <a:pt x="71" y="1187"/>
                </a:lnTo>
                <a:lnTo>
                  <a:pt x="69" y="1209"/>
                </a:lnTo>
                <a:lnTo>
                  <a:pt x="66" y="1226"/>
                </a:lnTo>
                <a:lnTo>
                  <a:pt x="63" y="1248"/>
                </a:lnTo>
                <a:lnTo>
                  <a:pt x="60" y="1266"/>
                </a:lnTo>
                <a:lnTo>
                  <a:pt x="55" y="1283"/>
                </a:lnTo>
                <a:lnTo>
                  <a:pt x="51" y="1301"/>
                </a:lnTo>
                <a:lnTo>
                  <a:pt x="46" y="1314"/>
                </a:lnTo>
                <a:lnTo>
                  <a:pt x="40" y="1327"/>
                </a:lnTo>
                <a:lnTo>
                  <a:pt x="34" y="1340"/>
                </a:lnTo>
                <a:lnTo>
                  <a:pt x="28" y="1349"/>
                </a:lnTo>
                <a:lnTo>
                  <a:pt x="22" y="1358"/>
                </a:lnTo>
                <a:lnTo>
                  <a:pt x="15" y="1362"/>
                </a:lnTo>
                <a:lnTo>
                  <a:pt x="7" y="1366"/>
                </a:lnTo>
                <a:lnTo>
                  <a:pt x="0" y="1366"/>
                </a:lnTo>
                <a:lnTo>
                  <a:pt x="7" y="1366"/>
                </a:lnTo>
                <a:lnTo>
                  <a:pt x="15" y="1371"/>
                </a:lnTo>
                <a:lnTo>
                  <a:pt x="22" y="1375"/>
                </a:lnTo>
                <a:lnTo>
                  <a:pt x="28" y="1384"/>
                </a:lnTo>
                <a:lnTo>
                  <a:pt x="34" y="1393"/>
                </a:lnTo>
                <a:lnTo>
                  <a:pt x="40" y="1406"/>
                </a:lnTo>
                <a:lnTo>
                  <a:pt x="46" y="1419"/>
                </a:lnTo>
                <a:lnTo>
                  <a:pt x="51" y="1436"/>
                </a:lnTo>
                <a:lnTo>
                  <a:pt x="55" y="1450"/>
                </a:lnTo>
                <a:lnTo>
                  <a:pt x="60" y="1467"/>
                </a:lnTo>
                <a:lnTo>
                  <a:pt x="63" y="1489"/>
                </a:lnTo>
                <a:lnTo>
                  <a:pt x="66" y="1506"/>
                </a:lnTo>
                <a:lnTo>
                  <a:pt x="69" y="1528"/>
                </a:lnTo>
                <a:lnTo>
                  <a:pt x="71" y="1550"/>
                </a:lnTo>
                <a:lnTo>
                  <a:pt x="71" y="1572"/>
                </a:lnTo>
                <a:lnTo>
                  <a:pt x="72" y="1594"/>
                </a:lnTo>
                <a:lnTo>
                  <a:pt x="72" y="2509"/>
                </a:lnTo>
                <a:lnTo>
                  <a:pt x="72" y="2531"/>
                </a:lnTo>
                <a:lnTo>
                  <a:pt x="73" y="2553"/>
                </a:lnTo>
                <a:lnTo>
                  <a:pt x="75" y="2575"/>
                </a:lnTo>
                <a:lnTo>
                  <a:pt x="77" y="2597"/>
                </a:lnTo>
                <a:lnTo>
                  <a:pt x="81" y="2614"/>
                </a:lnTo>
                <a:lnTo>
                  <a:pt x="84" y="2636"/>
                </a:lnTo>
                <a:lnTo>
                  <a:pt x="88" y="2654"/>
                </a:lnTo>
                <a:lnTo>
                  <a:pt x="93" y="2671"/>
                </a:lnTo>
                <a:lnTo>
                  <a:pt x="98" y="2684"/>
                </a:lnTo>
                <a:lnTo>
                  <a:pt x="104" y="2698"/>
                </a:lnTo>
                <a:lnTo>
                  <a:pt x="110" y="2711"/>
                </a:lnTo>
                <a:lnTo>
                  <a:pt x="116" y="2719"/>
                </a:lnTo>
                <a:lnTo>
                  <a:pt x="122" y="2728"/>
                </a:lnTo>
                <a:lnTo>
                  <a:pt x="129" y="2733"/>
                </a:lnTo>
                <a:lnTo>
                  <a:pt x="137" y="2737"/>
                </a:lnTo>
                <a:lnTo>
                  <a:pt x="144" y="2737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1219320"/>
            <a:ext cx="230400" cy="915840"/>
          </a:xfrm>
          <a:custGeom>
            <a:avLst/>
            <a:gdLst/>
            <a:ahLst/>
            <a:rect l="l" t="t" r="r" b="b"/>
            <a:pathLst>
              <a:path w="145" h="577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4"/>
                </a:lnTo>
                <a:lnTo>
                  <a:pt x="110" y="6"/>
                </a:lnTo>
                <a:lnTo>
                  <a:pt x="104" y="8"/>
                </a:lnTo>
                <a:lnTo>
                  <a:pt x="98" y="11"/>
                </a:lnTo>
                <a:lnTo>
                  <a:pt x="93" y="14"/>
                </a:lnTo>
                <a:lnTo>
                  <a:pt x="88" y="18"/>
                </a:lnTo>
                <a:lnTo>
                  <a:pt x="84" y="21"/>
                </a:lnTo>
                <a:lnTo>
                  <a:pt x="81" y="25"/>
                </a:lnTo>
                <a:lnTo>
                  <a:pt x="77" y="30"/>
                </a:lnTo>
                <a:lnTo>
                  <a:pt x="75" y="33"/>
                </a:lnTo>
                <a:lnTo>
                  <a:pt x="73" y="38"/>
                </a:lnTo>
                <a:lnTo>
                  <a:pt x="72" y="43"/>
                </a:lnTo>
                <a:lnTo>
                  <a:pt x="72" y="48"/>
                </a:lnTo>
                <a:lnTo>
                  <a:pt x="72" y="240"/>
                </a:lnTo>
                <a:lnTo>
                  <a:pt x="71" y="245"/>
                </a:lnTo>
                <a:lnTo>
                  <a:pt x="71" y="250"/>
                </a:lnTo>
                <a:lnTo>
                  <a:pt x="69" y="255"/>
                </a:lnTo>
                <a:lnTo>
                  <a:pt x="66" y="258"/>
                </a:lnTo>
                <a:lnTo>
                  <a:pt x="63" y="263"/>
                </a:lnTo>
                <a:lnTo>
                  <a:pt x="60" y="267"/>
                </a:lnTo>
                <a:lnTo>
                  <a:pt x="55" y="270"/>
                </a:lnTo>
                <a:lnTo>
                  <a:pt x="51" y="274"/>
                </a:lnTo>
                <a:lnTo>
                  <a:pt x="46" y="277"/>
                </a:lnTo>
                <a:lnTo>
                  <a:pt x="40" y="280"/>
                </a:lnTo>
                <a:lnTo>
                  <a:pt x="34" y="282"/>
                </a:lnTo>
                <a:lnTo>
                  <a:pt x="28" y="284"/>
                </a:lnTo>
                <a:lnTo>
                  <a:pt x="22" y="286"/>
                </a:lnTo>
                <a:lnTo>
                  <a:pt x="15" y="287"/>
                </a:lnTo>
                <a:lnTo>
                  <a:pt x="7" y="288"/>
                </a:lnTo>
                <a:lnTo>
                  <a:pt x="0" y="288"/>
                </a:lnTo>
                <a:lnTo>
                  <a:pt x="7" y="288"/>
                </a:lnTo>
                <a:lnTo>
                  <a:pt x="15" y="289"/>
                </a:lnTo>
                <a:lnTo>
                  <a:pt x="22" y="290"/>
                </a:lnTo>
                <a:lnTo>
                  <a:pt x="28" y="292"/>
                </a:lnTo>
                <a:lnTo>
                  <a:pt x="34" y="294"/>
                </a:lnTo>
                <a:lnTo>
                  <a:pt x="40" y="296"/>
                </a:lnTo>
                <a:lnTo>
                  <a:pt x="46" y="299"/>
                </a:lnTo>
                <a:lnTo>
                  <a:pt x="51" y="302"/>
                </a:lnTo>
                <a:lnTo>
                  <a:pt x="55" y="306"/>
                </a:lnTo>
                <a:lnTo>
                  <a:pt x="60" y="309"/>
                </a:lnTo>
                <a:lnTo>
                  <a:pt x="63" y="313"/>
                </a:lnTo>
                <a:lnTo>
                  <a:pt x="66" y="318"/>
                </a:lnTo>
                <a:lnTo>
                  <a:pt x="69" y="321"/>
                </a:lnTo>
                <a:lnTo>
                  <a:pt x="71" y="326"/>
                </a:lnTo>
                <a:lnTo>
                  <a:pt x="71" y="331"/>
                </a:lnTo>
                <a:lnTo>
                  <a:pt x="72" y="336"/>
                </a:lnTo>
                <a:lnTo>
                  <a:pt x="72" y="528"/>
                </a:lnTo>
                <a:lnTo>
                  <a:pt x="72" y="533"/>
                </a:lnTo>
                <a:lnTo>
                  <a:pt x="73" y="538"/>
                </a:lnTo>
                <a:lnTo>
                  <a:pt x="75" y="543"/>
                </a:lnTo>
                <a:lnTo>
                  <a:pt x="77" y="547"/>
                </a:lnTo>
                <a:lnTo>
                  <a:pt x="81" y="551"/>
                </a:lnTo>
                <a:lnTo>
                  <a:pt x="84" y="555"/>
                </a:lnTo>
                <a:lnTo>
                  <a:pt x="88" y="559"/>
                </a:lnTo>
                <a:lnTo>
                  <a:pt x="93" y="562"/>
                </a:lnTo>
                <a:lnTo>
                  <a:pt x="98" y="565"/>
                </a:lnTo>
                <a:lnTo>
                  <a:pt x="104" y="568"/>
                </a:lnTo>
                <a:lnTo>
                  <a:pt x="110" y="571"/>
                </a:lnTo>
                <a:lnTo>
                  <a:pt x="116" y="572"/>
                </a:lnTo>
                <a:lnTo>
                  <a:pt x="122" y="574"/>
                </a:lnTo>
                <a:lnTo>
                  <a:pt x="129" y="575"/>
                </a:lnTo>
                <a:lnTo>
                  <a:pt x="137" y="576"/>
                </a:lnTo>
                <a:lnTo>
                  <a:pt x="144" y="576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3581280"/>
            <a:ext cx="154080" cy="916200"/>
          </a:xfrm>
          <a:custGeom>
            <a:avLst/>
            <a:gdLst/>
            <a:ahLst/>
            <a:rect l="l" t="t" r="r" b="b"/>
            <a:pathLst>
              <a:path w="97" h="577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8"/>
                </a:lnTo>
                <a:lnTo>
                  <a:pt x="65" y="11"/>
                </a:lnTo>
                <a:lnTo>
                  <a:pt x="62" y="14"/>
                </a:lnTo>
                <a:lnTo>
                  <a:pt x="59" y="18"/>
                </a:lnTo>
                <a:lnTo>
                  <a:pt x="56" y="21"/>
                </a:lnTo>
                <a:lnTo>
                  <a:pt x="54" y="25"/>
                </a:lnTo>
                <a:lnTo>
                  <a:pt x="52" y="30"/>
                </a:lnTo>
                <a:lnTo>
                  <a:pt x="50" y="33"/>
                </a:lnTo>
                <a:lnTo>
                  <a:pt x="49" y="38"/>
                </a:lnTo>
                <a:lnTo>
                  <a:pt x="48" y="43"/>
                </a:lnTo>
                <a:lnTo>
                  <a:pt x="48" y="48"/>
                </a:lnTo>
                <a:lnTo>
                  <a:pt x="48" y="240"/>
                </a:lnTo>
                <a:lnTo>
                  <a:pt x="48" y="245"/>
                </a:lnTo>
                <a:lnTo>
                  <a:pt x="47" y="250"/>
                </a:lnTo>
                <a:lnTo>
                  <a:pt x="46" y="255"/>
                </a:lnTo>
                <a:lnTo>
                  <a:pt x="44" y="258"/>
                </a:lnTo>
                <a:lnTo>
                  <a:pt x="42" y="263"/>
                </a:lnTo>
                <a:lnTo>
                  <a:pt x="40" y="267"/>
                </a:lnTo>
                <a:lnTo>
                  <a:pt x="37" y="270"/>
                </a:lnTo>
                <a:lnTo>
                  <a:pt x="34" y="274"/>
                </a:lnTo>
                <a:lnTo>
                  <a:pt x="31" y="277"/>
                </a:lnTo>
                <a:lnTo>
                  <a:pt x="27" y="280"/>
                </a:lnTo>
                <a:lnTo>
                  <a:pt x="23" y="282"/>
                </a:lnTo>
                <a:lnTo>
                  <a:pt x="19" y="284"/>
                </a:lnTo>
                <a:lnTo>
                  <a:pt x="14" y="286"/>
                </a:lnTo>
                <a:lnTo>
                  <a:pt x="10" y="287"/>
                </a:lnTo>
                <a:lnTo>
                  <a:pt x="5" y="288"/>
                </a:lnTo>
                <a:lnTo>
                  <a:pt x="0" y="288"/>
                </a:lnTo>
                <a:lnTo>
                  <a:pt x="5" y="288"/>
                </a:lnTo>
                <a:lnTo>
                  <a:pt x="10" y="289"/>
                </a:lnTo>
                <a:lnTo>
                  <a:pt x="14" y="290"/>
                </a:lnTo>
                <a:lnTo>
                  <a:pt x="19" y="292"/>
                </a:lnTo>
                <a:lnTo>
                  <a:pt x="23" y="294"/>
                </a:lnTo>
                <a:lnTo>
                  <a:pt x="27" y="296"/>
                </a:lnTo>
                <a:lnTo>
                  <a:pt x="31" y="299"/>
                </a:lnTo>
                <a:lnTo>
                  <a:pt x="34" y="302"/>
                </a:lnTo>
                <a:lnTo>
                  <a:pt x="37" y="306"/>
                </a:lnTo>
                <a:lnTo>
                  <a:pt x="40" y="309"/>
                </a:lnTo>
                <a:lnTo>
                  <a:pt x="42" y="313"/>
                </a:lnTo>
                <a:lnTo>
                  <a:pt x="44" y="318"/>
                </a:lnTo>
                <a:lnTo>
                  <a:pt x="46" y="321"/>
                </a:lnTo>
                <a:lnTo>
                  <a:pt x="47" y="326"/>
                </a:lnTo>
                <a:lnTo>
                  <a:pt x="48" y="331"/>
                </a:lnTo>
                <a:lnTo>
                  <a:pt x="48" y="336"/>
                </a:lnTo>
                <a:lnTo>
                  <a:pt x="48" y="528"/>
                </a:lnTo>
                <a:lnTo>
                  <a:pt x="48" y="533"/>
                </a:lnTo>
                <a:lnTo>
                  <a:pt x="49" y="538"/>
                </a:lnTo>
                <a:lnTo>
                  <a:pt x="50" y="543"/>
                </a:lnTo>
                <a:lnTo>
                  <a:pt x="52" y="547"/>
                </a:lnTo>
                <a:lnTo>
                  <a:pt x="54" y="551"/>
                </a:lnTo>
                <a:lnTo>
                  <a:pt x="56" y="555"/>
                </a:lnTo>
                <a:lnTo>
                  <a:pt x="59" y="559"/>
                </a:lnTo>
                <a:lnTo>
                  <a:pt x="62" y="562"/>
                </a:lnTo>
                <a:lnTo>
                  <a:pt x="65" y="565"/>
                </a:lnTo>
                <a:lnTo>
                  <a:pt x="69" y="568"/>
                </a:lnTo>
                <a:lnTo>
                  <a:pt x="73" y="571"/>
                </a:lnTo>
                <a:lnTo>
                  <a:pt x="77" y="572"/>
                </a:lnTo>
                <a:lnTo>
                  <a:pt x="82" y="574"/>
                </a:lnTo>
                <a:lnTo>
                  <a:pt x="86" y="575"/>
                </a:lnTo>
                <a:lnTo>
                  <a:pt x="91" y="576"/>
                </a:lnTo>
                <a:lnTo>
                  <a:pt x="96" y="576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5105520"/>
            <a:ext cx="230040" cy="992160"/>
          </a:xfrm>
          <a:custGeom>
            <a:avLst/>
            <a:gdLst/>
            <a:ahLst/>
            <a:rect l="l" t="t" r="r" b="b"/>
            <a:pathLst>
              <a:path w="145" h="625">
                <a:moveTo>
                  <a:pt x="144" y="0"/>
                </a:moveTo>
                <a:lnTo>
                  <a:pt x="137" y="0"/>
                </a:lnTo>
                <a:lnTo>
                  <a:pt x="129" y="1"/>
                </a:lnTo>
                <a:lnTo>
                  <a:pt x="122" y="2"/>
                </a:lnTo>
                <a:lnTo>
                  <a:pt x="116" y="4"/>
                </a:lnTo>
                <a:lnTo>
                  <a:pt x="110" y="6"/>
                </a:lnTo>
                <a:lnTo>
                  <a:pt x="104" y="9"/>
                </a:lnTo>
                <a:lnTo>
                  <a:pt x="98" y="12"/>
                </a:lnTo>
                <a:lnTo>
                  <a:pt x="93" y="15"/>
                </a:lnTo>
                <a:lnTo>
                  <a:pt x="88" y="19"/>
                </a:lnTo>
                <a:lnTo>
                  <a:pt x="84" y="23"/>
                </a:lnTo>
                <a:lnTo>
                  <a:pt x="81" y="27"/>
                </a:lnTo>
                <a:lnTo>
                  <a:pt x="77" y="32"/>
                </a:lnTo>
                <a:lnTo>
                  <a:pt x="75" y="36"/>
                </a:lnTo>
                <a:lnTo>
                  <a:pt x="73" y="41"/>
                </a:lnTo>
                <a:lnTo>
                  <a:pt x="72" y="47"/>
                </a:lnTo>
                <a:lnTo>
                  <a:pt x="72" y="52"/>
                </a:lnTo>
                <a:lnTo>
                  <a:pt x="72" y="260"/>
                </a:lnTo>
                <a:lnTo>
                  <a:pt x="71" y="265"/>
                </a:lnTo>
                <a:lnTo>
                  <a:pt x="71" y="271"/>
                </a:lnTo>
                <a:lnTo>
                  <a:pt x="69" y="276"/>
                </a:lnTo>
                <a:lnTo>
                  <a:pt x="66" y="280"/>
                </a:lnTo>
                <a:lnTo>
                  <a:pt x="63" y="285"/>
                </a:lnTo>
                <a:lnTo>
                  <a:pt x="60" y="289"/>
                </a:lnTo>
                <a:lnTo>
                  <a:pt x="55" y="293"/>
                </a:lnTo>
                <a:lnTo>
                  <a:pt x="51" y="297"/>
                </a:lnTo>
                <a:lnTo>
                  <a:pt x="46" y="300"/>
                </a:lnTo>
                <a:lnTo>
                  <a:pt x="40" y="303"/>
                </a:lnTo>
                <a:lnTo>
                  <a:pt x="34" y="306"/>
                </a:lnTo>
                <a:lnTo>
                  <a:pt x="28" y="308"/>
                </a:lnTo>
                <a:lnTo>
                  <a:pt x="22" y="310"/>
                </a:lnTo>
                <a:lnTo>
                  <a:pt x="15" y="311"/>
                </a:lnTo>
                <a:lnTo>
                  <a:pt x="7" y="312"/>
                </a:lnTo>
                <a:lnTo>
                  <a:pt x="0" y="312"/>
                </a:lnTo>
                <a:lnTo>
                  <a:pt x="7" y="312"/>
                </a:lnTo>
                <a:lnTo>
                  <a:pt x="15" y="313"/>
                </a:lnTo>
                <a:lnTo>
                  <a:pt x="22" y="314"/>
                </a:lnTo>
                <a:lnTo>
                  <a:pt x="28" y="316"/>
                </a:lnTo>
                <a:lnTo>
                  <a:pt x="34" y="318"/>
                </a:lnTo>
                <a:lnTo>
                  <a:pt x="40" y="321"/>
                </a:lnTo>
                <a:lnTo>
                  <a:pt x="46" y="324"/>
                </a:lnTo>
                <a:lnTo>
                  <a:pt x="51" y="327"/>
                </a:lnTo>
                <a:lnTo>
                  <a:pt x="55" y="331"/>
                </a:lnTo>
                <a:lnTo>
                  <a:pt x="60" y="335"/>
                </a:lnTo>
                <a:lnTo>
                  <a:pt x="63" y="339"/>
                </a:lnTo>
                <a:lnTo>
                  <a:pt x="66" y="344"/>
                </a:lnTo>
                <a:lnTo>
                  <a:pt x="69" y="348"/>
                </a:lnTo>
                <a:lnTo>
                  <a:pt x="71" y="353"/>
                </a:lnTo>
                <a:lnTo>
                  <a:pt x="71" y="359"/>
                </a:lnTo>
                <a:lnTo>
                  <a:pt x="72" y="364"/>
                </a:lnTo>
                <a:lnTo>
                  <a:pt x="72" y="572"/>
                </a:lnTo>
                <a:lnTo>
                  <a:pt x="72" y="577"/>
                </a:lnTo>
                <a:lnTo>
                  <a:pt x="73" y="583"/>
                </a:lnTo>
                <a:lnTo>
                  <a:pt x="75" y="588"/>
                </a:lnTo>
                <a:lnTo>
                  <a:pt x="77" y="592"/>
                </a:lnTo>
                <a:lnTo>
                  <a:pt x="81" y="597"/>
                </a:lnTo>
                <a:lnTo>
                  <a:pt x="84" y="601"/>
                </a:lnTo>
                <a:lnTo>
                  <a:pt x="88" y="605"/>
                </a:lnTo>
                <a:lnTo>
                  <a:pt x="93" y="609"/>
                </a:lnTo>
                <a:lnTo>
                  <a:pt x="98" y="612"/>
                </a:lnTo>
                <a:lnTo>
                  <a:pt x="104" y="615"/>
                </a:lnTo>
                <a:lnTo>
                  <a:pt x="110" y="618"/>
                </a:lnTo>
                <a:lnTo>
                  <a:pt x="116" y="620"/>
                </a:lnTo>
                <a:lnTo>
                  <a:pt x="122" y="622"/>
                </a:lnTo>
                <a:lnTo>
                  <a:pt x="129" y="623"/>
                </a:lnTo>
                <a:lnTo>
                  <a:pt x="137" y="624"/>
                </a:lnTo>
                <a:lnTo>
                  <a:pt x="144" y="6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50160" y="192240"/>
            <a:ext cx="339264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生态系统的物质循环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45400" y="1187280"/>
            <a:ext cx="731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物质循环的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0240" y="1936800"/>
            <a:ext cx="65224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指组成生物体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基本元素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生态系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生物群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与无机环境之间反复循环运动叫生态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统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物质循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990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非生物的物质和能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523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生产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57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消费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5909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分解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3049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的成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3276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者、消费者和分解者的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86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生产者、消费者和分解者的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502920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生产者、消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者和分解者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联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4419360" cy="2813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573120" cy="444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791320" y="5257800"/>
            <a:ext cx="828720" cy="541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6400800" y="4191120"/>
            <a:ext cx="382680" cy="315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086600" y="5410080"/>
            <a:ext cx="146160" cy="193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5105520" y="5715000"/>
            <a:ext cx="1431720" cy="7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39520" y="485640"/>
            <a:ext cx="5634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物圈是地球上最大的生态系统，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中的物质循环带有全球性，这种物质循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又叫生物地化循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20600" y="2590920"/>
            <a:ext cx="55155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的物质循环反复出现，循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流动，不会消失，生物可反复的利用它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93120" y="272880"/>
            <a:ext cx="731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物质循环的特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7600" y="1109520"/>
            <a:ext cx="575352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循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是组成生物体的重要成分，约占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重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～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5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，体内进行一切生化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都离不开水。地球上水通过蒸发、降雨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植物的蒸腾、吸收等过程反复循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437840" y="347760"/>
            <a:ext cx="588096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碳循环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碳元素约占生物体干重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％，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有机化合物的“骨架”，没有碳就没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命。碳在无机环境与生物群落之间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形式进行循环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68680" y="227160"/>
            <a:ext cx="56347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物质循环的主要特点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物质循环是带有全球性的，生物群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和无机环境之间的物质可以反复出现反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利用，周而复始进行循环，不会消失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1768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3080" y="149400"/>
            <a:ext cx="1949760" cy="641160"/>
          </a:xfrm>
          <a:prstGeom prst="rect">
            <a:avLst/>
          </a:prstGeom>
          <a:solidFill>
            <a:srgbClr val="9ce157"/>
          </a:solidFill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碳的循环过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47644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09480"/>
            <a:ext cx="89154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绿色植物的光合作用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碳进入生物群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碳出入生物                                     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成有机物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群落的途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动植物的呼吸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碳出生物群落     微生物的分解作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燃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1523880"/>
            <a:ext cx="230040" cy="1981440"/>
          </a:xfrm>
          <a:custGeom>
            <a:avLst/>
            <a:gdLst/>
            <a:ahLst/>
            <a:rect l="l" t="t" r="r" b="b"/>
            <a:pathLst>
              <a:path w="145" h="1248">
                <a:moveTo>
                  <a:pt x="144" y="0"/>
                </a:moveTo>
                <a:lnTo>
                  <a:pt x="137" y="0"/>
                </a:lnTo>
                <a:lnTo>
                  <a:pt x="129" y="2"/>
                </a:lnTo>
                <a:lnTo>
                  <a:pt x="122" y="4"/>
                </a:lnTo>
                <a:lnTo>
                  <a:pt x="116" y="8"/>
                </a:lnTo>
                <a:lnTo>
                  <a:pt x="110" y="12"/>
                </a:lnTo>
                <a:lnTo>
                  <a:pt x="104" y="18"/>
                </a:lnTo>
                <a:lnTo>
                  <a:pt x="98" y="24"/>
                </a:lnTo>
                <a:lnTo>
                  <a:pt x="93" y="32"/>
                </a:lnTo>
                <a:lnTo>
                  <a:pt x="88" y="38"/>
                </a:lnTo>
                <a:lnTo>
                  <a:pt x="84" y="46"/>
                </a:lnTo>
                <a:lnTo>
                  <a:pt x="81" y="56"/>
                </a:lnTo>
                <a:lnTo>
                  <a:pt x="77" y="64"/>
                </a:lnTo>
                <a:lnTo>
                  <a:pt x="75" y="74"/>
                </a:lnTo>
                <a:lnTo>
                  <a:pt x="73" y="84"/>
                </a:lnTo>
                <a:lnTo>
                  <a:pt x="72" y="94"/>
                </a:lnTo>
                <a:lnTo>
                  <a:pt x="72" y="104"/>
                </a:lnTo>
                <a:lnTo>
                  <a:pt x="72" y="520"/>
                </a:lnTo>
                <a:lnTo>
                  <a:pt x="71" y="530"/>
                </a:lnTo>
                <a:lnTo>
                  <a:pt x="71" y="542"/>
                </a:lnTo>
                <a:lnTo>
                  <a:pt x="69" y="552"/>
                </a:lnTo>
                <a:lnTo>
                  <a:pt x="66" y="560"/>
                </a:lnTo>
                <a:lnTo>
                  <a:pt x="63" y="570"/>
                </a:lnTo>
                <a:lnTo>
                  <a:pt x="60" y="578"/>
                </a:lnTo>
                <a:lnTo>
                  <a:pt x="55" y="586"/>
                </a:lnTo>
                <a:lnTo>
                  <a:pt x="51" y="594"/>
                </a:lnTo>
                <a:lnTo>
                  <a:pt x="46" y="600"/>
                </a:lnTo>
                <a:lnTo>
                  <a:pt x="40" y="606"/>
                </a:lnTo>
                <a:lnTo>
                  <a:pt x="34" y="612"/>
                </a:lnTo>
                <a:lnTo>
                  <a:pt x="28" y="616"/>
                </a:lnTo>
                <a:lnTo>
                  <a:pt x="22" y="620"/>
                </a:lnTo>
                <a:lnTo>
                  <a:pt x="15" y="622"/>
                </a:lnTo>
                <a:lnTo>
                  <a:pt x="7" y="624"/>
                </a:lnTo>
                <a:lnTo>
                  <a:pt x="0" y="624"/>
                </a:lnTo>
                <a:lnTo>
                  <a:pt x="7" y="624"/>
                </a:lnTo>
                <a:lnTo>
                  <a:pt x="15" y="625"/>
                </a:lnTo>
                <a:lnTo>
                  <a:pt x="22" y="627"/>
                </a:lnTo>
                <a:lnTo>
                  <a:pt x="28" y="631"/>
                </a:lnTo>
                <a:lnTo>
                  <a:pt x="34" y="635"/>
                </a:lnTo>
                <a:lnTo>
                  <a:pt x="40" y="641"/>
                </a:lnTo>
                <a:lnTo>
                  <a:pt x="46" y="647"/>
                </a:lnTo>
                <a:lnTo>
                  <a:pt x="51" y="655"/>
                </a:lnTo>
                <a:lnTo>
                  <a:pt x="55" y="661"/>
                </a:lnTo>
                <a:lnTo>
                  <a:pt x="60" y="669"/>
                </a:lnTo>
                <a:lnTo>
                  <a:pt x="63" y="679"/>
                </a:lnTo>
                <a:lnTo>
                  <a:pt x="66" y="687"/>
                </a:lnTo>
                <a:lnTo>
                  <a:pt x="69" y="697"/>
                </a:lnTo>
                <a:lnTo>
                  <a:pt x="71" y="707"/>
                </a:lnTo>
                <a:lnTo>
                  <a:pt x="71" y="717"/>
                </a:lnTo>
                <a:lnTo>
                  <a:pt x="72" y="727"/>
                </a:lnTo>
                <a:lnTo>
                  <a:pt x="72" y="1143"/>
                </a:lnTo>
                <a:lnTo>
                  <a:pt x="72" y="1153"/>
                </a:lnTo>
                <a:lnTo>
                  <a:pt x="73" y="1165"/>
                </a:lnTo>
                <a:lnTo>
                  <a:pt x="75" y="1175"/>
                </a:lnTo>
                <a:lnTo>
                  <a:pt x="77" y="1183"/>
                </a:lnTo>
                <a:lnTo>
                  <a:pt x="81" y="1193"/>
                </a:lnTo>
                <a:lnTo>
                  <a:pt x="84" y="1201"/>
                </a:lnTo>
                <a:lnTo>
                  <a:pt x="88" y="1209"/>
                </a:lnTo>
                <a:lnTo>
                  <a:pt x="93" y="1217"/>
                </a:lnTo>
                <a:lnTo>
                  <a:pt x="98" y="1223"/>
                </a:lnTo>
                <a:lnTo>
                  <a:pt x="104" y="1229"/>
                </a:lnTo>
                <a:lnTo>
                  <a:pt x="110" y="1235"/>
                </a:lnTo>
                <a:lnTo>
                  <a:pt x="116" y="1239"/>
                </a:lnTo>
                <a:lnTo>
                  <a:pt x="122" y="1243"/>
                </a:lnTo>
                <a:lnTo>
                  <a:pt x="129" y="1245"/>
                </a:lnTo>
                <a:lnTo>
                  <a:pt x="137" y="1247"/>
                </a:lnTo>
                <a:lnTo>
                  <a:pt x="144" y="1247"/>
                </a:lnTo>
              </a:path>
            </a:pathLst>
          </a:custGeom>
          <a:noFill/>
          <a:ln cap="rnd" w="475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914400"/>
            <a:ext cx="154080" cy="1068480"/>
          </a:xfrm>
          <a:custGeom>
            <a:avLst/>
            <a:gdLst/>
            <a:ahLst/>
            <a:rect l="l" t="t" r="r" b="b"/>
            <a:pathLst>
              <a:path w="97" h="673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10"/>
                </a:lnTo>
                <a:lnTo>
                  <a:pt x="65" y="13"/>
                </a:lnTo>
                <a:lnTo>
                  <a:pt x="62" y="16"/>
                </a:lnTo>
                <a:lnTo>
                  <a:pt x="59" y="20"/>
                </a:lnTo>
                <a:lnTo>
                  <a:pt x="56" y="25"/>
                </a:lnTo>
                <a:lnTo>
                  <a:pt x="54" y="29"/>
                </a:lnTo>
                <a:lnTo>
                  <a:pt x="52" y="34"/>
                </a:lnTo>
                <a:lnTo>
                  <a:pt x="50" y="39"/>
                </a:lnTo>
                <a:lnTo>
                  <a:pt x="49" y="44"/>
                </a:lnTo>
                <a:lnTo>
                  <a:pt x="48" y="51"/>
                </a:lnTo>
                <a:lnTo>
                  <a:pt x="48" y="56"/>
                </a:lnTo>
                <a:lnTo>
                  <a:pt x="48" y="280"/>
                </a:lnTo>
                <a:lnTo>
                  <a:pt x="48" y="285"/>
                </a:lnTo>
                <a:lnTo>
                  <a:pt x="47" y="292"/>
                </a:lnTo>
                <a:lnTo>
                  <a:pt x="46" y="297"/>
                </a:lnTo>
                <a:lnTo>
                  <a:pt x="44" y="302"/>
                </a:lnTo>
                <a:lnTo>
                  <a:pt x="42" y="307"/>
                </a:lnTo>
                <a:lnTo>
                  <a:pt x="40" y="311"/>
                </a:lnTo>
                <a:lnTo>
                  <a:pt x="37" y="316"/>
                </a:lnTo>
                <a:lnTo>
                  <a:pt x="34" y="320"/>
                </a:lnTo>
                <a:lnTo>
                  <a:pt x="31" y="323"/>
                </a:lnTo>
                <a:lnTo>
                  <a:pt x="27" y="326"/>
                </a:lnTo>
                <a:lnTo>
                  <a:pt x="23" y="330"/>
                </a:lnTo>
                <a:lnTo>
                  <a:pt x="19" y="332"/>
                </a:lnTo>
                <a:lnTo>
                  <a:pt x="14" y="334"/>
                </a:lnTo>
                <a:lnTo>
                  <a:pt x="10" y="335"/>
                </a:lnTo>
                <a:lnTo>
                  <a:pt x="5" y="336"/>
                </a:lnTo>
                <a:lnTo>
                  <a:pt x="0" y="336"/>
                </a:lnTo>
                <a:lnTo>
                  <a:pt x="5" y="336"/>
                </a:lnTo>
                <a:lnTo>
                  <a:pt x="10" y="337"/>
                </a:lnTo>
                <a:lnTo>
                  <a:pt x="14" y="338"/>
                </a:lnTo>
                <a:lnTo>
                  <a:pt x="19" y="340"/>
                </a:lnTo>
                <a:lnTo>
                  <a:pt x="23" y="342"/>
                </a:lnTo>
                <a:lnTo>
                  <a:pt x="27" y="346"/>
                </a:lnTo>
                <a:lnTo>
                  <a:pt x="31" y="349"/>
                </a:lnTo>
                <a:lnTo>
                  <a:pt x="34" y="352"/>
                </a:lnTo>
                <a:lnTo>
                  <a:pt x="37" y="356"/>
                </a:lnTo>
                <a:lnTo>
                  <a:pt x="40" y="361"/>
                </a:lnTo>
                <a:lnTo>
                  <a:pt x="42" y="365"/>
                </a:lnTo>
                <a:lnTo>
                  <a:pt x="44" y="370"/>
                </a:lnTo>
                <a:lnTo>
                  <a:pt x="46" y="375"/>
                </a:lnTo>
                <a:lnTo>
                  <a:pt x="47" y="380"/>
                </a:lnTo>
                <a:lnTo>
                  <a:pt x="48" y="387"/>
                </a:lnTo>
                <a:lnTo>
                  <a:pt x="48" y="392"/>
                </a:lnTo>
                <a:lnTo>
                  <a:pt x="48" y="616"/>
                </a:lnTo>
                <a:lnTo>
                  <a:pt x="48" y="621"/>
                </a:lnTo>
                <a:lnTo>
                  <a:pt x="49" y="628"/>
                </a:lnTo>
                <a:lnTo>
                  <a:pt x="50" y="633"/>
                </a:lnTo>
                <a:lnTo>
                  <a:pt x="52" y="637"/>
                </a:lnTo>
                <a:lnTo>
                  <a:pt x="54" y="643"/>
                </a:lnTo>
                <a:lnTo>
                  <a:pt x="56" y="647"/>
                </a:lnTo>
                <a:lnTo>
                  <a:pt x="59" y="651"/>
                </a:lnTo>
                <a:lnTo>
                  <a:pt x="62" y="656"/>
                </a:lnTo>
                <a:lnTo>
                  <a:pt x="65" y="659"/>
                </a:lnTo>
                <a:lnTo>
                  <a:pt x="69" y="662"/>
                </a:lnTo>
                <a:lnTo>
                  <a:pt x="73" y="665"/>
                </a:lnTo>
                <a:lnTo>
                  <a:pt x="77" y="668"/>
                </a:lnTo>
                <a:lnTo>
                  <a:pt x="82" y="670"/>
                </a:lnTo>
                <a:lnTo>
                  <a:pt x="86" y="671"/>
                </a:lnTo>
                <a:lnTo>
                  <a:pt x="91" y="672"/>
                </a:lnTo>
                <a:lnTo>
                  <a:pt x="96" y="672"/>
                </a:lnTo>
              </a:path>
            </a:pathLst>
          </a:custGeom>
          <a:noFill/>
          <a:ln cap="rnd"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3124080"/>
            <a:ext cx="154080" cy="1068480"/>
          </a:xfrm>
          <a:custGeom>
            <a:avLst/>
            <a:gdLst/>
            <a:ahLst/>
            <a:rect l="l" t="t" r="r" b="b"/>
            <a:pathLst>
              <a:path w="97" h="673">
                <a:moveTo>
                  <a:pt x="96" y="0"/>
                </a:moveTo>
                <a:lnTo>
                  <a:pt x="91" y="0"/>
                </a:lnTo>
                <a:lnTo>
                  <a:pt x="86" y="1"/>
                </a:lnTo>
                <a:lnTo>
                  <a:pt x="82" y="2"/>
                </a:lnTo>
                <a:lnTo>
                  <a:pt x="77" y="4"/>
                </a:lnTo>
                <a:lnTo>
                  <a:pt x="73" y="6"/>
                </a:lnTo>
                <a:lnTo>
                  <a:pt x="69" y="10"/>
                </a:lnTo>
                <a:lnTo>
                  <a:pt x="65" y="13"/>
                </a:lnTo>
                <a:lnTo>
                  <a:pt x="62" y="16"/>
                </a:lnTo>
                <a:lnTo>
                  <a:pt x="59" y="20"/>
                </a:lnTo>
                <a:lnTo>
                  <a:pt x="56" y="25"/>
                </a:lnTo>
                <a:lnTo>
                  <a:pt x="54" y="29"/>
                </a:lnTo>
                <a:lnTo>
                  <a:pt x="52" y="34"/>
                </a:lnTo>
                <a:lnTo>
                  <a:pt x="50" y="39"/>
                </a:lnTo>
                <a:lnTo>
                  <a:pt x="49" y="44"/>
                </a:lnTo>
                <a:lnTo>
                  <a:pt x="48" y="51"/>
                </a:lnTo>
                <a:lnTo>
                  <a:pt x="48" y="56"/>
                </a:lnTo>
                <a:lnTo>
                  <a:pt x="48" y="280"/>
                </a:lnTo>
                <a:lnTo>
                  <a:pt x="48" y="285"/>
                </a:lnTo>
                <a:lnTo>
                  <a:pt x="47" y="292"/>
                </a:lnTo>
                <a:lnTo>
                  <a:pt x="46" y="297"/>
                </a:lnTo>
                <a:lnTo>
                  <a:pt x="44" y="302"/>
                </a:lnTo>
                <a:lnTo>
                  <a:pt x="42" y="307"/>
                </a:lnTo>
                <a:lnTo>
                  <a:pt x="40" y="311"/>
                </a:lnTo>
                <a:lnTo>
                  <a:pt x="37" y="316"/>
                </a:lnTo>
                <a:lnTo>
                  <a:pt x="34" y="320"/>
                </a:lnTo>
                <a:lnTo>
                  <a:pt x="31" y="323"/>
                </a:lnTo>
                <a:lnTo>
                  <a:pt x="27" y="326"/>
                </a:lnTo>
                <a:lnTo>
                  <a:pt x="23" y="330"/>
                </a:lnTo>
                <a:lnTo>
                  <a:pt x="19" y="332"/>
                </a:lnTo>
                <a:lnTo>
                  <a:pt x="14" y="334"/>
                </a:lnTo>
                <a:lnTo>
                  <a:pt x="10" y="335"/>
                </a:lnTo>
                <a:lnTo>
                  <a:pt x="5" y="336"/>
                </a:lnTo>
                <a:lnTo>
                  <a:pt x="0" y="336"/>
                </a:lnTo>
                <a:lnTo>
                  <a:pt x="5" y="336"/>
                </a:lnTo>
                <a:lnTo>
                  <a:pt x="10" y="337"/>
                </a:lnTo>
                <a:lnTo>
                  <a:pt x="14" y="338"/>
                </a:lnTo>
                <a:lnTo>
                  <a:pt x="19" y="340"/>
                </a:lnTo>
                <a:lnTo>
                  <a:pt x="23" y="342"/>
                </a:lnTo>
                <a:lnTo>
                  <a:pt x="27" y="346"/>
                </a:lnTo>
                <a:lnTo>
                  <a:pt x="31" y="349"/>
                </a:lnTo>
                <a:lnTo>
                  <a:pt x="34" y="352"/>
                </a:lnTo>
                <a:lnTo>
                  <a:pt x="37" y="356"/>
                </a:lnTo>
                <a:lnTo>
                  <a:pt x="40" y="361"/>
                </a:lnTo>
                <a:lnTo>
                  <a:pt x="42" y="365"/>
                </a:lnTo>
                <a:lnTo>
                  <a:pt x="44" y="370"/>
                </a:lnTo>
                <a:lnTo>
                  <a:pt x="46" y="375"/>
                </a:lnTo>
                <a:lnTo>
                  <a:pt x="47" y="380"/>
                </a:lnTo>
                <a:lnTo>
                  <a:pt x="48" y="387"/>
                </a:lnTo>
                <a:lnTo>
                  <a:pt x="48" y="392"/>
                </a:lnTo>
                <a:lnTo>
                  <a:pt x="48" y="616"/>
                </a:lnTo>
                <a:lnTo>
                  <a:pt x="48" y="621"/>
                </a:lnTo>
                <a:lnTo>
                  <a:pt x="49" y="628"/>
                </a:lnTo>
                <a:lnTo>
                  <a:pt x="50" y="633"/>
                </a:lnTo>
                <a:lnTo>
                  <a:pt x="52" y="637"/>
                </a:lnTo>
                <a:lnTo>
                  <a:pt x="54" y="643"/>
                </a:lnTo>
                <a:lnTo>
                  <a:pt x="56" y="647"/>
                </a:lnTo>
                <a:lnTo>
                  <a:pt x="59" y="651"/>
                </a:lnTo>
                <a:lnTo>
                  <a:pt x="62" y="656"/>
                </a:lnTo>
                <a:lnTo>
                  <a:pt x="65" y="659"/>
                </a:lnTo>
                <a:lnTo>
                  <a:pt x="69" y="662"/>
                </a:lnTo>
                <a:lnTo>
                  <a:pt x="73" y="665"/>
                </a:lnTo>
                <a:lnTo>
                  <a:pt x="77" y="668"/>
                </a:lnTo>
                <a:lnTo>
                  <a:pt x="82" y="670"/>
                </a:lnTo>
                <a:lnTo>
                  <a:pt x="86" y="671"/>
                </a:lnTo>
                <a:lnTo>
                  <a:pt x="91" y="672"/>
                </a:lnTo>
                <a:lnTo>
                  <a:pt x="96" y="672"/>
                </a:lnTo>
              </a:path>
            </a:pathLst>
          </a:custGeom>
          <a:noFill/>
          <a:ln cap="rnd" w="442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01000" y="228600"/>
            <a:ext cx="109944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2663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38960" y="1295280"/>
            <a:ext cx="39970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循环的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在自然界中的存在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在生物体内的存在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进入生物体的途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在生物体之间传递途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碳进入大气的途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65600" y="1371600"/>
            <a:ext cx="1341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75000" y="1981080"/>
            <a:ext cx="2316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和碳酸盐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2590920"/>
            <a:ext cx="394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含碳有机物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08160" y="3200400"/>
            <a:ext cx="262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绿色植物的光合作用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62680" y="380988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食物链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83360" y="4343400"/>
            <a:ext cx="25776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生物的呼吸作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解者有分解作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化石燃料的燃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3680" y="380988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食物网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45268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33680" y="533520"/>
            <a:ext cx="40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能量流动和物质循环的相互关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5280" y="1849320"/>
            <a:ext cx="0" cy="381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535120"/>
            <a:ext cx="8077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592520"/>
            <a:ext cx="8077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82920" y="1847880"/>
            <a:ext cx="0" cy="2743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12840" y="1949400"/>
            <a:ext cx="103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能量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08320" y="1925640"/>
            <a:ext cx="103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质循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4840" y="2611440"/>
            <a:ext cx="550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形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特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范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联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19880" y="2535120"/>
            <a:ext cx="18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主要以有机物形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单向流动逐级递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态系统的各营养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21800" y="2535120"/>
            <a:ext cx="2562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组成生物体的基本元素在生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群落与无机环境间反复循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反复循环维持生态平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全球生物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51400" y="4668840"/>
            <a:ext cx="40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能量流动和物质循环二者相互伴随，相辅相承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不可分割的统一整体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5659560"/>
            <a:ext cx="8077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849320"/>
            <a:ext cx="8077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686800" y="1849320"/>
            <a:ext cx="0" cy="381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849320"/>
            <a:ext cx="0" cy="3810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58160" y="95400"/>
            <a:ext cx="140436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维训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49680" y="1066680"/>
            <a:ext cx="5735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．为什么肉类食品的价格比小白菜价格高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190760" cy="3933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003040" y="5943600"/>
            <a:ext cx="1937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根据林德曼能量流动的“十分之一定律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60160" y="1919160"/>
            <a:ext cx="3714480" cy="12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鱼体重增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所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浮游植物                等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7080" y="2666880"/>
            <a:ext cx="12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00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2004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09920" y="228600"/>
            <a:ext cx="170892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92840" y="1400040"/>
            <a:ext cx="66898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肉食动物不可能是一条食物链中的第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营养级（       ）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五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二　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四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对水稻→鼠→蛇→鹰这条食物链的错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描述是（      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稻是生产者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鼠是初级消费者 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蛇是次级消费者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鹰属于第三营养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7400" y="1981080"/>
            <a:ext cx="52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411480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27360" y="6094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（二）食物链和食物网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038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营养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49720" y="1981080"/>
            <a:ext cx="10335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青草—植食昆虫—青蛙—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25880" y="1905120"/>
            <a:ext cx="1033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级  —  二级 — 三级—四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676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食物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生物之间由于食物关系而形成的一种联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572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食物链上的每一个环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2362320"/>
            <a:ext cx="903240" cy="125280"/>
          </a:xfrm>
          <a:prstGeom prst="rightArrow">
            <a:avLst>
              <a:gd name="adj1" fmla="val 50000"/>
              <a:gd name="adj2" fmla="val 180244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3581280"/>
            <a:ext cx="976320" cy="108000"/>
          </a:xfrm>
          <a:prstGeom prst="rightArrow">
            <a:avLst>
              <a:gd name="adj1" fmla="val 50000"/>
              <a:gd name="adj2" fmla="val 226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5029200"/>
            <a:ext cx="976320" cy="125280"/>
          </a:xfrm>
          <a:prstGeom prst="rightArrow">
            <a:avLst>
              <a:gd name="adj1" fmla="val 50000"/>
              <a:gd name="adj2" fmla="val 19482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5943600"/>
            <a:ext cx="976320" cy="125280"/>
          </a:xfrm>
          <a:prstGeom prst="rightArrow">
            <a:avLst>
              <a:gd name="adj1" fmla="val 50000"/>
              <a:gd name="adj2" fmla="val 19482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912000" y="1371600"/>
            <a:ext cx="2232000" cy="502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117160" y="244440"/>
            <a:ext cx="5397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识图作答：下图表示生态系统的能量流动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请据图回答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2416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200400" y="990720"/>
            <a:ext cx="5638680" cy="31287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933120" y="4343400"/>
            <a:ext cx="67237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各营养级的名称依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写在图中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    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    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65560" y="5486400"/>
            <a:ext cx="102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生产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5486400"/>
            <a:ext cx="2568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初级消费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56640" y="6019920"/>
            <a:ext cx="140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次级消费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4360" y="6019920"/>
            <a:ext cx="150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级消费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93960" y="1066680"/>
            <a:ext cx="1556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识图作答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5748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05920" cy="3787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82200" y="152280"/>
            <a:ext cx="1708920" cy="702000"/>
          </a:xfrm>
          <a:prstGeom prst="rect">
            <a:avLst/>
          </a:prstGeom>
          <a:solidFill>
            <a:srgbClr val="9ce157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课堂练习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31840" y="314280"/>
            <a:ext cx="698184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写出①②③④的生理过程及⑤产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方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        ②____         ③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         ⑤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碳在无机环境与生物群落之间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形式进行循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碳循环中最简单的循环途径是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____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和大气之间的循环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69560" y="182880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光合作用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1880" y="175248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呼吸作用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03360" y="1854360"/>
            <a:ext cx="1771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微生物分解作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45880" y="2438280"/>
            <a:ext cx="140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呼吸作用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74360" y="2438280"/>
            <a:ext cx="8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燃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71320" y="3200400"/>
            <a:ext cx="999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080" y="5257800"/>
            <a:ext cx="1160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绿色植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920000" y="6167520"/>
            <a:ext cx="784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食物网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6781680" cy="4232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35640" y="61102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温带草原生态系统的食物网简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353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09480" y="1143000"/>
            <a:ext cx="6858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许多食物链相互交错连结的复杂营养关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19360" y="1905120"/>
            <a:ext cx="911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食物网中共有多少条食物链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51600" y="1905120"/>
            <a:ext cx="546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长的食物链是哪一条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95480" y="1905120"/>
            <a:ext cx="91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哪些动物占有两个以上营养级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52680" y="1905120"/>
            <a:ext cx="91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第三营养级的动物有哪些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3400" y="600120"/>
            <a:ext cx="3886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总结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295280"/>
            <a:ext cx="6705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生态系统的结构的含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组成成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营养结构：食物链和食物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42900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对营养级的再认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食物网中同一环节上所有生物的总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4800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食物链和食物网是生态系统能量流动和物质循环的渠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81480" y="1486080"/>
            <a:ext cx="5634720" cy="37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作为生物与环境组成的统一整体，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态系统不仅具有一定的结构，而且具有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定的功能。生态系统的主要功能一是生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系统的能量流动，二是生态系统的物质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环，首先学习讨论生态系统的能量流动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33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）生态系统的主要功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35400" y="1346040"/>
            <a:ext cx="55980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生态系统中能量流动的起点是从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么地方开始的？能不能从动物开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为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3760" y="3616200"/>
            <a:ext cx="5070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生态系统的能量流动是从生产者所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定的太阳能开始的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47800" y="4952880"/>
            <a:ext cx="50706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生态系统的能量流动起点能不能从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物开始？不能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533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的能量流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54480" y="304920"/>
            <a:ext cx="431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能量流动的数量及作用：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63760" y="1143000"/>
            <a:ext cx="60004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态系统的生产者——绿色植物通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光合作用，把太阳光能转化为化学能，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存在它们制造的有机物中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生产者所固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的全部太阳能，就是流经生态系统的总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量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能量流经生态系统后，就是一切生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生命活动的动力，也是生态系统存在和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展的动力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42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76640" y="457200"/>
            <a:ext cx="4473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生态系统的能量流动全过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9840" cy="2911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9480" y="20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太阳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态系统 成分</cp:keywords>
  <dc:language>en-US</dc:language>
  <cp:lastModifiedBy/>
  <cp:revision>0</cp:revision>
  <dc:subject/>
  <dc:title/>
</cp:coreProperties>
</file>