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104-D202-48EC-855D-8D71CF2C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019-A118-46ED-B796-7CCA45C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C28-73E8-46FE-8008-5CB9A599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D19-E4E9-4C72-97EA-1EF9985B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831-01AD-4B33-A88F-B7A9BBF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4AA-451D-4313-BD80-9EAD792B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583-EF60-493A-9352-9047920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C91-E7CF-4DBD-A2E5-92AEBC0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4DD-2924-4F9A-B096-87BEEB0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6D8-8C03-44B5-9B22-C366FAB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CB8-49E7-4C22-BBD8-631ABBB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566-CCED-47EE-9BEC-9B93573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B0A-6DC6-4874-8E57-8056E11358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09600" y="3657600"/>
            <a:ext cx="47570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生态系统的物质循环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1000" y="457200"/>
            <a:ext cx="56347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能量流动和物质循环的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态系统的存在是靠物质循环和能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动来维持的。生态系统的能量流动和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质循环都是通过食物键和食物网的渠道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的，二者相互伴随进行，又相辅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密不可分的统一整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89280" y="106668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图作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8305920" cy="378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2200" y="152280"/>
            <a:ext cx="1708920" cy="702000"/>
          </a:xfrm>
          <a:prstGeom prst="rect">
            <a:avLst/>
          </a:prstGeom>
          <a:solidFill>
            <a:srgbClr val="00cc99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31840" y="314280"/>
            <a:ext cx="69818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写出①②③④的生理过程及⑤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②____         ③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 ⑤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碳在无机环境与生物群落之间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进行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碳循环中最简单的循环途径是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大气之间的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69560" y="182880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光合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1880" y="17524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03360" y="1854360"/>
            <a:ext cx="177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微生物分解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5880" y="24382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4360" y="2438280"/>
            <a:ext cx="8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燃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1320" y="3200400"/>
            <a:ext cx="99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080" y="525780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0000" y="6167520"/>
            <a:ext cx="784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0360" y="1187280"/>
            <a:ext cx="236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质循环的概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20240" y="1936800"/>
            <a:ext cx="7044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成生物体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化学元素，不断进行着从无机环境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物群落，又从生物群落回到无机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循环过程，这就是生态系统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物质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6600" y="485640"/>
            <a:ext cx="8426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物圈是地球上最大的生态系统，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物质循环带有全球性，这种物质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又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物地化循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66600" y="2590920"/>
            <a:ext cx="5515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态系统的物质循环反复出现，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动，不会消失，生物可反复利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42320" y="1066680"/>
            <a:ext cx="588096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碳循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元素约占生物体干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％，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有机化合物的“骨架”，没有碳就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命。碳在无机环境与生物群落之间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进行循环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06200"/>
            <a:ext cx="8915400" cy="675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080" y="149400"/>
            <a:ext cx="1949760" cy="6411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的循环过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1840" y="1981080"/>
            <a:ext cx="47185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在无机自然环境中存在的形式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和碳酸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石灰岩、珊瑚礁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存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766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92504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74320" y="2317680"/>
            <a:ext cx="50461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有一部分生物遗体没有被分解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解，转变成为地下的石油和煤，这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暂时脱离循环，一经开采运到地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燃烧，仍可产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返回碳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6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066680"/>
            <a:ext cx="89154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绿色植物的光合作用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进入生物群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循环                                          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有机物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植物的呼吸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进入无机环境     微生物的分解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燃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981080"/>
            <a:ext cx="230040" cy="1981440"/>
          </a:xfrm>
          <a:custGeom>
            <a:avLst/>
            <a:gdLst/>
            <a:ahLst/>
            <a:rect l="l" t="t" r="r" b="b"/>
            <a:pathLst>
              <a:path w="145" h="1248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4"/>
                </a:lnTo>
                <a:lnTo>
                  <a:pt x="116" y="8"/>
                </a:lnTo>
                <a:lnTo>
                  <a:pt x="110" y="12"/>
                </a:lnTo>
                <a:lnTo>
                  <a:pt x="104" y="18"/>
                </a:lnTo>
                <a:lnTo>
                  <a:pt x="98" y="24"/>
                </a:lnTo>
                <a:lnTo>
                  <a:pt x="93" y="32"/>
                </a:lnTo>
                <a:lnTo>
                  <a:pt x="88" y="38"/>
                </a:lnTo>
                <a:lnTo>
                  <a:pt x="84" y="46"/>
                </a:lnTo>
                <a:lnTo>
                  <a:pt x="81" y="56"/>
                </a:lnTo>
                <a:lnTo>
                  <a:pt x="77" y="64"/>
                </a:lnTo>
                <a:lnTo>
                  <a:pt x="75" y="74"/>
                </a:lnTo>
                <a:lnTo>
                  <a:pt x="73" y="84"/>
                </a:lnTo>
                <a:lnTo>
                  <a:pt x="72" y="94"/>
                </a:lnTo>
                <a:lnTo>
                  <a:pt x="72" y="104"/>
                </a:lnTo>
                <a:lnTo>
                  <a:pt x="72" y="520"/>
                </a:lnTo>
                <a:lnTo>
                  <a:pt x="71" y="530"/>
                </a:lnTo>
                <a:lnTo>
                  <a:pt x="71" y="542"/>
                </a:lnTo>
                <a:lnTo>
                  <a:pt x="69" y="552"/>
                </a:lnTo>
                <a:lnTo>
                  <a:pt x="66" y="560"/>
                </a:lnTo>
                <a:lnTo>
                  <a:pt x="63" y="570"/>
                </a:lnTo>
                <a:lnTo>
                  <a:pt x="60" y="578"/>
                </a:lnTo>
                <a:lnTo>
                  <a:pt x="55" y="586"/>
                </a:lnTo>
                <a:lnTo>
                  <a:pt x="51" y="594"/>
                </a:lnTo>
                <a:lnTo>
                  <a:pt x="46" y="600"/>
                </a:lnTo>
                <a:lnTo>
                  <a:pt x="40" y="606"/>
                </a:lnTo>
                <a:lnTo>
                  <a:pt x="34" y="612"/>
                </a:lnTo>
                <a:lnTo>
                  <a:pt x="28" y="616"/>
                </a:lnTo>
                <a:lnTo>
                  <a:pt x="22" y="620"/>
                </a:lnTo>
                <a:lnTo>
                  <a:pt x="15" y="622"/>
                </a:lnTo>
                <a:lnTo>
                  <a:pt x="7" y="624"/>
                </a:lnTo>
                <a:lnTo>
                  <a:pt x="0" y="624"/>
                </a:lnTo>
                <a:lnTo>
                  <a:pt x="7" y="624"/>
                </a:lnTo>
                <a:lnTo>
                  <a:pt x="15" y="625"/>
                </a:lnTo>
                <a:lnTo>
                  <a:pt x="22" y="627"/>
                </a:lnTo>
                <a:lnTo>
                  <a:pt x="28" y="631"/>
                </a:lnTo>
                <a:lnTo>
                  <a:pt x="34" y="635"/>
                </a:lnTo>
                <a:lnTo>
                  <a:pt x="40" y="641"/>
                </a:lnTo>
                <a:lnTo>
                  <a:pt x="46" y="647"/>
                </a:lnTo>
                <a:lnTo>
                  <a:pt x="51" y="655"/>
                </a:lnTo>
                <a:lnTo>
                  <a:pt x="55" y="661"/>
                </a:lnTo>
                <a:lnTo>
                  <a:pt x="60" y="669"/>
                </a:lnTo>
                <a:lnTo>
                  <a:pt x="63" y="679"/>
                </a:lnTo>
                <a:lnTo>
                  <a:pt x="66" y="687"/>
                </a:lnTo>
                <a:lnTo>
                  <a:pt x="69" y="697"/>
                </a:lnTo>
                <a:lnTo>
                  <a:pt x="71" y="707"/>
                </a:lnTo>
                <a:lnTo>
                  <a:pt x="71" y="717"/>
                </a:lnTo>
                <a:lnTo>
                  <a:pt x="72" y="727"/>
                </a:lnTo>
                <a:lnTo>
                  <a:pt x="72" y="1143"/>
                </a:lnTo>
                <a:lnTo>
                  <a:pt x="72" y="1153"/>
                </a:lnTo>
                <a:lnTo>
                  <a:pt x="73" y="1165"/>
                </a:lnTo>
                <a:lnTo>
                  <a:pt x="75" y="1175"/>
                </a:lnTo>
                <a:lnTo>
                  <a:pt x="77" y="1183"/>
                </a:lnTo>
                <a:lnTo>
                  <a:pt x="81" y="1193"/>
                </a:lnTo>
                <a:lnTo>
                  <a:pt x="84" y="1201"/>
                </a:lnTo>
                <a:lnTo>
                  <a:pt x="88" y="1209"/>
                </a:lnTo>
                <a:lnTo>
                  <a:pt x="93" y="1217"/>
                </a:lnTo>
                <a:lnTo>
                  <a:pt x="98" y="1223"/>
                </a:lnTo>
                <a:lnTo>
                  <a:pt x="104" y="1229"/>
                </a:lnTo>
                <a:lnTo>
                  <a:pt x="110" y="1235"/>
                </a:lnTo>
                <a:lnTo>
                  <a:pt x="116" y="1239"/>
                </a:lnTo>
                <a:lnTo>
                  <a:pt x="122" y="1243"/>
                </a:lnTo>
                <a:lnTo>
                  <a:pt x="129" y="1245"/>
                </a:lnTo>
                <a:lnTo>
                  <a:pt x="137" y="1247"/>
                </a:lnTo>
                <a:lnTo>
                  <a:pt x="144" y="1247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523880"/>
            <a:ext cx="15372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581280"/>
            <a:ext cx="22860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01000" y="228600"/>
            <a:ext cx="1099440" cy="702000"/>
          </a:xfrm>
          <a:prstGeom prst="rect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8960" y="1295280"/>
            <a:ext cx="39970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循环的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自然界中的存在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生物体内的存在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进入生物体的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生物体之间传递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进入大气的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65600" y="1371600"/>
            <a:ext cx="134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75000" y="1981080"/>
            <a:ext cx="231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碳酸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2590920"/>
            <a:ext cx="394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含碳有机物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8160" y="3200400"/>
            <a:ext cx="262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的光合作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2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83360" y="4343400"/>
            <a:ext cx="257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物的呼吸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解者有分解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化石燃料的燃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物质循环</cp:keywords>
  <dc:language>en-US</dc:language>
  <cp:lastModifiedBy/>
  <cp:revision>0</cp:revision>
  <dc:subject/>
  <dc:title/>
</cp:coreProperties>
</file>