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2.wmf" ContentType="image/x-wmf"/>
  <Override PartName="/ppt/media/image7.png" ContentType="image/png"/>
  <Override PartName="/ppt/media/image9.png" ContentType="image/png"/>
  <Override PartName="/ppt/media/image11.png" ContentType="image/png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</p:sldMasterIdLst>
  <p:sldIdLst>
    <p:sldId id="256" r:id="rId22"/>
    <p:sldId id="257" r:id="rId23"/>
    <p:sldId id="258" r:id="rId24"/>
    <p:sldId id="259" r:id="rId25"/>
    <p:sldId id="260" r:id="rId26"/>
    <p:sldId id="261" r:id="rId27"/>
    <p:sldId id="262" r:id="rId28"/>
    <p:sldId id="263" r:id="rId29"/>
    <p:sldId id="264" r:id="rId30"/>
    <p:sldId id="265" r:id="rId31"/>
    <p:sldId id="266" r:id="rId32"/>
    <p:sldId id="267" r:id="rId33"/>
    <p:sldId id="268" r:id="rId34"/>
    <p:sldId id="269" r:id="rId35"/>
    <p:sldId id="270" r:id="rId36"/>
    <p:sldId id="271" r:id="rId37"/>
    <p:sldId id="272" r:id="rId38"/>
    <p:sldId id="273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" Target="slides/slide1.xml"/><Relationship Id="rId23" Type="http://schemas.openxmlformats.org/officeDocument/2006/relationships/slide" Target="slides/slide2.xml"/><Relationship Id="rId24" Type="http://schemas.openxmlformats.org/officeDocument/2006/relationships/slide" Target="slides/slide3.xml"/><Relationship Id="rId25" Type="http://schemas.openxmlformats.org/officeDocument/2006/relationships/slide" Target="slides/slide4.xml"/><Relationship Id="rId26" Type="http://schemas.openxmlformats.org/officeDocument/2006/relationships/slide" Target="slides/slide5.xml"/><Relationship Id="rId27" Type="http://schemas.openxmlformats.org/officeDocument/2006/relationships/slide" Target="slides/slide6.xml"/><Relationship Id="rId28" Type="http://schemas.openxmlformats.org/officeDocument/2006/relationships/slide" Target="slides/slide7.xml"/><Relationship Id="rId29" Type="http://schemas.openxmlformats.org/officeDocument/2006/relationships/slide" Target="slides/slide8.xml"/><Relationship Id="rId30" Type="http://schemas.openxmlformats.org/officeDocument/2006/relationships/slide" Target="slides/slide9.xml"/><Relationship Id="rId31" Type="http://schemas.openxmlformats.org/officeDocument/2006/relationships/slide" Target="slides/slide10.xml"/><Relationship Id="rId32" Type="http://schemas.openxmlformats.org/officeDocument/2006/relationships/slide" Target="slides/slide11.xml"/><Relationship Id="rId33" Type="http://schemas.openxmlformats.org/officeDocument/2006/relationships/slide" Target="slides/slide12.xml"/><Relationship Id="rId34" Type="http://schemas.openxmlformats.org/officeDocument/2006/relationships/slide" Target="slides/slide13.xml"/><Relationship Id="rId35" Type="http://schemas.openxmlformats.org/officeDocument/2006/relationships/slide" Target="slides/slide14.xml"/><Relationship Id="rId36" Type="http://schemas.openxmlformats.org/officeDocument/2006/relationships/slide" Target="slides/slide15.xml"/><Relationship Id="rId37" Type="http://schemas.openxmlformats.org/officeDocument/2006/relationships/slide" Target="slides/slide16.xml"/><Relationship Id="rId38" Type="http://schemas.openxmlformats.org/officeDocument/2006/relationships/slide" Target="slides/slide17.xml"/><Relationship Id="rId39" Type="http://schemas.openxmlformats.org/officeDocument/2006/relationships/slide" Target="slides/slide18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D665D-B4DC-4698-BE8F-1634F67F4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52120" y="3566880"/>
            <a:ext cx="54104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752120" y="4561920"/>
            <a:ext cx="54104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E7D19-3241-4011-8F4F-CF3CF69D8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1752120" y="3566880"/>
            <a:ext cx="2640240" cy="19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524840" y="3566880"/>
            <a:ext cx="2640240" cy="19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3CDCC3D-4F15-44D1-A929-8156BEADE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69E9FB7-02CC-462F-B14E-8606367C1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subTitle"/>
          </p:nvPr>
        </p:nvSpPr>
        <p:spPr>
          <a:xfrm>
            <a:off x="685800" y="856800"/>
            <a:ext cx="7772400" cy="105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0582AA8-7B5C-4B17-9E49-5E6FCA41A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1752120" y="356688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524840" y="3566880"/>
            <a:ext cx="2640240" cy="19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1752120" y="456192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7C56FE9-0DED-4FF6-B1F1-874CBB0EC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1752120" y="3566880"/>
            <a:ext cx="2640240" cy="19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524840" y="356688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24840" y="456192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4438B54-D608-4156-A092-8FE1E20A9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1752120" y="356688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524840" y="356688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1752120" y="4561920"/>
            <a:ext cx="54104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336E956-2AF0-4875-983F-1913A75E1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1752120" y="3566880"/>
            <a:ext cx="54104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1752120" y="4561920"/>
            <a:ext cx="54104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A54133F-BAE5-46B7-A649-B7FA185FB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1752120" y="356688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524840" y="356688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1752120" y="456192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4524840" y="456192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ADF4C68-8860-422A-85CB-7AE206866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1752120" y="3566880"/>
            <a:ext cx="17420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3581640" y="3566880"/>
            <a:ext cx="17420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5411160" y="3566880"/>
            <a:ext cx="17420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1752120" y="4561920"/>
            <a:ext cx="17420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6"/>
          <p:cNvSpPr>
            <a:spLocks noGrp="1"/>
          </p:cNvSpPr>
          <p:nvPr>
            <p:ph/>
          </p:nvPr>
        </p:nvSpPr>
        <p:spPr>
          <a:xfrm>
            <a:off x="3581640" y="4561920"/>
            <a:ext cx="17420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7"/>
          <p:cNvSpPr>
            <a:spLocks noGrp="1"/>
          </p:cNvSpPr>
          <p:nvPr>
            <p:ph/>
          </p:nvPr>
        </p:nvSpPr>
        <p:spPr>
          <a:xfrm>
            <a:off x="5411160" y="4561920"/>
            <a:ext cx="17420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3FB928E-EC32-495D-9187-784BFBA10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EB727A8-51DF-4989-BBE2-D9D7815BA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752120" y="356688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24840" y="356688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752120" y="456192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24840" y="456192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5F26E-692B-4964-8926-E00D83A3B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1752120" y="3566880"/>
            <a:ext cx="54104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E2946E7-CD93-474D-8C48-A1C4199A7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1752120" y="3566880"/>
            <a:ext cx="5410440" cy="19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A4B7E8C-423B-4385-BF2F-CAF89BE67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1752120" y="3566880"/>
            <a:ext cx="2640240" cy="19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524840" y="3566880"/>
            <a:ext cx="2640240" cy="19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4073EEA-E510-4C57-A185-35AE6D2B1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8FA7421-8F18-4A85-A16E-5FC2816CF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685800" y="856800"/>
            <a:ext cx="7772400" cy="105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59A03B8-2DA8-4AD4-9FDB-740ED2976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1752120" y="356688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524840" y="3566880"/>
            <a:ext cx="2640240" cy="19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1752120" y="456192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D490FDA-1B07-4FF9-80DF-2AF2757FC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1752120" y="3566880"/>
            <a:ext cx="2640240" cy="19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524840" y="356688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24840" y="456192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4D5F78A-F7B8-47E6-BB05-E9B166249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1752120" y="356688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24840" y="356688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1752120" y="4561920"/>
            <a:ext cx="54104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4C181D9-C81C-4020-AFE3-7B0BAB750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1752120" y="3566880"/>
            <a:ext cx="54104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1752120" y="4561920"/>
            <a:ext cx="54104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ED4E995-C7FA-4B70-AACE-74B1F4D13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1752120" y="356688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524840" y="356688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1752120" y="456192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524840" y="456192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613DD89-4CA0-4208-BD48-10A1D02EC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752120" y="3566880"/>
            <a:ext cx="17420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81640" y="3566880"/>
            <a:ext cx="17420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411160" y="3566880"/>
            <a:ext cx="17420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752120" y="4561920"/>
            <a:ext cx="17420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81640" y="4561920"/>
            <a:ext cx="17420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411160" y="4561920"/>
            <a:ext cx="17420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B596B-5516-4DB9-908F-6DE3FEF4E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1752120" y="3566880"/>
            <a:ext cx="17420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581640" y="3566880"/>
            <a:ext cx="17420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5411160" y="3566880"/>
            <a:ext cx="17420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1752120" y="4561920"/>
            <a:ext cx="17420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581640" y="4561920"/>
            <a:ext cx="17420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5411160" y="4561920"/>
            <a:ext cx="17420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D4FF0B4-5775-4E48-A796-092AB100E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9C75F36-D4C3-442E-8D83-1FCD139F5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 type="subTitle"/>
          </p:nvPr>
        </p:nvSpPr>
        <p:spPr>
          <a:xfrm>
            <a:off x="1752120" y="3566880"/>
            <a:ext cx="54104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BAF3C3E-64DD-4097-987A-A17CF7F43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1752120" y="3566880"/>
            <a:ext cx="5410440" cy="19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2576D00-01D5-427A-B6BB-6FEFF50DC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1752120" y="3566880"/>
            <a:ext cx="2640240" cy="19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524840" y="3566880"/>
            <a:ext cx="2640240" cy="19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FD92D23-227B-4036-A9E0-D547D0FFB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9E31EFE-4FF9-473F-83ED-0AFA41FCC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subTitle"/>
          </p:nvPr>
        </p:nvSpPr>
        <p:spPr>
          <a:xfrm>
            <a:off x="685800" y="856800"/>
            <a:ext cx="7772400" cy="105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8D25369-8EB4-4D48-97FF-4DB40EC42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1752120" y="356688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524840" y="3566880"/>
            <a:ext cx="2640240" cy="19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1752120" y="456192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D9B9C50-C89C-4EAE-9C4F-FCDA6EAF9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1752120" y="3566880"/>
            <a:ext cx="2640240" cy="19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524840" y="356688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4524840" y="456192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814DFFD-F229-4F64-9D46-A88835F3A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752120" y="356688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524840" y="356688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1752120" y="4561920"/>
            <a:ext cx="54104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93A20D0-EDF0-4F5C-A5BE-9CB7B37E2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66E53-9E38-4135-974F-6FB73917A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1752120" y="3566880"/>
            <a:ext cx="54104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1752120" y="4561920"/>
            <a:ext cx="54104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C3AB47D-DDE6-448F-9C79-0F96704CD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1752120" y="356688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524840" y="356688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1752120" y="456192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4524840" y="456192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39302B9-B207-4933-BBA9-9668D959F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1752120" y="3566880"/>
            <a:ext cx="17420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3581640" y="3566880"/>
            <a:ext cx="17420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5411160" y="3566880"/>
            <a:ext cx="17420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5"/>
          <p:cNvSpPr>
            <a:spLocks noGrp="1"/>
          </p:cNvSpPr>
          <p:nvPr>
            <p:ph/>
          </p:nvPr>
        </p:nvSpPr>
        <p:spPr>
          <a:xfrm>
            <a:off x="1752120" y="4561920"/>
            <a:ext cx="17420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6"/>
          <p:cNvSpPr>
            <a:spLocks noGrp="1"/>
          </p:cNvSpPr>
          <p:nvPr>
            <p:ph/>
          </p:nvPr>
        </p:nvSpPr>
        <p:spPr>
          <a:xfrm>
            <a:off x="3581640" y="4561920"/>
            <a:ext cx="17420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7"/>
          <p:cNvSpPr>
            <a:spLocks noGrp="1"/>
          </p:cNvSpPr>
          <p:nvPr>
            <p:ph/>
          </p:nvPr>
        </p:nvSpPr>
        <p:spPr>
          <a:xfrm>
            <a:off x="5411160" y="4561920"/>
            <a:ext cx="17420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C5B8D53-8CBB-499B-9314-36D5D62B5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72A0B2B-12F7-46E3-BE45-BEFF8FA27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 type="subTitle"/>
          </p:nvPr>
        </p:nvSpPr>
        <p:spPr>
          <a:xfrm>
            <a:off x="1752120" y="3566880"/>
            <a:ext cx="54104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826DC7C-4252-4557-82FB-346CC1FCF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1752120" y="3566880"/>
            <a:ext cx="5410440" cy="19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2EF8DA6-4F2D-4634-873C-4CF565C43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1752120" y="3566880"/>
            <a:ext cx="2640240" cy="19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524840" y="3566880"/>
            <a:ext cx="2640240" cy="19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FD98CA3-3A61-47C1-9FDC-16D4407EF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6DDD7DB-3C06-4F8B-8FB7-9ACBD59CB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subTitle"/>
          </p:nvPr>
        </p:nvSpPr>
        <p:spPr>
          <a:xfrm>
            <a:off x="685800" y="856800"/>
            <a:ext cx="7772400" cy="105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CBFF3E8-4755-46EA-9F4D-F3ACBBE3E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1752120" y="356688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524840" y="3566880"/>
            <a:ext cx="2640240" cy="19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1752120" y="456192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D5B4A12-FF85-4C41-BC56-3642E2719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752120" y="3566880"/>
            <a:ext cx="54104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1F423-9A7A-4DD4-8A68-B62354B71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1752120" y="3566880"/>
            <a:ext cx="2640240" cy="19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524840" y="356688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4524840" y="456192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591EE76-A31C-4764-B6D9-553011887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1752120" y="356688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524840" y="356688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1752120" y="4561920"/>
            <a:ext cx="54104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99DF7BF-A07D-448B-AD9B-5804CFCAA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1752120" y="3566880"/>
            <a:ext cx="54104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1752120" y="4561920"/>
            <a:ext cx="54104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06B1565-78F4-40E2-B2B8-0BD396D02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1752120" y="356688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4524840" y="356688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1752120" y="456192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5"/>
          <p:cNvSpPr>
            <a:spLocks noGrp="1"/>
          </p:cNvSpPr>
          <p:nvPr>
            <p:ph/>
          </p:nvPr>
        </p:nvSpPr>
        <p:spPr>
          <a:xfrm>
            <a:off x="4524840" y="456192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B8350D7-BC34-43CA-9A48-0DB3619EA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1752120" y="3566880"/>
            <a:ext cx="17420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3581640" y="3566880"/>
            <a:ext cx="17420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5411160" y="3566880"/>
            <a:ext cx="17420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5"/>
          <p:cNvSpPr>
            <a:spLocks noGrp="1"/>
          </p:cNvSpPr>
          <p:nvPr>
            <p:ph/>
          </p:nvPr>
        </p:nvSpPr>
        <p:spPr>
          <a:xfrm>
            <a:off x="1752120" y="4561920"/>
            <a:ext cx="17420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6"/>
          <p:cNvSpPr>
            <a:spLocks noGrp="1"/>
          </p:cNvSpPr>
          <p:nvPr>
            <p:ph/>
          </p:nvPr>
        </p:nvSpPr>
        <p:spPr>
          <a:xfrm>
            <a:off x="3581640" y="4561920"/>
            <a:ext cx="17420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7"/>
          <p:cNvSpPr>
            <a:spLocks noGrp="1"/>
          </p:cNvSpPr>
          <p:nvPr>
            <p:ph/>
          </p:nvPr>
        </p:nvSpPr>
        <p:spPr>
          <a:xfrm>
            <a:off x="5411160" y="4561920"/>
            <a:ext cx="17420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BB1D105-CC1E-4463-A83A-B2FBA1415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 type="subTitle"/>
          </p:nvPr>
        </p:nvSpPr>
        <p:spPr>
          <a:xfrm>
            <a:off x="1752120" y="3566880"/>
            <a:ext cx="54104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1752120" y="3566880"/>
            <a:ext cx="5410440" cy="19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1752120" y="3566880"/>
            <a:ext cx="2640240" cy="19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524840" y="3566880"/>
            <a:ext cx="2640240" cy="19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551a07"/>
              </a:solidFill>
              <a:latin typeface="Arial Black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752120" y="3566880"/>
            <a:ext cx="5410440" cy="19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D6EED-3955-4C33-9C20-090E7693B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subTitle"/>
          </p:nvPr>
        </p:nvSpPr>
        <p:spPr>
          <a:xfrm>
            <a:off x="685800" y="856800"/>
            <a:ext cx="7772400" cy="105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1752120" y="356688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4524840" y="3566880"/>
            <a:ext cx="2640240" cy="19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4"/>
          <p:cNvSpPr>
            <a:spLocks noGrp="1"/>
          </p:cNvSpPr>
          <p:nvPr>
            <p:ph/>
          </p:nvPr>
        </p:nvSpPr>
        <p:spPr>
          <a:xfrm>
            <a:off x="1752120" y="456192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1752120" y="3566880"/>
            <a:ext cx="2640240" cy="19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4524840" y="356688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/>
          </p:nvPr>
        </p:nvSpPr>
        <p:spPr>
          <a:xfrm>
            <a:off x="4524840" y="456192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1752120" y="356688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524840" y="356688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/>
          </p:nvPr>
        </p:nvSpPr>
        <p:spPr>
          <a:xfrm>
            <a:off x="1752120" y="4561920"/>
            <a:ext cx="54104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1752120" y="3566880"/>
            <a:ext cx="54104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1752120" y="4561920"/>
            <a:ext cx="54104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1752120" y="356688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4524840" y="356688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1752120" y="456192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4524840" y="456192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1752120" y="3566880"/>
            <a:ext cx="17420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3581640" y="3566880"/>
            <a:ext cx="17420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5411160" y="3566880"/>
            <a:ext cx="17420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5"/>
          <p:cNvSpPr>
            <a:spLocks noGrp="1"/>
          </p:cNvSpPr>
          <p:nvPr>
            <p:ph/>
          </p:nvPr>
        </p:nvSpPr>
        <p:spPr>
          <a:xfrm>
            <a:off x="1752120" y="4561920"/>
            <a:ext cx="17420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6"/>
          <p:cNvSpPr>
            <a:spLocks noGrp="1"/>
          </p:cNvSpPr>
          <p:nvPr>
            <p:ph/>
          </p:nvPr>
        </p:nvSpPr>
        <p:spPr>
          <a:xfrm>
            <a:off x="3581640" y="4561920"/>
            <a:ext cx="17420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7"/>
          <p:cNvSpPr>
            <a:spLocks noGrp="1"/>
          </p:cNvSpPr>
          <p:nvPr>
            <p:ph/>
          </p:nvPr>
        </p:nvSpPr>
        <p:spPr>
          <a:xfrm>
            <a:off x="5411160" y="4561920"/>
            <a:ext cx="17420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 type="subTitle"/>
          </p:nvPr>
        </p:nvSpPr>
        <p:spPr>
          <a:xfrm>
            <a:off x="1752120" y="3566880"/>
            <a:ext cx="54104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1752120" y="3566880"/>
            <a:ext cx="5410440" cy="19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752120" y="3566880"/>
            <a:ext cx="2640240" cy="19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24840" y="3566880"/>
            <a:ext cx="2640240" cy="19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3736F-AA10-43E3-92FD-FC68DC58B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1752120" y="3566880"/>
            <a:ext cx="2640240" cy="19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524840" y="3566880"/>
            <a:ext cx="2640240" cy="19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551a07"/>
              </a:solidFill>
              <a:latin typeface="Arial Black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ubTitle"/>
          </p:nvPr>
        </p:nvSpPr>
        <p:spPr>
          <a:xfrm>
            <a:off x="685800" y="856800"/>
            <a:ext cx="7772400" cy="105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1752120" y="356688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524840" y="3566880"/>
            <a:ext cx="2640240" cy="19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1752120" y="456192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1752120" y="3566880"/>
            <a:ext cx="2640240" cy="19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524840" y="356688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4524840" y="456192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1752120" y="356688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524840" y="356688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1752120" y="4561920"/>
            <a:ext cx="54104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1752120" y="3566880"/>
            <a:ext cx="54104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1752120" y="4561920"/>
            <a:ext cx="54104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1752120" y="356688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524840" y="356688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1752120" y="456192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4524840" y="456192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1752120" y="3566880"/>
            <a:ext cx="17420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3581640" y="3566880"/>
            <a:ext cx="17420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/>
          </p:nvPr>
        </p:nvSpPr>
        <p:spPr>
          <a:xfrm>
            <a:off x="5411160" y="3566880"/>
            <a:ext cx="17420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5"/>
          <p:cNvSpPr>
            <a:spLocks noGrp="1"/>
          </p:cNvSpPr>
          <p:nvPr>
            <p:ph/>
          </p:nvPr>
        </p:nvSpPr>
        <p:spPr>
          <a:xfrm>
            <a:off x="1752120" y="4561920"/>
            <a:ext cx="17420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6"/>
          <p:cNvSpPr>
            <a:spLocks noGrp="1"/>
          </p:cNvSpPr>
          <p:nvPr>
            <p:ph/>
          </p:nvPr>
        </p:nvSpPr>
        <p:spPr>
          <a:xfrm>
            <a:off x="3581640" y="4561920"/>
            <a:ext cx="17420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7"/>
          <p:cNvSpPr>
            <a:spLocks noGrp="1"/>
          </p:cNvSpPr>
          <p:nvPr>
            <p:ph/>
          </p:nvPr>
        </p:nvSpPr>
        <p:spPr>
          <a:xfrm>
            <a:off x="5411160" y="4561920"/>
            <a:ext cx="17420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205E881-6E59-4201-B13B-7E5104667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C0385-03CF-4C9A-9FD3-DEFF88FAB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 type="subTitle"/>
          </p:nvPr>
        </p:nvSpPr>
        <p:spPr>
          <a:xfrm>
            <a:off x="1752120" y="3566880"/>
            <a:ext cx="54104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0DA626F-7EF5-4270-8455-92C04AE0D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1752120" y="3566880"/>
            <a:ext cx="5410440" cy="19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F6189F9-1BEE-4C39-AD5E-E5E577C69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1752120" y="3566880"/>
            <a:ext cx="2640240" cy="19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524840" y="3566880"/>
            <a:ext cx="2640240" cy="19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D210E19-0C27-40D9-9FC7-3CB9A01BB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E9E9C08-9055-4A14-88B5-7A4970770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subTitle"/>
          </p:nvPr>
        </p:nvSpPr>
        <p:spPr>
          <a:xfrm>
            <a:off x="685800" y="856800"/>
            <a:ext cx="7772400" cy="105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0292CBF-8F62-48F3-A8E6-2CC1DEC1F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1752120" y="356688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524840" y="3566880"/>
            <a:ext cx="2640240" cy="19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1752120" y="456192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8B1D39B-9104-43BA-9721-76884943F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1752120" y="3566880"/>
            <a:ext cx="2640240" cy="19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524840" y="356688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4"/>
          <p:cNvSpPr>
            <a:spLocks noGrp="1"/>
          </p:cNvSpPr>
          <p:nvPr>
            <p:ph/>
          </p:nvPr>
        </p:nvSpPr>
        <p:spPr>
          <a:xfrm>
            <a:off x="4524840" y="456192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FC7A2AF-48C5-4AD1-886B-F108DD09C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1752120" y="356688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4524840" y="356688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/>
          </p:nvPr>
        </p:nvSpPr>
        <p:spPr>
          <a:xfrm>
            <a:off x="1752120" y="4561920"/>
            <a:ext cx="54104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BC3FC77-29AF-4D71-9B5D-9754589BA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1752120" y="3566880"/>
            <a:ext cx="54104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1752120" y="4561920"/>
            <a:ext cx="54104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8A0D4ED-32E8-4286-ACA7-65974688E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1752120" y="356688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524840" y="356688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1752120" y="456192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5"/>
          <p:cNvSpPr>
            <a:spLocks noGrp="1"/>
          </p:cNvSpPr>
          <p:nvPr>
            <p:ph/>
          </p:nvPr>
        </p:nvSpPr>
        <p:spPr>
          <a:xfrm>
            <a:off x="4524840" y="456192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4F6A07D-1E97-4428-8E40-1B0AAE652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856800"/>
            <a:ext cx="7772400" cy="105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78C13-6AF8-4656-93D2-9857B7D52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1752120" y="3566880"/>
            <a:ext cx="17420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3581640" y="3566880"/>
            <a:ext cx="17420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/>
          </p:nvPr>
        </p:nvSpPr>
        <p:spPr>
          <a:xfrm>
            <a:off x="5411160" y="3566880"/>
            <a:ext cx="17420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5"/>
          <p:cNvSpPr>
            <a:spLocks noGrp="1"/>
          </p:cNvSpPr>
          <p:nvPr>
            <p:ph/>
          </p:nvPr>
        </p:nvSpPr>
        <p:spPr>
          <a:xfrm>
            <a:off x="1752120" y="4561920"/>
            <a:ext cx="17420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6"/>
          <p:cNvSpPr>
            <a:spLocks noGrp="1"/>
          </p:cNvSpPr>
          <p:nvPr>
            <p:ph/>
          </p:nvPr>
        </p:nvSpPr>
        <p:spPr>
          <a:xfrm>
            <a:off x="3581640" y="4561920"/>
            <a:ext cx="17420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7"/>
          <p:cNvSpPr>
            <a:spLocks noGrp="1"/>
          </p:cNvSpPr>
          <p:nvPr>
            <p:ph/>
          </p:nvPr>
        </p:nvSpPr>
        <p:spPr>
          <a:xfrm>
            <a:off x="5411160" y="4561920"/>
            <a:ext cx="17420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BA21FF2-CD0D-4622-8EAA-7D7675381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91B75BA-9682-42A4-BF89-FA975F072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 type="subTitle"/>
          </p:nvPr>
        </p:nvSpPr>
        <p:spPr>
          <a:xfrm>
            <a:off x="1752120" y="3566880"/>
            <a:ext cx="54104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A043D4D-BF50-4760-9207-C6F7E267B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1752120" y="3566880"/>
            <a:ext cx="5410440" cy="19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A1D0CC8-86AB-4A33-9500-1C52C2A27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1752120" y="3566880"/>
            <a:ext cx="2640240" cy="19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4524840" y="3566880"/>
            <a:ext cx="2640240" cy="19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5C00CE0-6478-41C6-B93F-C4EC0BB2B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85A1219-A7D5-41C0-90E6-0B6412738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subTitle"/>
          </p:nvPr>
        </p:nvSpPr>
        <p:spPr>
          <a:xfrm>
            <a:off x="685800" y="856800"/>
            <a:ext cx="7772400" cy="105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C3DAD24-C023-4217-AA91-504FEF528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1752120" y="356688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4524840" y="3566880"/>
            <a:ext cx="2640240" cy="19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1752120" y="456192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98EF9A5-98C4-47F2-ADEA-A52DA28B2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1752120" y="3566880"/>
            <a:ext cx="2640240" cy="19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524840" y="356688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4524840" y="456192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40EC720-0843-4C90-83B7-EC21A00D4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1752120" y="356688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524840" y="356688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1752120" y="4561920"/>
            <a:ext cx="54104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62E9074-C781-4C9B-8D5B-A13E7A26D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752120" y="356688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24840" y="3566880"/>
            <a:ext cx="2640240" cy="19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752120" y="456192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726ED-525E-4EBC-A8D5-24376F619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1752120" y="3566880"/>
            <a:ext cx="54104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1752120" y="4561920"/>
            <a:ext cx="54104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F79E267-1EA6-4DF2-ADD0-226B45E90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1752120" y="356688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/>
          </p:nvPr>
        </p:nvSpPr>
        <p:spPr>
          <a:xfrm>
            <a:off x="4524840" y="356688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4"/>
          <p:cNvSpPr>
            <a:spLocks noGrp="1"/>
          </p:cNvSpPr>
          <p:nvPr>
            <p:ph/>
          </p:nvPr>
        </p:nvSpPr>
        <p:spPr>
          <a:xfrm>
            <a:off x="1752120" y="456192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5"/>
          <p:cNvSpPr>
            <a:spLocks noGrp="1"/>
          </p:cNvSpPr>
          <p:nvPr>
            <p:ph/>
          </p:nvPr>
        </p:nvSpPr>
        <p:spPr>
          <a:xfrm>
            <a:off x="4524840" y="456192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D0BBD96-CBE5-4CBD-9631-ABCE41CCD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1752120" y="3566880"/>
            <a:ext cx="17420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3581640" y="3566880"/>
            <a:ext cx="17420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/>
          </p:nvPr>
        </p:nvSpPr>
        <p:spPr>
          <a:xfrm>
            <a:off x="5411160" y="3566880"/>
            <a:ext cx="17420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5"/>
          <p:cNvSpPr>
            <a:spLocks noGrp="1"/>
          </p:cNvSpPr>
          <p:nvPr>
            <p:ph/>
          </p:nvPr>
        </p:nvSpPr>
        <p:spPr>
          <a:xfrm>
            <a:off x="1752120" y="4561920"/>
            <a:ext cx="17420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6"/>
          <p:cNvSpPr>
            <a:spLocks noGrp="1"/>
          </p:cNvSpPr>
          <p:nvPr>
            <p:ph/>
          </p:nvPr>
        </p:nvSpPr>
        <p:spPr>
          <a:xfrm>
            <a:off x="3581640" y="4561920"/>
            <a:ext cx="17420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7"/>
          <p:cNvSpPr>
            <a:spLocks noGrp="1"/>
          </p:cNvSpPr>
          <p:nvPr>
            <p:ph/>
          </p:nvPr>
        </p:nvSpPr>
        <p:spPr>
          <a:xfrm>
            <a:off x="5411160" y="4561920"/>
            <a:ext cx="17420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407AB10-7485-48BD-8B63-E3E66E885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48FAB2CD-89A0-4979-B192-64CAE0EE8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 type="subTitle"/>
          </p:nvPr>
        </p:nvSpPr>
        <p:spPr>
          <a:xfrm>
            <a:off x="1752120" y="3566880"/>
            <a:ext cx="54104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3AABD53A-395D-41F9-BF3B-FFC5F1051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1752120" y="3566880"/>
            <a:ext cx="5410440" cy="19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8583D0ED-2167-4BFB-81AF-9DC1DFA83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1752120" y="3566880"/>
            <a:ext cx="2640240" cy="19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524840" y="3566880"/>
            <a:ext cx="2640240" cy="19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6D51B01E-67FC-4DD2-A0EF-CF52FC697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5E361D90-5EA5-4A84-BDDB-C3553899C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subTitle"/>
          </p:nvPr>
        </p:nvSpPr>
        <p:spPr>
          <a:xfrm>
            <a:off x="685800" y="856800"/>
            <a:ext cx="7772400" cy="105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484CE3B8-F4B3-476A-84F3-7D27F591E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1752120" y="356688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4524840" y="3566880"/>
            <a:ext cx="2640240" cy="19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1752120" y="456192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E1E48361-B1FF-4E2F-8117-19E36299E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752120" y="3566880"/>
            <a:ext cx="54104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C856B-49A6-41E2-922A-FEB47F5DC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752120" y="3566880"/>
            <a:ext cx="2640240" cy="19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24840" y="356688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24840" y="456192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6439C-5713-4C6C-BC9B-9A8514E3F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1752120" y="3566880"/>
            <a:ext cx="2640240" cy="19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/>
          </p:nvPr>
        </p:nvSpPr>
        <p:spPr>
          <a:xfrm>
            <a:off x="4524840" y="356688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PlaceHolder 4"/>
          <p:cNvSpPr>
            <a:spLocks noGrp="1"/>
          </p:cNvSpPr>
          <p:nvPr>
            <p:ph/>
          </p:nvPr>
        </p:nvSpPr>
        <p:spPr>
          <a:xfrm>
            <a:off x="4524840" y="456192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D0AD6DDC-60C7-4A18-8F97-5FE2B86F6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1752120" y="356688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4524840" y="356688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PlaceHolder 4"/>
          <p:cNvSpPr>
            <a:spLocks noGrp="1"/>
          </p:cNvSpPr>
          <p:nvPr>
            <p:ph/>
          </p:nvPr>
        </p:nvSpPr>
        <p:spPr>
          <a:xfrm>
            <a:off x="1752120" y="4561920"/>
            <a:ext cx="54104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33D8239D-BE8C-41E6-8CB2-F84D7ECCF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1752120" y="3566880"/>
            <a:ext cx="54104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PlaceHolder 3"/>
          <p:cNvSpPr>
            <a:spLocks noGrp="1"/>
          </p:cNvSpPr>
          <p:nvPr>
            <p:ph/>
          </p:nvPr>
        </p:nvSpPr>
        <p:spPr>
          <a:xfrm>
            <a:off x="1752120" y="4561920"/>
            <a:ext cx="54104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420746FD-691C-42C2-B0D3-E6691B532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1752120" y="356688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4524840" y="356688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/>
          </p:nvPr>
        </p:nvSpPr>
        <p:spPr>
          <a:xfrm>
            <a:off x="1752120" y="456192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PlaceHolder 5"/>
          <p:cNvSpPr>
            <a:spLocks noGrp="1"/>
          </p:cNvSpPr>
          <p:nvPr>
            <p:ph/>
          </p:nvPr>
        </p:nvSpPr>
        <p:spPr>
          <a:xfrm>
            <a:off x="4524840" y="456192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2B978533-DC5D-4300-B3D2-A77F00D90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1752120" y="3566880"/>
            <a:ext cx="17420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PlaceHolder 3"/>
          <p:cNvSpPr>
            <a:spLocks noGrp="1"/>
          </p:cNvSpPr>
          <p:nvPr>
            <p:ph/>
          </p:nvPr>
        </p:nvSpPr>
        <p:spPr>
          <a:xfrm>
            <a:off x="3581640" y="3566880"/>
            <a:ext cx="17420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PlaceHolder 4"/>
          <p:cNvSpPr>
            <a:spLocks noGrp="1"/>
          </p:cNvSpPr>
          <p:nvPr>
            <p:ph/>
          </p:nvPr>
        </p:nvSpPr>
        <p:spPr>
          <a:xfrm>
            <a:off x="5411160" y="3566880"/>
            <a:ext cx="17420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PlaceHolder 5"/>
          <p:cNvSpPr>
            <a:spLocks noGrp="1"/>
          </p:cNvSpPr>
          <p:nvPr>
            <p:ph/>
          </p:nvPr>
        </p:nvSpPr>
        <p:spPr>
          <a:xfrm>
            <a:off x="1752120" y="4561920"/>
            <a:ext cx="17420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PlaceHolder 6"/>
          <p:cNvSpPr>
            <a:spLocks noGrp="1"/>
          </p:cNvSpPr>
          <p:nvPr>
            <p:ph/>
          </p:nvPr>
        </p:nvSpPr>
        <p:spPr>
          <a:xfrm>
            <a:off x="3581640" y="4561920"/>
            <a:ext cx="17420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PlaceHolder 7"/>
          <p:cNvSpPr>
            <a:spLocks noGrp="1"/>
          </p:cNvSpPr>
          <p:nvPr>
            <p:ph/>
          </p:nvPr>
        </p:nvSpPr>
        <p:spPr>
          <a:xfrm>
            <a:off x="5411160" y="4561920"/>
            <a:ext cx="17420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DCDE7C40-6E6C-4547-BFD4-57D1DA821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E0EEFDFA-DB52-4121-A163-AF0A4F964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 type="subTitle"/>
          </p:nvPr>
        </p:nvSpPr>
        <p:spPr>
          <a:xfrm>
            <a:off x="1752120" y="3566880"/>
            <a:ext cx="54104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235C0DA2-D694-4B57-B507-69150F7F1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1752120" y="3566880"/>
            <a:ext cx="5410440" cy="19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C909B20A-D7EB-438F-A56D-8E188506C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1752120" y="3566880"/>
            <a:ext cx="2640240" cy="19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4524840" y="3566880"/>
            <a:ext cx="2640240" cy="19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ABFC110F-72FB-45B7-AACA-8342DE5CD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1FC62643-F21F-43B8-98EA-4ADE8F22B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752120" y="356688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24840" y="356688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752120" y="4561920"/>
            <a:ext cx="54104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97D0C-A610-4C13-B2FF-5298DAE7D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subTitle"/>
          </p:nvPr>
        </p:nvSpPr>
        <p:spPr>
          <a:xfrm>
            <a:off x="685800" y="856800"/>
            <a:ext cx="7772400" cy="105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ACC7BED0-79A3-4D0E-BD2A-AC911A1A8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/>
          </p:nvPr>
        </p:nvSpPr>
        <p:spPr>
          <a:xfrm>
            <a:off x="1752120" y="356688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PlaceHolder 3"/>
          <p:cNvSpPr>
            <a:spLocks noGrp="1"/>
          </p:cNvSpPr>
          <p:nvPr>
            <p:ph/>
          </p:nvPr>
        </p:nvSpPr>
        <p:spPr>
          <a:xfrm>
            <a:off x="4524840" y="3566880"/>
            <a:ext cx="2640240" cy="19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PlaceHolder 4"/>
          <p:cNvSpPr>
            <a:spLocks noGrp="1"/>
          </p:cNvSpPr>
          <p:nvPr>
            <p:ph/>
          </p:nvPr>
        </p:nvSpPr>
        <p:spPr>
          <a:xfrm>
            <a:off x="1752120" y="456192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28C83FC6-2744-4CF4-868F-D87EE137A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/>
          </p:nvPr>
        </p:nvSpPr>
        <p:spPr>
          <a:xfrm>
            <a:off x="1752120" y="3566880"/>
            <a:ext cx="2640240" cy="19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PlaceHolder 3"/>
          <p:cNvSpPr>
            <a:spLocks noGrp="1"/>
          </p:cNvSpPr>
          <p:nvPr>
            <p:ph/>
          </p:nvPr>
        </p:nvSpPr>
        <p:spPr>
          <a:xfrm>
            <a:off x="4524840" y="356688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PlaceHolder 4"/>
          <p:cNvSpPr>
            <a:spLocks noGrp="1"/>
          </p:cNvSpPr>
          <p:nvPr>
            <p:ph/>
          </p:nvPr>
        </p:nvSpPr>
        <p:spPr>
          <a:xfrm>
            <a:off x="4524840" y="456192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92ECC0FF-F41F-446E-B2F7-1E135197F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1106" name="PlaceHolder 2"/>
          <p:cNvSpPr>
            <a:spLocks noGrp="1"/>
          </p:cNvSpPr>
          <p:nvPr>
            <p:ph/>
          </p:nvPr>
        </p:nvSpPr>
        <p:spPr>
          <a:xfrm>
            <a:off x="1752120" y="356688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PlaceHolder 3"/>
          <p:cNvSpPr>
            <a:spLocks noGrp="1"/>
          </p:cNvSpPr>
          <p:nvPr>
            <p:ph/>
          </p:nvPr>
        </p:nvSpPr>
        <p:spPr>
          <a:xfrm>
            <a:off x="4524840" y="356688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PlaceHolder 4"/>
          <p:cNvSpPr>
            <a:spLocks noGrp="1"/>
          </p:cNvSpPr>
          <p:nvPr>
            <p:ph/>
          </p:nvPr>
        </p:nvSpPr>
        <p:spPr>
          <a:xfrm>
            <a:off x="1752120" y="4561920"/>
            <a:ext cx="54104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1E905599-F739-4023-A35B-E7FC0B7F1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1110" name="PlaceHolder 2"/>
          <p:cNvSpPr>
            <a:spLocks noGrp="1"/>
          </p:cNvSpPr>
          <p:nvPr>
            <p:ph/>
          </p:nvPr>
        </p:nvSpPr>
        <p:spPr>
          <a:xfrm>
            <a:off x="1752120" y="3566880"/>
            <a:ext cx="54104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PlaceHolder 3"/>
          <p:cNvSpPr>
            <a:spLocks noGrp="1"/>
          </p:cNvSpPr>
          <p:nvPr>
            <p:ph/>
          </p:nvPr>
        </p:nvSpPr>
        <p:spPr>
          <a:xfrm>
            <a:off x="1752120" y="4561920"/>
            <a:ext cx="54104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3D3EDC1C-570E-4CBA-9815-5231A36BC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/>
          </p:nvPr>
        </p:nvSpPr>
        <p:spPr>
          <a:xfrm>
            <a:off x="1752120" y="356688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PlaceHolder 3"/>
          <p:cNvSpPr>
            <a:spLocks noGrp="1"/>
          </p:cNvSpPr>
          <p:nvPr>
            <p:ph/>
          </p:nvPr>
        </p:nvSpPr>
        <p:spPr>
          <a:xfrm>
            <a:off x="4524840" y="356688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PlaceHolder 4"/>
          <p:cNvSpPr>
            <a:spLocks noGrp="1"/>
          </p:cNvSpPr>
          <p:nvPr>
            <p:ph/>
          </p:nvPr>
        </p:nvSpPr>
        <p:spPr>
          <a:xfrm>
            <a:off x="1752120" y="456192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PlaceHolder 5"/>
          <p:cNvSpPr>
            <a:spLocks noGrp="1"/>
          </p:cNvSpPr>
          <p:nvPr>
            <p:ph/>
          </p:nvPr>
        </p:nvSpPr>
        <p:spPr>
          <a:xfrm>
            <a:off x="4524840" y="456192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43093F78-DC02-4F18-8623-F7EC46CA0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1118" name="PlaceHolder 2"/>
          <p:cNvSpPr>
            <a:spLocks noGrp="1"/>
          </p:cNvSpPr>
          <p:nvPr>
            <p:ph/>
          </p:nvPr>
        </p:nvSpPr>
        <p:spPr>
          <a:xfrm>
            <a:off x="1752120" y="3566880"/>
            <a:ext cx="17420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PlaceHolder 3"/>
          <p:cNvSpPr>
            <a:spLocks noGrp="1"/>
          </p:cNvSpPr>
          <p:nvPr>
            <p:ph/>
          </p:nvPr>
        </p:nvSpPr>
        <p:spPr>
          <a:xfrm>
            <a:off x="3581640" y="3566880"/>
            <a:ext cx="17420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PlaceHolder 4"/>
          <p:cNvSpPr>
            <a:spLocks noGrp="1"/>
          </p:cNvSpPr>
          <p:nvPr>
            <p:ph/>
          </p:nvPr>
        </p:nvSpPr>
        <p:spPr>
          <a:xfrm>
            <a:off x="5411160" y="3566880"/>
            <a:ext cx="17420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PlaceHolder 5"/>
          <p:cNvSpPr>
            <a:spLocks noGrp="1"/>
          </p:cNvSpPr>
          <p:nvPr>
            <p:ph/>
          </p:nvPr>
        </p:nvSpPr>
        <p:spPr>
          <a:xfrm>
            <a:off x="1752120" y="4561920"/>
            <a:ext cx="17420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PlaceHolder 6"/>
          <p:cNvSpPr>
            <a:spLocks noGrp="1"/>
          </p:cNvSpPr>
          <p:nvPr>
            <p:ph/>
          </p:nvPr>
        </p:nvSpPr>
        <p:spPr>
          <a:xfrm>
            <a:off x="3581640" y="4561920"/>
            <a:ext cx="17420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PlaceHolder 7"/>
          <p:cNvSpPr>
            <a:spLocks noGrp="1"/>
          </p:cNvSpPr>
          <p:nvPr>
            <p:ph/>
          </p:nvPr>
        </p:nvSpPr>
        <p:spPr>
          <a:xfrm>
            <a:off x="5411160" y="4561920"/>
            <a:ext cx="17420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545E172E-E651-4FE1-A338-FBD7E7618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260BC157-2A04-40D2-A4F0-648BFAA6B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 type="subTitle"/>
          </p:nvPr>
        </p:nvSpPr>
        <p:spPr>
          <a:xfrm>
            <a:off x="1752120" y="3566880"/>
            <a:ext cx="54104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06191E20-0DAD-409C-AACF-700CB170C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/>
          </p:nvPr>
        </p:nvSpPr>
        <p:spPr>
          <a:xfrm>
            <a:off x="1752120" y="3566880"/>
            <a:ext cx="5410440" cy="19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972174AD-B9E7-4DBF-9D98-E907AE49E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752120" y="3566880"/>
            <a:ext cx="54104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752120" y="4561920"/>
            <a:ext cx="54104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75DC7-508B-4867-ACF1-DDE83027A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1752120" y="3566880"/>
            <a:ext cx="2640240" cy="19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PlaceHolder 3"/>
          <p:cNvSpPr>
            <a:spLocks noGrp="1"/>
          </p:cNvSpPr>
          <p:nvPr>
            <p:ph/>
          </p:nvPr>
        </p:nvSpPr>
        <p:spPr>
          <a:xfrm>
            <a:off x="4524840" y="3566880"/>
            <a:ext cx="2640240" cy="19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7FCBFB67-5A26-4BF2-9C3A-D5A6702C1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285312C6-AA75-4D5F-8E5A-08E736D19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subTitle"/>
          </p:nvPr>
        </p:nvSpPr>
        <p:spPr>
          <a:xfrm>
            <a:off x="685800" y="856800"/>
            <a:ext cx="7772400" cy="105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4F2F1C84-D756-4445-A67B-AF76822F3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1752120" y="356688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PlaceHolder 3"/>
          <p:cNvSpPr>
            <a:spLocks noGrp="1"/>
          </p:cNvSpPr>
          <p:nvPr>
            <p:ph/>
          </p:nvPr>
        </p:nvSpPr>
        <p:spPr>
          <a:xfrm>
            <a:off x="4524840" y="3566880"/>
            <a:ext cx="2640240" cy="19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PlaceHolder 4"/>
          <p:cNvSpPr>
            <a:spLocks noGrp="1"/>
          </p:cNvSpPr>
          <p:nvPr>
            <p:ph/>
          </p:nvPr>
        </p:nvSpPr>
        <p:spPr>
          <a:xfrm>
            <a:off x="1752120" y="456192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81029738-B060-40B5-B4D8-89829257F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1146" name="PlaceHolder 2"/>
          <p:cNvSpPr>
            <a:spLocks noGrp="1"/>
          </p:cNvSpPr>
          <p:nvPr>
            <p:ph/>
          </p:nvPr>
        </p:nvSpPr>
        <p:spPr>
          <a:xfrm>
            <a:off x="1752120" y="3566880"/>
            <a:ext cx="2640240" cy="19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PlaceHolder 3"/>
          <p:cNvSpPr>
            <a:spLocks noGrp="1"/>
          </p:cNvSpPr>
          <p:nvPr>
            <p:ph/>
          </p:nvPr>
        </p:nvSpPr>
        <p:spPr>
          <a:xfrm>
            <a:off x="4524840" y="356688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PlaceHolder 4"/>
          <p:cNvSpPr>
            <a:spLocks noGrp="1"/>
          </p:cNvSpPr>
          <p:nvPr>
            <p:ph/>
          </p:nvPr>
        </p:nvSpPr>
        <p:spPr>
          <a:xfrm>
            <a:off x="4524840" y="456192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B1F705D3-F688-407E-8517-7C49463C8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1752120" y="356688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4524840" y="356688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4"/>
          <p:cNvSpPr>
            <a:spLocks noGrp="1"/>
          </p:cNvSpPr>
          <p:nvPr>
            <p:ph/>
          </p:nvPr>
        </p:nvSpPr>
        <p:spPr>
          <a:xfrm>
            <a:off x="1752120" y="4561920"/>
            <a:ext cx="54104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320F9960-9F4F-4875-BE6B-01E93B689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1752120" y="3566880"/>
            <a:ext cx="54104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1752120" y="4561920"/>
            <a:ext cx="54104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A1190592-33AC-4FAA-96A6-21408946F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1752120" y="356688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PlaceHolder 3"/>
          <p:cNvSpPr>
            <a:spLocks noGrp="1"/>
          </p:cNvSpPr>
          <p:nvPr>
            <p:ph/>
          </p:nvPr>
        </p:nvSpPr>
        <p:spPr>
          <a:xfrm>
            <a:off x="4524840" y="356688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PlaceHolder 4"/>
          <p:cNvSpPr>
            <a:spLocks noGrp="1"/>
          </p:cNvSpPr>
          <p:nvPr>
            <p:ph/>
          </p:nvPr>
        </p:nvSpPr>
        <p:spPr>
          <a:xfrm>
            <a:off x="1752120" y="456192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PlaceHolder 5"/>
          <p:cNvSpPr>
            <a:spLocks noGrp="1"/>
          </p:cNvSpPr>
          <p:nvPr>
            <p:ph/>
          </p:nvPr>
        </p:nvSpPr>
        <p:spPr>
          <a:xfrm>
            <a:off x="4524840" y="456192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BC484633-822A-4379-BFF3-4630DC849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1752120" y="3566880"/>
            <a:ext cx="17420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3581640" y="3566880"/>
            <a:ext cx="17420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PlaceHolder 4"/>
          <p:cNvSpPr>
            <a:spLocks noGrp="1"/>
          </p:cNvSpPr>
          <p:nvPr>
            <p:ph/>
          </p:nvPr>
        </p:nvSpPr>
        <p:spPr>
          <a:xfrm>
            <a:off x="5411160" y="3566880"/>
            <a:ext cx="17420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PlaceHolder 5"/>
          <p:cNvSpPr>
            <a:spLocks noGrp="1"/>
          </p:cNvSpPr>
          <p:nvPr>
            <p:ph/>
          </p:nvPr>
        </p:nvSpPr>
        <p:spPr>
          <a:xfrm>
            <a:off x="1752120" y="4561920"/>
            <a:ext cx="17420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PlaceHolder 6"/>
          <p:cNvSpPr>
            <a:spLocks noGrp="1"/>
          </p:cNvSpPr>
          <p:nvPr>
            <p:ph/>
          </p:nvPr>
        </p:nvSpPr>
        <p:spPr>
          <a:xfrm>
            <a:off x="3581640" y="4561920"/>
            <a:ext cx="17420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PlaceHolder 7"/>
          <p:cNvSpPr>
            <a:spLocks noGrp="1"/>
          </p:cNvSpPr>
          <p:nvPr>
            <p:ph/>
          </p:nvPr>
        </p:nvSpPr>
        <p:spPr>
          <a:xfrm>
            <a:off x="5411160" y="4561920"/>
            <a:ext cx="17420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D7B6F301-DBED-445D-9856-844E6A38A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1FE40257-6F86-4F0C-A7A8-B510CAE5B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752120" y="356688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24840" y="356688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752120" y="456192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24840" y="456192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9F722-9C52-492D-AA38-DFD9C01BF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 type="subTitle"/>
          </p:nvPr>
        </p:nvSpPr>
        <p:spPr>
          <a:xfrm>
            <a:off x="1752120" y="3566880"/>
            <a:ext cx="54104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616F398D-B6DF-4C14-AE82-50E8C2774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1752120" y="3566880"/>
            <a:ext cx="5410440" cy="19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FFB5F420-41C6-4617-BBF0-6D289C34B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/>
          </p:nvPr>
        </p:nvSpPr>
        <p:spPr>
          <a:xfrm>
            <a:off x="1752120" y="3566880"/>
            <a:ext cx="2640240" cy="19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PlaceHolder 3"/>
          <p:cNvSpPr>
            <a:spLocks noGrp="1"/>
          </p:cNvSpPr>
          <p:nvPr>
            <p:ph/>
          </p:nvPr>
        </p:nvSpPr>
        <p:spPr>
          <a:xfrm>
            <a:off x="4524840" y="3566880"/>
            <a:ext cx="2640240" cy="19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C3A8B8E4-85BD-4DA1-BF64-89ED3904E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C47AD3E7-F77A-43C4-ABA2-B0C34599B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PlaceHolder 1"/>
          <p:cNvSpPr>
            <a:spLocks noGrp="1"/>
          </p:cNvSpPr>
          <p:nvPr>
            <p:ph type="subTitle"/>
          </p:nvPr>
        </p:nvSpPr>
        <p:spPr>
          <a:xfrm>
            <a:off x="685800" y="856800"/>
            <a:ext cx="7772400" cy="105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06D1DBD5-66D0-4553-B854-9027254AE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/>
          </p:nvPr>
        </p:nvSpPr>
        <p:spPr>
          <a:xfrm>
            <a:off x="1752120" y="356688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PlaceHolder 3"/>
          <p:cNvSpPr>
            <a:spLocks noGrp="1"/>
          </p:cNvSpPr>
          <p:nvPr>
            <p:ph/>
          </p:nvPr>
        </p:nvSpPr>
        <p:spPr>
          <a:xfrm>
            <a:off x="4524840" y="3566880"/>
            <a:ext cx="2640240" cy="19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PlaceHolder 4"/>
          <p:cNvSpPr>
            <a:spLocks noGrp="1"/>
          </p:cNvSpPr>
          <p:nvPr>
            <p:ph/>
          </p:nvPr>
        </p:nvSpPr>
        <p:spPr>
          <a:xfrm>
            <a:off x="1752120" y="456192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6AEE74CA-D78F-4753-B27F-A0258C2B2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1752120" y="3566880"/>
            <a:ext cx="2640240" cy="19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PlaceHolder 3"/>
          <p:cNvSpPr>
            <a:spLocks noGrp="1"/>
          </p:cNvSpPr>
          <p:nvPr>
            <p:ph/>
          </p:nvPr>
        </p:nvSpPr>
        <p:spPr>
          <a:xfrm>
            <a:off x="4524840" y="356688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PlaceHolder 4"/>
          <p:cNvSpPr>
            <a:spLocks noGrp="1"/>
          </p:cNvSpPr>
          <p:nvPr>
            <p:ph/>
          </p:nvPr>
        </p:nvSpPr>
        <p:spPr>
          <a:xfrm>
            <a:off x="4524840" y="456192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432C0EB0-ED3E-4369-BDD9-CBF850A2A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1191" name="PlaceHolder 2"/>
          <p:cNvSpPr>
            <a:spLocks noGrp="1"/>
          </p:cNvSpPr>
          <p:nvPr>
            <p:ph/>
          </p:nvPr>
        </p:nvSpPr>
        <p:spPr>
          <a:xfrm>
            <a:off x="1752120" y="356688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PlaceHolder 3"/>
          <p:cNvSpPr>
            <a:spLocks noGrp="1"/>
          </p:cNvSpPr>
          <p:nvPr>
            <p:ph/>
          </p:nvPr>
        </p:nvSpPr>
        <p:spPr>
          <a:xfrm>
            <a:off x="4524840" y="356688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PlaceHolder 4"/>
          <p:cNvSpPr>
            <a:spLocks noGrp="1"/>
          </p:cNvSpPr>
          <p:nvPr>
            <p:ph/>
          </p:nvPr>
        </p:nvSpPr>
        <p:spPr>
          <a:xfrm>
            <a:off x="1752120" y="4561920"/>
            <a:ext cx="54104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1029A2EB-85BD-427D-89E2-1BDAF03C6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/>
          </p:nvPr>
        </p:nvSpPr>
        <p:spPr>
          <a:xfrm>
            <a:off x="1752120" y="3566880"/>
            <a:ext cx="54104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PlaceHolder 3"/>
          <p:cNvSpPr>
            <a:spLocks noGrp="1"/>
          </p:cNvSpPr>
          <p:nvPr>
            <p:ph/>
          </p:nvPr>
        </p:nvSpPr>
        <p:spPr>
          <a:xfrm>
            <a:off x="1752120" y="4561920"/>
            <a:ext cx="54104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97B00E1F-A801-4F0D-9820-70F2E68D1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1198" name="PlaceHolder 2"/>
          <p:cNvSpPr>
            <a:spLocks noGrp="1"/>
          </p:cNvSpPr>
          <p:nvPr>
            <p:ph/>
          </p:nvPr>
        </p:nvSpPr>
        <p:spPr>
          <a:xfrm>
            <a:off x="1752120" y="356688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PlaceHolder 3"/>
          <p:cNvSpPr>
            <a:spLocks noGrp="1"/>
          </p:cNvSpPr>
          <p:nvPr>
            <p:ph/>
          </p:nvPr>
        </p:nvSpPr>
        <p:spPr>
          <a:xfrm>
            <a:off x="4524840" y="356688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PlaceHolder 4"/>
          <p:cNvSpPr>
            <a:spLocks noGrp="1"/>
          </p:cNvSpPr>
          <p:nvPr>
            <p:ph/>
          </p:nvPr>
        </p:nvSpPr>
        <p:spPr>
          <a:xfrm>
            <a:off x="1752120" y="456192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PlaceHolder 5"/>
          <p:cNvSpPr>
            <a:spLocks noGrp="1"/>
          </p:cNvSpPr>
          <p:nvPr>
            <p:ph/>
          </p:nvPr>
        </p:nvSpPr>
        <p:spPr>
          <a:xfrm>
            <a:off x="4524840" y="456192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16FBDE88-5DD4-4FEB-A86E-C4C4D8595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752120" y="3566880"/>
            <a:ext cx="17420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81640" y="3566880"/>
            <a:ext cx="17420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411160" y="3566880"/>
            <a:ext cx="17420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752120" y="4561920"/>
            <a:ext cx="17420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581640" y="4561920"/>
            <a:ext cx="17420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411160" y="4561920"/>
            <a:ext cx="17420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79290-CA0E-4A02-8E6C-B84861B56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/>
          </p:nvPr>
        </p:nvSpPr>
        <p:spPr>
          <a:xfrm>
            <a:off x="1752120" y="3566880"/>
            <a:ext cx="17420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PlaceHolder 3"/>
          <p:cNvSpPr>
            <a:spLocks noGrp="1"/>
          </p:cNvSpPr>
          <p:nvPr>
            <p:ph/>
          </p:nvPr>
        </p:nvSpPr>
        <p:spPr>
          <a:xfrm>
            <a:off x="3581640" y="3566880"/>
            <a:ext cx="17420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PlaceHolder 4"/>
          <p:cNvSpPr>
            <a:spLocks noGrp="1"/>
          </p:cNvSpPr>
          <p:nvPr>
            <p:ph/>
          </p:nvPr>
        </p:nvSpPr>
        <p:spPr>
          <a:xfrm>
            <a:off x="5411160" y="3566880"/>
            <a:ext cx="17420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PlaceHolder 5"/>
          <p:cNvSpPr>
            <a:spLocks noGrp="1"/>
          </p:cNvSpPr>
          <p:nvPr>
            <p:ph/>
          </p:nvPr>
        </p:nvSpPr>
        <p:spPr>
          <a:xfrm>
            <a:off x="1752120" y="4561920"/>
            <a:ext cx="17420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PlaceHolder 6"/>
          <p:cNvSpPr>
            <a:spLocks noGrp="1"/>
          </p:cNvSpPr>
          <p:nvPr>
            <p:ph/>
          </p:nvPr>
        </p:nvSpPr>
        <p:spPr>
          <a:xfrm>
            <a:off x="3581640" y="4561920"/>
            <a:ext cx="17420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PlaceHolder 7"/>
          <p:cNvSpPr>
            <a:spLocks noGrp="1"/>
          </p:cNvSpPr>
          <p:nvPr>
            <p:ph/>
          </p:nvPr>
        </p:nvSpPr>
        <p:spPr>
          <a:xfrm>
            <a:off x="5411160" y="4561920"/>
            <a:ext cx="17420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4D720612-521A-47E0-B073-B395B5CBA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92645EC-05D9-460B-8CDE-BF9E8C50A10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752120" y="3566880"/>
            <a:ext cx="54104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6460CFB-BB4C-43FB-A739-2BA185AA23B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752120" y="3566880"/>
            <a:ext cx="5410440" cy="19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BD36965-FC76-4EAF-A684-9531ECAE5CC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752120" y="3566880"/>
            <a:ext cx="2640240" cy="19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24840" y="3566880"/>
            <a:ext cx="2640240" cy="19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6DCA6E5-A85D-4F53-AAC9-1026BE671AC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014ABE8-27C7-46E1-B1BA-365B0BC44D7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752120" y="3566880"/>
            <a:ext cx="5410440" cy="19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7BCF5-FBAC-4D05-A5E9-8C01B9A1E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685800" y="856800"/>
            <a:ext cx="7772400" cy="105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0D39994-3419-4207-9D29-DD410B3F36A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752120" y="356688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24840" y="3566880"/>
            <a:ext cx="2640240" cy="19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752120" y="456192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4BEEEA1-02C9-4392-95AE-0BA4655972D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752120" y="3566880"/>
            <a:ext cx="2640240" cy="19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24840" y="356688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24840" y="456192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AEC9C84-DE2C-4941-869A-8033D3A4854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752120" y="356688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524840" y="356688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752120" y="4561920"/>
            <a:ext cx="54104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C044BAB-56FC-4A9B-9C85-99EB95F8CF9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752120" y="3566880"/>
            <a:ext cx="54104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1752120" y="4561920"/>
            <a:ext cx="54104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829ED34-37DE-4D3B-9748-9E192EE5515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752120" y="356688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24840" y="356688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1752120" y="456192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24840" y="456192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B598ECA-9D42-45F7-9CD4-DE82696D0A1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752120" y="3566880"/>
            <a:ext cx="17420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581640" y="3566880"/>
            <a:ext cx="17420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5411160" y="3566880"/>
            <a:ext cx="17420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1752120" y="4561920"/>
            <a:ext cx="17420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581640" y="4561920"/>
            <a:ext cx="17420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5411160" y="4561920"/>
            <a:ext cx="17420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7812E46-3B27-480B-8EF2-5A10AA37C62F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507C446-E052-44A4-8062-EE05172BAA92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1752120" y="3566880"/>
            <a:ext cx="54104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51376E-3E2B-4C64-B45C-6A0B1C864491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752120" y="3566880"/>
            <a:ext cx="5410440" cy="19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35CE377-BC55-4689-A16C-A2418D0AC1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752120" y="3566880"/>
            <a:ext cx="2640240" cy="19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24840" y="3566880"/>
            <a:ext cx="2640240" cy="19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92D75-0475-4CE2-B51A-B93B73069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752120" y="3566880"/>
            <a:ext cx="2640240" cy="19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524840" y="3566880"/>
            <a:ext cx="2640240" cy="19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018CA32-1BA5-4AD1-BA25-C7A8CAF302B1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DE2ACEC-8B09-4DF0-9528-180F65D7082C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685800" y="856800"/>
            <a:ext cx="7772400" cy="105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CA67EDB-31E0-4D49-B905-D3BAFCC43EC9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752120" y="356688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24840" y="3566880"/>
            <a:ext cx="2640240" cy="19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1752120" y="456192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5314750-C8E7-4794-B935-46F2C5D1C57A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752120" y="3566880"/>
            <a:ext cx="2640240" cy="19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524840" y="356688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24840" y="456192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0B7B2FA-EAAA-4F1A-B3D0-B89347C9A644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752120" y="356688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524840" y="356688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1752120" y="4561920"/>
            <a:ext cx="54104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AFB4BC8-E360-441B-88E4-4DCEC15EFDC5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752120" y="3566880"/>
            <a:ext cx="54104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1752120" y="4561920"/>
            <a:ext cx="54104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0CB1B10-6A6A-490C-ADC9-B5F2F6B563DB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752120" y="356688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24840" y="356688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1752120" y="456192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524840" y="456192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7CEA4CC-1B8E-4474-8385-40C0334EF10E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752120" y="3566880"/>
            <a:ext cx="17420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3581640" y="3566880"/>
            <a:ext cx="17420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5411160" y="3566880"/>
            <a:ext cx="17420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1752120" y="4561920"/>
            <a:ext cx="17420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6"/>
          <p:cNvSpPr>
            <a:spLocks noGrp="1"/>
          </p:cNvSpPr>
          <p:nvPr>
            <p:ph/>
          </p:nvPr>
        </p:nvSpPr>
        <p:spPr>
          <a:xfrm>
            <a:off x="3581640" y="4561920"/>
            <a:ext cx="17420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7"/>
          <p:cNvSpPr>
            <a:spLocks noGrp="1"/>
          </p:cNvSpPr>
          <p:nvPr>
            <p:ph/>
          </p:nvPr>
        </p:nvSpPr>
        <p:spPr>
          <a:xfrm>
            <a:off x="5411160" y="4561920"/>
            <a:ext cx="17420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A5E642D-3E63-4DDF-A0BC-60263859165B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648190C-E227-4311-9051-2F3B4381F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0F733-382F-494D-A713-45B45CE4E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1752120" y="3566880"/>
            <a:ext cx="54104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5A4127A-F581-4B06-8792-611BEDBE6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752120" y="3566880"/>
            <a:ext cx="5410440" cy="19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E9473AD-810D-4FD4-8E95-51C55B116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752120" y="3566880"/>
            <a:ext cx="2640240" cy="19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524840" y="3566880"/>
            <a:ext cx="2640240" cy="19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465458C-61CB-411E-8668-4E79ED789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3ECB81C-D26C-4B22-AA47-D8776F3BD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685800" y="856800"/>
            <a:ext cx="7772400" cy="105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265EB65-AD9D-4E9F-9BB0-AB3B1D100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752120" y="356688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24840" y="3566880"/>
            <a:ext cx="2640240" cy="19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1752120" y="456192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0DCEC27-536F-40FF-A5C8-0085F51BD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752120" y="3566880"/>
            <a:ext cx="2640240" cy="19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24840" y="356688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24840" y="456192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90C4F03-54A4-436F-80A4-FBADB8014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752120" y="356688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524840" y="356688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1752120" y="4561920"/>
            <a:ext cx="54104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6355692-8AFA-4BF2-9A57-1835759C1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752120" y="3566880"/>
            <a:ext cx="54104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1752120" y="4561920"/>
            <a:ext cx="54104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5A3D4FD-6E83-4ECC-910B-1DC77D99D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752120" y="356688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524840" y="356688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1752120" y="456192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524840" y="456192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CB9EE29-700C-4DFB-AEAE-A2371FFED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856800"/>
            <a:ext cx="7772400" cy="105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274C9-FF72-4C08-854F-B214BE868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752120" y="3566880"/>
            <a:ext cx="17420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581640" y="3566880"/>
            <a:ext cx="17420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5411160" y="3566880"/>
            <a:ext cx="17420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1752120" y="4561920"/>
            <a:ext cx="17420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581640" y="4561920"/>
            <a:ext cx="17420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5411160" y="4561920"/>
            <a:ext cx="17420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8E95300-4CE7-4BB3-B3CB-27D9EDA4C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1AE4D34-35F6-458F-8153-139C21534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subTitle"/>
          </p:nvPr>
        </p:nvSpPr>
        <p:spPr>
          <a:xfrm>
            <a:off x="1752120" y="3566880"/>
            <a:ext cx="54104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F611BBA-C295-4D98-8876-648EE9070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752120" y="3566880"/>
            <a:ext cx="5410440" cy="19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45108AA-6BFB-43D3-84E6-0859DBEF3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752120" y="3566880"/>
            <a:ext cx="2640240" cy="19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24840" y="3566880"/>
            <a:ext cx="2640240" cy="19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7685FC4-F74B-4F7D-8267-0CE124185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A3AE059-B88D-4ABF-AF68-E3DC3B1FB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ubTitle"/>
          </p:nvPr>
        </p:nvSpPr>
        <p:spPr>
          <a:xfrm>
            <a:off x="685800" y="856800"/>
            <a:ext cx="7772400" cy="105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470711C-D732-43F5-AC10-C804EFBF9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752120" y="356688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24840" y="3566880"/>
            <a:ext cx="2640240" cy="19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1752120" y="456192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1C14C47-2747-45AD-8AD1-8DF910101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752120" y="3566880"/>
            <a:ext cx="2640240" cy="19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524840" y="356688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24840" y="456192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4475AC2-C611-48C3-8FC0-D809FC48D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752120" y="356688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24840" y="356688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1752120" y="4561920"/>
            <a:ext cx="54104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2E2DE08-D0A4-4EF2-BCF6-89F246399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752120" y="356688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24840" y="3566880"/>
            <a:ext cx="2640240" cy="19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752120" y="456192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165AF-6E67-4631-826B-E51F1386D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752120" y="3566880"/>
            <a:ext cx="54104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1752120" y="4561920"/>
            <a:ext cx="54104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1649BFE-BC3C-4D5D-8A07-D61ADE465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752120" y="356688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524840" y="356688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1752120" y="456192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24840" y="456192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137294F-EB07-478D-9500-DE194356A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1752120" y="3566880"/>
            <a:ext cx="17420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3581640" y="3566880"/>
            <a:ext cx="17420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5411160" y="3566880"/>
            <a:ext cx="17420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1752120" y="4561920"/>
            <a:ext cx="17420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6"/>
          <p:cNvSpPr>
            <a:spLocks noGrp="1"/>
          </p:cNvSpPr>
          <p:nvPr>
            <p:ph/>
          </p:nvPr>
        </p:nvSpPr>
        <p:spPr>
          <a:xfrm>
            <a:off x="3581640" y="4561920"/>
            <a:ext cx="17420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7"/>
          <p:cNvSpPr>
            <a:spLocks noGrp="1"/>
          </p:cNvSpPr>
          <p:nvPr>
            <p:ph/>
          </p:nvPr>
        </p:nvSpPr>
        <p:spPr>
          <a:xfrm>
            <a:off x="5411160" y="4561920"/>
            <a:ext cx="17420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9E7E063-30B4-4361-A72D-07F55E282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A7935E4-4B00-4C5F-B322-F09BD76D6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subTitle"/>
          </p:nvPr>
        </p:nvSpPr>
        <p:spPr>
          <a:xfrm>
            <a:off x="1752120" y="3566880"/>
            <a:ext cx="54104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61D6027-0C71-483B-8DC6-32411F527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1752120" y="3566880"/>
            <a:ext cx="5410440" cy="19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08D96DA-B8A2-4F2A-B98A-A2FE64A4A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752120" y="3566880"/>
            <a:ext cx="2640240" cy="19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24840" y="3566880"/>
            <a:ext cx="2640240" cy="19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091AEC3-C97F-4BE6-8F1B-76F1AD8D2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F7AF3AF-E703-4846-B2A8-47A093172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ubTitle"/>
          </p:nvPr>
        </p:nvSpPr>
        <p:spPr>
          <a:xfrm>
            <a:off x="685800" y="856800"/>
            <a:ext cx="7772400" cy="105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D85012C-7878-4332-8F19-9B59C1568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1752120" y="356688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524840" y="3566880"/>
            <a:ext cx="2640240" cy="19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1752120" y="456192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8D397D8-A5D3-4F37-B6CD-879C10D36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752120" y="3566880"/>
            <a:ext cx="2640240" cy="19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24840" y="356688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24840" y="456192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10AD2-42A1-449C-950B-8E814582F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752120" y="3566880"/>
            <a:ext cx="2640240" cy="19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524840" y="356688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24840" y="456192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A2FA53C-A69F-4DC3-BE3D-39A08780B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1752120" y="356688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524840" y="356688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1752120" y="4561920"/>
            <a:ext cx="54104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3F095EA-4019-402C-BE37-8A2AA1386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1752120" y="3566880"/>
            <a:ext cx="54104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1752120" y="4561920"/>
            <a:ext cx="54104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C131C98-B26B-407B-AFCF-E129AC3DC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1752120" y="356688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524840" y="356688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1752120" y="456192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4524840" y="456192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9ADE551-9682-405D-A100-F5E00ECD8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1752120" y="3566880"/>
            <a:ext cx="17420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3581640" y="3566880"/>
            <a:ext cx="17420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411160" y="3566880"/>
            <a:ext cx="17420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1752120" y="4561920"/>
            <a:ext cx="17420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6"/>
          <p:cNvSpPr>
            <a:spLocks noGrp="1"/>
          </p:cNvSpPr>
          <p:nvPr>
            <p:ph/>
          </p:nvPr>
        </p:nvSpPr>
        <p:spPr>
          <a:xfrm>
            <a:off x="3581640" y="4561920"/>
            <a:ext cx="17420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7"/>
          <p:cNvSpPr>
            <a:spLocks noGrp="1"/>
          </p:cNvSpPr>
          <p:nvPr>
            <p:ph/>
          </p:nvPr>
        </p:nvSpPr>
        <p:spPr>
          <a:xfrm>
            <a:off x="5411160" y="4561920"/>
            <a:ext cx="17420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0933326-2EF2-4AAE-A2F3-B773F622D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335EB14-1ABB-4CC2-9FEC-88E2207C7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1752120" y="3566880"/>
            <a:ext cx="54104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3448B27-12CB-4696-A6D7-05BCBC7F4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1752120" y="3566880"/>
            <a:ext cx="5410440" cy="19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9512FF3-0E7C-46AE-871B-30ED10CE1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1752120" y="3566880"/>
            <a:ext cx="2640240" cy="19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524840" y="3566880"/>
            <a:ext cx="2640240" cy="19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796A060-B0E3-46F6-856B-571F94FB0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EC5F670-FE68-4697-9228-CBA7866AC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752120" y="356688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24840" y="356688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752120" y="4561920"/>
            <a:ext cx="54104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570A3-F067-4E7A-BD72-19F830879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685800" y="856800"/>
            <a:ext cx="7772400" cy="105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D3787EA-5E0B-49DE-93DE-86364C485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1752120" y="356688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524840" y="3566880"/>
            <a:ext cx="2640240" cy="19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1752120" y="456192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877E8B6-4A05-4711-BF25-24213ABC1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752120" y="3566880"/>
            <a:ext cx="2640240" cy="19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524840" y="356688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24840" y="456192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86D3ABB-E9FF-4772-94B8-0AEB6240D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1752120" y="356688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524840" y="356688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1752120" y="4561920"/>
            <a:ext cx="54104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D32ECF3-B820-470E-81DC-17749CE85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1752120" y="3566880"/>
            <a:ext cx="54104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1752120" y="4561920"/>
            <a:ext cx="54104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A67428D-C75C-4D4F-906E-700DF60CB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1752120" y="356688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524840" y="356688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1752120" y="456192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524840" y="456192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F7601DC-A0FB-4FF8-9B9C-F42350A31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1752120" y="3566880"/>
            <a:ext cx="17420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581640" y="3566880"/>
            <a:ext cx="17420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5411160" y="3566880"/>
            <a:ext cx="17420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1752120" y="4561920"/>
            <a:ext cx="17420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/>
          </p:nvPr>
        </p:nvSpPr>
        <p:spPr>
          <a:xfrm>
            <a:off x="3581640" y="4561920"/>
            <a:ext cx="17420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7"/>
          <p:cNvSpPr>
            <a:spLocks noGrp="1"/>
          </p:cNvSpPr>
          <p:nvPr>
            <p:ph/>
          </p:nvPr>
        </p:nvSpPr>
        <p:spPr>
          <a:xfrm>
            <a:off x="5411160" y="4561920"/>
            <a:ext cx="17420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3188193-5C3B-42B5-952F-8568BCB52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F542234-5410-4436-8B13-899DB31E2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subTitle"/>
          </p:nvPr>
        </p:nvSpPr>
        <p:spPr>
          <a:xfrm>
            <a:off x="1752120" y="3566880"/>
            <a:ext cx="54104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6C86502-8D92-4AAA-9B25-2BEC4FBE6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1752120" y="3566880"/>
            <a:ext cx="5410440" cy="19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968F24F-7070-4F0C-A7C5-068A499A7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ahoma"/>
                <a:ea typeface="宋体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ahoma"/>
                <a:ea typeface="宋体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F5928-7568-4E5F-828B-5E498A9AF397}" type="slidenum">
              <a:rPr b="0" lang="zh-CN" sz="1200" spc="-1" strike="noStrike">
                <a:solidFill>
                  <a:srgbClr val="ffffff"/>
                </a:solidFill>
                <a:latin typeface="Tahoma"/>
                <a:ea typeface="宋体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9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570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73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574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7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98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599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04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dt" idx="2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 type="ftr" idx="2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 type="sldNum" idx="2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41EB8-5F31-4D5A-AB0A-5DDD42F210EB}" type="slidenum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100000">
                <a:srgbClr val="9900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3399"/>
              </a:gs>
              <a:gs pos="100000">
                <a:srgbClr val="0000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0000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100000">
                <a:srgbClr val="00009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99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193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 type="dt" idx="27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ahoma"/>
                <a:ea typeface="宋体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 type="ftr" idx="28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ahoma"/>
                <a:ea typeface="宋体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7" name="PlaceHolder 5"/>
          <p:cNvSpPr>
            <a:spLocks noGrp="1"/>
          </p:cNvSpPr>
          <p:nvPr>
            <p:ph type="sldNum" idx="29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B5AF4-6B16-4188-8AA0-A4C891B6BD50}" type="slidenum">
              <a:rPr b="0" lang="zh-CN" sz="1400" spc="-1" strike="noStrike">
                <a:solidFill>
                  <a:srgbClr val="ffffff"/>
                </a:solidFill>
                <a:latin typeface="Tahoma"/>
                <a:ea typeface="宋体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4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695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696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ffcc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98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699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99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99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01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3399"/>
                </a:gs>
                <a:gs pos="100000">
                  <a:srgbClr val="0000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0000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9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 type="dt" idx="30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94"/>
                </a:solidFill>
                <a:latin typeface="Tahom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94"/>
                </a:solidFill>
                <a:latin typeface="Tahoma"/>
                <a:ea typeface="宋体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 type="ftr" idx="31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94"/>
                </a:solidFill>
                <a:latin typeface="Tahoma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94"/>
                </a:solidFill>
                <a:latin typeface="Tahoma"/>
                <a:ea typeface="宋体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 type="sldNum" idx="32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94"/>
                </a:solidFill>
                <a:latin typeface="Tahom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02975-32C0-4F54-81DD-7262AC8FE455}" type="slidenum">
              <a:rPr b="0" lang="zh-CN" sz="1400" spc="-1" strike="noStrike">
                <a:solidFill>
                  <a:srgbClr val="000094"/>
                </a:solidFill>
                <a:latin typeface="Tahoma"/>
                <a:ea typeface="宋体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4" name="" descr=""/>
          <p:cNvPicPr/>
          <p:nvPr/>
        </p:nvPicPr>
        <p:blipFill>
          <a:blip r:embed="rId3"/>
          <a:srcRect l="0" t="15170" r="0" b="0"/>
          <a:stretch/>
        </p:blipFill>
        <p:spPr>
          <a:xfrm>
            <a:off x="0" y="0"/>
            <a:ext cx="9148680" cy="13683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766440" y="75960"/>
            <a:ext cx="7623000" cy="1143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455760" y="2295360"/>
            <a:ext cx="822456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 fontScale="69000"/>
          </a:bodyPr>
          <a:p>
            <a:pPr marL="199440" indent="-199440">
              <a:lnSpc>
                <a:spcPct val="95000"/>
              </a:lnSpc>
              <a:spcBef>
                <a:spcPts val="2126"/>
              </a:spcBef>
              <a:buClr>
                <a:srgbClr val="35c5ff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389880">
              <a:lnSpc>
                <a:spcPct val="95000"/>
              </a:lnSpc>
              <a:spcBef>
                <a:spcPts val="212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  <a:p>
            <a:pPr lvl="2" marL="590400">
              <a:lnSpc>
                <a:spcPct val="95000"/>
              </a:lnSpc>
              <a:spcBef>
                <a:spcPts val="2126"/>
              </a:spcBef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  <a:p>
            <a:pPr lvl="3" marL="780840">
              <a:lnSpc>
                <a:spcPct val="95000"/>
              </a:lnSpc>
              <a:spcBef>
                <a:spcPts val="212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  <a:p>
            <a:pPr lvl="4" marL="980280">
              <a:lnSpc>
                <a:spcPct val="95000"/>
              </a:lnSpc>
              <a:spcBef>
                <a:spcPts val="2126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  <a:p>
            <a:pPr lvl="5" marL="980280">
              <a:lnSpc>
                <a:spcPct val="95000"/>
              </a:lnSpc>
              <a:spcBef>
                <a:spcPts val="2126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  <a:p>
            <a:pPr lvl="6" marL="980280">
              <a:lnSpc>
                <a:spcPct val="95000"/>
              </a:lnSpc>
              <a:spcBef>
                <a:spcPts val="2126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8417880" y="6603480"/>
            <a:ext cx="687600" cy="2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BC83B57D-0CA7-4F1E-A285-9166889B1576}" type="slidenum">
              <a:rPr b="0" lang="zh-CN" sz="900" spc="-1" strike="noStrike">
                <a:solidFill>
                  <a:srgbClr val="808080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4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50480" cy="6862680"/>
          </a:xfrm>
          <a:prstGeom prst="rect">
            <a:avLst/>
          </a:prstGeom>
          <a:ln w="0">
            <a:noFill/>
          </a:ln>
        </p:spPr>
      </p:pic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766440" y="2657520"/>
            <a:ext cx="7799400" cy="11145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8417880" y="6603480"/>
            <a:ext cx="687600" cy="2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8FB4E2D0-5857-4721-B048-BE7E46F41158}" type="slidenum">
              <a:rPr b="0" lang="zh-CN" sz="900" spc="-1" strike="noStrike">
                <a:solidFill>
                  <a:srgbClr val="808080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1079640" y="6634080"/>
            <a:ext cx="134892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700" spc="-1" strike="noStrike">
                <a:solidFill>
                  <a:srgbClr val="808080"/>
                </a:solidFill>
                <a:latin typeface="Arial"/>
                <a:ea typeface="宋体"/>
              </a:rPr>
              <a:t>© 2000, Cisco Systems, Inc. 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29520" y="6603480"/>
            <a:ext cx="1033560" cy="2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900" spc="-1" strike="noStrike">
                <a:solidFill>
                  <a:srgbClr val="808080"/>
                </a:solidFill>
                <a:latin typeface="Arial"/>
                <a:ea typeface="宋体"/>
              </a:rPr>
              <a:t>Networkers 2607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551a07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f4b4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551a07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666699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 type="dt" idx="33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 type="ftr" idx="34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PlaceHolder 5"/>
          <p:cNvSpPr>
            <a:spLocks noGrp="1"/>
          </p:cNvSpPr>
          <p:nvPr>
            <p:ph type="sldNum" idx="35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3890C-D339-4DEA-A37D-7357AC668FF3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0" name="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831" name="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762120" y="1709640"/>
              <a:ext cx="7696080" cy="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100" spc="-1" strike="noStrike">
                <a:solidFill>
                  <a:srgbClr val="551a07"/>
                </a:solidFill>
                <a:latin typeface="Arial Black"/>
              </a:rPr>
              <a:t>Click to edit the title text format</a:t>
            </a:r>
            <a:endParaRPr b="0" i="1" lang="en-US" sz="41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 type="dt" idx="36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 type="ftr" idx="37"/>
          </p:nvPr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PlaceHolder 4"/>
          <p:cNvSpPr>
            <a:spLocks noGrp="1"/>
          </p:cNvSpPr>
          <p:nvPr>
            <p:ph type="sldNum" idx="38"/>
          </p:nvPr>
        </p:nvSpPr>
        <p:spPr>
          <a:xfrm>
            <a:off x="6857640" y="639144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77580-F805-41C7-82CE-D19AF9D8E985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551a07"/>
              </a:buClr>
              <a:buSzPct val="15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66699"/>
              </a:buClr>
              <a:buSzPct val="150000"/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3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914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acaca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15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916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cccc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bebeb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bebeb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3e3e3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3e3e3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bdbdb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bdbdb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3d3d3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3d3d3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cccc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5c5c5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5c5c5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5c5c5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5c5c5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5c5c5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5c5c5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5c5c5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bebeb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bebeb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bdbdb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3e3e3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5c5c5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cccc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cccc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cccc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941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942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eae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43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eae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44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eae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45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eae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46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eae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47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eae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48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eae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49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eae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50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eae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51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eae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52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eae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53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eae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54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eae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55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eae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56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eae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57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958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c6c6c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59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c6c6c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60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961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eaeae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62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eaeae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63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eaeae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64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eaeae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65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eaeae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66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eaeae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67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eaeae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68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eaeae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69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eaeae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970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eaeae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eaeae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 type="dt" idx="39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 type="ftr" idx="40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Times New Roman"/>
                <a:ea typeface="宋体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 type="sldNum" idx="41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9E87F-F2C8-4CCF-BE9F-3B5B256C631E}" type="slidenum">
              <a:rPr b="0" lang="zh-CN" sz="10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2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66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66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9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20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acaca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21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22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cccc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bebeb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bebeb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3e3e3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3e3e3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bdbdb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bdbdb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3d3d3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3d3d3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cccc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5c5c5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5c5c5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5c5c5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5c5c5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5c5c5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5c5c5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5c5c5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bebeb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bebeb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bdbdb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3e3e3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5c5c5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cccc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cccc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cccc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047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048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eae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49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eae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50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eae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51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eae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52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eae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53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eae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54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eae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55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eae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56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eae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57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eae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58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eae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59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eae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60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eae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61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eae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62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eae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63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064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c6c6c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65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c6c6c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66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067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eaeae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68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eaeae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69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eaeae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70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eaeae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71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eaeae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72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eaeae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73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eaeae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74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eaeae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75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eaeae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76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eaeae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eaeae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66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 type="dt" idx="42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 type="ftr" idx="43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Times New Roman"/>
                <a:ea typeface="宋体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 type="sldNum" idx="44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3AEE0-419A-4DB8-A983-EDD7A4BEF965}" type="slidenum">
              <a:rPr b="0" lang="zh-CN" sz="10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4" name=""/>
          <p:cNvGrpSpPr/>
          <p:nvPr/>
        </p:nvGrpSpPr>
        <p:grpSpPr>
          <a:xfrm>
            <a:off x="0" y="0"/>
            <a:ext cx="2484000" cy="6858000"/>
            <a:chOff x="0" y="0"/>
            <a:chExt cx="2484000" cy="6858000"/>
          </a:xfrm>
        </p:grpSpPr>
        <p:sp>
          <p:nvSpPr>
            <p:cNvPr id="1125" name=""/>
            <p:cNvSpPr/>
            <p:nvPr/>
          </p:nvSpPr>
          <p:spPr>
            <a:xfrm>
              <a:off x="1845360" y="0"/>
              <a:ext cx="63864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126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99332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2268360" y="228240"/>
            <a:ext cx="65707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 type="body"/>
          </p:nvPr>
        </p:nvSpPr>
        <p:spPr>
          <a:xfrm>
            <a:off x="2268360" y="1600200"/>
            <a:ext cx="6570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 type="dt" idx="45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 type="ftr" idx="4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Times New Roman"/>
                <a:ea typeface="宋体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1" name="PlaceHolder 5"/>
          <p:cNvSpPr>
            <a:spLocks noGrp="1"/>
          </p:cNvSpPr>
          <p:nvPr>
            <p:ph type="sldNum" idx="47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BE4BD-AFA4-4571-B65A-059FA7DADE31}" type="slidenum">
              <a:rPr b="0" lang="zh-CN" sz="10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ahoma"/>
                <a:ea typeface="宋体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ahoma"/>
                <a:ea typeface="宋体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D91DD-7F15-4985-A2A2-3C9CDED0EAE1}" type="slidenum">
              <a:rPr b="0" lang="zh-CN" sz="1200" spc="-1" strike="noStrike">
                <a:solidFill>
                  <a:srgbClr val="ffffff"/>
                </a:solidFill>
                <a:latin typeface="Tahoma"/>
                <a:ea typeface="宋体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8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1169" name="PlaceHolder 1"/>
          <p:cNvSpPr>
            <a:spLocks noGrp="1"/>
          </p:cNvSpPr>
          <p:nvPr>
            <p:ph type="dt" idx="48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 type="ftr" idx="4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Times New Roman"/>
                <a:ea typeface="宋体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 type="sldNum" idx="50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E9F03-419A-478F-824E-AA2212CA7B41}" type="slidenum">
              <a:rPr b="0" lang="zh-CN" sz="10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body"/>
          </p:nvPr>
        </p:nvSpPr>
        <p:spPr>
          <a:xfrm>
            <a:off x="380880" y="190476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 fontScale="84000"/>
          </a:bodyPr>
          <a:p>
            <a:pPr marL="317520" indent="-317520">
              <a:spcBef>
                <a:spcPts val="1049"/>
              </a:spcBef>
              <a:spcAft>
                <a:spcPts val="150"/>
              </a:spcAft>
              <a:buClr>
                <a:srgbClr val="003399"/>
              </a:buClr>
              <a:buSzPct val="90000"/>
              <a:buFont typeface="Wingdings" charset="2"/>
              <a:buChar char=""/>
              <a:tabLst>
                <a:tab algn="l" pos="736560"/>
                <a:tab algn="l" pos="1104840"/>
                <a:tab algn="l" pos="1473120"/>
                <a:tab algn="l" pos="1841400"/>
                <a:tab algn="l" pos="2209680"/>
                <a:tab algn="l" pos="2577960"/>
                <a:tab algn="l" pos="2946240"/>
                <a:tab algn="l" pos="3314880"/>
                <a:tab algn="l" pos="3683160"/>
                <a:tab algn="l" pos="4051440"/>
                <a:tab algn="l" pos="4419720"/>
                <a:tab algn="l" pos="4788000"/>
                <a:tab algn="l" pos="5156280"/>
                <a:tab algn="l" pos="5524560"/>
                <a:tab algn="l" pos="5892840"/>
                <a:tab algn="l" pos="6261120"/>
                <a:tab algn="l" pos="6629400"/>
                <a:tab algn="l" pos="6997680"/>
                <a:tab algn="l" pos="7365960"/>
                <a:tab algn="l" pos="7734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2680" indent="-264960">
              <a:spcBef>
                <a:spcPts val="1049"/>
              </a:spcBef>
              <a:spcAft>
                <a:spcPts val="150"/>
              </a:spcAft>
              <a:buClr>
                <a:srgbClr val="003399"/>
              </a:buClr>
              <a:buSzPct val="80000"/>
              <a:buFont typeface="Wingdings" charset="2"/>
              <a:buChar char=""/>
              <a:tabLst>
                <a:tab algn="l" pos="736560"/>
                <a:tab algn="l" pos="1104840"/>
                <a:tab algn="l" pos="1473120"/>
                <a:tab algn="l" pos="1841400"/>
                <a:tab algn="l" pos="2209680"/>
                <a:tab algn="l" pos="2577960"/>
                <a:tab algn="l" pos="2946240"/>
                <a:tab algn="l" pos="3314880"/>
                <a:tab algn="l" pos="3683160"/>
                <a:tab algn="l" pos="4051440"/>
                <a:tab algn="l" pos="4419720"/>
                <a:tab algn="l" pos="4788000"/>
                <a:tab algn="l" pos="5156280"/>
                <a:tab algn="l" pos="5524560"/>
                <a:tab algn="l" pos="5892840"/>
                <a:tab algn="l" pos="6261120"/>
                <a:tab algn="l" pos="6629400"/>
                <a:tab algn="l" pos="6997680"/>
                <a:tab algn="l" pos="7365960"/>
                <a:tab algn="l" pos="7734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6000" indent="-213480">
              <a:spcBef>
                <a:spcPts val="1049"/>
              </a:spcBef>
              <a:spcAft>
                <a:spcPts val="150"/>
              </a:spcAft>
              <a:buClr>
                <a:srgbClr val="003399"/>
              </a:buClr>
              <a:buSzPct val="80000"/>
              <a:buFont typeface="Wingdings" charset="2"/>
              <a:buChar char=""/>
              <a:tabLst>
                <a:tab algn="l" pos="736560"/>
                <a:tab algn="l" pos="1104840"/>
                <a:tab algn="l" pos="1473120"/>
                <a:tab algn="l" pos="1841400"/>
                <a:tab algn="l" pos="2209680"/>
                <a:tab algn="l" pos="2577960"/>
                <a:tab algn="l" pos="2946240"/>
                <a:tab algn="l" pos="3314880"/>
                <a:tab algn="l" pos="3683160"/>
                <a:tab algn="l" pos="4051440"/>
                <a:tab algn="l" pos="4419720"/>
                <a:tab algn="l" pos="4788000"/>
                <a:tab algn="l" pos="5156280"/>
                <a:tab algn="l" pos="5524560"/>
                <a:tab algn="l" pos="5892840"/>
                <a:tab algn="l" pos="6261120"/>
                <a:tab algn="l" pos="6629400"/>
                <a:tab algn="l" pos="6997680"/>
                <a:tab algn="l" pos="7365960"/>
                <a:tab algn="l" pos="7734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89400" indent="3637800">
              <a:spcBef>
                <a:spcPts val="1049"/>
              </a:spcBef>
              <a:spcAft>
                <a:spcPts val="150"/>
              </a:spcAft>
              <a:buClr>
                <a:srgbClr val="000000"/>
              </a:buClr>
              <a:buFont typeface="Times New Roman"/>
              <a:buChar char="–"/>
              <a:tabLst>
                <a:tab algn="l" pos="736560"/>
                <a:tab algn="l" pos="1104840"/>
                <a:tab algn="l" pos="1473120"/>
                <a:tab algn="l" pos="1841400"/>
                <a:tab algn="l" pos="2209680"/>
                <a:tab algn="l" pos="2577960"/>
                <a:tab algn="l" pos="2946240"/>
                <a:tab algn="l" pos="3314880"/>
                <a:tab algn="l" pos="3683160"/>
                <a:tab algn="l" pos="4051440"/>
                <a:tab algn="l" pos="4419720"/>
                <a:tab algn="l" pos="4788000"/>
                <a:tab algn="l" pos="5156280"/>
                <a:tab algn="l" pos="5524560"/>
                <a:tab algn="l" pos="5892840"/>
                <a:tab algn="l" pos="6261120"/>
                <a:tab algn="l" pos="6629400"/>
                <a:tab algn="l" pos="6997680"/>
                <a:tab algn="l" pos="7365960"/>
                <a:tab algn="l" pos="7734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5675400" indent="-142560">
              <a:spcBef>
                <a:spcPts val="1049"/>
              </a:spcBef>
              <a:spcAft>
                <a:spcPts val="150"/>
              </a:spcAft>
              <a:buClr>
                <a:srgbClr val="000000"/>
              </a:buClr>
              <a:buFont typeface="Times New Roman"/>
              <a:buChar char="»"/>
              <a:tabLst>
                <a:tab algn="l" pos="736560"/>
                <a:tab algn="l" pos="1104840"/>
                <a:tab algn="l" pos="1473120"/>
                <a:tab algn="l" pos="1841400"/>
                <a:tab algn="l" pos="2209680"/>
                <a:tab algn="l" pos="2577960"/>
                <a:tab algn="l" pos="2946240"/>
                <a:tab algn="l" pos="3314880"/>
                <a:tab algn="l" pos="3683160"/>
                <a:tab algn="l" pos="4051440"/>
                <a:tab algn="l" pos="4419720"/>
                <a:tab algn="l" pos="4788000"/>
                <a:tab algn="l" pos="5156280"/>
                <a:tab algn="l" pos="5524560"/>
                <a:tab algn="l" pos="5892840"/>
                <a:tab algn="l" pos="6261120"/>
                <a:tab algn="l" pos="6629400"/>
                <a:tab algn="l" pos="6997680"/>
                <a:tab algn="l" pos="7365960"/>
                <a:tab algn="l" pos="7734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5675400" indent="-142560">
              <a:spcBef>
                <a:spcPts val="1049"/>
              </a:spcBef>
              <a:spcAft>
                <a:spcPts val="150"/>
              </a:spcAft>
              <a:buClr>
                <a:srgbClr val="000000"/>
              </a:buClr>
              <a:buFont typeface="Times New Roman"/>
              <a:buChar char="»"/>
              <a:tabLst>
                <a:tab algn="l" pos="736560"/>
                <a:tab algn="l" pos="1104840"/>
                <a:tab algn="l" pos="1473120"/>
                <a:tab algn="l" pos="1841400"/>
                <a:tab algn="l" pos="2209680"/>
                <a:tab algn="l" pos="2577960"/>
                <a:tab algn="l" pos="2946240"/>
                <a:tab algn="l" pos="3314880"/>
                <a:tab algn="l" pos="3683160"/>
                <a:tab algn="l" pos="4051440"/>
                <a:tab algn="l" pos="4419720"/>
                <a:tab algn="l" pos="4788000"/>
                <a:tab algn="l" pos="5156280"/>
                <a:tab algn="l" pos="5524560"/>
                <a:tab algn="l" pos="5892840"/>
                <a:tab algn="l" pos="6261120"/>
                <a:tab algn="l" pos="6629400"/>
                <a:tab algn="l" pos="6997680"/>
                <a:tab algn="l" pos="7365960"/>
                <a:tab algn="l" pos="7734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5675400" indent="-142560">
              <a:spcBef>
                <a:spcPts val="1049"/>
              </a:spcBef>
              <a:spcAft>
                <a:spcPts val="150"/>
              </a:spcAft>
              <a:buClr>
                <a:srgbClr val="000000"/>
              </a:buClr>
              <a:buFont typeface="Times New Roman"/>
              <a:buChar char="»"/>
              <a:tabLst>
                <a:tab algn="l" pos="736560"/>
                <a:tab algn="l" pos="1104840"/>
                <a:tab algn="l" pos="1473120"/>
                <a:tab algn="l" pos="1841400"/>
                <a:tab algn="l" pos="2209680"/>
                <a:tab algn="l" pos="2577960"/>
                <a:tab algn="l" pos="2946240"/>
                <a:tab algn="l" pos="3314880"/>
                <a:tab algn="l" pos="3683160"/>
                <a:tab algn="l" pos="4051440"/>
                <a:tab algn="l" pos="4419720"/>
                <a:tab algn="l" pos="4788000"/>
                <a:tab algn="l" pos="5156280"/>
                <a:tab algn="l" pos="5524560"/>
                <a:tab algn="l" pos="5892840"/>
                <a:tab algn="l" pos="6261120"/>
                <a:tab algn="l" pos="6629400"/>
                <a:tab algn="l" pos="6997680"/>
                <a:tab algn="l" pos="7365960"/>
                <a:tab algn="l" pos="7734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380880" y="647640"/>
            <a:ext cx="8382240" cy="10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80880" y="1600200"/>
            <a:ext cx="8763120" cy="0"/>
          </a:xfrm>
          <a:prstGeom prst="line">
            <a:avLst/>
          </a:prstGeom>
          <a:ln w="9360">
            <a:solidFill>
              <a:srgbClr val="0052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8991360" y="1600200"/>
            <a:ext cx="152280" cy="2546280"/>
            <a:chOff x="8991360" y="1600200"/>
            <a:chExt cx="152280" cy="2546280"/>
          </a:xfrm>
        </p:grpSpPr>
        <p:sp>
          <p:nvSpPr>
            <p:cNvPr id="92" name=""/>
            <p:cNvSpPr/>
            <p:nvPr/>
          </p:nvSpPr>
          <p:spPr>
            <a:xfrm rot="5400000">
              <a:off x="8586360" y="3589200"/>
              <a:ext cx="961920" cy="152280"/>
            </a:xfrm>
            <a:prstGeom prst="rect">
              <a:avLst/>
            </a:prstGeom>
            <a:solidFill>
              <a:srgbClr val="b3cc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rot="5400000">
              <a:off x="8586360" y="3030480"/>
              <a:ext cx="961920" cy="152280"/>
            </a:xfrm>
            <a:prstGeom prst="rect">
              <a:avLst/>
            </a:prstGeom>
            <a:solidFill>
              <a:srgbClr val="7faa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 rot="5400000">
              <a:off x="8586360" y="2585880"/>
              <a:ext cx="961920" cy="152280"/>
            </a:xfrm>
            <a:prstGeom prst="rect">
              <a:avLst/>
            </a:prstGeom>
            <a:solidFill>
              <a:srgbClr val="5084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rot="5400000">
              <a:off x="8569080" y="2022480"/>
              <a:ext cx="996840" cy="152280"/>
            </a:xfrm>
            <a:prstGeom prst="rect">
              <a:avLst/>
            </a:prstGeom>
            <a:solidFill>
              <a:srgbClr val="0251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-360" y="0"/>
            <a:ext cx="2972160" cy="6858000"/>
            <a:chOff x="-360" y="0"/>
            <a:chExt cx="2972160" cy="6858000"/>
          </a:xfrm>
        </p:grpSpPr>
        <p:sp>
          <p:nvSpPr>
            <p:cNvPr id="97" name=""/>
            <p:cNvSpPr/>
            <p:nvPr/>
          </p:nvSpPr>
          <p:spPr>
            <a:xfrm rot="5400000">
              <a:off x="-3238920" y="3467160"/>
              <a:ext cx="6629400" cy="152280"/>
            </a:xfrm>
            <a:prstGeom prst="rect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8" name=""/>
            <p:cNvGrpSpPr/>
            <p:nvPr/>
          </p:nvGrpSpPr>
          <p:grpSpPr>
            <a:xfrm>
              <a:off x="0" y="0"/>
              <a:ext cx="2971800" cy="304920"/>
              <a:chOff x="0" y="0"/>
              <a:chExt cx="2971800" cy="304920"/>
            </a:xfrm>
          </p:grpSpPr>
          <p:sp>
            <p:nvSpPr>
              <p:cNvPr id="99" name=""/>
              <p:cNvSpPr/>
              <p:nvPr/>
            </p:nvSpPr>
            <p:spPr>
              <a:xfrm>
                <a:off x="0" y="0"/>
                <a:ext cx="2971800" cy="228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0" y="152280"/>
                <a:ext cx="1940040" cy="152640"/>
              </a:xfrm>
              <a:prstGeom prst="rect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01" name="PlaceHolder 3"/>
          <p:cNvSpPr>
            <a:spLocks noGrp="1"/>
          </p:cNvSpPr>
          <p:nvPr>
            <p:ph type="sldNum" idx="7"/>
          </p:nvPr>
        </p:nvSpPr>
        <p:spPr>
          <a:xfrm>
            <a:off x="8759880" y="6578280"/>
            <a:ext cx="38088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80880"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TW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380880"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1EC72-FD53-4709-AC4E-B71810D3FDC3}" type="slidenum">
              <a:rPr b="1" lang="zh-TW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8088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380880" y="3124080"/>
            <a:ext cx="8763120" cy="2546280"/>
            <a:chOff x="380880" y="3124080"/>
            <a:chExt cx="8763120" cy="2546280"/>
          </a:xfrm>
        </p:grpSpPr>
        <p:grpSp>
          <p:nvGrpSpPr>
            <p:cNvPr id="140" name=""/>
            <p:cNvGrpSpPr/>
            <p:nvPr/>
          </p:nvGrpSpPr>
          <p:grpSpPr>
            <a:xfrm>
              <a:off x="8991360" y="3124080"/>
              <a:ext cx="152280" cy="2546280"/>
              <a:chOff x="8991360" y="3124080"/>
              <a:chExt cx="152280" cy="2546280"/>
            </a:xfrm>
          </p:grpSpPr>
          <p:sp>
            <p:nvSpPr>
              <p:cNvPr id="141" name=""/>
              <p:cNvSpPr/>
              <p:nvPr/>
            </p:nvSpPr>
            <p:spPr>
              <a:xfrm rot="5400000">
                <a:off x="8586360" y="5113080"/>
                <a:ext cx="961920" cy="152280"/>
              </a:xfrm>
              <a:prstGeom prst="rect">
                <a:avLst/>
              </a:prstGeom>
              <a:solidFill>
                <a:srgbClr val="b3cc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 rot="5400000">
                <a:off x="8586360" y="4554360"/>
                <a:ext cx="961920" cy="152280"/>
              </a:xfrm>
              <a:prstGeom prst="rect">
                <a:avLst/>
              </a:prstGeom>
              <a:solidFill>
                <a:srgbClr val="7faa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 rot="5400000">
                <a:off x="8586360" y="4109760"/>
                <a:ext cx="961920" cy="152280"/>
              </a:xfrm>
              <a:prstGeom prst="rect">
                <a:avLst/>
              </a:prstGeom>
              <a:solidFill>
                <a:srgbClr val="5084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 rot="5400000">
                <a:off x="8569080" y="3546360"/>
                <a:ext cx="996840" cy="152280"/>
              </a:xfrm>
              <a:prstGeom prst="rect">
                <a:avLst/>
              </a:prstGeom>
              <a:solidFill>
                <a:srgbClr val="0251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45" name=""/>
            <p:cNvSpPr/>
            <p:nvPr/>
          </p:nvSpPr>
          <p:spPr>
            <a:xfrm>
              <a:off x="380880" y="3124080"/>
              <a:ext cx="8763120" cy="0"/>
            </a:xfrm>
            <a:prstGeom prst="line">
              <a:avLst/>
            </a:prstGeom>
            <a:ln w="9360">
              <a:solidFill>
                <a:srgbClr val="0251b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-360" y="0"/>
            <a:ext cx="2972160" cy="6858000"/>
            <a:chOff x="-360" y="0"/>
            <a:chExt cx="2972160" cy="6858000"/>
          </a:xfrm>
        </p:grpSpPr>
        <p:sp>
          <p:nvSpPr>
            <p:cNvPr id="147" name=""/>
            <p:cNvSpPr/>
            <p:nvPr/>
          </p:nvSpPr>
          <p:spPr>
            <a:xfrm rot="5400000">
              <a:off x="-3238920" y="3467160"/>
              <a:ext cx="6629400" cy="152280"/>
            </a:xfrm>
            <a:prstGeom prst="rect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0" y="0"/>
              <a:ext cx="2971800" cy="304920"/>
              <a:chOff x="0" y="0"/>
              <a:chExt cx="2971800" cy="304920"/>
            </a:xfrm>
          </p:grpSpPr>
          <p:sp>
            <p:nvSpPr>
              <p:cNvPr id="149" name=""/>
              <p:cNvSpPr/>
              <p:nvPr/>
            </p:nvSpPr>
            <p:spPr>
              <a:xfrm>
                <a:off x="0" y="0"/>
                <a:ext cx="2971800" cy="228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0" y="152280"/>
                <a:ext cx="1940040" cy="152640"/>
              </a:xfrm>
              <a:prstGeom prst="rect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2"/>
          <p:cNvSpPr>
            <a:spLocks noGrp="1"/>
          </p:cNvSpPr>
          <p:nvPr>
            <p:ph type="sldNum" idx="8"/>
          </p:nvPr>
        </p:nvSpPr>
        <p:spPr>
          <a:xfrm>
            <a:off x="8759880" y="6578280"/>
            <a:ext cx="38088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80880"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TW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380880"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7D838-43C6-49D1-B87D-F367C68FC04C}" type="slidenum">
              <a:rPr b="1" lang="zh-TW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3"/>
          <a:stretch/>
        </p:blipFill>
        <p:spPr>
          <a:xfrm>
            <a:off x="5410080" y="152280"/>
            <a:ext cx="3581640" cy="731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9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Comic Sans MS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omic Sans MS"/>
                <a:ea typeface="宋体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0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Comic Sans MS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omic Sans MS"/>
                <a:ea typeface="宋体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1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Comic Sans MS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D9F91-89FD-4EF9-A671-73BEBCD7B2CF}" type="slidenum">
              <a:rPr b="0" lang="zh-CN" sz="1400" spc="-1" strike="noStrike">
                <a:solidFill>
                  <a:srgbClr val="ffffff"/>
                </a:solidFill>
                <a:latin typeface="Comic Sans MS"/>
                <a:ea typeface="宋体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98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07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208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9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2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15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24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225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228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229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30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231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39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ccff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dt" idx="1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Comic Sans MS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omic Sans MS"/>
                <a:ea typeface="宋体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Comic Sans MS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omic Sans MS"/>
                <a:ea typeface="宋体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sldNum" idx="1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Comic Sans MS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A32CC-9F6F-4C81-8862-984E3D719B52}" type="slidenum">
              <a:rPr b="0" lang="zh-CN" sz="1400" spc="-1" strike="noStrike">
                <a:solidFill>
                  <a:srgbClr val="ffffff"/>
                </a:solidFill>
                <a:latin typeface="Comic Sans MS"/>
                <a:ea typeface="宋体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282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85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286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291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292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5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296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01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cc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 type="dt" idx="15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Comic Sans MS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omic Sans MS"/>
                <a:ea typeface="宋体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 type="ftr" idx="16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Comic Sans MS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omic Sans MS"/>
                <a:ea typeface="宋体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 type="sldNum" idx="17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Comic Sans MS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843E0-1BB6-4567-AF4C-F5A493F65CCD}" type="slidenum">
              <a:rPr b="0" lang="zh-CN" sz="1400" spc="-1" strike="noStrike">
                <a:solidFill>
                  <a:srgbClr val="ffffff"/>
                </a:solidFill>
                <a:latin typeface="Comic Sans MS"/>
                <a:ea typeface="宋体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34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5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35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36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6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6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36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7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7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7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7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38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8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38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9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ccff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dt" idx="1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Comic Sans MS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omic Sans MS"/>
                <a:ea typeface="宋体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 type="ftr" idx="1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Comic Sans MS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omic Sans MS"/>
                <a:ea typeface="宋体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 type="sldNum" idx="2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Comic Sans MS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AC933-51A5-4A69-B020-BA6143358FED}" type="slidenum">
              <a:rPr b="0" lang="zh-CN" sz="1400" spc="-1" strike="noStrike">
                <a:solidFill>
                  <a:srgbClr val="ffffff"/>
                </a:solidFill>
                <a:latin typeface="Comic Sans MS"/>
                <a:ea typeface="宋体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3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43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3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43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44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44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4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44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5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cc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1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492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95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496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09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20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521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26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dt" idx="2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 type="ftr" idx="2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 type="sldNum" idx="2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89BA4-D381-4F3F-89C2-11DEDCB05481}" type="slidenum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9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6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86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9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2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4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9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9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9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1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21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1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1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"/>
          <p:cNvSpPr/>
          <p:nvPr/>
        </p:nvSpPr>
        <p:spPr>
          <a:xfrm>
            <a:off x="0" y="27082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00"/>
                </a:solidFill>
                <a:latin typeface="Arial"/>
                <a:ea typeface="宋体"/>
              </a:rPr>
              <a:t>行銷業務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9" name=""/>
          <p:cNvGrpSpPr/>
          <p:nvPr/>
        </p:nvGrpSpPr>
        <p:grpSpPr>
          <a:xfrm>
            <a:off x="682560" y="1197000"/>
            <a:ext cx="7705440" cy="5472000"/>
            <a:chOff x="682560" y="1197000"/>
            <a:chExt cx="7705440" cy="5472000"/>
          </a:xfrm>
        </p:grpSpPr>
        <p:pic>
          <p:nvPicPr>
            <p:cNvPr id="1330" name="" descr=""/>
            <p:cNvPicPr/>
            <p:nvPr/>
          </p:nvPicPr>
          <p:blipFill>
            <a:blip r:embed="rId2"/>
            <a:stretch/>
          </p:blipFill>
          <p:spPr>
            <a:xfrm>
              <a:off x="682560" y="1197000"/>
              <a:ext cx="7705440" cy="5472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31" name=""/>
            <p:cNvGrpSpPr/>
            <p:nvPr/>
          </p:nvGrpSpPr>
          <p:grpSpPr>
            <a:xfrm>
              <a:off x="1041120" y="1557360"/>
              <a:ext cx="6912000" cy="4852440"/>
              <a:chOff x="1041120" y="1557360"/>
              <a:chExt cx="6912000" cy="4852440"/>
            </a:xfrm>
          </p:grpSpPr>
          <p:sp>
            <p:nvSpPr>
              <p:cNvPr id="1332" name=""/>
              <p:cNvSpPr/>
              <p:nvPr/>
            </p:nvSpPr>
            <p:spPr>
              <a:xfrm>
                <a:off x="1041120" y="3716280"/>
                <a:ext cx="649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低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3" name=""/>
              <p:cNvSpPr/>
              <p:nvPr/>
            </p:nvSpPr>
            <p:spPr>
              <a:xfrm>
                <a:off x="4209840" y="5950080"/>
                <a:ext cx="649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低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4" name=""/>
              <p:cNvSpPr/>
              <p:nvPr/>
            </p:nvSpPr>
            <p:spPr>
              <a:xfrm>
                <a:off x="4282920" y="1557360"/>
                <a:ext cx="503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高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5" name=""/>
              <p:cNvSpPr/>
              <p:nvPr/>
            </p:nvSpPr>
            <p:spPr>
              <a:xfrm>
                <a:off x="7449840" y="3716280"/>
                <a:ext cx="503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高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36" name="PlaceHolder 1"/>
          <p:cNvSpPr>
            <a:spLocks noGrp="1"/>
          </p:cNvSpPr>
          <p:nvPr>
            <p:ph type="title"/>
          </p:nvPr>
        </p:nvSpPr>
        <p:spPr>
          <a:xfrm>
            <a:off x="539280" y="-36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市場定位</a:t>
            </a: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grpSp>
        <p:nvGrpSpPr>
          <p:cNvPr id="1337" name=""/>
          <p:cNvGrpSpPr/>
          <p:nvPr/>
        </p:nvGrpSpPr>
        <p:grpSpPr>
          <a:xfrm>
            <a:off x="5219640" y="1341360"/>
            <a:ext cx="3600000" cy="2376360"/>
            <a:chOff x="5219640" y="1341360"/>
            <a:chExt cx="3600000" cy="2376360"/>
          </a:xfrm>
        </p:grpSpPr>
        <p:pic>
          <p:nvPicPr>
            <p:cNvPr id="1338" name="" descr=""/>
            <p:cNvPicPr/>
            <p:nvPr/>
          </p:nvPicPr>
          <p:blipFill>
            <a:blip r:embed="rId3"/>
            <a:stretch/>
          </p:blipFill>
          <p:spPr>
            <a:xfrm>
              <a:off x="5219640" y="1341360"/>
              <a:ext cx="3600000" cy="23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9" name=""/>
            <p:cNvSpPr/>
            <p:nvPr/>
          </p:nvSpPr>
          <p:spPr>
            <a:xfrm>
              <a:off x="5357160" y="1996560"/>
              <a:ext cx="34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6600ff"/>
                  </a:solidFill>
                  <a:latin typeface="Arial"/>
                  <a:ea typeface="宋体"/>
                </a:rPr>
                <a:t>說明文字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40" name=""/>
          <p:cNvGrpSpPr/>
          <p:nvPr/>
        </p:nvGrpSpPr>
        <p:grpSpPr>
          <a:xfrm>
            <a:off x="5292720" y="4508640"/>
            <a:ext cx="3528720" cy="2376000"/>
            <a:chOff x="5292720" y="4508640"/>
            <a:chExt cx="3528720" cy="2376000"/>
          </a:xfrm>
        </p:grpSpPr>
        <p:pic>
          <p:nvPicPr>
            <p:cNvPr id="1341" name="" descr=""/>
            <p:cNvPicPr/>
            <p:nvPr/>
          </p:nvPicPr>
          <p:blipFill>
            <a:blip r:embed="rId4"/>
            <a:stretch/>
          </p:blipFill>
          <p:spPr>
            <a:xfrm>
              <a:off x="5292720" y="4508640"/>
              <a:ext cx="3528720" cy="237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2" name=""/>
            <p:cNvSpPr/>
            <p:nvPr/>
          </p:nvSpPr>
          <p:spPr>
            <a:xfrm>
              <a:off x="5427720" y="5163480"/>
              <a:ext cx="3393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6600ff"/>
                  </a:solidFill>
                  <a:latin typeface="Arial"/>
                  <a:ea typeface="宋体"/>
                </a:rPr>
                <a:t>說明文字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43" name=""/>
          <p:cNvGrpSpPr/>
          <p:nvPr/>
        </p:nvGrpSpPr>
        <p:grpSpPr>
          <a:xfrm>
            <a:off x="611280" y="4581360"/>
            <a:ext cx="3239640" cy="2376360"/>
            <a:chOff x="611280" y="4581360"/>
            <a:chExt cx="3239640" cy="2376360"/>
          </a:xfrm>
        </p:grpSpPr>
        <p:pic>
          <p:nvPicPr>
            <p:cNvPr id="1344" name="" descr=""/>
            <p:cNvPicPr/>
            <p:nvPr/>
          </p:nvPicPr>
          <p:blipFill>
            <a:blip r:embed="rId5"/>
            <a:stretch/>
          </p:blipFill>
          <p:spPr>
            <a:xfrm>
              <a:off x="611280" y="4581360"/>
              <a:ext cx="3239640" cy="23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5" name=""/>
            <p:cNvSpPr/>
            <p:nvPr/>
          </p:nvSpPr>
          <p:spPr>
            <a:xfrm>
              <a:off x="735120" y="5236560"/>
              <a:ext cx="3115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6600ff"/>
                  </a:solidFill>
                  <a:latin typeface="Arial"/>
                  <a:ea typeface="宋体"/>
                </a:rPr>
                <a:t>說明文字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46" name=""/>
          <p:cNvGrpSpPr/>
          <p:nvPr/>
        </p:nvGrpSpPr>
        <p:grpSpPr>
          <a:xfrm>
            <a:off x="611280" y="1341360"/>
            <a:ext cx="3312720" cy="2376360"/>
            <a:chOff x="611280" y="1341360"/>
            <a:chExt cx="3312720" cy="2376360"/>
          </a:xfrm>
        </p:grpSpPr>
        <p:pic>
          <p:nvPicPr>
            <p:cNvPr id="1347" name="" descr=""/>
            <p:cNvPicPr/>
            <p:nvPr/>
          </p:nvPicPr>
          <p:blipFill>
            <a:blip r:embed="rId6"/>
            <a:stretch/>
          </p:blipFill>
          <p:spPr>
            <a:xfrm>
              <a:off x="611280" y="1341360"/>
              <a:ext cx="3312720" cy="23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8" name=""/>
            <p:cNvSpPr/>
            <p:nvPr/>
          </p:nvSpPr>
          <p:spPr>
            <a:xfrm>
              <a:off x="738000" y="1996560"/>
              <a:ext cx="318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6600ff"/>
                  </a:solidFill>
                  <a:latin typeface="Arial"/>
                  <a:ea typeface="宋体"/>
                </a:rPr>
                <a:t>說明文字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2000"/>
                                        <p:tgtEl>
                                          <p:spTgt spid="1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770"/>
                                        <p:tgtEl>
                                          <p:spTgt spid="134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1" dur="770" fill="hold"/>
                                        <p:tgtEl>
                                          <p:spTgt spid="134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4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83" dur="770" fill="hold"/>
                                        <p:tgtEl>
                                          <p:spTgt spid="1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85" dur="770" fill="hold"/>
                                        <p:tgtEl>
                                          <p:spTgt spid="1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770"/>
                                        <p:tgtEl>
                                          <p:spTgt spid="133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2" dur="770" fill="hold"/>
                                        <p:tgtEl>
                                          <p:spTgt spid="133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3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94" dur="770" fill="hold"/>
                                        <p:tgtEl>
                                          <p:spTgt spid="1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96" dur="770" fill="hold"/>
                                        <p:tgtEl>
                                          <p:spTgt spid="1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770"/>
                                        <p:tgtEl>
                                          <p:spTgt spid="13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3" dur="770" fill="hold"/>
                                        <p:tgtEl>
                                          <p:spTgt spid="134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4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05" dur="770" fill="hold"/>
                                        <p:tgtEl>
                                          <p:spTgt spid="1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0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07" dur="770" fill="hold"/>
                                        <p:tgtEl>
                                          <p:spTgt spid="1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0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770"/>
                                        <p:tgtEl>
                                          <p:spTgt spid="134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4" dur="770" fill="hold"/>
                                        <p:tgtEl>
                                          <p:spTgt spid="134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4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16" dur="770" fill="hold"/>
                                        <p:tgtEl>
                                          <p:spTgt spid="1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18" dur="770" fill="hold"/>
                                        <p:tgtEl>
                                          <p:spTgt spid="1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9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20858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流程圖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0" name=""/>
          <p:cNvSpPr/>
          <p:nvPr/>
        </p:nvSpPr>
        <p:spPr>
          <a:xfrm>
            <a:off x="3132000" y="549360"/>
            <a:ext cx="1871640" cy="7207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說明文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1" name=""/>
          <p:cNvSpPr/>
          <p:nvPr/>
        </p:nvSpPr>
        <p:spPr>
          <a:xfrm>
            <a:off x="4067280" y="1268280"/>
            <a:ext cx="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2" name=""/>
          <p:cNvSpPr/>
          <p:nvPr/>
        </p:nvSpPr>
        <p:spPr>
          <a:xfrm>
            <a:off x="3033720" y="2225520"/>
            <a:ext cx="2089080" cy="648000"/>
          </a:xfrm>
          <a:prstGeom prst="flowChartDecision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判定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53" name=""/>
          <p:cNvGrpSpPr/>
          <p:nvPr/>
        </p:nvGrpSpPr>
        <p:grpSpPr>
          <a:xfrm>
            <a:off x="5122800" y="1773360"/>
            <a:ext cx="673200" cy="1511280"/>
            <a:chOff x="5122800" y="1773360"/>
            <a:chExt cx="673200" cy="1511280"/>
          </a:xfrm>
        </p:grpSpPr>
        <p:sp>
          <p:nvSpPr>
            <p:cNvPr id="1354" name=""/>
            <p:cNvSpPr/>
            <p:nvPr/>
          </p:nvSpPr>
          <p:spPr>
            <a:xfrm>
              <a:off x="5580000" y="1773360"/>
              <a:ext cx="216000" cy="1511280"/>
            </a:xfrm>
            <a:custGeom>
              <a:avLst/>
              <a:gdLst>
                <a:gd name="textAreaLeft" fmla="*/ 63360 w 216000"/>
                <a:gd name="textAreaRight" fmla="*/ 216360 w 216000"/>
                <a:gd name="textAreaTop" fmla="*/ 62640 h 1511280"/>
                <a:gd name="textAreaBottom" fmla="*/ 1448640 h 1511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5122800" y="2543040"/>
              <a:ext cx="43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56" name=""/>
          <p:cNvSpPr/>
          <p:nvPr/>
        </p:nvSpPr>
        <p:spPr>
          <a:xfrm>
            <a:off x="5872320" y="1557360"/>
            <a:ext cx="1081080" cy="4316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條件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7" name=""/>
          <p:cNvSpPr/>
          <p:nvPr/>
        </p:nvSpPr>
        <p:spPr>
          <a:xfrm>
            <a:off x="5867280" y="3068640"/>
            <a:ext cx="1081080" cy="4316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條件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8" name=""/>
          <p:cNvSpPr/>
          <p:nvPr/>
        </p:nvSpPr>
        <p:spPr>
          <a:xfrm>
            <a:off x="4067280" y="285264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9" name=""/>
          <p:cNvSpPr/>
          <p:nvPr/>
        </p:nvSpPr>
        <p:spPr>
          <a:xfrm>
            <a:off x="3132000" y="3789360"/>
            <a:ext cx="1871640" cy="7207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說明文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0" name=""/>
          <p:cNvSpPr/>
          <p:nvPr/>
        </p:nvSpPr>
        <p:spPr>
          <a:xfrm>
            <a:off x="4067280" y="4508640"/>
            <a:ext cx="0" cy="86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1" name=""/>
          <p:cNvSpPr/>
          <p:nvPr/>
        </p:nvSpPr>
        <p:spPr>
          <a:xfrm>
            <a:off x="3249720" y="5407200"/>
            <a:ext cx="1657080" cy="576000"/>
          </a:xfrm>
          <a:prstGeom prst="flowChartTerminator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結束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6" dur="500"/>
                                        <p:tgtEl>
                                          <p:spTgt spid="1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1" dur="500"/>
                                        <p:tgtEl>
                                          <p:spTgt spid="1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500"/>
                                        <p:tgtEl>
                                          <p:spTgt spid="1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500"/>
                            </p:stCondLst>
                            <p:childTnLst>
                              <p:par>
                                <p:cTn id="34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1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7" dur="500"/>
                                        <p:tgtEl>
                                          <p:spTgt spid="1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2" dur="500"/>
                                        <p:tgtEl>
                                          <p:spTgt spid="1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5" dur="500"/>
                                        <p:tgtEl>
                                          <p:spTgt spid="1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0" dur="500"/>
                                        <p:tgtEl>
                                          <p:spTgt spid="1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500"/>
                                        <p:tgtEl>
                                          <p:spTgt spid="1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"/>
          <p:cNvSpPr/>
          <p:nvPr/>
        </p:nvSpPr>
        <p:spPr>
          <a:xfrm>
            <a:off x="468360" y="1773360"/>
            <a:ext cx="1511280" cy="508464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楷体_GB2312"/>
              </a:rPr>
              <a:t>屬性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3" name="PlaceHolder 1"/>
          <p:cNvSpPr>
            <a:spLocks noGrp="1"/>
          </p:cNvSpPr>
          <p:nvPr>
            <p:ph type="title"/>
          </p:nvPr>
        </p:nvSpPr>
        <p:spPr>
          <a:xfrm>
            <a:off x="380880" y="404640"/>
            <a:ext cx="8382240" cy="10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產品比較</a:t>
            </a:r>
            <a:endParaRPr b="1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1364" name=""/>
          <p:cNvGrpSpPr/>
          <p:nvPr/>
        </p:nvGrpSpPr>
        <p:grpSpPr>
          <a:xfrm>
            <a:off x="2195640" y="1752480"/>
            <a:ext cx="3095640" cy="5105520"/>
            <a:chOff x="2195640" y="1752480"/>
            <a:chExt cx="3095640" cy="5105520"/>
          </a:xfrm>
        </p:grpSpPr>
        <p:sp>
          <p:nvSpPr>
            <p:cNvPr id="1365" name=""/>
            <p:cNvSpPr/>
            <p:nvPr/>
          </p:nvSpPr>
          <p:spPr>
            <a:xfrm>
              <a:off x="2195640" y="1752480"/>
              <a:ext cx="3095640" cy="5105520"/>
            </a:xfrm>
            <a:prstGeom prst="rect">
              <a:avLst/>
            </a:prstGeom>
            <a:noFill/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2195640" y="1935000"/>
              <a:ext cx="3095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00"/>
                </a:spcBef>
                <a:spcAft>
                  <a:spcPts val="201"/>
                </a:spcAft>
                <a:tabLst>
                  <a:tab algn="l" pos="0"/>
                  <a:tab algn="l" pos="3770280"/>
                  <a:tab algn="l" pos="5884920"/>
                  <a:tab algn="l" pos="6811920"/>
                  <a:tab algn="l" pos="7785000"/>
                  <a:tab algn="l" pos="8758080"/>
                  <a:tab algn="l" pos="9731520"/>
                  <a:tab algn="l" pos="10704600"/>
                </a:tabLst>
              </a:pPr>
              <a:r>
                <a:rPr b="1" lang="zh-CN" sz="3200" spc="-1" strike="noStrike">
                  <a:solidFill>
                    <a:srgbClr val="ffff00"/>
                  </a:solidFill>
                  <a:latin typeface="Arial"/>
                  <a:ea typeface="宋体"/>
                </a:rPr>
                <a:t>產品</a:t>
              </a:r>
              <a:r>
                <a:rPr b="1" lang="en-US" sz="3200" spc="-1" strike="noStrike">
                  <a:solidFill>
                    <a:srgbClr val="ffff00"/>
                  </a:solidFill>
                  <a:latin typeface="Arial"/>
                  <a:ea typeface="宋体"/>
                </a:rPr>
                <a:t>1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67" name=""/>
          <p:cNvGrpSpPr/>
          <p:nvPr/>
        </p:nvGrpSpPr>
        <p:grpSpPr>
          <a:xfrm>
            <a:off x="5508720" y="1752480"/>
            <a:ext cx="3240000" cy="5105520"/>
            <a:chOff x="5508720" y="1752480"/>
            <a:chExt cx="3240000" cy="5105520"/>
          </a:xfrm>
        </p:grpSpPr>
        <p:sp>
          <p:nvSpPr>
            <p:cNvPr id="1368" name=""/>
            <p:cNvSpPr/>
            <p:nvPr/>
          </p:nvSpPr>
          <p:spPr>
            <a:xfrm>
              <a:off x="5508720" y="1752480"/>
              <a:ext cx="3240000" cy="5105520"/>
            </a:xfrm>
            <a:prstGeom prst="rect">
              <a:avLst/>
            </a:prstGeom>
            <a:noFill/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5867280" y="1916280"/>
              <a:ext cx="21337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00"/>
                </a:spcBef>
                <a:spcAft>
                  <a:spcPts val="201"/>
                </a:spcAft>
                <a:tabLst>
                  <a:tab algn="l" pos="0"/>
                  <a:tab algn="l" pos="3770280"/>
                  <a:tab algn="l" pos="5884920"/>
                  <a:tab algn="l" pos="6811920"/>
                  <a:tab algn="l" pos="7785000"/>
                  <a:tab algn="l" pos="8758080"/>
                  <a:tab algn="l" pos="9731520"/>
                  <a:tab algn="l" pos="10704600"/>
                </a:tabLst>
              </a:pPr>
              <a:r>
                <a:rPr b="1" lang="zh-CN" sz="3200" spc="-1" strike="noStrike">
                  <a:solidFill>
                    <a:srgbClr val="ffff00"/>
                  </a:solidFill>
                  <a:latin typeface="Arial"/>
                  <a:ea typeface="宋体"/>
                </a:rPr>
                <a:t>產品</a:t>
              </a:r>
              <a:r>
                <a:rPr b="1" lang="en-US" sz="3200" spc="-1" strike="noStrike">
                  <a:solidFill>
                    <a:srgbClr val="ffff00"/>
                  </a:solidFill>
                  <a:latin typeface="Arial"/>
                  <a:ea typeface="宋体"/>
                </a:rPr>
                <a:t>2</a:t>
              </a:r>
              <a:br>
                <a:rPr sz="3200"/>
              </a:b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70" name=""/>
          <p:cNvSpPr/>
          <p:nvPr/>
        </p:nvSpPr>
        <p:spPr>
          <a:xfrm>
            <a:off x="-181080" y="2565360"/>
            <a:ext cx="9866520" cy="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1" name=""/>
          <p:cNvSpPr/>
          <p:nvPr/>
        </p:nvSpPr>
        <p:spPr>
          <a:xfrm>
            <a:off x="-396720" y="5445000"/>
            <a:ext cx="9937440" cy="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2" name=""/>
          <p:cNvSpPr/>
          <p:nvPr/>
        </p:nvSpPr>
        <p:spPr>
          <a:xfrm>
            <a:off x="324000" y="2708280"/>
            <a:ext cx="8640720" cy="792000"/>
          </a:xfrm>
          <a:prstGeom prst="rect">
            <a:avLst/>
          </a:prstGeom>
          <a:gradFill rotWithShape="0">
            <a:gsLst>
              <a:gs pos="0">
                <a:srgbClr val="757500"/>
              </a:gs>
              <a:gs pos="100000">
                <a:srgbClr val="ffff00">
                  <a:alpha val="8039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3" name=""/>
          <p:cNvSpPr/>
          <p:nvPr/>
        </p:nvSpPr>
        <p:spPr>
          <a:xfrm>
            <a:off x="324000" y="3573360"/>
            <a:ext cx="8640720" cy="79236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100000">
                <a:srgbClr val="0099ff">
                  <a:alpha val="8039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4" name=""/>
          <p:cNvSpPr/>
          <p:nvPr/>
        </p:nvSpPr>
        <p:spPr>
          <a:xfrm>
            <a:off x="324000" y="4508640"/>
            <a:ext cx="8640720" cy="79200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100000">
                <a:srgbClr val="008000">
                  <a:alpha val="8039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5" name=""/>
          <p:cNvSpPr/>
          <p:nvPr/>
        </p:nvSpPr>
        <p:spPr>
          <a:xfrm>
            <a:off x="539640" y="3789360"/>
            <a:ext cx="1368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76" name=""/>
          <p:cNvGrpSpPr/>
          <p:nvPr/>
        </p:nvGrpSpPr>
        <p:grpSpPr>
          <a:xfrm>
            <a:off x="611280" y="2708280"/>
            <a:ext cx="7850160" cy="696600"/>
            <a:chOff x="611280" y="2708280"/>
            <a:chExt cx="7850160" cy="696600"/>
          </a:xfrm>
        </p:grpSpPr>
        <p:sp>
          <p:nvSpPr>
            <p:cNvPr id="1377" name=""/>
            <p:cNvSpPr/>
            <p:nvPr/>
          </p:nvSpPr>
          <p:spPr>
            <a:xfrm>
              <a:off x="611280" y="2852640"/>
              <a:ext cx="122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說明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2340000" y="2773440"/>
              <a:ext cx="2736720" cy="63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說明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**************************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876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說明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**************************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5724360" y="2708280"/>
              <a:ext cx="2737080" cy="63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說明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**************************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876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說明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**************************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80" name=""/>
          <p:cNvGrpSpPr/>
          <p:nvPr/>
        </p:nvGrpSpPr>
        <p:grpSpPr>
          <a:xfrm>
            <a:off x="611280" y="3573360"/>
            <a:ext cx="7921440" cy="631440"/>
            <a:chOff x="611280" y="3573360"/>
            <a:chExt cx="7921440" cy="631440"/>
          </a:xfrm>
        </p:grpSpPr>
        <p:sp>
          <p:nvSpPr>
            <p:cNvPr id="1381" name=""/>
            <p:cNvSpPr/>
            <p:nvPr/>
          </p:nvSpPr>
          <p:spPr>
            <a:xfrm>
              <a:off x="611280" y="3716280"/>
              <a:ext cx="122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說明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2340000" y="3573360"/>
              <a:ext cx="2736720" cy="63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說明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**************************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876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說明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**************************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5796000" y="3573360"/>
              <a:ext cx="2736720" cy="63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說明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**************************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876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說明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**************************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84" name=""/>
          <p:cNvGrpSpPr/>
          <p:nvPr/>
        </p:nvGrpSpPr>
        <p:grpSpPr>
          <a:xfrm>
            <a:off x="539640" y="4508640"/>
            <a:ext cx="8064720" cy="631440"/>
            <a:chOff x="539640" y="4508640"/>
            <a:chExt cx="8064720" cy="631440"/>
          </a:xfrm>
        </p:grpSpPr>
        <p:sp>
          <p:nvSpPr>
            <p:cNvPr id="1385" name=""/>
            <p:cNvSpPr/>
            <p:nvPr/>
          </p:nvSpPr>
          <p:spPr>
            <a:xfrm>
              <a:off x="539640" y="4653000"/>
              <a:ext cx="122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說明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2411280" y="4508640"/>
              <a:ext cx="2737080" cy="63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說明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**************************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876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說明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**************************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5867280" y="4508640"/>
              <a:ext cx="2737080" cy="63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說明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**************************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876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說明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**************************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88" name=""/>
          <p:cNvSpPr/>
          <p:nvPr/>
        </p:nvSpPr>
        <p:spPr>
          <a:xfrm>
            <a:off x="324000" y="5734080"/>
            <a:ext cx="8640720" cy="792000"/>
          </a:xfrm>
          <a:prstGeom prst="rect">
            <a:avLst/>
          </a:prstGeom>
          <a:gradFill rotWithShape="0">
            <a:gsLst>
              <a:gs pos="0">
                <a:srgbClr val="6a2b00"/>
              </a:gs>
              <a:gs pos="100000">
                <a:srgbClr val="e85e00">
                  <a:alpha val="8039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89" name=""/>
          <p:cNvGrpSpPr/>
          <p:nvPr/>
        </p:nvGrpSpPr>
        <p:grpSpPr>
          <a:xfrm>
            <a:off x="611280" y="5726160"/>
            <a:ext cx="7921440" cy="639360"/>
            <a:chOff x="611280" y="5726160"/>
            <a:chExt cx="7921440" cy="639360"/>
          </a:xfrm>
        </p:grpSpPr>
        <p:sp>
          <p:nvSpPr>
            <p:cNvPr id="1390" name=""/>
            <p:cNvSpPr/>
            <p:nvPr/>
          </p:nvSpPr>
          <p:spPr>
            <a:xfrm>
              <a:off x="611280" y="5877000"/>
              <a:ext cx="122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結論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2340000" y="5726160"/>
              <a:ext cx="2736720" cy="63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說明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**************************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876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說明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**************************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5796000" y="5734080"/>
              <a:ext cx="2736720" cy="63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說明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**************************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876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說明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**************************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med">
    <p:wipe dir="r"/>
  </p:transition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500"/>
                            </p:stCondLst>
                            <p:childTnLst>
                              <p:par>
                                <p:cTn id="397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1000"/>
                            </p:stCondLst>
                            <p:childTnLst>
                              <p:par>
                                <p:cTn id="404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14" dur="500"/>
                                        <p:tgtEl>
                                          <p:spTgt spid="1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19" dur="500"/>
                                        <p:tgtEl>
                                          <p:spTgt spid="1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24" dur="500"/>
                                        <p:tgtEl>
                                          <p:spTgt spid="1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29" dur="500"/>
                                        <p:tgtEl>
                                          <p:spTgt spid="1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34" dur="500"/>
                                        <p:tgtEl>
                                          <p:spTgt spid="1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39" dur="500"/>
                                        <p:tgtEl>
                                          <p:spTgt spid="1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44" dur="500"/>
                                        <p:tgtEl>
                                          <p:spTgt spid="1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49" dur="500"/>
                                        <p:tgtEl>
                                          <p:spTgt spid="1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3" name=""/>
          <p:cNvGrpSpPr/>
          <p:nvPr/>
        </p:nvGrpSpPr>
        <p:grpSpPr>
          <a:xfrm>
            <a:off x="1474920" y="1339920"/>
            <a:ext cx="6481800" cy="4392720"/>
            <a:chOff x="1474920" y="1339920"/>
            <a:chExt cx="6481800" cy="4392720"/>
          </a:xfrm>
        </p:grpSpPr>
        <p:grpSp>
          <p:nvGrpSpPr>
            <p:cNvPr id="1394" name=""/>
            <p:cNvGrpSpPr/>
            <p:nvPr/>
          </p:nvGrpSpPr>
          <p:grpSpPr>
            <a:xfrm>
              <a:off x="1474920" y="1339920"/>
              <a:ext cx="5041800" cy="4392720"/>
              <a:chOff x="1474920" y="1339920"/>
              <a:chExt cx="5041800" cy="4392720"/>
            </a:xfrm>
          </p:grpSpPr>
          <p:sp>
            <p:nvSpPr>
              <p:cNvPr id="1395" name=""/>
              <p:cNvSpPr/>
              <p:nvPr/>
            </p:nvSpPr>
            <p:spPr>
              <a:xfrm>
                <a:off x="1474920" y="1339920"/>
                <a:ext cx="504720" cy="4392720"/>
              </a:xfrm>
              <a:prstGeom prst="rect">
                <a:avLst/>
              </a:prstGeom>
              <a:gradFill rotWithShape="0">
                <a:gsLst>
                  <a:gs pos="0">
                    <a:srgbClr val="5e5e75"/>
                  </a:gs>
                  <a:gs pos="50000">
                    <a:srgbClr val="ccccff"/>
                  </a:gs>
                  <a:gs pos="100000">
                    <a:srgbClr val="5e5e75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6" name=""/>
              <p:cNvSpPr/>
              <p:nvPr/>
            </p:nvSpPr>
            <p:spPr>
              <a:xfrm>
                <a:off x="2987640" y="1339920"/>
                <a:ext cx="504720" cy="4392720"/>
              </a:xfrm>
              <a:prstGeom prst="rect">
                <a:avLst/>
              </a:prstGeom>
              <a:gradFill rotWithShape="0">
                <a:gsLst>
                  <a:gs pos="0">
                    <a:srgbClr val="5e5e75"/>
                  </a:gs>
                  <a:gs pos="50000">
                    <a:srgbClr val="ccccff"/>
                  </a:gs>
                  <a:gs pos="100000">
                    <a:srgbClr val="5e5e75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7" name=""/>
              <p:cNvSpPr/>
              <p:nvPr/>
            </p:nvSpPr>
            <p:spPr>
              <a:xfrm>
                <a:off x="4500720" y="1339920"/>
                <a:ext cx="504720" cy="4392720"/>
              </a:xfrm>
              <a:prstGeom prst="rect">
                <a:avLst/>
              </a:prstGeom>
              <a:gradFill rotWithShape="0">
                <a:gsLst>
                  <a:gs pos="0">
                    <a:srgbClr val="5e5e75"/>
                  </a:gs>
                  <a:gs pos="50000">
                    <a:srgbClr val="ccccff"/>
                  </a:gs>
                  <a:gs pos="100000">
                    <a:srgbClr val="5e5e75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8" name=""/>
              <p:cNvSpPr/>
              <p:nvPr/>
            </p:nvSpPr>
            <p:spPr>
              <a:xfrm>
                <a:off x="6012000" y="1339920"/>
                <a:ext cx="504720" cy="4392720"/>
              </a:xfrm>
              <a:prstGeom prst="rect">
                <a:avLst/>
              </a:prstGeom>
              <a:gradFill rotWithShape="0">
                <a:gsLst>
                  <a:gs pos="0">
                    <a:srgbClr val="5e5e75"/>
                  </a:gs>
                  <a:gs pos="50000">
                    <a:srgbClr val="ccccff"/>
                  </a:gs>
                  <a:gs pos="100000">
                    <a:srgbClr val="5e5e75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399" name=""/>
            <p:cNvSpPr/>
            <p:nvPr/>
          </p:nvSpPr>
          <p:spPr>
            <a:xfrm>
              <a:off x="7451640" y="1339920"/>
              <a:ext cx="505080" cy="4392720"/>
            </a:xfrm>
            <a:prstGeom prst="rect">
              <a:avLst/>
            </a:prstGeom>
            <a:gradFill rotWithShape="0">
              <a:gsLst>
                <a:gs pos="0">
                  <a:srgbClr val="5e5e75"/>
                </a:gs>
                <a:gs pos="50000">
                  <a:srgbClr val="ccccff"/>
                </a:gs>
                <a:gs pos="100000">
                  <a:srgbClr val="5e5e75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00" name=""/>
          <p:cNvSpPr/>
          <p:nvPr/>
        </p:nvSpPr>
        <p:spPr>
          <a:xfrm>
            <a:off x="1474920" y="2997360"/>
            <a:ext cx="504720" cy="2735280"/>
          </a:xfrm>
          <a:prstGeom prst="rect">
            <a:avLst/>
          </a:prstGeom>
          <a:gradFill rotWithShape="0">
            <a:gsLst>
              <a:gs pos="0">
                <a:srgbClr val="5e7517"/>
              </a:gs>
              <a:gs pos="50000">
                <a:srgbClr val="ccff33"/>
              </a:gs>
              <a:gs pos="100000">
                <a:srgbClr val="5e751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1" name=""/>
          <p:cNvSpPr/>
          <p:nvPr/>
        </p:nvSpPr>
        <p:spPr>
          <a:xfrm>
            <a:off x="2987640" y="1989000"/>
            <a:ext cx="504720" cy="374364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2" name=""/>
          <p:cNvSpPr/>
          <p:nvPr/>
        </p:nvSpPr>
        <p:spPr>
          <a:xfrm>
            <a:off x="4500720" y="2494080"/>
            <a:ext cx="504720" cy="3238560"/>
          </a:xfrm>
          <a:prstGeom prst="rect">
            <a:avLst/>
          </a:prstGeom>
          <a:gradFill rotWithShape="0">
            <a:gsLst>
              <a:gs pos="0">
                <a:srgbClr val="17175e"/>
              </a:gs>
              <a:gs pos="50000">
                <a:srgbClr val="3333cc"/>
              </a:gs>
              <a:gs pos="100000">
                <a:srgbClr val="17175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3" name=""/>
          <p:cNvSpPr/>
          <p:nvPr/>
        </p:nvSpPr>
        <p:spPr>
          <a:xfrm>
            <a:off x="6012000" y="4076640"/>
            <a:ext cx="504720" cy="1656000"/>
          </a:xfrm>
          <a:prstGeom prst="rect">
            <a:avLst/>
          </a:prstGeom>
          <a:gradFill rotWithShape="0">
            <a:gsLst>
              <a:gs pos="0">
                <a:srgbClr val="00755e"/>
              </a:gs>
              <a:gs pos="50000">
                <a:srgbClr val="00ffcc"/>
              </a:gs>
              <a:gs pos="100000">
                <a:srgbClr val="00755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4" name=""/>
          <p:cNvSpPr/>
          <p:nvPr/>
        </p:nvSpPr>
        <p:spPr>
          <a:xfrm>
            <a:off x="7451640" y="1341360"/>
            <a:ext cx="505080" cy="4391280"/>
          </a:xfrm>
          <a:prstGeom prst="rect">
            <a:avLst/>
          </a:prstGeom>
          <a:gradFill rotWithShape="0">
            <a:gsLst>
              <a:gs pos="0">
                <a:srgbClr val="757500"/>
              </a:gs>
              <a:gs pos="50000">
                <a:srgbClr val="ffff00"/>
              </a:gs>
              <a:gs pos="100000">
                <a:srgbClr val="7575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5" name=""/>
          <p:cNvSpPr/>
          <p:nvPr/>
        </p:nvSpPr>
        <p:spPr>
          <a:xfrm>
            <a:off x="289080" y="5950080"/>
            <a:ext cx="8243640" cy="0"/>
          </a:xfrm>
          <a:prstGeom prst="line">
            <a:avLst/>
          </a:prstGeom>
          <a:ln w="7632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6" name=""/>
          <p:cNvSpPr/>
          <p:nvPr/>
        </p:nvSpPr>
        <p:spPr>
          <a:xfrm flipV="1">
            <a:off x="1044720" y="1052640"/>
            <a:ext cx="0" cy="540072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07" name=""/>
          <p:cNvGrpSpPr/>
          <p:nvPr/>
        </p:nvGrpSpPr>
        <p:grpSpPr>
          <a:xfrm>
            <a:off x="324000" y="1268280"/>
            <a:ext cx="792000" cy="3795120"/>
            <a:chOff x="324000" y="1268280"/>
            <a:chExt cx="792000" cy="3795120"/>
          </a:xfrm>
        </p:grpSpPr>
        <p:sp>
          <p:nvSpPr>
            <p:cNvPr id="1408" name=""/>
            <p:cNvSpPr/>
            <p:nvPr/>
          </p:nvSpPr>
          <p:spPr>
            <a:xfrm>
              <a:off x="360360" y="1268280"/>
              <a:ext cx="75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00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360360" y="3429000"/>
              <a:ext cx="75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50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360360" y="4726080"/>
              <a:ext cx="75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5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324000" y="2421000"/>
              <a:ext cx="75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75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12" name=""/>
          <p:cNvGrpSpPr/>
          <p:nvPr/>
        </p:nvGrpSpPr>
        <p:grpSpPr>
          <a:xfrm>
            <a:off x="1260360" y="6094440"/>
            <a:ext cx="6912000" cy="337320"/>
            <a:chOff x="1260360" y="6094440"/>
            <a:chExt cx="6912000" cy="337320"/>
          </a:xfrm>
        </p:grpSpPr>
        <p:sp>
          <p:nvSpPr>
            <p:cNvPr id="1413" name=""/>
            <p:cNvSpPr/>
            <p:nvPr/>
          </p:nvSpPr>
          <p:spPr>
            <a:xfrm>
              <a:off x="1260360" y="6094440"/>
              <a:ext cx="863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一月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2844720" y="6094440"/>
              <a:ext cx="863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二月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4284720" y="6094440"/>
              <a:ext cx="863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三月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5869080" y="6094440"/>
              <a:ext cx="863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四月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7308720" y="6094440"/>
              <a:ext cx="863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五月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18" name=""/>
          <p:cNvSpPr/>
          <p:nvPr/>
        </p:nvSpPr>
        <p:spPr>
          <a:xfrm>
            <a:off x="1187280" y="307800"/>
            <a:ext cx="66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標題文字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1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500"/>
                            </p:stCondLst>
                            <p:childTnLst>
                              <p:par>
                                <p:cTn id="45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61" dur="500"/>
                                        <p:tgtEl>
                                          <p:spTgt spid="1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1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500"/>
                            </p:stCondLst>
                            <p:childTnLst>
                              <p:par>
                                <p:cTn id="469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71" dur="500"/>
                                        <p:tgtEl>
                                          <p:spTgt spid="1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6" dur="500"/>
                                        <p:tgtEl>
                                          <p:spTgt spid="1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1" dur="2000"/>
                                        <p:tgtEl>
                                          <p:spTgt spid="1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6" dur="2000"/>
                                        <p:tgtEl>
                                          <p:spTgt spid="1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1" dur="2000"/>
                                        <p:tgtEl>
                                          <p:spTgt spid="1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6" dur="2000"/>
                                        <p:tgtEl>
                                          <p:spTgt spid="1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1" dur="2000"/>
                                        <p:tgtEl>
                                          <p:spTgt spid="1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"/>
          <p:cNvSpPr/>
          <p:nvPr/>
        </p:nvSpPr>
        <p:spPr>
          <a:xfrm>
            <a:off x="755640" y="979560"/>
            <a:ext cx="1152360" cy="4392720"/>
          </a:xfrm>
          <a:prstGeom prst="rect">
            <a:avLst/>
          </a:prstGeom>
          <a:gradFill rotWithShape="0">
            <a:gsLst>
              <a:gs pos="0">
                <a:srgbClr val="5e5e75"/>
              </a:gs>
              <a:gs pos="50000">
                <a:srgbClr val="ccccff"/>
              </a:gs>
              <a:gs pos="100000">
                <a:srgbClr val="5e5e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0" name=""/>
          <p:cNvSpPr/>
          <p:nvPr/>
        </p:nvSpPr>
        <p:spPr>
          <a:xfrm>
            <a:off x="755640" y="2637000"/>
            <a:ext cx="1152360" cy="2735280"/>
          </a:xfrm>
          <a:prstGeom prst="rect">
            <a:avLst/>
          </a:prstGeom>
          <a:gradFill rotWithShape="0">
            <a:gsLst>
              <a:gs pos="0">
                <a:srgbClr val="5e7517"/>
              </a:gs>
              <a:gs pos="50000">
                <a:srgbClr val="ccff33"/>
              </a:gs>
              <a:gs pos="100000">
                <a:srgbClr val="5e751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1" name="" descr=""/>
          <p:cNvPicPr/>
          <p:nvPr/>
        </p:nvPicPr>
        <p:blipFill>
          <a:blip r:embed="rId2"/>
          <a:stretch/>
        </p:blipFill>
        <p:spPr>
          <a:xfrm>
            <a:off x="755640" y="5445000"/>
            <a:ext cx="1152360" cy="577800"/>
          </a:xfrm>
          <a:prstGeom prst="rect">
            <a:avLst/>
          </a:prstGeom>
          <a:ln w="0">
            <a:noFill/>
          </a:ln>
        </p:spPr>
      </p:pic>
      <p:sp>
        <p:nvSpPr>
          <p:cNvPr id="1422" name=""/>
          <p:cNvSpPr/>
          <p:nvPr/>
        </p:nvSpPr>
        <p:spPr>
          <a:xfrm>
            <a:off x="2268360" y="979560"/>
            <a:ext cx="1152720" cy="4392720"/>
          </a:xfrm>
          <a:prstGeom prst="rect">
            <a:avLst/>
          </a:prstGeom>
          <a:gradFill rotWithShape="0">
            <a:gsLst>
              <a:gs pos="0">
                <a:srgbClr val="5e5e75"/>
              </a:gs>
              <a:gs pos="50000">
                <a:srgbClr val="ccccff"/>
              </a:gs>
              <a:gs pos="100000">
                <a:srgbClr val="5e5e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3" name=""/>
          <p:cNvSpPr/>
          <p:nvPr/>
        </p:nvSpPr>
        <p:spPr>
          <a:xfrm>
            <a:off x="2268360" y="1628640"/>
            <a:ext cx="1152720" cy="374364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4" name="" descr=""/>
          <p:cNvPicPr/>
          <p:nvPr/>
        </p:nvPicPr>
        <p:blipFill>
          <a:blip r:embed="rId3"/>
          <a:stretch/>
        </p:blipFill>
        <p:spPr>
          <a:xfrm>
            <a:off x="2268360" y="5445000"/>
            <a:ext cx="1152720" cy="577800"/>
          </a:xfrm>
          <a:prstGeom prst="rect">
            <a:avLst/>
          </a:prstGeom>
          <a:ln w="0">
            <a:noFill/>
          </a:ln>
        </p:spPr>
      </p:pic>
      <p:sp>
        <p:nvSpPr>
          <p:cNvPr id="1425" name=""/>
          <p:cNvSpPr/>
          <p:nvPr/>
        </p:nvSpPr>
        <p:spPr>
          <a:xfrm>
            <a:off x="3781440" y="979560"/>
            <a:ext cx="1152360" cy="4392720"/>
          </a:xfrm>
          <a:prstGeom prst="rect">
            <a:avLst/>
          </a:prstGeom>
          <a:gradFill rotWithShape="0">
            <a:gsLst>
              <a:gs pos="0">
                <a:srgbClr val="5e5e75"/>
              </a:gs>
              <a:gs pos="50000">
                <a:srgbClr val="ccccff"/>
              </a:gs>
              <a:gs pos="100000">
                <a:srgbClr val="5e5e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6" name=""/>
          <p:cNvSpPr/>
          <p:nvPr/>
        </p:nvSpPr>
        <p:spPr>
          <a:xfrm>
            <a:off x="3781440" y="2133720"/>
            <a:ext cx="1152360" cy="3238560"/>
          </a:xfrm>
          <a:prstGeom prst="rect">
            <a:avLst/>
          </a:prstGeom>
          <a:gradFill rotWithShape="0">
            <a:gsLst>
              <a:gs pos="0">
                <a:srgbClr val="17175e"/>
              </a:gs>
              <a:gs pos="50000">
                <a:srgbClr val="3333cc"/>
              </a:gs>
              <a:gs pos="100000">
                <a:srgbClr val="17175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7" name="" descr=""/>
          <p:cNvPicPr/>
          <p:nvPr/>
        </p:nvPicPr>
        <p:blipFill>
          <a:blip r:embed="rId4"/>
          <a:stretch/>
        </p:blipFill>
        <p:spPr>
          <a:xfrm>
            <a:off x="3781440" y="5445000"/>
            <a:ext cx="1152360" cy="577800"/>
          </a:xfrm>
          <a:prstGeom prst="rect">
            <a:avLst/>
          </a:prstGeom>
          <a:ln w="0">
            <a:noFill/>
          </a:ln>
        </p:spPr>
      </p:pic>
      <p:sp>
        <p:nvSpPr>
          <p:cNvPr id="1428" name=""/>
          <p:cNvSpPr/>
          <p:nvPr/>
        </p:nvSpPr>
        <p:spPr>
          <a:xfrm>
            <a:off x="5292720" y="979560"/>
            <a:ext cx="1152360" cy="4392720"/>
          </a:xfrm>
          <a:prstGeom prst="rect">
            <a:avLst/>
          </a:prstGeom>
          <a:gradFill rotWithShape="0">
            <a:gsLst>
              <a:gs pos="0">
                <a:srgbClr val="5e5e75"/>
              </a:gs>
              <a:gs pos="50000">
                <a:srgbClr val="ccccff"/>
              </a:gs>
              <a:gs pos="100000">
                <a:srgbClr val="5e5e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9" name=""/>
          <p:cNvSpPr/>
          <p:nvPr/>
        </p:nvSpPr>
        <p:spPr>
          <a:xfrm>
            <a:off x="5292720" y="3284640"/>
            <a:ext cx="1152360" cy="2087640"/>
          </a:xfrm>
          <a:prstGeom prst="rect">
            <a:avLst/>
          </a:prstGeom>
          <a:gradFill rotWithShape="0">
            <a:gsLst>
              <a:gs pos="0">
                <a:srgbClr val="00755e"/>
              </a:gs>
              <a:gs pos="50000">
                <a:srgbClr val="00ffcc"/>
              </a:gs>
              <a:gs pos="100000">
                <a:srgbClr val="00755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0" name="" descr=""/>
          <p:cNvPicPr/>
          <p:nvPr/>
        </p:nvPicPr>
        <p:blipFill>
          <a:blip r:embed="rId5"/>
          <a:stretch/>
        </p:blipFill>
        <p:spPr>
          <a:xfrm>
            <a:off x="5292720" y="5445000"/>
            <a:ext cx="1152360" cy="577800"/>
          </a:xfrm>
          <a:prstGeom prst="rect">
            <a:avLst/>
          </a:prstGeom>
          <a:ln w="0">
            <a:noFill/>
          </a:ln>
        </p:spPr>
      </p:pic>
      <p:sp>
        <p:nvSpPr>
          <p:cNvPr id="1431" name=""/>
          <p:cNvSpPr/>
          <p:nvPr/>
        </p:nvSpPr>
        <p:spPr>
          <a:xfrm>
            <a:off x="6732720" y="979560"/>
            <a:ext cx="1152360" cy="4392720"/>
          </a:xfrm>
          <a:prstGeom prst="rect">
            <a:avLst/>
          </a:prstGeom>
          <a:gradFill rotWithShape="0">
            <a:gsLst>
              <a:gs pos="0">
                <a:srgbClr val="5e5e75"/>
              </a:gs>
              <a:gs pos="50000">
                <a:srgbClr val="ccccff"/>
              </a:gs>
              <a:gs pos="100000">
                <a:srgbClr val="5e5e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2" name=""/>
          <p:cNvSpPr/>
          <p:nvPr/>
        </p:nvSpPr>
        <p:spPr>
          <a:xfrm>
            <a:off x="6732720" y="981000"/>
            <a:ext cx="1152360" cy="4391280"/>
          </a:xfrm>
          <a:prstGeom prst="rect">
            <a:avLst/>
          </a:prstGeom>
          <a:gradFill rotWithShape="0">
            <a:gsLst>
              <a:gs pos="0">
                <a:srgbClr val="757500"/>
              </a:gs>
              <a:gs pos="50000">
                <a:srgbClr val="ffff00"/>
              </a:gs>
              <a:gs pos="100000">
                <a:srgbClr val="7575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3" name="" descr=""/>
          <p:cNvPicPr/>
          <p:nvPr/>
        </p:nvPicPr>
        <p:blipFill>
          <a:blip r:embed="rId6"/>
          <a:stretch/>
        </p:blipFill>
        <p:spPr>
          <a:xfrm>
            <a:off x="6732720" y="5445000"/>
            <a:ext cx="1152360" cy="5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2" dur="indefinite" restart="never" nodeType="tmRoot">
          <p:childTnLst>
            <p:seq>
              <p:cTn id="503" restart="whenNotActive" nodeType="interactiveSeq" fill="hold">
                <p:stCondLst>
                  <p:cond evt="onClick">
                    <p:tgtEl>
                      <p:spTgt spid="1421"/>
                    </p:tgtEl>
                  </p:cond>
                </p:stCondLst>
                <p:childTnLst>
                  <p:par>
                    <p:cTn id="504" fill="hold">
                      <p:stCondLst>
                        <p:cond evt="onClick">
                          <p:tgtEl>
                            <p:spTgt spid="1421"/>
                          </p:tgtEl>
                        </p:cond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8" dur="2000"/>
                                        <p:tgtEl>
                                          <p:spTgt spid="1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9" restart="whenNotActive" nodeType="interactiveSeq" fill="hold">
                <p:stCondLst>
                  <p:cond evt="onClick">
                    <p:tgtEl>
                      <p:spTgt spid="1424"/>
                    </p:tgtEl>
                  </p:cond>
                </p:stCondLst>
                <p:childTnLst>
                  <p:par>
                    <p:cTn id="510" fill="hold">
                      <p:stCondLst>
                        <p:cond evt="onClick">
                          <p:tgtEl>
                            <p:spTgt spid="1424"/>
                          </p:tgtEl>
                        </p:cond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4" dur="2000"/>
                                        <p:tgtEl>
                                          <p:spTgt spid="1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5" restart="whenNotActive" nodeType="interactiveSeq" fill="hold">
                <p:stCondLst>
                  <p:cond evt="onClick">
                    <p:tgtEl>
                      <p:spTgt spid="1427"/>
                    </p:tgtEl>
                  </p:cond>
                </p:stCondLst>
                <p:childTnLst>
                  <p:par>
                    <p:cTn id="516" fill="hold">
                      <p:stCondLst>
                        <p:cond evt="onClick">
                          <p:tgtEl>
                            <p:spTgt spid="1427"/>
                          </p:tgtEl>
                        </p:cond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0" dur="20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1" restart="whenNotActive" nodeType="interactiveSeq" fill="hold">
                <p:stCondLst>
                  <p:cond evt="onClick">
                    <p:tgtEl>
                      <p:spTgt spid="1430"/>
                    </p:tgtEl>
                  </p:cond>
                </p:stCondLst>
                <p:childTnLst>
                  <p:par>
                    <p:cTn id="522" fill="hold">
                      <p:stCondLst>
                        <p:cond evt="onClick">
                          <p:tgtEl>
                            <p:spTgt spid="1430"/>
                          </p:tgtEl>
                        </p:cond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6" dur="2000"/>
                                        <p:tgtEl>
                                          <p:spTgt spid="1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7" restart="whenNotActive" nodeType="interactiveSeq" fill="hold">
                <p:stCondLst>
                  <p:cond evt="onClick">
                    <p:tgtEl>
                      <p:spTgt spid="1433"/>
                    </p:tgtEl>
                  </p:cond>
                </p:stCondLst>
                <p:childTnLst>
                  <p:par>
                    <p:cTn id="528" fill="hold">
                      <p:stCondLst>
                        <p:cond evt="onClick">
                          <p:tgtEl>
                            <p:spTgt spid="1433"/>
                          </p:tgtEl>
                        </p:cond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2" dur="2000"/>
                                        <p:tgtEl>
                                          <p:spTgt spid="1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標準曲線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35" name=""/>
          <p:cNvSpPr/>
          <p:nvPr/>
        </p:nvSpPr>
        <p:spPr>
          <a:xfrm>
            <a:off x="539640" y="1628640"/>
            <a:ext cx="3095640" cy="648000"/>
          </a:xfrm>
          <a:prstGeom prst="rect">
            <a:avLst/>
          </a:prstGeom>
          <a:gradFill rotWithShape="0">
            <a:gsLst>
              <a:gs pos="0">
                <a:srgbClr val="2f7575"/>
              </a:gs>
              <a:gs pos="100000">
                <a:srgbClr val="66ffff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Arial"/>
                <a:ea typeface="宋体"/>
              </a:rPr>
              <a:t>標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6" name=""/>
          <p:cNvSpPr/>
          <p:nvPr/>
        </p:nvSpPr>
        <p:spPr>
          <a:xfrm>
            <a:off x="539640" y="2565360"/>
            <a:ext cx="8072640" cy="3397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7" name=""/>
          <p:cNvSpPr/>
          <p:nvPr/>
        </p:nvSpPr>
        <p:spPr>
          <a:xfrm>
            <a:off x="501480" y="2565360"/>
            <a:ext cx="8072640" cy="3397320"/>
          </a:xfrm>
          <a:custGeom>
            <a:avLst/>
            <a:gdLst/>
            <a:ahLst/>
            <a:rect l="l" t="t" r="r" b="b"/>
            <a:pathLst>
              <a:path w="5085" h="2140">
                <a:moveTo>
                  <a:pt x="0" y="1988"/>
                </a:moveTo>
                <a:lnTo>
                  <a:pt x="5085" y="1988"/>
                </a:lnTo>
                <a:moveTo>
                  <a:pt x="0" y="2140"/>
                </a:moveTo>
                <a:lnTo>
                  <a:pt x="5085" y="2140"/>
                </a:lnTo>
                <a:lnTo>
                  <a:pt x="5085" y="0"/>
                </a:lnTo>
                <a:lnTo>
                  <a:pt x="0" y="0"/>
                </a:lnTo>
                <a:lnTo>
                  <a:pt x="0" y="2140"/>
                </a:lnTo>
              </a:path>
            </a:pathLst>
          </a:custGeom>
          <a:noFill/>
          <a:ln cap="rnd" w="158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8" name=""/>
          <p:cNvSpPr/>
          <p:nvPr/>
        </p:nvSpPr>
        <p:spPr>
          <a:xfrm>
            <a:off x="501480" y="3705120"/>
            <a:ext cx="8072640" cy="2008440"/>
          </a:xfrm>
          <a:custGeom>
            <a:avLst/>
            <a:gdLst/>
            <a:ahLst/>
            <a:rect l="l" t="t" r="r" b="b"/>
            <a:pathLst>
              <a:path w="5085" h="1265">
                <a:moveTo>
                  <a:pt x="5085" y="1265"/>
                </a:moveTo>
                <a:lnTo>
                  <a:pt x="4817" y="1250"/>
                </a:lnTo>
                <a:lnTo>
                  <a:pt x="4683" y="1236"/>
                </a:lnTo>
                <a:lnTo>
                  <a:pt x="4550" y="1215"/>
                </a:lnTo>
                <a:lnTo>
                  <a:pt x="4416" y="1186"/>
                </a:lnTo>
                <a:lnTo>
                  <a:pt x="4282" y="1147"/>
                </a:lnTo>
                <a:lnTo>
                  <a:pt x="4148" y="1095"/>
                </a:lnTo>
                <a:lnTo>
                  <a:pt x="3880" y="948"/>
                </a:lnTo>
                <a:lnTo>
                  <a:pt x="3613" y="741"/>
                </a:lnTo>
                <a:lnTo>
                  <a:pt x="3345" y="493"/>
                </a:lnTo>
                <a:lnTo>
                  <a:pt x="3212" y="367"/>
                </a:lnTo>
                <a:lnTo>
                  <a:pt x="3078" y="249"/>
                </a:lnTo>
                <a:lnTo>
                  <a:pt x="2944" y="147"/>
                </a:lnTo>
                <a:lnTo>
                  <a:pt x="2810" y="67"/>
                </a:lnTo>
                <a:lnTo>
                  <a:pt x="2676" y="17"/>
                </a:lnTo>
                <a:lnTo>
                  <a:pt x="2542" y="0"/>
                </a:lnTo>
                <a:moveTo>
                  <a:pt x="0" y="1265"/>
                </a:moveTo>
                <a:lnTo>
                  <a:pt x="268" y="1250"/>
                </a:lnTo>
                <a:lnTo>
                  <a:pt x="402" y="1236"/>
                </a:lnTo>
                <a:lnTo>
                  <a:pt x="535" y="1215"/>
                </a:lnTo>
                <a:lnTo>
                  <a:pt x="669" y="1186"/>
                </a:lnTo>
                <a:lnTo>
                  <a:pt x="803" y="1147"/>
                </a:lnTo>
                <a:lnTo>
                  <a:pt x="937" y="1095"/>
                </a:lnTo>
                <a:lnTo>
                  <a:pt x="1205" y="948"/>
                </a:lnTo>
                <a:lnTo>
                  <a:pt x="1472" y="741"/>
                </a:lnTo>
                <a:lnTo>
                  <a:pt x="1740" y="493"/>
                </a:lnTo>
                <a:lnTo>
                  <a:pt x="1873" y="367"/>
                </a:lnTo>
                <a:lnTo>
                  <a:pt x="2007" y="249"/>
                </a:lnTo>
                <a:lnTo>
                  <a:pt x="2141" y="147"/>
                </a:lnTo>
                <a:lnTo>
                  <a:pt x="2275" y="67"/>
                </a:lnTo>
                <a:lnTo>
                  <a:pt x="2409" y="17"/>
                </a:lnTo>
                <a:lnTo>
                  <a:pt x="2542" y="0"/>
                </a:lnTo>
              </a:path>
            </a:pathLst>
          </a:custGeom>
          <a:noFill/>
          <a:ln cap="rnd" w="1584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9" name=""/>
          <p:cNvSpPr/>
          <p:nvPr/>
        </p:nvSpPr>
        <p:spPr>
          <a:xfrm flipH="1">
            <a:off x="3192120" y="2575080"/>
            <a:ext cx="4680" cy="3138480"/>
          </a:xfrm>
          <a:prstGeom prst="line">
            <a:avLst/>
          </a:prstGeom>
          <a:ln cap="rnd"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0" name=""/>
          <p:cNvSpPr/>
          <p:nvPr/>
        </p:nvSpPr>
        <p:spPr>
          <a:xfrm>
            <a:off x="1060560" y="270972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80"/>
                </a:solidFill>
                <a:latin typeface="宋体"/>
                <a:ea typeface="宋体"/>
              </a:rPr>
              <a:t>文字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1" name=""/>
          <p:cNvSpPr/>
          <p:nvPr/>
        </p:nvSpPr>
        <p:spPr>
          <a:xfrm>
            <a:off x="2398680" y="270972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80"/>
                </a:solidFill>
                <a:latin typeface="宋体"/>
                <a:ea typeface="宋体"/>
              </a:rPr>
              <a:t>文字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2" name=""/>
          <p:cNvSpPr/>
          <p:nvPr/>
        </p:nvSpPr>
        <p:spPr>
          <a:xfrm>
            <a:off x="3754440" y="270972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80"/>
                </a:solidFill>
                <a:latin typeface="宋体"/>
                <a:ea typeface="宋体"/>
              </a:rPr>
              <a:t>文字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3" name=""/>
          <p:cNvSpPr/>
          <p:nvPr/>
        </p:nvSpPr>
        <p:spPr>
          <a:xfrm>
            <a:off x="5092560" y="270972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80"/>
                </a:solidFill>
                <a:latin typeface="宋体"/>
                <a:ea typeface="宋体"/>
              </a:rPr>
              <a:t>文字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4" name=""/>
          <p:cNvSpPr/>
          <p:nvPr/>
        </p:nvSpPr>
        <p:spPr>
          <a:xfrm>
            <a:off x="6429240" y="270972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80"/>
                </a:solidFill>
                <a:latin typeface="宋体"/>
                <a:ea typeface="宋体"/>
              </a:rPr>
              <a:t>文字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5" name=""/>
          <p:cNvSpPr/>
          <p:nvPr/>
        </p:nvSpPr>
        <p:spPr>
          <a:xfrm>
            <a:off x="7786800" y="270972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80"/>
                </a:solidFill>
                <a:latin typeface="宋体"/>
                <a:ea typeface="宋体"/>
              </a:rPr>
              <a:t>文字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6" name=""/>
          <p:cNvSpPr/>
          <p:nvPr/>
        </p:nvSpPr>
        <p:spPr>
          <a:xfrm>
            <a:off x="1841400" y="2565360"/>
            <a:ext cx="1800" cy="3132000"/>
          </a:xfrm>
          <a:prstGeom prst="line">
            <a:avLst/>
          </a:prstGeom>
          <a:ln cap="rnd"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7" name=""/>
          <p:cNvSpPr/>
          <p:nvPr/>
        </p:nvSpPr>
        <p:spPr>
          <a:xfrm flipH="1">
            <a:off x="4532040" y="2575080"/>
            <a:ext cx="4680" cy="3138480"/>
          </a:xfrm>
          <a:prstGeom prst="line">
            <a:avLst/>
          </a:prstGeom>
          <a:ln cap="rnd"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8" name=""/>
          <p:cNvSpPr/>
          <p:nvPr/>
        </p:nvSpPr>
        <p:spPr>
          <a:xfrm flipH="1">
            <a:off x="5871960" y="2575080"/>
            <a:ext cx="6120" cy="3138480"/>
          </a:xfrm>
          <a:prstGeom prst="line">
            <a:avLst/>
          </a:prstGeom>
          <a:ln cap="rnd"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9" name=""/>
          <p:cNvSpPr/>
          <p:nvPr/>
        </p:nvSpPr>
        <p:spPr>
          <a:xfrm flipH="1">
            <a:off x="7227720" y="2575080"/>
            <a:ext cx="6480" cy="3138480"/>
          </a:xfrm>
          <a:prstGeom prst="line">
            <a:avLst/>
          </a:prstGeom>
          <a:ln cap="rnd"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9" dur="1000"/>
                                        <p:tgtEl>
                                          <p:spTgt spid="1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"/>
          <p:cNvSpPr/>
          <p:nvPr/>
        </p:nvSpPr>
        <p:spPr>
          <a:xfrm>
            <a:off x="757080" y="2349360"/>
            <a:ext cx="2016360" cy="3167280"/>
          </a:xfrm>
          <a:prstGeom prst="rect">
            <a:avLst/>
          </a:prstGeom>
          <a:solidFill>
            <a:srgbClr val="ffff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進入階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1" name=""/>
          <p:cNvSpPr/>
          <p:nvPr/>
        </p:nvSpPr>
        <p:spPr>
          <a:xfrm>
            <a:off x="2773440" y="2349360"/>
            <a:ext cx="2016000" cy="3167280"/>
          </a:xfrm>
          <a:prstGeom prst="rect">
            <a:avLst/>
          </a:prstGeom>
          <a:solidFill>
            <a:srgbClr val="ffff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成長階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2" name=""/>
          <p:cNvSpPr/>
          <p:nvPr/>
        </p:nvSpPr>
        <p:spPr>
          <a:xfrm>
            <a:off x="4789440" y="2349360"/>
            <a:ext cx="2016000" cy="3167280"/>
          </a:xfrm>
          <a:prstGeom prst="rect">
            <a:avLst/>
          </a:prstGeom>
          <a:solidFill>
            <a:srgbClr val="ffff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成熟階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3" name=""/>
          <p:cNvSpPr/>
          <p:nvPr/>
        </p:nvSpPr>
        <p:spPr>
          <a:xfrm>
            <a:off x="6805440" y="2349360"/>
            <a:ext cx="2016360" cy="3167280"/>
          </a:xfrm>
          <a:prstGeom prst="rect">
            <a:avLst/>
          </a:prstGeom>
          <a:solidFill>
            <a:srgbClr val="ffff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衰退階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4" name=""/>
          <p:cNvSpPr/>
          <p:nvPr/>
        </p:nvSpPr>
        <p:spPr>
          <a:xfrm>
            <a:off x="539640" y="5516640"/>
            <a:ext cx="8569440" cy="0"/>
          </a:xfrm>
          <a:prstGeom prst="line">
            <a:avLst/>
          </a:prstGeom>
          <a:ln w="57240">
            <a:solidFill>
              <a:srgbClr val="00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PLC </a:t>
            </a:r>
            <a:r>
              <a:rPr b="0" lang="zh-CN" sz="4400" spc="-1" strike="noStrike">
                <a:solidFill>
                  <a:srgbClr val="ffff00"/>
                </a:solidFill>
                <a:latin typeface="Tahoma"/>
              </a:rPr>
              <a:t>分析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56" name=""/>
          <p:cNvSpPr/>
          <p:nvPr/>
        </p:nvSpPr>
        <p:spPr>
          <a:xfrm>
            <a:off x="1332000" y="3141720"/>
            <a:ext cx="6307200" cy="2355840"/>
          </a:xfrm>
          <a:custGeom>
            <a:avLst/>
            <a:gdLst/>
            <a:ahLst/>
            <a:rect l="l" t="t" r="r" b="b"/>
            <a:pathLst>
              <a:path w="3973" h="1484">
                <a:moveTo>
                  <a:pt x="3973" y="579"/>
                </a:moveTo>
                <a:lnTo>
                  <a:pt x="3814" y="431"/>
                </a:lnTo>
                <a:lnTo>
                  <a:pt x="3655" y="292"/>
                </a:lnTo>
                <a:lnTo>
                  <a:pt x="3496" y="173"/>
                </a:lnTo>
                <a:lnTo>
                  <a:pt x="3338" y="79"/>
                </a:lnTo>
                <a:lnTo>
                  <a:pt x="3178" y="20"/>
                </a:lnTo>
                <a:lnTo>
                  <a:pt x="3019" y="0"/>
                </a:lnTo>
                <a:moveTo>
                  <a:pt x="0" y="1484"/>
                </a:moveTo>
                <a:lnTo>
                  <a:pt x="317" y="1465"/>
                </a:lnTo>
                <a:lnTo>
                  <a:pt x="477" y="1449"/>
                </a:lnTo>
                <a:lnTo>
                  <a:pt x="635" y="1425"/>
                </a:lnTo>
                <a:lnTo>
                  <a:pt x="794" y="1391"/>
                </a:lnTo>
                <a:lnTo>
                  <a:pt x="953" y="1345"/>
                </a:lnTo>
                <a:lnTo>
                  <a:pt x="1112" y="1284"/>
                </a:lnTo>
                <a:lnTo>
                  <a:pt x="1430" y="1112"/>
                </a:lnTo>
                <a:lnTo>
                  <a:pt x="1748" y="869"/>
                </a:lnTo>
                <a:lnTo>
                  <a:pt x="2066" y="579"/>
                </a:lnTo>
                <a:lnTo>
                  <a:pt x="2224" y="431"/>
                </a:lnTo>
                <a:lnTo>
                  <a:pt x="2383" y="292"/>
                </a:lnTo>
                <a:lnTo>
                  <a:pt x="2543" y="173"/>
                </a:lnTo>
                <a:lnTo>
                  <a:pt x="2701" y="79"/>
                </a:lnTo>
                <a:lnTo>
                  <a:pt x="2860" y="20"/>
                </a:lnTo>
                <a:lnTo>
                  <a:pt x="3019" y="0"/>
                </a:lnTo>
              </a:path>
            </a:pathLst>
          </a:custGeom>
          <a:noFill/>
          <a:ln cap="rnd" w="381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57" name=""/>
          <p:cNvGrpSpPr/>
          <p:nvPr/>
        </p:nvGrpSpPr>
        <p:grpSpPr>
          <a:xfrm>
            <a:off x="7963200" y="4017960"/>
            <a:ext cx="389520" cy="789840"/>
            <a:chOff x="7963200" y="4017960"/>
            <a:chExt cx="389520" cy="789840"/>
          </a:xfrm>
        </p:grpSpPr>
        <p:sp>
          <p:nvSpPr>
            <p:cNvPr id="1458" name=""/>
            <p:cNvSpPr/>
            <p:nvPr/>
          </p:nvSpPr>
          <p:spPr>
            <a:xfrm>
              <a:off x="8089920" y="4017960"/>
              <a:ext cx="1303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700" spc="-1" strike="noStrike">
                  <a:solidFill>
                    <a:srgbClr val="000080"/>
                  </a:solidFill>
                  <a:latin typeface="宋体"/>
                  <a:ea typeface="宋体"/>
                </a:rPr>
                <a:t>總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8026560" y="4272120"/>
              <a:ext cx="2599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700" spc="-1" strike="noStrike">
                  <a:solidFill>
                    <a:srgbClr val="000080"/>
                  </a:solidFill>
                  <a:latin typeface="宋体"/>
                  <a:ea typeface="宋体"/>
                </a:rPr>
                <a:t>市場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7963200" y="4548240"/>
              <a:ext cx="389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700" spc="-1" strike="noStrike">
                  <a:solidFill>
                    <a:srgbClr val="000080"/>
                  </a:solidFill>
                  <a:latin typeface="宋体"/>
                  <a:ea typeface="宋体"/>
                </a:rPr>
                <a:t>銷售額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61" name=""/>
          <p:cNvSpPr/>
          <p:nvPr/>
        </p:nvSpPr>
        <p:spPr>
          <a:xfrm>
            <a:off x="4813560" y="5568840"/>
            <a:ext cx="2599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700" spc="-1" strike="noStrike">
                <a:solidFill>
                  <a:srgbClr val="ffff00"/>
                </a:solidFill>
                <a:latin typeface="宋体"/>
                <a:ea typeface="宋体"/>
              </a:rPr>
              <a:t>時間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2" name=""/>
          <p:cNvSpPr/>
          <p:nvPr/>
        </p:nvSpPr>
        <p:spPr>
          <a:xfrm>
            <a:off x="1258920" y="5300640"/>
            <a:ext cx="217440" cy="216000"/>
          </a:xfrm>
          <a:prstGeom prst="ellipse">
            <a:avLst/>
          </a:prstGeom>
          <a:gradFill rotWithShape="0">
            <a:gsLst>
              <a:gs pos="0">
                <a:srgbClr val="00ff00">
                  <a:alpha val="80392"/>
                </a:srgbClr>
              </a:gs>
              <a:gs pos="100000">
                <a:srgbClr val="0075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540" dur="indefinite" restart="never" nodeType="tmRoot">
          <p:childTnLst>
            <p:seq>
              <p:cTn id="541" dur="indefinite" nodeType="mainSeq">
                <p:childTnLst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2" presetSubtype="8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6" dur="4500"/>
                                        <p:tgtEl>
                                          <p:spTgt spid="1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52 0.01111 C 0.01164 0.01458 0.02414 0.01805 0.04375 0.01458 C 0.06354 0.01111 0.09966 -0.00232 0.11702 -0.00857 C 0.13438 -0.01459 0.14358 -0.01921 0.14914 -0.02107 E">
                                      <p:cBhvr>
                                        <p:cTn id="553" dur="2000" fill="hold"/>
                                        <p:tgtEl>
                                          <p:spTgt spid="14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fill="hold">
                            <p:stCondLst>
                              <p:cond delay="2000"/>
                            </p:stCondLst>
                            <p:childTnLst>
                              <p:par>
                                <p:cTn id="555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56" dur="1000" fill="hold"/>
                                        <p:tgtEl>
                                          <p:spTgt spid="14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set>
                                      <p:cBhvr>
                                        <p:cTn id="557" dur="1000" fill="hold"/>
                                        <p:tgtEl>
                                          <p:spTgt spid="14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4913 -0.02106 C 0.15191 -0.02198 0.15469 -0.02291 0.16996 -0.03217 C 0.18524 -0.04143 0.21875 -0.05786 0.2408 -0.07661 C 0.26285 -0.09536 0.28264 -0.12106 0.30226 -0.14467 C 0.32187 -0.16828 0.34687 -0.20254 0.35851 -0.21828 C 0.37014 -0.23402 0.37101 -0.23657 0.37205 -0.23911 E">
                                      <p:cBhvr>
                                        <p:cTn id="561" dur="2000" fill="hold"/>
                                        <p:tgtEl>
                                          <p:spTgt spid="14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2000"/>
                            </p:stCondLst>
                            <p:childTnLst>
                              <p:par>
                                <p:cTn id="56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64" dur="1000" fill="hold"/>
                                        <p:tgtEl>
                                          <p:spTgt spid="14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6600"/>
                                      </p:to>
                                    </p:animClr>
                                    <p:set>
                                      <p:cBhvr>
                                        <p:cTn id="565" dur="1000" fill="hold"/>
                                        <p:tgtEl>
                                          <p:spTgt spid="14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7205 -0.23912 C 0.37743 -0.24583 0.38281 -0.25231 0.3908 -0.26134 C 0.39878 -0.27037 0.40989 -0.2831 0.41996 -0.29328 C 0.43003 -0.30347 0.43976 -0.31481 0.45121 -0.32245 C 0.46267 -0.33009 0.47517 -0.33587 0.48871 -0.33912 C 0.50226 -0.34236 0.52014 -0.34305 0.53246 -0.34189 C 0.54479 -0.34074 0.55382 -0.33634 0.56267 -0.33217 C 0.57153 -0.328 0.58055 -0.3206 0.58559 -0.31689 C 0.59062 -0.31319 0.59166 -0.31157 0.59288 -0.30995 E">
                                      <p:cBhvr>
                                        <p:cTn id="569" dur="2000" fill="hold"/>
                                        <p:tgtEl>
                                          <p:spTgt spid="14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fill="hold">
                            <p:stCondLst>
                              <p:cond delay="2000"/>
                            </p:stCondLst>
                            <p:childTnLst>
                              <p:par>
                                <p:cTn id="571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72" dur="1000" fill="hold"/>
                                        <p:tgtEl>
                                          <p:spTgt spid="14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573" dur="1000" fill="hold"/>
                                        <p:tgtEl>
                                          <p:spTgt spid="14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9288 -0.30995 C 0.60087 -0.30184 0.60903 -0.29374 0.61996 -0.28217 C 0.6309 -0.27059 0.6467 -0.25485 0.65851 -0.2405 C 0.67031 -0.22615 0.68055 -0.2111 0.6908 -0.19606 E">
                                      <p:cBhvr>
                                        <p:cTn id="577" dur="2000" fill="hold"/>
                                        <p:tgtEl>
                                          <p:spTgt spid="14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fill="hold">
                            <p:stCondLst>
                              <p:cond delay="2000"/>
                            </p:stCondLst>
                            <p:childTnLst>
                              <p:par>
                                <p:cTn id="579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80" dur="1000" fill="hold"/>
                                        <p:tgtEl>
                                          <p:spTgt spid="14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0000"/>
                                      </p:to>
                                    </p:animClr>
                                    <p:set>
                                      <p:cBhvr>
                                        <p:cTn id="581" dur="1000" fill="hold"/>
                                        <p:tgtEl>
                                          <p:spTgt spid="14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fill="hold">
                            <p:stCondLst>
                              <p:cond delay="3000"/>
                            </p:stCondLst>
                            <p:childTnLst>
                              <p:par>
                                <p:cTn id="58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14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14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14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1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3" name=""/>
          <p:cNvSpPr/>
          <p:nvPr/>
        </p:nvSpPr>
        <p:spPr>
          <a:xfrm>
            <a:off x="2017800" y="6148440"/>
            <a:ext cx="824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-41040" bIns="-41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766440" y="75960"/>
            <a:ext cx="7623000" cy="1143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供需曲線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65" name=""/>
          <p:cNvGraphicFramePr/>
          <p:nvPr/>
        </p:nvGraphicFramePr>
        <p:xfrm>
          <a:off x="684360" y="2060640"/>
          <a:ext cx="8199360" cy="4397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6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4360" y="2060640"/>
                    <a:ext cx="8199360" cy="439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r"/>
  </p:transition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95" dur="500"/>
                                        <p:tgtEl>
                                          <p:spTgt spid="1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00" dur="500"/>
                                        <p:tgtEl>
                                          <p:spTgt spid="1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05" dur="500"/>
                                        <p:tgtEl>
                                          <p:spTgt spid="1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1468" name="PlaceHolder 2"/>
          <p:cNvSpPr>
            <a:spLocks noGrp="1"/>
          </p:cNvSpPr>
          <p:nvPr>
            <p:ph type="subTitle"/>
          </p:nvPr>
        </p:nvSpPr>
        <p:spPr>
          <a:xfrm>
            <a:off x="1752120" y="3566880"/>
            <a:ext cx="54104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华文行楷"/>
              </a:rPr>
              <a:t>價格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"/>
          <p:cNvSpPr/>
          <p:nvPr/>
        </p:nvSpPr>
        <p:spPr>
          <a:xfrm>
            <a:off x="3276720" y="4508640"/>
            <a:ext cx="431640" cy="358560"/>
          </a:xfrm>
          <a:custGeom>
            <a:avLst/>
            <a:gdLst>
              <a:gd name="textAreaLeft" fmla="*/ 101520 w 431640"/>
              <a:gd name="textAreaRight" fmla="*/ 330120 w 431640"/>
              <a:gd name="textAreaTop" fmla="*/ 42120 h 358560"/>
              <a:gd name="textAreaBottom" fmla="*/ 225000 h 3585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6" dur="indefinite" restart="never" nodeType="tmRoot">
          <p:childTnLst>
            <p:seq>
              <p:cTn id="607" dur="indefinite" nodeType="mainSeq">
                <p:childTnLst>
                  <p:par>
                    <p:cTn id="608" fill="hold">
                      <p:stCondLst>
                        <p:cond delay="0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after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1.27168E-006 C -8.33333E-007 -0.01017 0.00191 -0.05133 0.0007 -0.06173 C -0.00052 -0.07237 -0.00764 -0.07306 -0.00781 -0.06289 L -0.00156 0.00023 E">
                                      <p:cBhvr>
                                        <p:cTn id="611" dur="1000" fill="hold"/>
                                        <p:tgtEl>
                                          <p:spTgt spid="14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00ff"/>
                </a:solidFill>
                <a:latin typeface="Arial"/>
              </a:rPr>
              <a:t>營銷綜合圖</a:t>
            </a:r>
            <a:endParaRPr b="0" lang="en-US" sz="4800" spc="-1" strike="noStrike">
              <a:solidFill>
                <a:srgbClr val="336600"/>
              </a:solidFill>
              <a:latin typeface="Arial"/>
            </a:endParaRPr>
          </a:p>
        </p:txBody>
      </p:sp>
      <p:grpSp>
        <p:nvGrpSpPr>
          <p:cNvPr id="1211" name=""/>
          <p:cNvGrpSpPr/>
          <p:nvPr/>
        </p:nvGrpSpPr>
        <p:grpSpPr>
          <a:xfrm>
            <a:off x="2147760" y="1507680"/>
            <a:ext cx="4457880" cy="4444560"/>
            <a:chOff x="2147760" y="1507680"/>
            <a:chExt cx="4457880" cy="4444560"/>
          </a:xfrm>
        </p:grpSpPr>
        <p:grpSp>
          <p:nvGrpSpPr>
            <p:cNvPr id="1212" name=""/>
            <p:cNvGrpSpPr/>
            <p:nvPr/>
          </p:nvGrpSpPr>
          <p:grpSpPr>
            <a:xfrm>
              <a:off x="2147760" y="1507680"/>
              <a:ext cx="4444920" cy="4444560"/>
              <a:chOff x="2147760" y="1507680"/>
              <a:chExt cx="4444920" cy="4444560"/>
            </a:xfrm>
          </p:grpSpPr>
          <p:sp>
            <p:nvSpPr>
              <p:cNvPr id="1213" name=""/>
              <p:cNvSpPr/>
              <p:nvPr/>
            </p:nvSpPr>
            <p:spPr>
              <a:xfrm>
                <a:off x="2147760" y="1507680"/>
                <a:ext cx="2222280" cy="2222280"/>
              </a:xfrm>
              <a:custGeom>
                <a:avLst/>
                <a:gdLst/>
                <a:ahLst/>
                <a:rect l="l" t="t" r="r" b="b"/>
                <a:pathLst>
                  <a:path w="2560" h="2560">
                    <a:moveTo>
                      <a:pt x="0" y="2560"/>
                    </a:moveTo>
                    <a:lnTo>
                      <a:pt x="2560" y="2560"/>
                    </a:lnTo>
                    <a:lnTo>
                      <a:pt x="2560" y="0"/>
                    </a:lnTo>
                    <a:cubicBezTo>
                      <a:pt x="1146" y="0"/>
                      <a:pt x="0" y="1146"/>
                      <a:pt x="0" y="2560"/>
                    </a:cubicBezTo>
                    <a:close/>
                  </a:path>
                </a:pathLst>
              </a:custGeom>
              <a:noFill/>
              <a:ln cap="rnd" w="111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>
                <a:off x="2147760" y="3730320"/>
                <a:ext cx="2222280" cy="2221920"/>
              </a:xfrm>
              <a:custGeom>
                <a:avLst/>
                <a:gdLst/>
                <a:ahLst/>
                <a:rect l="l" t="t" r="r" b="b"/>
                <a:pathLst>
                  <a:path w="2560" h="2560">
                    <a:moveTo>
                      <a:pt x="2560" y="2560"/>
                    </a:moveTo>
                    <a:lnTo>
                      <a:pt x="2560" y="0"/>
                    </a:lnTo>
                    <a:lnTo>
                      <a:pt x="0" y="0"/>
                    </a:lnTo>
                    <a:cubicBezTo>
                      <a:pt x="0" y="1414"/>
                      <a:pt x="1146" y="2560"/>
                      <a:pt x="2560" y="2560"/>
                    </a:cubicBezTo>
                    <a:close/>
                  </a:path>
                </a:pathLst>
              </a:custGeom>
              <a:noFill/>
              <a:ln cap="rnd" w="111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>
                <a:off x="4370040" y="3730320"/>
                <a:ext cx="2222640" cy="2221920"/>
              </a:xfrm>
              <a:custGeom>
                <a:avLst/>
                <a:gdLst/>
                <a:ahLst/>
                <a:rect l="l" t="t" r="r" b="b"/>
                <a:pathLst>
                  <a:path w="2560" h="2560">
                    <a:moveTo>
                      <a:pt x="2560" y="0"/>
                    </a:moveTo>
                    <a:lnTo>
                      <a:pt x="0" y="0"/>
                    </a:lnTo>
                    <a:lnTo>
                      <a:pt x="0" y="2560"/>
                    </a:lnTo>
                    <a:cubicBezTo>
                      <a:pt x="1414" y="2560"/>
                      <a:pt x="2560" y="1414"/>
                      <a:pt x="2560" y="0"/>
                    </a:cubicBezTo>
                    <a:cubicBezTo>
                      <a:pt x="2560" y="0"/>
                      <a:pt x="2560" y="0"/>
                      <a:pt x="2560" y="0"/>
                    </a:cubicBezTo>
                    <a:close/>
                  </a:path>
                </a:pathLst>
              </a:custGeom>
              <a:noFill/>
              <a:ln cap="rnd" w="111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>
                <a:off x="3628800" y="2989080"/>
                <a:ext cx="1482840" cy="1482120"/>
              </a:xfrm>
              <a:custGeom>
                <a:avLst/>
                <a:gdLst/>
                <a:ahLst/>
                <a:rect l="l" t="t" r="r" b="b"/>
                <a:pathLst>
                  <a:path w="934" h="934">
                    <a:moveTo>
                      <a:pt x="0" y="467"/>
                    </a:moveTo>
                    <a:cubicBezTo>
                      <a:pt x="0" y="209"/>
                      <a:pt x="209" y="0"/>
                      <a:pt x="467" y="0"/>
                    </a:cubicBezTo>
                    <a:cubicBezTo>
                      <a:pt x="725" y="0"/>
                      <a:pt x="934" y="209"/>
                      <a:pt x="934" y="467"/>
                    </a:cubicBezTo>
                    <a:cubicBezTo>
                      <a:pt x="934" y="467"/>
                      <a:pt x="934" y="467"/>
                      <a:pt x="934" y="467"/>
                    </a:cubicBezTo>
                    <a:cubicBezTo>
                      <a:pt x="934" y="725"/>
                      <a:pt x="725" y="934"/>
                      <a:pt x="467" y="934"/>
                    </a:cubicBezTo>
                    <a:cubicBezTo>
                      <a:pt x="209" y="934"/>
                      <a:pt x="0" y="725"/>
                      <a:pt x="0" y="467"/>
                    </a:cubicBezTo>
                  </a:path>
                </a:pathLst>
              </a:custGeom>
              <a:noFill/>
              <a:ln cap="rnd" w="111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17" name=""/>
            <p:cNvSpPr/>
            <p:nvPr/>
          </p:nvSpPr>
          <p:spPr>
            <a:xfrm>
              <a:off x="4383000" y="1512720"/>
              <a:ext cx="2222640" cy="2222640"/>
            </a:xfrm>
            <a:custGeom>
              <a:avLst/>
              <a:gdLst/>
              <a:ahLst/>
              <a:rect l="l" t="t" r="r" b="b"/>
              <a:pathLst>
                <a:path w="2560" h="2560">
                  <a:moveTo>
                    <a:pt x="0" y="2560"/>
                  </a:moveTo>
                  <a:lnTo>
                    <a:pt x="2560" y="2560"/>
                  </a:lnTo>
                  <a:cubicBezTo>
                    <a:pt x="2560" y="1146"/>
                    <a:pt x="1414" y="0"/>
                    <a:pt x="0" y="0"/>
                  </a:cubicBezTo>
                  <a:lnTo>
                    <a:pt x="0" y="0"/>
                  </a:lnTo>
                  <a:lnTo>
                    <a:pt x="0" y="2560"/>
                  </a:lnTo>
                  <a:close/>
                </a:path>
              </a:pathLst>
            </a:custGeom>
            <a:noFill/>
            <a:ln cap="rnd"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18" name=""/>
          <p:cNvGrpSpPr/>
          <p:nvPr/>
        </p:nvGrpSpPr>
        <p:grpSpPr>
          <a:xfrm>
            <a:off x="2124000" y="1484280"/>
            <a:ext cx="2222280" cy="2222640"/>
            <a:chOff x="2124000" y="1484280"/>
            <a:chExt cx="2222280" cy="2222640"/>
          </a:xfrm>
        </p:grpSpPr>
        <p:sp>
          <p:nvSpPr>
            <p:cNvPr id="1219" name=""/>
            <p:cNvSpPr/>
            <p:nvPr/>
          </p:nvSpPr>
          <p:spPr>
            <a:xfrm>
              <a:off x="2124000" y="1484280"/>
              <a:ext cx="2222280" cy="2222640"/>
            </a:xfrm>
            <a:custGeom>
              <a:avLst/>
              <a:gdLst/>
              <a:ahLst/>
              <a:rect l="l" t="t" r="r" b="b"/>
              <a:pathLst>
                <a:path w="2560" h="2560">
                  <a:moveTo>
                    <a:pt x="0" y="2560"/>
                  </a:moveTo>
                  <a:lnTo>
                    <a:pt x="2560" y="2560"/>
                  </a:lnTo>
                  <a:lnTo>
                    <a:pt x="2560" y="0"/>
                  </a:lnTo>
                  <a:cubicBezTo>
                    <a:pt x="1146" y="0"/>
                    <a:pt x="0" y="1146"/>
                    <a:pt x="0" y="2560"/>
                  </a:cubicBezTo>
                  <a:close/>
                </a:path>
              </a:pathLst>
            </a:custGeom>
            <a:solidFill>
              <a:srgbClr val="ff99cc">
                <a:alpha val="80000"/>
              </a:srgbClr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0" name=""/>
            <p:cNvSpPr/>
            <p:nvPr/>
          </p:nvSpPr>
          <p:spPr>
            <a:xfrm rot="18900000">
              <a:off x="3146760" y="2513160"/>
              <a:ext cx="153000" cy="305280"/>
            </a:xfrm>
            <a:prstGeom prst="rect">
              <a:avLst/>
            </a:prstGeom>
            <a:solidFill>
              <a:srgbClr val="ff99cc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80"/>
                  </a:solidFill>
                  <a:latin typeface="宋体"/>
                  <a:ea typeface="宋体"/>
                </a:rPr>
                <a:t>產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1" name=""/>
            <p:cNvSpPr/>
            <p:nvPr/>
          </p:nvSpPr>
          <p:spPr>
            <a:xfrm rot="18900000">
              <a:off x="3286440" y="2387520"/>
              <a:ext cx="153000" cy="305280"/>
            </a:xfrm>
            <a:prstGeom prst="rect">
              <a:avLst/>
            </a:prstGeom>
            <a:solidFill>
              <a:srgbClr val="ff99cc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80"/>
                  </a:solidFill>
                  <a:latin typeface="宋体"/>
                  <a:ea typeface="宋体"/>
                </a:rPr>
                <a:t>品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22" name=""/>
          <p:cNvGrpSpPr/>
          <p:nvPr/>
        </p:nvGrpSpPr>
        <p:grpSpPr>
          <a:xfrm>
            <a:off x="2128680" y="3692520"/>
            <a:ext cx="2222280" cy="2222640"/>
            <a:chOff x="2128680" y="3692520"/>
            <a:chExt cx="2222280" cy="2222640"/>
          </a:xfrm>
        </p:grpSpPr>
        <p:sp>
          <p:nvSpPr>
            <p:cNvPr id="1223" name=""/>
            <p:cNvSpPr/>
            <p:nvPr/>
          </p:nvSpPr>
          <p:spPr>
            <a:xfrm>
              <a:off x="2128680" y="3692520"/>
              <a:ext cx="2222280" cy="2222640"/>
            </a:xfrm>
            <a:custGeom>
              <a:avLst/>
              <a:gdLst/>
              <a:ahLst/>
              <a:rect l="l" t="t" r="r" b="b"/>
              <a:pathLst>
                <a:path w="2560" h="2560">
                  <a:moveTo>
                    <a:pt x="2560" y="2560"/>
                  </a:moveTo>
                  <a:lnTo>
                    <a:pt x="2560" y="0"/>
                  </a:lnTo>
                  <a:lnTo>
                    <a:pt x="0" y="0"/>
                  </a:lnTo>
                  <a:cubicBezTo>
                    <a:pt x="0" y="1414"/>
                    <a:pt x="1146" y="2560"/>
                    <a:pt x="2560" y="2560"/>
                  </a:cubicBezTo>
                  <a:close/>
                </a:path>
              </a:pathLst>
            </a:custGeom>
            <a:solidFill>
              <a:srgbClr val="ffff66">
                <a:alpha val="80000"/>
              </a:srgbClr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4" name=""/>
            <p:cNvSpPr/>
            <p:nvPr/>
          </p:nvSpPr>
          <p:spPr>
            <a:xfrm rot="2700000">
              <a:off x="3108240" y="4653720"/>
              <a:ext cx="153000" cy="305280"/>
            </a:xfrm>
            <a:prstGeom prst="rect">
              <a:avLst/>
            </a:prstGeom>
            <a:solidFill>
              <a:srgbClr val="ffff6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80"/>
                  </a:solidFill>
                  <a:latin typeface="宋体"/>
                  <a:ea typeface="宋体"/>
                </a:rPr>
                <a:t>促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5" name=""/>
            <p:cNvSpPr/>
            <p:nvPr/>
          </p:nvSpPr>
          <p:spPr>
            <a:xfrm rot="2700000">
              <a:off x="3284640" y="4820400"/>
              <a:ext cx="153000" cy="305280"/>
            </a:xfrm>
            <a:prstGeom prst="rect">
              <a:avLst/>
            </a:prstGeom>
            <a:solidFill>
              <a:srgbClr val="ffff6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80"/>
                  </a:solidFill>
                  <a:latin typeface="宋体"/>
                  <a:ea typeface="宋体"/>
                </a:rPr>
                <a:t>銷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26" name=""/>
          <p:cNvGrpSpPr/>
          <p:nvPr/>
        </p:nvGrpSpPr>
        <p:grpSpPr>
          <a:xfrm>
            <a:off x="4346640" y="3706920"/>
            <a:ext cx="2222280" cy="2222280"/>
            <a:chOff x="4346640" y="3706920"/>
            <a:chExt cx="2222280" cy="2222280"/>
          </a:xfrm>
        </p:grpSpPr>
        <p:sp>
          <p:nvSpPr>
            <p:cNvPr id="1227" name=""/>
            <p:cNvSpPr/>
            <p:nvPr/>
          </p:nvSpPr>
          <p:spPr>
            <a:xfrm>
              <a:off x="4346640" y="3706920"/>
              <a:ext cx="2222280" cy="2222280"/>
            </a:xfrm>
            <a:custGeom>
              <a:avLst/>
              <a:gdLst/>
              <a:ahLst/>
              <a:rect l="l" t="t" r="r" b="b"/>
              <a:pathLst>
                <a:path w="2560" h="2560">
                  <a:moveTo>
                    <a:pt x="2560" y="0"/>
                  </a:moveTo>
                  <a:lnTo>
                    <a:pt x="0" y="0"/>
                  </a:lnTo>
                  <a:lnTo>
                    <a:pt x="0" y="2560"/>
                  </a:lnTo>
                  <a:cubicBezTo>
                    <a:pt x="1414" y="2560"/>
                    <a:pt x="2560" y="1414"/>
                    <a:pt x="2560" y="0"/>
                  </a:cubicBezTo>
                  <a:cubicBezTo>
                    <a:pt x="2560" y="0"/>
                    <a:pt x="2560" y="0"/>
                    <a:pt x="2560" y="0"/>
                  </a:cubicBezTo>
                  <a:close/>
                </a:path>
              </a:pathLst>
            </a:custGeom>
            <a:solidFill>
              <a:srgbClr val="66ff33">
                <a:alpha val="80000"/>
              </a:srgbClr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8" name=""/>
            <p:cNvSpPr/>
            <p:nvPr/>
          </p:nvSpPr>
          <p:spPr>
            <a:xfrm rot="18900000">
              <a:off x="5370840" y="4735080"/>
              <a:ext cx="153000" cy="305280"/>
            </a:xfrm>
            <a:prstGeom prst="rect">
              <a:avLst/>
            </a:prstGeom>
            <a:solidFill>
              <a:srgbClr val="66ff33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80"/>
                  </a:solidFill>
                  <a:latin typeface="宋体"/>
                  <a:ea typeface="宋体"/>
                </a:rPr>
                <a:t>分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9" name=""/>
            <p:cNvSpPr/>
            <p:nvPr/>
          </p:nvSpPr>
          <p:spPr>
            <a:xfrm rot="18900000">
              <a:off x="5564520" y="4512960"/>
              <a:ext cx="153000" cy="305280"/>
            </a:xfrm>
            <a:prstGeom prst="rect">
              <a:avLst/>
            </a:prstGeom>
            <a:solidFill>
              <a:srgbClr val="66ff33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80"/>
                  </a:solidFill>
                  <a:latin typeface="宋体"/>
                  <a:ea typeface="宋体"/>
                </a:rPr>
                <a:t>配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30" name=""/>
          <p:cNvGrpSpPr/>
          <p:nvPr/>
        </p:nvGrpSpPr>
        <p:grpSpPr>
          <a:xfrm>
            <a:off x="4356000" y="1494000"/>
            <a:ext cx="2222640" cy="2222280"/>
            <a:chOff x="4356000" y="1494000"/>
            <a:chExt cx="2222640" cy="2222280"/>
          </a:xfrm>
        </p:grpSpPr>
        <p:sp>
          <p:nvSpPr>
            <p:cNvPr id="1231" name=""/>
            <p:cNvSpPr/>
            <p:nvPr/>
          </p:nvSpPr>
          <p:spPr>
            <a:xfrm>
              <a:off x="4356000" y="1494000"/>
              <a:ext cx="2222640" cy="2222280"/>
            </a:xfrm>
            <a:custGeom>
              <a:avLst/>
              <a:gdLst/>
              <a:ahLst/>
              <a:rect l="l" t="t" r="r" b="b"/>
              <a:pathLst>
                <a:path w="2560" h="2560">
                  <a:moveTo>
                    <a:pt x="0" y="2560"/>
                  </a:moveTo>
                  <a:lnTo>
                    <a:pt x="2560" y="2560"/>
                  </a:lnTo>
                  <a:cubicBezTo>
                    <a:pt x="2560" y="1146"/>
                    <a:pt x="1414" y="0"/>
                    <a:pt x="0" y="0"/>
                  </a:cubicBezTo>
                  <a:lnTo>
                    <a:pt x="0" y="0"/>
                  </a:lnTo>
                  <a:lnTo>
                    <a:pt x="0" y="2560"/>
                  </a:lnTo>
                  <a:close/>
                </a:path>
              </a:pathLst>
            </a:custGeom>
            <a:solidFill>
              <a:srgbClr val="aaaa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2" name=""/>
            <p:cNvSpPr/>
            <p:nvPr/>
          </p:nvSpPr>
          <p:spPr>
            <a:xfrm rot="2700000">
              <a:off x="5282280" y="2413440"/>
              <a:ext cx="153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80"/>
                  </a:solidFill>
                  <a:latin typeface="宋体"/>
                  <a:ea typeface="宋体"/>
                </a:rPr>
                <a:t>價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3" name=""/>
            <p:cNvSpPr/>
            <p:nvPr/>
          </p:nvSpPr>
          <p:spPr>
            <a:xfrm rot="2700000">
              <a:off x="5452200" y="2578680"/>
              <a:ext cx="153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80"/>
                  </a:solidFill>
                  <a:latin typeface="宋体"/>
                  <a:ea typeface="宋体"/>
                </a:rPr>
                <a:t>格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34" name=""/>
          <p:cNvGrpSpPr/>
          <p:nvPr/>
        </p:nvGrpSpPr>
        <p:grpSpPr>
          <a:xfrm>
            <a:off x="3613320" y="2973240"/>
            <a:ext cx="1487160" cy="1501920"/>
            <a:chOff x="3613320" y="2973240"/>
            <a:chExt cx="1487160" cy="1501920"/>
          </a:xfrm>
        </p:grpSpPr>
        <p:sp>
          <p:nvSpPr>
            <p:cNvPr id="1235" name=""/>
            <p:cNvSpPr/>
            <p:nvPr/>
          </p:nvSpPr>
          <p:spPr>
            <a:xfrm>
              <a:off x="3613320" y="2973240"/>
              <a:ext cx="1487160" cy="1501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3300">
                    <a:alpha val="70196"/>
                  </a:srgbClr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3825720" y="3402000"/>
              <a:ext cx="99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Arial"/>
                  <a:ea typeface="华文新魏"/>
                </a:rPr>
                <a:t>顧客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121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" dur="10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500"/>
                            </p:stCondLst>
                            <p:childTnLst>
                              <p:par>
                                <p:cTn id="34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1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emph" presetID="26" repeatCount="2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" dur="500"/>
                                        <p:tgtEl>
                                          <p:spTgt spid="123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8" dur="250" autoRev="1" fill="hold"/>
                                        <p:tgtEl>
                                          <p:spTgt spid="123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00"/>
                </a:solidFill>
                <a:latin typeface="Arial"/>
              </a:rPr>
              <a:t>SWOT </a:t>
            </a:r>
            <a:r>
              <a:rPr b="0" lang="zh-CN" sz="4400" spc="-1" strike="noStrike">
                <a:solidFill>
                  <a:srgbClr val="336600"/>
                </a:solidFill>
                <a:latin typeface="Arial"/>
              </a:rPr>
              <a:t>分析</a:t>
            </a: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grpSp>
        <p:nvGrpSpPr>
          <p:cNvPr id="1238" name=""/>
          <p:cNvGrpSpPr/>
          <p:nvPr/>
        </p:nvGrpSpPr>
        <p:grpSpPr>
          <a:xfrm>
            <a:off x="4500720" y="1484280"/>
            <a:ext cx="4103280" cy="2301840"/>
            <a:chOff x="4500720" y="1484280"/>
            <a:chExt cx="4103280" cy="2301840"/>
          </a:xfrm>
        </p:grpSpPr>
        <p:sp>
          <p:nvSpPr>
            <p:cNvPr id="1239" name=""/>
            <p:cNvSpPr/>
            <p:nvPr/>
          </p:nvSpPr>
          <p:spPr>
            <a:xfrm>
              <a:off x="4500720" y="1484280"/>
              <a:ext cx="4103280" cy="2301840"/>
            </a:xfrm>
            <a:prstGeom prst="rect">
              <a:avLst/>
            </a:prstGeom>
            <a:solidFill>
              <a:srgbClr val="666699">
                <a:alpha val="8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conten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5780520" y="1555920"/>
              <a:ext cx="2048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Arial"/>
                  <a:ea typeface="隶书"/>
                </a:rPr>
                <a:t>弱點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41" name=""/>
          <p:cNvGrpSpPr/>
          <p:nvPr/>
        </p:nvGrpSpPr>
        <p:grpSpPr>
          <a:xfrm>
            <a:off x="539640" y="4076640"/>
            <a:ext cx="3384360" cy="2301840"/>
            <a:chOff x="539640" y="4076640"/>
            <a:chExt cx="3384360" cy="2301840"/>
          </a:xfrm>
        </p:grpSpPr>
        <p:sp>
          <p:nvSpPr>
            <p:cNvPr id="1242" name=""/>
            <p:cNvSpPr/>
            <p:nvPr/>
          </p:nvSpPr>
          <p:spPr>
            <a:xfrm>
              <a:off x="539640" y="4076640"/>
              <a:ext cx="3384360" cy="2301840"/>
            </a:xfrm>
            <a:prstGeom prst="rect">
              <a:avLst/>
            </a:prstGeom>
            <a:solidFill>
              <a:srgbClr val="ff9900">
                <a:alpha val="8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conten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1597680" y="4147920"/>
              <a:ext cx="1689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Arial"/>
                  <a:ea typeface="隶书"/>
                </a:rPr>
                <a:t>機會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44" name=""/>
          <p:cNvGrpSpPr/>
          <p:nvPr/>
        </p:nvGrpSpPr>
        <p:grpSpPr>
          <a:xfrm>
            <a:off x="4500720" y="4062240"/>
            <a:ext cx="4103280" cy="2301840"/>
            <a:chOff x="4500720" y="4062240"/>
            <a:chExt cx="4103280" cy="2301840"/>
          </a:xfrm>
        </p:grpSpPr>
        <p:sp>
          <p:nvSpPr>
            <p:cNvPr id="1245" name=""/>
            <p:cNvSpPr/>
            <p:nvPr/>
          </p:nvSpPr>
          <p:spPr>
            <a:xfrm>
              <a:off x="4500720" y="4062240"/>
              <a:ext cx="4103280" cy="2301840"/>
            </a:xfrm>
            <a:prstGeom prst="rect">
              <a:avLst/>
            </a:prstGeom>
            <a:solidFill>
              <a:srgbClr val="ff0000">
                <a:alpha val="8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conten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5653440" y="4133520"/>
              <a:ext cx="2048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Arial"/>
                  <a:ea typeface="隶书"/>
                </a:rPr>
                <a:t>威脅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47" name=""/>
          <p:cNvGrpSpPr/>
          <p:nvPr/>
        </p:nvGrpSpPr>
        <p:grpSpPr>
          <a:xfrm>
            <a:off x="539640" y="1484280"/>
            <a:ext cx="3455640" cy="2301840"/>
            <a:chOff x="539640" y="1484280"/>
            <a:chExt cx="3455640" cy="2301840"/>
          </a:xfrm>
        </p:grpSpPr>
        <p:sp>
          <p:nvSpPr>
            <p:cNvPr id="1248" name=""/>
            <p:cNvSpPr/>
            <p:nvPr/>
          </p:nvSpPr>
          <p:spPr>
            <a:xfrm>
              <a:off x="539640" y="1484280"/>
              <a:ext cx="3455640" cy="2301840"/>
            </a:xfrm>
            <a:prstGeom prst="rect">
              <a:avLst/>
            </a:prstGeom>
            <a:solidFill>
              <a:srgbClr val="009900">
                <a:alpha val="8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1620000" y="1557360"/>
              <a:ext cx="1725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Arial"/>
                  <a:ea typeface="隶书"/>
                </a:rPr>
                <a:t>優勢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1296000" y="2421000"/>
              <a:ext cx="205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conten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51" name=""/>
          <p:cNvGrpSpPr/>
          <p:nvPr/>
        </p:nvGrpSpPr>
        <p:grpSpPr>
          <a:xfrm>
            <a:off x="144360" y="1052640"/>
            <a:ext cx="8748720" cy="5472000"/>
            <a:chOff x="144360" y="1052640"/>
            <a:chExt cx="8748720" cy="5472000"/>
          </a:xfrm>
        </p:grpSpPr>
        <p:sp>
          <p:nvSpPr>
            <p:cNvPr id="1252" name=""/>
            <p:cNvSpPr/>
            <p:nvPr/>
          </p:nvSpPr>
          <p:spPr>
            <a:xfrm>
              <a:off x="144360" y="3861000"/>
              <a:ext cx="8748720" cy="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3" name=""/>
            <p:cNvSpPr/>
            <p:nvPr/>
          </p:nvSpPr>
          <p:spPr>
            <a:xfrm flipV="1">
              <a:off x="4284720" y="1052640"/>
              <a:ext cx="0" cy="547200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770"/>
                                        <p:tgtEl>
                                          <p:spTgt spid="125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6" dur="770" fill="hold"/>
                                        <p:tgtEl>
                                          <p:spTgt spid="125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8" dur="770" fill="hold"/>
                                        <p:tgtEl>
                                          <p:spTgt spid="1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0" dur="770" fill="hold"/>
                                        <p:tgtEl>
                                          <p:spTgt spid="1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66" dur="500"/>
                                        <p:tgtEl>
                                          <p:spTgt spid="1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1" dur="500"/>
                                        <p:tgtEl>
                                          <p:spTgt spid="1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6" dur="500"/>
                                        <p:tgtEl>
                                          <p:spTgt spid="1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1" dur="500"/>
                                        <p:tgtEl>
                                          <p:spTgt spid="1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grpSp>
        <p:nvGrpSpPr>
          <p:cNvPr id="1255" name=""/>
          <p:cNvGrpSpPr/>
          <p:nvPr/>
        </p:nvGrpSpPr>
        <p:grpSpPr>
          <a:xfrm>
            <a:off x="3059280" y="1773360"/>
            <a:ext cx="3187440" cy="1311120"/>
            <a:chOff x="3059280" y="1773360"/>
            <a:chExt cx="3187440" cy="1311120"/>
          </a:xfrm>
        </p:grpSpPr>
        <p:sp>
          <p:nvSpPr>
            <p:cNvPr id="1256" name=""/>
            <p:cNvSpPr/>
            <p:nvPr/>
          </p:nvSpPr>
          <p:spPr>
            <a:xfrm>
              <a:off x="3059280" y="1773360"/>
              <a:ext cx="3187440" cy="1311120"/>
            </a:xfrm>
            <a:custGeom>
              <a:avLst/>
              <a:gdLst/>
              <a:ahLst/>
              <a:rect l="l" t="t" r="r" b="b"/>
              <a:pathLst>
                <a:path w="2008" h="826">
                  <a:moveTo>
                    <a:pt x="1047" y="0"/>
                  </a:moveTo>
                  <a:lnTo>
                    <a:pt x="882" y="3"/>
                  </a:lnTo>
                  <a:lnTo>
                    <a:pt x="830" y="5"/>
                  </a:lnTo>
                  <a:lnTo>
                    <a:pt x="802" y="10"/>
                  </a:lnTo>
                  <a:lnTo>
                    <a:pt x="741" y="18"/>
                  </a:lnTo>
                  <a:lnTo>
                    <a:pt x="709" y="23"/>
                  </a:lnTo>
                  <a:lnTo>
                    <a:pt x="678" y="30"/>
                  </a:lnTo>
                  <a:lnTo>
                    <a:pt x="647" y="38"/>
                  </a:lnTo>
                  <a:lnTo>
                    <a:pt x="618" y="47"/>
                  </a:lnTo>
                  <a:lnTo>
                    <a:pt x="586" y="55"/>
                  </a:lnTo>
                  <a:lnTo>
                    <a:pt x="559" y="65"/>
                  </a:lnTo>
                  <a:lnTo>
                    <a:pt x="535" y="72"/>
                  </a:lnTo>
                  <a:lnTo>
                    <a:pt x="506" y="81"/>
                  </a:lnTo>
                  <a:lnTo>
                    <a:pt x="458" y="100"/>
                  </a:lnTo>
                  <a:lnTo>
                    <a:pt x="438" y="107"/>
                  </a:lnTo>
                  <a:lnTo>
                    <a:pt x="411" y="119"/>
                  </a:lnTo>
                  <a:lnTo>
                    <a:pt x="388" y="128"/>
                  </a:lnTo>
                  <a:lnTo>
                    <a:pt x="364" y="141"/>
                  </a:lnTo>
                  <a:lnTo>
                    <a:pt x="336" y="156"/>
                  </a:lnTo>
                  <a:lnTo>
                    <a:pt x="314" y="166"/>
                  </a:lnTo>
                  <a:lnTo>
                    <a:pt x="290" y="180"/>
                  </a:lnTo>
                  <a:lnTo>
                    <a:pt x="267" y="193"/>
                  </a:lnTo>
                  <a:lnTo>
                    <a:pt x="243" y="208"/>
                  </a:lnTo>
                  <a:lnTo>
                    <a:pt x="222" y="223"/>
                  </a:lnTo>
                  <a:lnTo>
                    <a:pt x="201" y="234"/>
                  </a:lnTo>
                  <a:lnTo>
                    <a:pt x="183" y="248"/>
                  </a:lnTo>
                  <a:lnTo>
                    <a:pt x="159" y="263"/>
                  </a:lnTo>
                  <a:lnTo>
                    <a:pt x="137" y="279"/>
                  </a:lnTo>
                  <a:lnTo>
                    <a:pt x="119" y="294"/>
                  </a:lnTo>
                  <a:lnTo>
                    <a:pt x="102" y="307"/>
                  </a:lnTo>
                  <a:lnTo>
                    <a:pt x="83" y="321"/>
                  </a:lnTo>
                  <a:lnTo>
                    <a:pt x="66" y="336"/>
                  </a:lnTo>
                  <a:lnTo>
                    <a:pt x="51" y="350"/>
                  </a:lnTo>
                  <a:lnTo>
                    <a:pt x="35" y="365"/>
                  </a:lnTo>
                  <a:lnTo>
                    <a:pt x="19" y="378"/>
                  </a:lnTo>
                  <a:lnTo>
                    <a:pt x="0" y="396"/>
                  </a:lnTo>
                  <a:lnTo>
                    <a:pt x="154" y="466"/>
                  </a:lnTo>
                  <a:lnTo>
                    <a:pt x="373" y="773"/>
                  </a:lnTo>
                  <a:lnTo>
                    <a:pt x="392" y="756"/>
                  </a:lnTo>
                  <a:lnTo>
                    <a:pt x="410" y="739"/>
                  </a:lnTo>
                  <a:lnTo>
                    <a:pt x="437" y="717"/>
                  </a:lnTo>
                  <a:lnTo>
                    <a:pt x="467" y="693"/>
                  </a:lnTo>
                  <a:lnTo>
                    <a:pt x="493" y="677"/>
                  </a:lnTo>
                  <a:lnTo>
                    <a:pt x="551" y="641"/>
                  </a:lnTo>
                  <a:lnTo>
                    <a:pt x="584" y="624"/>
                  </a:lnTo>
                  <a:lnTo>
                    <a:pt x="614" y="608"/>
                  </a:lnTo>
                  <a:lnTo>
                    <a:pt x="644" y="594"/>
                  </a:lnTo>
                  <a:lnTo>
                    <a:pt x="679" y="582"/>
                  </a:lnTo>
                  <a:lnTo>
                    <a:pt x="713" y="570"/>
                  </a:lnTo>
                  <a:lnTo>
                    <a:pt x="747" y="559"/>
                  </a:lnTo>
                  <a:lnTo>
                    <a:pt x="790" y="549"/>
                  </a:lnTo>
                  <a:lnTo>
                    <a:pt x="829" y="541"/>
                  </a:lnTo>
                  <a:lnTo>
                    <a:pt x="864" y="536"/>
                  </a:lnTo>
                  <a:lnTo>
                    <a:pt x="900" y="533"/>
                  </a:lnTo>
                  <a:lnTo>
                    <a:pt x="1036" y="529"/>
                  </a:lnTo>
                  <a:lnTo>
                    <a:pt x="1067" y="531"/>
                  </a:lnTo>
                  <a:lnTo>
                    <a:pt x="1130" y="540"/>
                  </a:lnTo>
                  <a:lnTo>
                    <a:pt x="1189" y="552"/>
                  </a:lnTo>
                  <a:lnTo>
                    <a:pt x="1247" y="569"/>
                  </a:lnTo>
                  <a:lnTo>
                    <a:pt x="1335" y="604"/>
                  </a:lnTo>
                  <a:lnTo>
                    <a:pt x="1392" y="632"/>
                  </a:lnTo>
                  <a:lnTo>
                    <a:pt x="1415" y="645"/>
                  </a:lnTo>
                  <a:lnTo>
                    <a:pt x="1443" y="663"/>
                  </a:lnTo>
                  <a:lnTo>
                    <a:pt x="1465" y="677"/>
                  </a:lnTo>
                  <a:lnTo>
                    <a:pt x="1484" y="691"/>
                  </a:lnTo>
                  <a:lnTo>
                    <a:pt x="1360" y="826"/>
                  </a:lnTo>
                  <a:lnTo>
                    <a:pt x="1930" y="735"/>
                  </a:lnTo>
                  <a:lnTo>
                    <a:pt x="2008" y="135"/>
                  </a:lnTo>
                  <a:lnTo>
                    <a:pt x="1849" y="303"/>
                  </a:lnTo>
                  <a:lnTo>
                    <a:pt x="1798" y="263"/>
                  </a:lnTo>
                  <a:lnTo>
                    <a:pt x="1721" y="211"/>
                  </a:lnTo>
                  <a:lnTo>
                    <a:pt x="1688" y="192"/>
                  </a:lnTo>
                  <a:lnTo>
                    <a:pt x="1664" y="177"/>
                  </a:lnTo>
                  <a:lnTo>
                    <a:pt x="1638" y="162"/>
                  </a:lnTo>
                  <a:lnTo>
                    <a:pt x="1606" y="146"/>
                  </a:lnTo>
                  <a:lnTo>
                    <a:pt x="1579" y="133"/>
                  </a:lnTo>
                  <a:lnTo>
                    <a:pt x="1551" y="119"/>
                  </a:lnTo>
                  <a:lnTo>
                    <a:pt x="1527" y="109"/>
                  </a:lnTo>
                  <a:lnTo>
                    <a:pt x="1492" y="95"/>
                  </a:lnTo>
                  <a:lnTo>
                    <a:pt x="1390" y="58"/>
                  </a:lnTo>
                  <a:lnTo>
                    <a:pt x="1358" y="49"/>
                  </a:lnTo>
                  <a:lnTo>
                    <a:pt x="1326" y="39"/>
                  </a:lnTo>
                  <a:lnTo>
                    <a:pt x="1297" y="31"/>
                  </a:lnTo>
                  <a:lnTo>
                    <a:pt x="1267" y="25"/>
                  </a:lnTo>
                  <a:lnTo>
                    <a:pt x="1237" y="19"/>
                  </a:lnTo>
                  <a:lnTo>
                    <a:pt x="1212" y="14"/>
                  </a:lnTo>
                  <a:lnTo>
                    <a:pt x="1181" y="10"/>
                  </a:lnTo>
                  <a:lnTo>
                    <a:pt x="1158" y="8"/>
                  </a:lnTo>
                  <a:lnTo>
                    <a:pt x="1131" y="4"/>
                  </a:lnTo>
                  <a:lnTo>
                    <a:pt x="1107" y="3"/>
                  </a:lnTo>
                  <a:lnTo>
                    <a:pt x="1087" y="1"/>
                  </a:lnTo>
                  <a:lnTo>
                    <a:pt x="1047" y="0"/>
                  </a:lnTo>
                  <a:close/>
                </a:path>
              </a:pathLst>
            </a:custGeom>
            <a:solidFill>
              <a:srgbClr val="5555ff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7" name=""/>
            <p:cNvSpPr/>
            <p:nvPr/>
          </p:nvSpPr>
          <p:spPr>
            <a:xfrm rot="60000">
              <a:off x="4434120" y="2007720"/>
              <a:ext cx="198720" cy="396360"/>
            </a:xfrm>
            <a:prstGeom prst="rect">
              <a:avLst/>
            </a:prstGeom>
            <a:noFill/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600" spc="-1" strike="noStrike">
                  <a:solidFill>
                    <a:srgbClr val="000080"/>
                  </a:solidFill>
                  <a:latin typeface="宋体"/>
                  <a:ea typeface="宋体"/>
                </a:rPr>
                <a:t>文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8" name=""/>
            <p:cNvSpPr/>
            <p:nvPr/>
          </p:nvSpPr>
          <p:spPr>
            <a:xfrm rot="60000">
              <a:off x="4758120" y="2025360"/>
              <a:ext cx="198720" cy="396360"/>
            </a:xfrm>
            <a:prstGeom prst="rect">
              <a:avLst/>
            </a:prstGeom>
            <a:noFill/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600" spc="-1" strike="noStrike">
                  <a:solidFill>
                    <a:srgbClr val="000080"/>
                  </a:solidFill>
                  <a:latin typeface="宋体"/>
                  <a:ea typeface="宋体"/>
                </a:rPr>
                <a:t>字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59" name=""/>
          <p:cNvGrpSpPr/>
          <p:nvPr/>
        </p:nvGrpSpPr>
        <p:grpSpPr>
          <a:xfrm>
            <a:off x="2394000" y="2274840"/>
            <a:ext cx="1471680" cy="3206880"/>
            <a:chOff x="2394000" y="2274840"/>
            <a:chExt cx="1471680" cy="3206880"/>
          </a:xfrm>
        </p:grpSpPr>
        <p:sp>
          <p:nvSpPr>
            <p:cNvPr id="1260" name=""/>
            <p:cNvSpPr/>
            <p:nvPr/>
          </p:nvSpPr>
          <p:spPr>
            <a:xfrm>
              <a:off x="2394000" y="2274840"/>
              <a:ext cx="1471680" cy="3206880"/>
            </a:xfrm>
            <a:custGeom>
              <a:avLst/>
              <a:gdLst/>
              <a:ahLst/>
              <a:rect l="l" t="t" r="r" b="b"/>
              <a:pathLst>
                <a:path w="927" h="2020">
                  <a:moveTo>
                    <a:pt x="538" y="992"/>
                  </a:moveTo>
                  <a:lnTo>
                    <a:pt x="544" y="946"/>
                  </a:lnTo>
                  <a:lnTo>
                    <a:pt x="553" y="888"/>
                  </a:lnTo>
                  <a:lnTo>
                    <a:pt x="559" y="858"/>
                  </a:lnTo>
                  <a:lnTo>
                    <a:pt x="568" y="830"/>
                  </a:lnTo>
                  <a:lnTo>
                    <a:pt x="577" y="800"/>
                  </a:lnTo>
                  <a:lnTo>
                    <a:pt x="598" y="744"/>
                  </a:lnTo>
                  <a:lnTo>
                    <a:pt x="612" y="712"/>
                  </a:lnTo>
                  <a:lnTo>
                    <a:pt x="626" y="683"/>
                  </a:lnTo>
                  <a:lnTo>
                    <a:pt x="640" y="657"/>
                  </a:lnTo>
                  <a:lnTo>
                    <a:pt x="653" y="633"/>
                  </a:lnTo>
                  <a:lnTo>
                    <a:pt x="685" y="583"/>
                  </a:lnTo>
                  <a:lnTo>
                    <a:pt x="713" y="544"/>
                  </a:lnTo>
                  <a:lnTo>
                    <a:pt x="730" y="526"/>
                  </a:lnTo>
                  <a:lnTo>
                    <a:pt x="927" y="704"/>
                  </a:lnTo>
                  <a:lnTo>
                    <a:pt x="902" y="115"/>
                  </a:lnTo>
                  <a:lnTo>
                    <a:pt x="155" y="0"/>
                  </a:lnTo>
                  <a:lnTo>
                    <a:pt x="337" y="168"/>
                  </a:lnTo>
                  <a:lnTo>
                    <a:pt x="311" y="199"/>
                  </a:lnTo>
                  <a:lnTo>
                    <a:pt x="271" y="250"/>
                  </a:lnTo>
                  <a:lnTo>
                    <a:pt x="253" y="274"/>
                  </a:lnTo>
                  <a:lnTo>
                    <a:pt x="219" y="327"/>
                  </a:lnTo>
                  <a:lnTo>
                    <a:pt x="200" y="359"/>
                  </a:lnTo>
                  <a:lnTo>
                    <a:pt x="169" y="410"/>
                  </a:lnTo>
                  <a:lnTo>
                    <a:pt x="153" y="442"/>
                  </a:lnTo>
                  <a:lnTo>
                    <a:pt x="127" y="497"/>
                  </a:lnTo>
                  <a:lnTo>
                    <a:pt x="117" y="521"/>
                  </a:lnTo>
                  <a:lnTo>
                    <a:pt x="102" y="556"/>
                  </a:lnTo>
                  <a:lnTo>
                    <a:pt x="65" y="658"/>
                  </a:lnTo>
                  <a:lnTo>
                    <a:pt x="48" y="722"/>
                  </a:lnTo>
                  <a:lnTo>
                    <a:pt x="40" y="751"/>
                  </a:lnTo>
                  <a:lnTo>
                    <a:pt x="29" y="808"/>
                  </a:lnTo>
                  <a:lnTo>
                    <a:pt x="25" y="835"/>
                  </a:lnTo>
                  <a:lnTo>
                    <a:pt x="19" y="864"/>
                  </a:lnTo>
                  <a:lnTo>
                    <a:pt x="13" y="918"/>
                  </a:lnTo>
                  <a:lnTo>
                    <a:pt x="10" y="941"/>
                  </a:lnTo>
                  <a:lnTo>
                    <a:pt x="7" y="992"/>
                  </a:lnTo>
                  <a:lnTo>
                    <a:pt x="6" y="1016"/>
                  </a:lnTo>
                  <a:lnTo>
                    <a:pt x="5" y="1027"/>
                  </a:lnTo>
                  <a:lnTo>
                    <a:pt x="0" y="1163"/>
                  </a:lnTo>
                  <a:lnTo>
                    <a:pt x="2" y="1191"/>
                  </a:lnTo>
                  <a:lnTo>
                    <a:pt x="7" y="1219"/>
                  </a:lnTo>
                  <a:lnTo>
                    <a:pt x="9" y="1247"/>
                  </a:lnTo>
                  <a:lnTo>
                    <a:pt x="15" y="1281"/>
                  </a:lnTo>
                  <a:lnTo>
                    <a:pt x="19" y="1312"/>
                  </a:lnTo>
                  <a:lnTo>
                    <a:pt x="26" y="1343"/>
                  </a:lnTo>
                  <a:lnTo>
                    <a:pt x="35" y="1375"/>
                  </a:lnTo>
                  <a:lnTo>
                    <a:pt x="52" y="1435"/>
                  </a:lnTo>
                  <a:lnTo>
                    <a:pt x="69" y="1487"/>
                  </a:lnTo>
                  <a:lnTo>
                    <a:pt x="87" y="1539"/>
                  </a:lnTo>
                  <a:lnTo>
                    <a:pt x="104" y="1583"/>
                  </a:lnTo>
                  <a:lnTo>
                    <a:pt x="125" y="1633"/>
                  </a:lnTo>
                  <a:lnTo>
                    <a:pt x="153" y="1686"/>
                  </a:lnTo>
                  <a:lnTo>
                    <a:pt x="177" y="1731"/>
                  </a:lnTo>
                  <a:lnTo>
                    <a:pt x="205" y="1777"/>
                  </a:lnTo>
                  <a:lnTo>
                    <a:pt x="232" y="1820"/>
                  </a:lnTo>
                  <a:lnTo>
                    <a:pt x="244" y="1840"/>
                  </a:lnTo>
                  <a:lnTo>
                    <a:pt x="276" y="1884"/>
                  </a:lnTo>
                  <a:lnTo>
                    <a:pt x="304" y="1920"/>
                  </a:lnTo>
                  <a:lnTo>
                    <a:pt x="333" y="1955"/>
                  </a:lnTo>
                  <a:lnTo>
                    <a:pt x="362" y="1986"/>
                  </a:lnTo>
                  <a:lnTo>
                    <a:pt x="394" y="2020"/>
                  </a:lnTo>
                  <a:lnTo>
                    <a:pt x="770" y="1647"/>
                  </a:lnTo>
                  <a:lnTo>
                    <a:pt x="736" y="1612"/>
                  </a:lnTo>
                  <a:lnTo>
                    <a:pt x="673" y="1529"/>
                  </a:lnTo>
                  <a:lnTo>
                    <a:pt x="638" y="1471"/>
                  </a:lnTo>
                  <a:lnTo>
                    <a:pt x="622" y="1438"/>
                  </a:lnTo>
                  <a:lnTo>
                    <a:pt x="591" y="1377"/>
                  </a:lnTo>
                  <a:lnTo>
                    <a:pt x="556" y="1275"/>
                  </a:lnTo>
                  <a:lnTo>
                    <a:pt x="538" y="1193"/>
                  </a:lnTo>
                  <a:lnTo>
                    <a:pt x="533" y="1158"/>
                  </a:lnTo>
                  <a:lnTo>
                    <a:pt x="529" y="1126"/>
                  </a:lnTo>
                  <a:lnTo>
                    <a:pt x="538" y="992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  <a:effectLst>
              <a:outerShdw dist="91658" dir="338234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1" name=""/>
            <p:cNvSpPr/>
            <p:nvPr/>
          </p:nvSpPr>
          <p:spPr>
            <a:xfrm rot="17400000">
              <a:off x="2706840" y="3767040"/>
              <a:ext cx="198720" cy="396360"/>
            </a:xfrm>
            <a:prstGeom prst="rect">
              <a:avLst/>
            </a:prstGeom>
            <a:noFill/>
            <a:ln w="0">
              <a:noFill/>
            </a:ln>
            <a:effectLst>
              <a:outerShdw dist="91658" dir="338234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600" spc="-1" strike="noStrike">
                  <a:solidFill>
                    <a:srgbClr val="000080"/>
                  </a:solidFill>
                  <a:latin typeface="宋体"/>
                  <a:ea typeface="宋体"/>
                </a:rPr>
                <a:t>文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2" name=""/>
            <p:cNvSpPr/>
            <p:nvPr/>
          </p:nvSpPr>
          <p:spPr>
            <a:xfrm rot="17400000">
              <a:off x="2819520" y="3458880"/>
              <a:ext cx="198720" cy="396360"/>
            </a:xfrm>
            <a:prstGeom prst="rect">
              <a:avLst/>
            </a:prstGeom>
            <a:noFill/>
            <a:ln w="0">
              <a:noFill/>
            </a:ln>
            <a:effectLst>
              <a:outerShdw dist="91658" dir="338234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600" spc="-1" strike="noStrike">
                  <a:solidFill>
                    <a:srgbClr val="000080"/>
                  </a:solidFill>
                  <a:latin typeface="宋体"/>
                  <a:ea typeface="宋体"/>
                </a:rPr>
                <a:t>字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63" name=""/>
          <p:cNvGrpSpPr/>
          <p:nvPr/>
        </p:nvGrpSpPr>
        <p:grpSpPr>
          <a:xfrm>
            <a:off x="2930400" y="4703760"/>
            <a:ext cx="3194280" cy="1461960"/>
            <a:chOff x="2930400" y="4703760"/>
            <a:chExt cx="3194280" cy="1461960"/>
          </a:xfrm>
        </p:grpSpPr>
        <p:sp>
          <p:nvSpPr>
            <p:cNvPr id="1264" name=""/>
            <p:cNvSpPr/>
            <p:nvPr/>
          </p:nvSpPr>
          <p:spPr>
            <a:xfrm>
              <a:off x="2930400" y="4703760"/>
              <a:ext cx="3194280" cy="1461960"/>
            </a:xfrm>
            <a:custGeom>
              <a:avLst/>
              <a:gdLst/>
              <a:ahLst/>
              <a:rect l="l" t="t" r="r" b="b"/>
              <a:pathLst>
                <a:path w="2012" h="921">
                  <a:moveTo>
                    <a:pt x="1115" y="921"/>
                  </a:moveTo>
                  <a:lnTo>
                    <a:pt x="1272" y="901"/>
                  </a:lnTo>
                  <a:lnTo>
                    <a:pt x="1304" y="896"/>
                  </a:lnTo>
                  <a:lnTo>
                    <a:pt x="1428" y="863"/>
                  </a:lnTo>
                  <a:lnTo>
                    <a:pt x="1454" y="854"/>
                  </a:lnTo>
                  <a:lnTo>
                    <a:pt x="1506" y="837"/>
                  </a:lnTo>
                  <a:lnTo>
                    <a:pt x="1555" y="819"/>
                  </a:lnTo>
                  <a:lnTo>
                    <a:pt x="1623" y="790"/>
                  </a:lnTo>
                  <a:lnTo>
                    <a:pt x="1677" y="763"/>
                  </a:lnTo>
                  <a:lnTo>
                    <a:pt x="1697" y="752"/>
                  </a:lnTo>
                  <a:lnTo>
                    <a:pt x="1745" y="726"/>
                  </a:lnTo>
                  <a:lnTo>
                    <a:pt x="1792" y="695"/>
                  </a:lnTo>
                  <a:lnTo>
                    <a:pt x="1813" y="683"/>
                  </a:lnTo>
                  <a:lnTo>
                    <a:pt x="1831" y="671"/>
                  </a:lnTo>
                  <a:lnTo>
                    <a:pt x="1854" y="655"/>
                  </a:lnTo>
                  <a:lnTo>
                    <a:pt x="1875" y="640"/>
                  </a:lnTo>
                  <a:lnTo>
                    <a:pt x="1894" y="626"/>
                  </a:lnTo>
                  <a:lnTo>
                    <a:pt x="1911" y="613"/>
                  </a:lnTo>
                  <a:lnTo>
                    <a:pt x="1947" y="583"/>
                  </a:lnTo>
                  <a:lnTo>
                    <a:pt x="1979" y="555"/>
                  </a:lnTo>
                  <a:lnTo>
                    <a:pt x="1993" y="540"/>
                  </a:lnTo>
                  <a:lnTo>
                    <a:pt x="2012" y="523"/>
                  </a:lnTo>
                  <a:lnTo>
                    <a:pt x="1637" y="145"/>
                  </a:lnTo>
                  <a:lnTo>
                    <a:pt x="1620" y="163"/>
                  </a:lnTo>
                  <a:lnTo>
                    <a:pt x="1576" y="202"/>
                  </a:lnTo>
                  <a:lnTo>
                    <a:pt x="1546" y="226"/>
                  </a:lnTo>
                  <a:lnTo>
                    <a:pt x="1492" y="260"/>
                  </a:lnTo>
                  <a:lnTo>
                    <a:pt x="1463" y="277"/>
                  </a:lnTo>
                  <a:lnTo>
                    <a:pt x="1398" y="310"/>
                  </a:lnTo>
                  <a:lnTo>
                    <a:pt x="1370" y="324"/>
                  </a:lnTo>
                  <a:lnTo>
                    <a:pt x="1300" y="349"/>
                  </a:lnTo>
                  <a:lnTo>
                    <a:pt x="1224" y="370"/>
                  </a:lnTo>
                  <a:lnTo>
                    <a:pt x="1185" y="377"/>
                  </a:lnTo>
                  <a:lnTo>
                    <a:pt x="1146" y="381"/>
                  </a:lnTo>
                  <a:lnTo>
                    <a:pt x="1086" y="388"/>
                  </a:lnTo>
                  <a:lnTo>
                    <a:pt x="976" y="388"/>
                  </a:lnTo>
                  <a:lnTo>
                    <a:pt x="971" y="387"/>
                  </a:lnTo>
                  <a:lnTo>
                    <a:pt x="909" y="379"/>
                  </a:lnTo>
                  <a:lnTo>
                    <a:pt x="878" y="373"/>
                  </a:lnTo>
                  <a:lnTo>
                    <a:pt x="821" y="360"/>
                  </a:lnTo>
                  <a:lnTo>
                    <a:pt x="790" y="350"/>
                  </a:lnTo>
                  <a:lnTo>
                    <a:pt x="702" y="315"/>
                  </a:lnTo>
                  <a:lnTo>
                    <a:pt x="673" y="300"/>
                  </a:lnTo>
                  <a:lnTo>
                    <a:pt x="648" y="286"/>
                  </a:lnTo>
                  <a:lnTo>
                    <a:pt x="596" y="257"/>
                  </a:lnTo>
                  <a:lnTo>
                    <a:pt x="552" y="226"/>
                  </a:lnTo>
                  <a:lnTo>
                    <a:pt x="517" y="196"/>
                  </a:lnTo>
                  <a:lnTo>
                    <a:pt x="694" y="0"/>
                  </a:lnTo>
                  <a:lnTo>
                    <a:pt x="128" y="157"/>
                  </a:lnTo>
                  <a:lnTo>
                    <a:pt x="0" y="761"/>
                  </a:lnTo>
                  <a:lnTo>
                    <a:pt x="159" y="589"/>
                  </a:lnTo>
                  <a:lnTo>
                    <a:pt x="190" y="615"/>
                  </a:lnTo>
                  <a:lnTo>
                    <a:pt x="215" y="636"/>
                  </a:lnTo>
                  <a:lnTo>
                    <a:pt x="265" y="673"/>
                  </a:lnTo>
                  <a:lnTo>
                    <a:pt x="295" y="690"/>
                  </a:lnTo>
                  <a:lnTo>
                    <a:pt x="318" y="706"/>
                  </a:lnTo>
                  <a:lnTo>
                    <a:pt x="348" y="727"/>
                  </a:lnTo>
                  <a:lnTo>
                    <a:pt x="374" y="741"/>
                  </a:lnTo>
                  <a:lnTo>
                    <a:pt x="400" y="756"/>
                  </a:lnTo>
                  <a:lnTo>
                    <a:pt x="432" y="773"/>
                  </a:lnTo>
                  <a:lnTo>
                    <a:pt x="460" y="787"/>
                  </a:lnTo>
                  <a:lnTo>
                    <a:pt x="487" y="798"/>
                  </a:lnTo>
                  <a:lnTo>
                    <a:pt x="512" y="809"/>
                  </a:lnTo>
                  <a:lnTo>
                    <a:pt x="547" y="823"/>
                  </a:lnTo>
                  <a:lnTo>
                    <a:pt x="648" y="860"/>
                  </a:lnTo>
                  <a:lnTo>
                    <a:pt x="680" y="868"/>
                  </a:lnTo>
                  <a:lnTo>
                    <a:pt x="712" y="878"/>
                  </a:lnTo>
                  <a:lnTo>
                    <a:pt x="742" y="887"/>
                  </a:lnTo>
                  <a:lnTo>
                    <a:pt x="772" y="893"/>
                  </a:lnTo>
                  <a:lnTo>
                    <a:pt x="800" y="897"/>
                  </a:lnTo>
                  <a:lnTo>
                    <a:pt x="826" y="901"/>
                  </a:lnTo>
                  <a:lnTo>
                    <a:pt x="856" y="907"/>
                  </a:lnTo>
                  <a:lnTo>
                    <a:pt x="884" y="910"/>
                  </a:lnTo>
                  <a:lnTo>
                    <a:pt x="933" y="915"/>
                  </a:lnTo>
                  <a:lnTo>
                    <a:pt x="957" y="918"/>
                  </a:lnTo>
                  <a:lnTo>
                    <a:pt x="983" y="919"/>
                  </a:lnTo>
                  <a:lnTo>
                    <a:pt x="1008" y="921"/>
                  </a:lnTo>
                  <a:lnTo>
                    <a:pt x="1035" y="921"/>
                  </a:lnTo>
                  <a:lnTo>
                    <a:pt x="1060" y="921"/>
                  </a:lnTo>
                  <a:lnTo>
                    <a:pt x="1089" y="921"/>
                  </a:lnTo>
                  <a:lnTo>
                    <a:pt x="1115" y="921"/>
                  </a:lnTo>
                  <a:close/>
                </a:path>
              </a:pathLst>
            </a:custGeom>
            <a:solidFill>
              <a:srgbClr val="55ff55"/>
            </a:solidFill>
            <a:ln w="0">
              <a:noFill/>
            </a:ln>
            <a:effectLst>
              <a:outerShdw dist="89808" dir="4916091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4329000" y="5557680"/>
              <a:ext cx="397080" cy="396360"/>
            </a:xfrm>
            <a:prstGeom prst="rect">
              <a:avLst/>
            </a:prstGeom>
            <a:noFill/>
            <a:ln w="0">
              <a:noFill/>
            </a:ln>
            <a:effectLst>
              <a:outerShdw dist="89808" dir="4916091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600" spc="-1" strike="noStrike">
                  <a:solidFill>
                    <a:srgbClr val="008000"/>
                  </a:solidFill>
                  <a:latin typeface="宋体"/>
                  <a:ea typeface="宋体"/>
                </a:rPr>
                <a:t>文字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66" name=""/>
          <p:cNvGrpSpPr/>
          <p:nvPr/>
        </p:nvGrpSpPr>
        <p:grpSpPr>
          <a:xfrm>
            <a:off x="5308560" y="2428920"/>
            <a:ext cx="1495440" cy="3240000"/>
            <a:chOff x="5308560" y="2428920"/>
            <a:chExt cx="1495440" cy="3240000"/>
          </a:xfrm>
        </p:grpSpPr>
        <p:sp>
          <p:nvSpPr>
            <p:cNvPr id="1267" name=""/>
            <p:cNvSpPr/>
            <p:nvPr/>
          </p:nvSpPr>
          <p:spPr>
            <a:xfrm>
              <a:off x="5308560" y="2428920"/>
              <a:ext cx="1495440" cy="3240000"/>
            </a:xfrm>
            <a:custGeom>
              <a:avLst/>
              <a:gdLst/>
              <a:ahLst/>
              <a:rect l="l" t="t" r="r" b="b"/>
              <a:pathLst>
                <a:path w="942" h="2041">
                  <a:moveTo>
                    <a:pt x="942" y="1027"/>
                  </a:moveTo>
                  <a:lnTo>
                    <a:pt x="940" y="879"/>
                  </a:lnTo>
                  <a:lnTo>
                    <a:pt x="940" y="858"/>
                  </a:lnTo>
                  <a:lnTo>
                    <a:pt x="940" y="828"/>
                  </a:lnTo>
                  <a:lnTo>
                    <a:pt x="933" y="773"/>
                  </a:lnTo>
                  <a:lnTo>
                    <a:pt x="927" y="739"/>
                  </a:lnTo>
                  <a:lnTo>
                    <a:pt x="915" y="677"/>
                  </a:lnTo>
                  <a:lnTo>
                    <a:pt x="907" y="645"/>
                  </a:lnTo>
                  <a:lnTo>
                    <a:pt x="890" y="585"/>
                  </a:lnTo>
                  <a:lnTo>
                    <a:pt x="873" y="534"/>
                  </a:lnTo>
                  <a:lnTo>
                    <a:pt x="855" y="481"/>
                  </a:lnTo>
                  <a:lnTo>
                    <a:pt x="837" y="436"/>
                  </a:lnTo>
                  <a:lnTo>
                    <a:pt x="826" y="410"/>
                  </a:lnTo>
                  <a:lnTo>
                    <a:pt x="804" y="363"/>
                  </a:lnTo>
                  <a:lnTo>
                    <a:pt x="790" y="335"/>
                  </a:lnTo>
                  <a:lnTo>
                    <a:pt x="766" y="289"/>
                  </a:lnTo>
                  <a:lnTo>
                    <a:pt x="753" y="266"/>
                  </a:lnTo>
                  <a:lnTo>
                    <a:pt x="738" y="242"/>
                  </a:lnTo>
                  <a:lnTo>
                    <a:pt x="722" y="220"/>
                  </a:lnTo>
                  <a:lnTo>
                    <a:pt x="697" y="181"/>
                  </a:lnTo>
                  <a:lnTo>
                    <a:pt x="680" y="157"/>
                  </a:lnTo>
                  <a:lnTo>
                    <a:pt x="651" y="118"/>
                  </a:lnTo>
                  <a:lnTo>
                    <a:pt x="624" y="83"/>
                  </a:lnTo>
                  <a:lnTo>
                    <a:pt x="609" y="65"/>
                  </a:lnTo>
                  <a:lnTo>
                    <a:pt x="596" y="50"/>
                  </a:lnTo>
                  <a:lnTo>
                    <a:pt x="581" y="34"/>
                  </a:lnTo>
                  <a:lnTo>
                    <a:pt x="567" y="19"/>
                  </a:lnTo>
                  <a:lnTo>
                    <a:pt x="549" y="0"/>
                  </a:lnTo>
                  <a:lnTo>
                    <a:pt x="504" y="315"/>
                  </a:lnTo>
                  <a:lnTo>
                    <a:pt x="172" y="372"/>
                  </a:lnTo>
                  <a:lnTo>
                    <a:pt x="189" y="391"/>
                  </a:lnTo>
                  <a:lnTo>
                    <a:pt x="228" y="436"/>
                  </a:lnTo>
                  <a:lnTo>
                    <a:pt x="251" y="465"/>
                  </a:lnTo>
                  <a:lnTo>
                    <a:pt x="285" y="519"/>
                  </a:lnTo>
                  <a:lnTo>
                    <a:pt x="303" y="549"/>
                  </a:lnTo>
                  <a:lnTo>
                    <a:pt x="336" y="612"/>
                  </a:lnTo>
                  <a:lnTo>
                    <a:pt x="350" y="642"/>
                  </a:lnTo>
                  <a:lnTo>
                    <a:pt x="375" y="711"/>
                  </a:lnTo>
                  <a:lnTo>
                    <a:pt x="384" y="746"/>
                  </a:lnTo>
                  <a:lnTo>
                    <a:pt x="395" y="788"/>
                  </a:lnTo>
                  <a:lnTo>
                    <a:pt x="403" y="827"/>
                  </a:lnTo>
                  <a:lnTo>
                    <a:pt x="410" y="897"/>
                  </a:lnTo>
                  <a:lnTo>
                    <a:pt x="410" y="1038"/>
                  </a:lnTo>
                  <a:lnTo>
                    <a:pt x="405" y="1069"/>
                  </a:lnTo>
                  <a:lnTo>
                    <a:pt x="396" y="1127"/>
                  </a:lnTo>
                  <a:lnTo>
                    <a:pt x="390" y="1157"/>
                  </a:lnTo>
                  <a:lnTo>
                    <a:pt x="372" y="1215"/>
                  </a:lnTo>
                  <a:lnTo>
                    <a:pt x="338" y="1303"/>
                  </a:lnTo>
                  <a:lnTo>
                    <a:pt x="323" y="1332"/>
                  </a:lnTo>
                  <a:lnTo>
                    <a:pt x="296" y="1382"/>
                  </a:lnTo>
                  <a:lnTo>
                    <a:pt x="264" y="1432"/>
                  </a:lnTo>
                  <a:lnTo>
                    <a:pt x="249" y="1452"/>
                  </a:lnTo>
                  <a:lnTo>
                    <a:pt x="215" y="1498"/>
                  </a:lnTo>
                  <a:lnTo>
                    <a:pt x="192" y="1521"/>
                  </a:lnTo>
                  <a:lnTo>
                    <a:pt x="0" y="1357"/>
                  </a:lnTo>
                  <a:lnTo>
                    <a:pt x="217" y="1903"/>
                  </a:lnTo>
                  <a:lnTo>
                    <a:pt x="767" y="2041"/>
                  </a:lnTo>
                  <a:lnTo>
                    <a:pt x="588" y="1877"/>
                  </a:lnTo>
                  <a:lnTo>
                    <a:pt x="614" y="1846"/>
                  </a:lnTo>
                  <a:lnTo>
                    <a:pt x="659" y="1789"/>
                  </a:lnTo>
                  <a:lnTo>
                    <a:pt x="696" y="1740"/>
                  </a:lnTo>
                  <a:lnTo>
                    <a:pt x="715" y="1710"/>
                  </a:lnTo>
                  <a:lnTo>
                    <a:pt x="749" y="1657"/>
                  </a:lnTo>
                  <a:lnTo>
                    <a:pt x="764" y="1631"/>
                  </a:lnTo>
                  <a:lnTo>
                    <a:pt x="797" y="1574"/>
                  </a:lnTo>
                  <a:lnTo>
                    <a:pt x="810" y="1545"/>
                  </a:lnTo>
                  <a:lnTo>
                    <a:pt x="833" y="1493"/>
                  </a:lnTo>
                  <a:lnTo>
                    <a:pt x="847" y="1458"/>
                  </a:lnTo>
                  <a:lnTo>
                    <a:pt x="884" y="1358"/>
                  </a:lnTo>
                  <a:lnTo>
                    <a:pt x="901" y="1293"/>
                  </a:lnTo>
                  <a:lnTo>
                    <a:pt x="910" y="1263"/>
                  </a:lnTo>
                  <a:lnTo>
                    <a:pt x="921" y="1206"/>
                  </a:lnTo>
                  <a:lnTo>
                    <a:pt x="924" y="1180"/>
                  </a:lnTo>
                  <a:lnTo>
                    <a:pt x="933" y="1122"/>
                  </a:lnTo>
                  <a:lnTo>
                    <a:pt x="936" y="1097"/>
                  </a:lnTo>
                  <a:lnTo>
                    <a:pt x="942" y="1050"/>
                  </a:lnTo>
                  <a:lnTo>
                    <a:pt x="942" y="1027"/>
                  </a:lnTo>
                  <a:close/>
                </a:path>
              </a:pathLst>
            </a:custGeom>
            <a:solidFill>
              <a:srgbClr val="ff5555"/>
            </a:solidFill>
            <a:ln w="0">
              <a:noFill/>
            </a:ln>
            <a:effectLst>
              <a:outerShdw dist="117181" dir="2961631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8" name=""/>
            <p:cNvSpPr/>
            <p:nvPr/>
          </p:nvSpPr>
          <p:spPr>
            <a:xfrm rot="6000000">
              <a:off x="6262920" y="3625560"/>
              <a:ext cx="198720" cy="396360"/>
            </a:xfrm>
            <a:prstGeom prst="rect">
              <a:avLst/>
            </a:prstGeom>
            <a:noFill/>
            <a:ln w="0">
              <a:noFill/>
            </a:ln>
            <a:effectLst>
              <a:outerShdw dist="117181" dir="2961631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600" spc="-1" strike="noStrike">
                  <a:solidFill>
                    <a:srgbClr val="ffffff"/>
                  </a:solidFill>
                  <a:latin typeface="宋体"/>
                  <a:ea typeface="宋体"/>
                </a:rPr>
                <a:t>文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9" name=""/>
            <p:cNvSpPr/>
            <p:nvPr/>
          </p:nvSpPr>
          <p:spPr>
            <a:xfrm rot="6000000">
              <a:off x="6215400" y="3948120"/>
              <a:ext cx="198720" cy="396360"/>
            </a:xfrm>
            <a:prstGeom prst="rect">
              <a:avLst/>
            </a:prstGeom>
            <a:noFill/>
            <a:ln w="0">
              <a:noFill/>
            </a:ln>
            <a:effectLst>
              <a:outerShdw dist="117181" dir="2961631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600" spc="-1" strike="noStrike">
                  <a:solidFill>
                    <a:srgbClr val="ffffff"/>
                  </a:solidFill>
                  <a:latin typeface="宋体"/>
                  <a:ea typeface="宋体"/>
                </a:rPr>
                <a:t>字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00"/>
                                        <p:tgtEl>
                                          <p:spTgt spid="1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1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500"/>
                                        <p:tgtEl>
                                          <p:spTgt spid="1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3" dur="500"/>
                                        <p:tgtEl>
                                          <p:spTgt spid="1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PlaceHolder 1"/>
          <p:cNvSpPr>
            <a:spLocks noGrp="1"/>
          </p:cNvSpPr>
          <p:nvPr>
            <p:ph type="title"/>
          </p:nvPr>
        </p:nvSpPr>
        <p:spPr>
          <a:xfrm>
            <a:off x="2268360" y="228240"/>
            <a:ext cx="65707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ff00"/>
                </a:solidFill>
                <a:latin typeface="Arial"/>
              </a:rPr>
              <a:t>迴圈圖：</a:t>
            </a:r>
            <a:br>
              <a:rPr sz="3600"/>
            </a:br>
            <a:r>
              <a:rPr b="0" lang="zh-TW" sz="3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zh-TW" sz="3600" spc="-1" strike="noStrike">
                <a:solidFill>
                  <a:srgbClr val="ffff00"/>
                </a:solidFill>
                <a:latin typeface="Arial"/>
              </a:rPr>
              <a:t>顯示具有連續迴圈過程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grpSp>
        <p:nvGrpSpPr>
          <p:cNvPr id="1271" name=""/>
          <p:cNvGrpSpPr/>
          <p:nvPr/>
        </p:nvGrpSpPr>
        <p:grpSpPr>
          <a:xfrm>
            <a:off x="2198880" y="1241640"/>
            <a:ext cx="5269320" cy="5269320"/>
            <a:chOff x="2198880" y="1241640"/>
            <a:chExt cx="5269320" cy="5269320"/>
          </a:xfrm>
        </p:grpSpPr>
        <p:sp>
          <p:nvSpPr>
            <p:cNvPr id="1272" name="_s83973"/>
            <p:cNvSpPr/>
            <p:nvPr/>
          </p:nvSpPr>
          <p:spPr>
            <a:xfrm>
              <a:off x="2905200" y="1947960"/>
              <a:ext cx="3857400" cy="3857400"/>
            </a:xfrm>
            <a:prstGeom prst="blockArc">
              <a:avLst>
                <a:gd name="adj1" fmla="val 14400000"/>
                <a:gd name="adj2" fmla="val 7200000"/>
                <a:gd name="adj3" fmla="val 16667"/>
              </a:avLst>
            </a:prstGeom>
            <a:solidFill>
              <a:srgbClr val="9966ff"/>
            </a:solidFill>
            <a:ln w="28440">
              <a:solidFill>
                <a:srgbClr val="5f0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3" name="_s83974"/>
            <p:cNvSpPr/>
            <p:nvPr/>
          </p:nvSpPr>
          <p:spPr>
            <a:xfrm rot="7200000">
              <a:off x="2904840" y="1947600"/>
              <a:ext cx="3857400" cy="3857400"/>
            </a:xfrm>
            <a:prstGeom prst="blockArc">
              <a:avLst>
                <a:gd name="adj1" fmla="val 14400000"/>
                <a:gd name="adj2" fmla="val 7200000"/>
                <a:gd name="adj3" fmla="val 16667"/>
              </a:avLst>
            </a:prstGeom>
            <a:solidFill>
              <a:srgbClr val="f1fd09"/>
            </a:solidFill>
            <a:ln w="28440">
              <a:solidFill>
                <a:srgbClr val="cad4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4" name="_s83975"/>
            <p:cNvSpPr/>
            <p:nvPr/>
          </p:nvSpPr>
          <p:spPr>
            <a:xfrm rot="14400000">
              <a:off x="2904840" y="1947600"/>
              <a:ext cx="3857400" cy="3857400"/>
            </a:xfrm>
            <a:prstGeom prst="blockArc">
              <a:avLst>
                <a:gd name="adj1" fmla="val 14400000"/>
                <a:gd name="adj2" fmla="val 7200000"/>
                <a:gd name="adj3" fmla="val 16667"/>
              </a:avLst>
            </a:prstGeom>
            <a:solidFill>
              <a:srgbClr val="0399ff"/>
            </a:solidFill>
            <a:ln w="28440">
              <a:solidFill>
                <a:srgbClr val="4b59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5" name="_s83976"/>
            <p:cNvSpPr/>
            <p:nvPr/>
          </p:nvSpPr>
          <p:spPr>
            <a:xfrm>
              <a:off x="5637240" y="2486160"/>
              <a:ext cx="1176120" cy="117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e4005c"/>
                  </a:solidFill>
                  <a:latin typeface="Arial"/>
                  <a:ea typeface="华文新魏"/>
                </a:rPr>
                <a:t>工時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6" name="_s83977"/>
            <p:cNvSpPr/>
            <p:nvPr/>
          </p:nvSpPr>
          <p:spPr>
            <a:xfrm>
              <a:off x="4246560" y="4894200"/>
              <a:ext cx="1176120" cy="11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e4005c"/>
                  </a:solidFill>
                  <a:latin typeface="Arial"/>
                  <a:ea typeface="华文新魏"/>
                </a:rPr>
                <a:t>任務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7" name="_s83978"/>
            <p:cNvSpPr/>
            <p:nvPr/>
          </p:nvSpPr>
          <p:spPr>
            <a:xfrm>
              <a:off x="2855880" y="2486160"/>
              <a:ext cx="1176120" cy="117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e4005c"/>
                  </a:solidFill>
                  <a:latin typeface="Arial"/>
                  <a:ea typeface="华文新魏"/>
                </a:rPr>
                <a:t>資源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770"/>
                                        <p:tgtEl>
                                          <p:spTgt spid="127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1" dur="770" fill="hold"/>
                                        <p:tgtEl>
                                          <p:spTgt spid="127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7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3" dur="770" fill="hold"/>
                                        <p:tgtEl>
                                          <p:spTgt spid="1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5" dur="770" fill="hold"/>
                                        <p:tgtEl>
                                          <p:spTgt spid="1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770"/>
                                        <p:tgtEl>
                                          <p:spTgt spid="127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1" dur="770" fill="hold"/>
                                        <p:tgtEl>
                                          <p:spTgt spid="127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7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3" dur="770" fill="hold"/>
                                        <p:tgtEl>
                                          <p:spTgt spid="1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5" dur="770" fill="hold"/>
                                        <p:tgtEl>
                                          <p:spTgt spid="1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4000"/>
                            </p:stCondLst>
                            <p:childTnLst>
                              <p:par>
                                <p:cTn id="128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770"/>
                                        <p:tgtEl>
                                          <p:spTgt spid="127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1" dur="770" fill="hold"/>
                                        <p:tgtEl>
                                          <p:spTgt spid="127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7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3" dur="770" fill="hold"/>
                                        <p:tgtEl>
                                          <p:spTgt spid="1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5" dur="770" fill="hold"/>
                                        <p:tgtEl>
                                          <p:spTgt spid="1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1115640" y="228240"/>
            <a:ext cx="77230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8c0039"/>
                </a:solidFill>
                <a:latin typeface="Arial"/>
              </a:rPr>
              <a:t>射線圖：</a:t>
            </a:r>
            <a:br>
              <a:rPr sz="3600"/>
            </a:br>
            <a:r>
              <a:rPr b="0" lang="zh-TW" sz="3600" spc="-1" strike="noStrike">
                <a:solidFill>
                  <a:srgbClr val="8c0039"/>
                </a:solidFill>
                <a:latin typeface="Arial"/>
              </a:rPr>
              <a:t>	</a:t>
            </a:r>
            <a:r>
              <a:rPr b="0" lang="zh-TW" sz="3600" spc="-1" strike="noStrike">
                <a:solidFill>
                  <a:srgbClr val="8c0039"/>
                </a:solidFill>
                <a:latin typeface="Arial"/>
              </a:rPr>
              <a:t>顯示元素與核心元素的關係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grpSp>
        <p:nvGrpSpPr>
          <p:cNvPr id="1279" name=""/>
          <p:cNvGrpSpPr/>
          <p:nvPr/>
        </p:nvGrpSpPr>
        <p:grpSpPr>
          <a:xfrm>
            <a:off x="3637080" y="1773360"/>
            <a:ext cx="1584360" cy="1584360"/>
            <a:chOff x="3637080" y="1773360"/>
            <a:chExt cx="1584360" cy="1584360"/>
          </a:xfrm>
        </p:grpSpPr>
        <p:pic>
          <p:nvPicPr>
            <p:cNvPr id="1280" name="" descr=""/>
            <p:cNvPicPr/>
            <p:nvPr/>
          </p:nvPicPr>
          <p:blipFill>
            <a:blip r:embed="rId2"/>
            <a:stretch/>
          </p:blipFill>
          <p:spPr>
            <a:xfrm>
              <a:off x="3637080" y="1773360"/>
              <a:ext cx="1584360" cy="158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1" name=""/>
            <p:cNvSpPr/>
            <p:nvPr/>
          </p:nvSpPr>
          <p:spPr>
            <a:xfrm>
              <a:off x="3997440" y="2206800"/>
              <a:ext cx="792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產品品質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82" name=""/>
          <p:cNvGrpSpPr/>
          <p:nvPr/>
        </p:nvGrpSpPr>
        <p:grpSpPr>
          <a:xfrm>
            <a:off x="3637080" y="3646440"/>
            <a:ext cx="1584360" cy="1584360"/>
            <a:chOff x="3637080" y="3646440"/>
            <a:chExt cx="1584360" cy="1584360"/>
          </a:xfrm>
        </p:grpSpPr>
        <p:pic>
          <p:nvPicPr>
            <p:cNvPr id="1283" name="" descr=""/>
            <p:cNvPicPr/>
            <p:nvPr/>
          </p:nvPicPr>
          <p:blipFill>
            <a:blip r:embed="rId3"/>
            <a:stretch/>
          </p:blipFill>
          <p:spPr>
            <a:xfrm>
              <a:off x="3637080" y="3646440"/>
              <a:ext cx="1584360" cy="158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4" name=""/>
            <p:cNvSpPr/>
            <p:nvPr/>
          </p:nvSpPr>
          <p:spPr>
            <a:xfrm>
              <a:off x="3995640" y="4078440"/>
              <a:ext cx="720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銷售業績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85" name=""/>
          <p:cNvGrpSpPr/>
          <p:nvPr/>
        </p:nvGrpSpPr>
        <p:grpSpPr>
          <a:xfrm>
            <a:off x="1908000" y="4653000"/>
            <a:ext cx="1584360" cy="1584360"/>
            <a:chOff x="1908000" y="4653000"/>
            <a:chExt cx="1584360" cy="1584360"/>
          </a:xfrm>
        </p:grpSpPr>
        <p:pic>
          <p:nvPicPr>
            <p:cNvPr id="1286" name="" descr=""/>
            <p:cNvPicPr/>
            <p:nvPr/>
          </p:nvPicPr>
          <p:blipFill>
            <a:blip r:embed="rId4"/>
            <a:stretch/>
          </p:blipFill>
          <p:spPr>
            <a:xfrm>
              <a:off x="1908000" y="4653000"/>
              <a:ext cx="1584360" cy="158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7" name=""/>
            <p:cNvSpPr/>
            <p:nvPr/>
          </p:nvSpPr>
          <p:spPr>
            <a:xfrm>
              <a:off x="2268360" y="5153040"/>
              <a:ext cx="721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售後服務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88" name=""/>
          <p:cNvGrpSpPr/>
          <p:nvPr/>
        </p:nvGrpSpPr>
        <p:grpSpPr>
          <a:xfrm>
            <a:off x="5292720" y="4581360"/>
            <a:ext cx="1584360" cy="1584360"/>
            <a:chOff x="5292720" y="4581360"/>
            <a:chExt cx="1584360" cy="1584360"/>
          </a:xfrm>
        </p:grpSpPr>
        <p:pic>
          <p:nvPicPr>
            <p:cNvPr id="1289" name="" descr=""/>
            <p:cNvPicPr/>
            <p:nvPr/>
          </p:nvPicPr>
          <p:blipFill>
            <a:blip r:embed="rId5"/>
            <a:stretch/>
          </p:blipFill>
          <p:spPr>
            <a:xfrm>
              <a:off x="5292720" y="4581360"/>
              <a:ext cx="1584360" cy="158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0" name=""/>
            <p:cNvSpPr/>
            <p:nvPr/>
          </p:nvSpPr>
          <p:spPr>
            <a:xfrm>
              <a:off x="5653080" y="5084640"/>
              <a:ext cx="719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售前推廣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91" name=""/>
          <p:cNvSpPr/>
          <p:nvPr/>
        </p:nvSpPr>
        <p:spPr>
          <a:xfrm flipV="1">
            <a:off x="4356000" y="3141720"/>
            <a:ext cx="0" cy="57456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2" name=""/>
          <p:cNvSpPr/>
          <p:nvPr/>
        </p:nvSpPr>
        <p:spPr>
          <a:xfrm flipH="1">
            <a:off x="3276720" y="4724280"/>
            <a:ext cx="574560" cy="36036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3" name=""/>
          <p:cNvSpPr/>
          <p:nvPr/>
        </p:nvSpPr>
        <p:spPr>
          <a:xfrm>
            <a:off x="4932360" y="4653000"/>
            <a:ext cx="503280" cy="36036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1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0" dur="500"/>
                                        <p:tgtEl>
                                          <p:spTgt spid="1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2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1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1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2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1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6" dur="500"/>
                                        <p:tgtEl>
                                          <p:spTgt spid="1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2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1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PlaceHolder 1"/>
          <p:cNvSpPr>
            <a:spLocks noGrp="1"/>
          </p:cNvSpPr>
          <p:nvPr>
            <p:ph type="title"/>
          </p:nvPr>
        </p:nvSpPr>
        <p:spPr>
          <a:xfrm>
            <a:off x="2268360" y="228240"/>
            <a:ext cx="65707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8c0039"/>
                </a:solidFill>
                <a:latin typeface="Arial"/>
              </a:rPr>
              <a:t>金字塔圖表：</a:t>
            </a:r>
            <a:br>
              <a:rPr sz="3600"/>
            </a:br>
            <a:r>
              <a:rPr b="0" lang="zh-TW" sz="3600" spc="-1" strike="noStrike">
                <a:solidFill>
                  <a:srgbClr val="8c0039"/>
                </a:solidFill>
                <a:latin typeface="Arial"/>
              </a:rPr>
              <a:t>	</a:t>
            </a:r>
            <a:r>
              <a:rPr b="0" lang="zh-TW" sz="3600" spc="-1" strike="noStrike">
                <a:solidFill>
                  <a:srgbClr val="8c0039"/>
                </a:solidFill>
                <a:latin typeface="Arial"/>
              </a:rPr>
              <a:t>    顯示基於基礎的關係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95" name=""/>
          <p:cNvSpPr/>
          <p:nvPr/>
        </p:nvSpPr>
        <p:spPr>
          <a:xfrm rot="10800000">
            <a:off x="1547280" y="4437000"/>
            <a:ext cx="6404040" cy="1470240"/>
          </a:xfrm>
          <a:prstGeom prst="flowChartManualOperation">
            <a:avLst/>
          </a:prstGeom>
          <a:gradFill rotWithShape="0">
            <a:gsLst>
              <a:gs pos="0">
                <a:srgbClr val="bc640c"/>
              </a:gs>
              <a:gs pos="100000">
                <a:srgbClr val="ffb03d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华文行楷"/>
              </a:rPr>
              <a:t>說明文字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6" name=""/>
          <p:cNvSpPr/>
          <p:nvPr/>
        </p:nvSpPr>
        <p:spPr>
          <a:xfrm rot="10800000">
            <a:off x="3022200" y="3393720"/>
            <a:ext cx="3530520" cy="824040"/>
          </a:xfrm>
          <a:prstGeom prst="flowChartManualOperation">
            <a:avLst/>
          </a:prstGeom>
          <a:solidFill>
            <a:srgbClr val="66ff33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华文行楷"/>
              </a:rPr>
              <a:t>說明文字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7" name=""/>
          <p:cNvSpPr/>
          <p:nvPr/>
        </p:nvSpPr>
        <p:spPr>
          <a:xfrm>
            <a:off x="3889440" y="2025720"/>
            <a:ext cx="1785960" cy="1052280"/>
          </a:xfrm>
          <a:prstGeom prst="flowChartExtra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华文行楷"/>
              </a:rPr>
              <a:t>說明文字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1" dur="2000"/>
                                        <p:tgtEl>
                                          <p:spTgt spid="1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6" dur="2000"/>
                                        <p:tgtEl>
                                          <p:spTgt spid="1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1" dur="2000"/>
                                        <p:tgtEl>
                                          <p:spTgt spid="1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2268360" y="228240"/>
            <a:ext cx="65707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8c0039"/>
                </a:solidFill>
                <a:latin typeface="Arial"/>
              </a:rPr>
              <a:t>目標圖：</a:t>
            </a:r>
            <a:br>
              <a:rPr sz="3600"/>
            </a:br>
            <a:r>
              <a:rPr b="0" lang="zh-TW" sz="3600" spc="-1" strike="noStrike">
                <a:solidFill>
                  <a:srgbClr val="8c0039"/>
                </a:solidFill>
                <a:latin typeface="Arial"/>
              </a:rPr>
              <a:t>	</a:t>
            </a:r>
            <a:r>
              <a:rPr b="0" lang="zh-TW" sz="3600" spc="-1" strike="noStrike">
                <a:solidFill>
                  <a:srgbClr val="8c0039"/>
                </a:solidFill>
                <a:latin typeface="Arial"/>
              </a:rPr>
              <a:t>為實現目標而採取的步驟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grpSp>
        <p:nvGrpSpPr>
          <p:cNvPr id="1299" name=""/>
          <p:cNvGrpSpPr/>
          <p:nvPr/>
        </p:nvGrpSpPr>
        <p:grpSpPr>
          <a:xfrm>
            <a:off x="2445120" y="2063520"/>
            <a:ext cx="4344840" cy="3800520"/>
            <a:chOff x="2445120" y="2063520"/>
            <a:chExt cx="4344840" cy="3800520"/>
          </a:xfrm>
        </p:grpSpPr>
        <p:sp>
          <p:nvSpPr>
            <p:cNvPr id="1300" name="_s90117"/>
            <p:cNvSpPr/>
            <p:nvPr/>
          </p:nvSpPr>
          <p:spPr>
            <a:xfrm>
              <a:off x="2445120" y="2606400"/>
              <a:ext cx="3257280" cy="3257640"/>
            </a:xfrm>
            <a:prstGeom prst="donut">
              <a:avLst>
                <a:gd name="adj" fmla="val 12500"/>
              </a:avLst>
            </a:prstGeom>
            <a:gradFill rotWithShape="0">
              <a:gsLst>
                <a:gs pos="0">
                  <a:srgbClr val="00ff00"/>
                </a:gs>
                <a:gs pos="100000">
                  <a:srgbClr val="0075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1" name="_s90118"/>
            <p:cNvSpPr/>
            <p:nvPr/>
          </p:nvSpPr>
          <p:spPr>
            <a:xfrm>
              <a:off x="6139080" y="3363840"/>
              <a:ext cx="650880" cy="433080"/>
            </a:xfr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400" spc="-1" strike="noStrike">
                  <a:solidFill>
                    <a:srgbClr val="ff9900"/>
                  </a:solidFill>
                  <a:latin typeface="Arial"/>
                  <a:ea typeface="宋体"/>
                </a:rPr>
                <a:t>提高產品質量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2" name="_s90119"/>
            <p:cNvSpPr/>
            <p:nvPr/>
          </p:nvSpPr>
          <p:spPr>
            <a:xfrm>
              <a:off x="2853000" y="3014280"/>
              <a:ext cx="2442960" cy="2443320"/>
            </a:xfrm>
            <a:prstGeom prst="donut">
              <a:avLst>
                <a:gd name="adj" fmla="val 16666"/>
              </a:avLst>
            </a:prstGeom>
            <a:gradFill rotWithShape="0">
              <a:gsLst>
                <a:gs pos="0">
                  <a:srgbClr val="0099ff"/>
                </a:gs>
                <a:gs pos="100000">
                  <a:srgbClr val="004675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3" name="_s90120"/>
            <p:cNvSpPr/>
            <p:nvPr/>
          </p:nvSpPr>
          <p:spPr>
            <a:xfrm>
              <a:off x="6139080" y="2930400"/>
              <a:ext cx="650880" cy="433440"/>
            </a:xfr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000" spc="-1" strike="noStrike">
                  <a:solidFill>
                    <a:srgbClr val="ff9900"/>
                  </a:solidFill>
                  <a:latin typeface="Arial"/>
                  <a:ea typeface="宋体"/>
                </a:rPr>
                <a:t>加強售前宣傳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4" name="_s90121"/>
            <p:cNvSpPr/>
            <p:nvPr/>
          </p:nvSpPr>
          <p:spPr>
            <a:xfrm>
              <a:off x="3259440" y="3420720"/>
              <a:ext cx="1628640" cy="1629000"/>
            </a:xfrm>
            <a:prstGeom prst="donut">
              <a:avLst>
                <a:gd name="adj" fmla="val 25000"/>
              </a:avLst>
            </a:prstGeom>
            <a:gradFill rotWithShape="0">
              <a:gsLst>
                <a:gs pos="0">
                  <a:srgbClr val="ffff00"/>
                </a:gs>
                <a:gs pos="100000">
                  <a:srgbClr val="7575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5" name="_s90122"/>
            <p:cNvSpPr/>
            <p:nvPr/>
          </p:nvSpPr>
          <p:spPr>
            <a:xfrm>
              <a:off x="6139080" y="2496960"/>
              <a:ext cx="650880" cy="433440"/>
            </a:xfr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000" spc="-1" strike="noStrike">
                  <a:solidFill>
                    <a:srgbClr val="ff9900"/>
                  </a:solidFill>
                  <a:latin typeface="Arial"/>
                  <a:ea typeface="宋体"/>
                </a:rPr>
                <a:t>加強售後服務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6" name="_s90123"/>
            <p:cNvSpPr/>
            <p:nvPr/>
          </p:nvSpPr>
          <p:spPr>
            <a:xfrm>
              <a:off x="3667320" y="3828960"/>
              <a:ext cx="814320" cy="81432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5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7" name="_s90124"/>
            <p:cNvSpPr/>
            <p:nvPr/>
          </p:nvSpPr>
          <p:spPr>
            <a:xfrm>
              <a:off x="6139080" y="2063520"/>
              <a:ext cx="650880" cy="433440"/>
            </a:xfr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9900"/>
                  </a:solidFill>
                  <a:latin typeface="Arial"/>
                  <a:ea typeface="宋体"/>
                </a:rPr>
                <a:t>目標：銷售</a:t>
              </a:r>
              <a:r>
                <a:rPr b="1" lang="en-US" sz="1800" spc="-1" strike="noStrike">
                  <a:solidFill>
                    <a:srgbClr val="ff9900"/>
                  </a:solidFill>
                  <a:latin typeface="Arial"/>
                  <a:ea typeface="宋体"/>
                </a:rPr>
                <a:t>100</a:t>
              </a:r>
              <a:r>
                <a:rPr b="1" lang="zh-CN" sz="1800" spc="-1" strike="noStrike">
                  <a:solidFill>
                    <a:srgbClr val="ff9900"/>
                  </a:solidFill>
                  <a:latin typeface="Arial"/>
                  <a:ea typeface="宋体"/>
                </a:rPr>
                <a:t>萬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6156720" y="3285720"/>
              <a:ext cx="18396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09" name=""/>
          <p:cNvSpPr/>
          <p:nvPr/>
        </p:nvSpPr>
        <p:spPr>
          <a:xfrm>
            <a:off x="2419200" y="1556280"/>
            <a:ext cx="193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Arial"/>
                <a:ea typeface="宋体"/>
              </a:rPr>
              <a:t>目標：銷售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  <a:ea typeface="宋体"/>
              </a:rPr>
              <a:t>100</a:t>
            </a:r>
            <a:r>
              <a:rPr b="1" lang="zh-CN" sz="2400" spc="-1" strike="noStrike">
                <a:solidFill>
                  <a:srgbClr val="ff9900"/>
                </a:solidFill>
                <a:latin typeface="Arial"/>
                <a:ea typeface="宋体"/>
              </a:rPr>
              <a:t>萬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1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1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1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1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0" name=""/>
          <p:cNvGrpSpPr/>
          <p:nvPr/>
        </p:nvGrpSpPr>
        <p:grpSpPr>
          <a:xfrm>
            <a:off x="4083120" y="2494080"/>
            <a:ext cx="3657600" cy="3657600"/>
            <a:chOff x="4083120" y="2494080"/>
            <a:chExt cx="3657600" cy="3657600"/>
          </a:xfrm>
        </p:grpSpPr>
        <p:sp>
          <p:nvSpPr>
            <p:cNvPr id="1311" name=""/>
            <p:cNvSpPr/>
            <p:nvPr/>
          </p:nvSpPr>
          <p:spPr>
            <a:xfrm>
              <a:off x="4083120" y="2494080"/>
              <a:ext cx="3657600" cy="3657600"/>
            </a:xfrm>
            <a:prstGeom prst="ellipse">
              <a:avLst/>
            </a:prstGeom>
            <a:solidFill>
              <a:srgbClr val="ffff00">
                <a:alpha val="50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5198760" y="4030920"/>
              <a:ext cx="1641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說明文字</a:t>
              </a:r>
              <a:r>
                <a:rPr b="1" lang="en-US" sz="3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13" name=""/>
          <p:cNvGrpSpPr/>
          <p:nvPr/>
        </p:nvGrpSpPr>
        <p:grpSpPr>
          <a:xfrm>
            <a:off x="1260360" y="2494080"/>
            <a:ext cx="3657600" cy="3657600"/>
            <a:chOff x="1260360" y="2494080"/>
            <a:chExt cx="3657600" cy="3657600"/>
          </a:xfrm>
        </p:grpSpPr>
        <p:sp>
          <p:nvSpPr>
            <p:cNvPr id="1314" name=""/>
            <p:cNvSpPr/>
            <p:nvPr/>
          </p:nvSpPr>
          <p:spPr>
            <a:xfrm>
              <a:off x="1260360" y="2494080"/>
              <a:ext cx="3657600" cy="3657600"/>
            </a:xfrm>
            <a:prstGeom prst="ellipse">
              <a:avLst/>
            </a:prstGeom>
            <a:solidFill>
              <a:srgbClr val="ff3300">
                <a:alpha val="50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2220840" y="4149720"/>
              <a:ext cx="1641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說明文字</a:t>
              </a:r>
              <a:r>
                <a:rPr b="0" lang="en-US" sz="3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16" name=""/>
          <p:cNvGrpSpPr/>
          <p:nvPr/>
        </p:nvGrpSpPr>
        <p:grpSpPr>
          <a:xfrm>
            <a:off x="2771640" y="765000"/>
            <a:ext cx="3657600" cy="3657600"/>
            <a:chOff x="2771640" y="765000"/>
            <a:chExt cx="3657600" cy="3657600"/>
          </a:xfrm>
        </p:grpSpPr>
        <p:sp>
          <p:nvSpPr>
            <p:cNvPr id="1317" name=""/>
            <p:cNvSpPr/>
            <p:nvPr/>
          </p:nvSpPr>
          <p:spPr>
            <a:xfrm>
              <a:off x="2771640" y="765000"/>
              <a:ext cx="3657600" cy="3657600"/>
            </a:xfrm>
            <a:prstGeom prst="ellipse">
              <a:avLst/>
            </a:prstGeom>
            <a:solidFill>
              <a:srgbClr val="99cc00">
                <a:alpha val="50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3515760" y="1701360"/>
              <a:ext cx="1641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說明文字</a:t>
              </a:r>
              <a:r>
                <a:rPr b="1" lang="en-US" sz="3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19" name=""/>
          <p:cNvGrpSpPr/>
          <p:nvPr/>
        </p:nvGrpSpPr>
        <p:grpSpPr>
          <a:xfrm>
            <a:off x="1260360" y="779400"/>
            <a:ext cx="6480360" cy="5386320"/>
            <a:chOff x="1260360" y="779400"/>
            <a:chExt cx="6480360" cy="5386320"/>
          </a:xfrm>
        </p:grpSpPr>
        <p:grpSp>
          <p:nvGrpSpPr>
            <p:cNvPr id="1320" name=""/>
            <p:cNvGrpSpPr/>
            <p:nvPr/>
          </p:nvGrpSpPr>
          <p:grpSpPr>
            <a:xfrm>
              <a:off x="4083120" y="2508120"/>
              <a:ext cx="3657600" cy="3657600"/>
              <a:chOff x="4083120" y="2508120"/>
              <a:chExt cx="3657600" cy="3657600"/>
            </a:xfrm>
          </p:grpSpPr>
          <p:sp>
            <p:nvSpPr>
              <p:cNvPr id="1321" name=""/>
              <p:cNvSpPr/>
              <p:nvPr/>
            </p:nvSpPr>
            <p:spPr>
              <a:xfrm>
                <a:off x="4083120" y="2508120"/>
                <a:ext cx="3657600" cy="3657600"/>
              </a:xfrm>
              <a:prstGeom prst="ellipse">
                <a:avLst/>
              </a:prstGeom>
              <a:solidFill>
                <a:srgbClr val="ffff00">
                  <a:alpha val="50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2" name=""/>
              <p:cNvSpPr/>
              <p:nvPr/>
            </p:nvSpPr>
            <p:spPr>
              <a:xfrm>
                <a:off x="5198760" y="4044960"/>
                <a:ext cx="16419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說明文字</a:t>
                </a:r>
                <a:r>
                  <a:rPr b="1" lang="en-US" sz="36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2</a:t>
                </a: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23" name=""/>
            <p:cNvGrpSpPr/>
            <p:nvPr/>
          </p:nvGrpSpPr>
          <p:grpSpPr>
            <a:xfrm>
              <a:off x="1260360" y="2508120"/>
              <a:ext cx="3657600" cy="3657600"/>
              <a:chOff x="1260360" y="2508120"/>
              <a:chExt cx="3657600" cy="3657600"/>
            </a:xfrm>
          </p:grpSpPr>
          <p:sp>
            <p:nvSpPr>
              <p:cNvPr id="1324" name=""/>
              <p:cNvSpPr/>
              <p:nvPr/>
            </p:nvSpPr>
            <p:spPr>
              <a:xfrm>
                <a:off x="1260360" y="2508120"/>
                <a:ext cx="3657600" cy="3657600"/>
              </a:xfrm>
              <a:prstGeom prst="ellipse">
                <a:avLst/>
              </a:prstGeom>
              <a:solidFill>
                <a:srgbClr val="ff3300">
                  <a:alpha val="50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5" name=""/>
              <p:cNvSpPr/>
              <p:nvPr/>
            </p:nvSpPr>
            <p:spPr>
              <a:xfrm>
                <a:off x="2220840" y="4163760"/>
                <a:ext cx="16419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6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說明文字</a:t>
                </a:r>
                <a:r>
                  <a:rPr b="0" lang="en-US" sz="36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3</a:t>
                </a: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26" name=""/>
            <p:cNvGrpSpPr/>
            <p:nvPr/>
          </p:nvGrpSpPr>
          <p:grpSpPr>
            <a:xfrm>
              <a:off x="2771640" y="779400"/>
              <a:ext cx="3657600" cy="3657600"/>
              <a:chOff x="2771640" y="779400"/>
              <a:chExt cx="3657600" cy="3657600"/>
            </a:xfrm>
          </p:grpSpPr>
          <p:sp>
            <p:nvSpPr>
              <p:cNvPr id="1327" name=""/>
              <p:cNvSpPr/>
              <p:nvPr/>
            </p:nvSpPr>
            <p:spPr>
              <a:xfrm>
                <a:off x="2771640" y="779400"/>
                <a:ext cx="3657600" cy="3657600"/>
              </a:xfrm>
              <a:prstGeom prst="ellipse">
                <a:avLst/>
              </a:prstGeom>
              <a:solidFill>
                <a:srgbClr val="99cc00">
                  <a:alpha val="50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8" name=""/>
              <p:cNvSpPr/>
              <p:nvPr/>
            </p:nvSpPr>
            <p:spPr>
              <a:xfrm>
                <a:off x="3515760" y="1715760"/>
                <a:ext cx="16419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說明文字</a:t>
                </a:r>
                <a:r>
                  <a:rPr b="1" lang="en-US" sz="36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1</a:t>
                </a: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1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1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1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268" dur="2000" fill="hold"/>
                                        <p:tgtEl>
                                          <p:spTgt spid="13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>行销 业务</cp:keywords>
  <dc:language>en-US</dc:language>
  <cp:lastModifiedBy/>
  <cp:revision>0</cp:revision>
  <dc:subject/>
  <dc:title/>
</cp:coreProperties>
</file>