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7.jpeg" ContentType="image/jpeg"/>
  <Override PartName="/ppt/media/image13.png" ContentType="image/png"/>
  <Override PartName="/ppt/media/TYPE.WAV" ContentType="audio/x-wav"/>
  <Override PartName="/ppt/media/LASER.WAV" ContentType="audio/x-wav"/>
  <Override PartName="/ppt/media/image1.jpeg" ContentType="image/jpeg"/>
  <Override PartName="/ppt/media/image6.jpeg" ContentType="image/jpeg"/>
  <Override PartName="/ppt/media/image10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1090-8441-4B49-93DA-E06415D1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B6C-A61A-48FA-82DA-9275E25A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EC6-5AD2-48CB-A75A-902CE56B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BAA3-7B30-4EEA-8044-1FD4F857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FCF-4590-422E-A2BC-8F4C0C87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375-43DF-445A-8EE6-0E32C41F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E60-7116-475D-BD0C-5DDE1407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B2D-E4EB-40C7-98F9-8215F2D9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B90-04A4-4432-977C-DF168167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22F-BFB0-4857-8E94-3C3038AE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0C4-AB54-493C-BEF4-9D54E2FA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947A-1DFF-446C-AB3B-32F15DBE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6556-1E08-423D-9045-A3E4802D73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2058480"/>
            <a:ext cx="6739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生物与无机环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228600"/>
            <a:ext cx="3733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无机环境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83808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阳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52388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对绿色植物在地球上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着决定性的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209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阳光对植物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52360" y="3137040"/>
            <a:ext cx="24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对植物开花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2819520"/>
            <a:ext cx="380880" cy="1218960"/>
          </a:xfrm>
          <a:custGeom>
            <a:avLst/>
            <a:gdLst>
              <a:gd name="textAreaLeft" fmla="*/ 243360 w 380880"/>
              <a:gd name="textAreaRight" fmla="*/ 381240 w 3808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17240" y="27417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日照植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17240" y="3656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短日照植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7242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：菠菜、鸢尾、苜蓿等属长日照植物，即在春末夏初开花；菊花、桂花属短日植物，在秋季开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0720" y="1295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影响动物的体色——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629400" cy="3314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90720" y="5638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影响动物的视觉——鸡，猫头鹰，田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04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光对动物的影响也很明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53040" y="0"/>
            <a:ext cx="3090960" cy="6019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419112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影响动物的生活习性——蛾类的趋光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97180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影响动物的生长发育——蚜虫（光亮处无翅，黑暗处有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76212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影响动物的繁殖和换毛——长日照的貂、鼬、雪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春季繁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短日照的鹿、山羊、鳟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秋季繁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鸟类的迁徙和繁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雪兔换毛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5638680" y="2209680"/>
            <a:ext cx="381240" cy="228600"/>
          </a:xfrm>
          <a:custGeom>
            <a:avLst/>
            <a:gdLst>
              <a:gd name="textAreaLeft" fmla="*/ 14760 w 381240"/>
              <a:gd name="textAreaRight" fmla="*/ 366480 w 381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25006" y="10800"/>
                </a:lnTo>
                <a:lnTo>
                  <a:pt x="109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5345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53341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雪兔换毛是对秋天短日照的一种生理反应，与温度的改变和有无降雪无关。阳光是关键因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343400" cy="3352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52880" y="281952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8001000" y="76212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81080" y="60948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867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植物需要光合作用，故阳光对植物的分布起决定性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9720" y="187704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光对陆生植物分布的影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10040" y="2817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光对海洋植物的影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03560" y="380736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光对植物开花的影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53910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活习性：夜行动物 （蛾、猫头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照的季节变化影响鸟类迁徙和繁殖、哺乳动物动物的繁殖和换毛（鹿、雪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1523880"/>
            <a:ext cx="457200" cy="1143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51240" y="1369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喜光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23598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喜阴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429000"/>
            <a:ext cx="457200" cy="1143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86920" y="3197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日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90160" y="4340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日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7200" y="1599480"/>
            <a:ext cx="1671120" cy="4071240"/>
            <a:chOff x="457200" y="1599480"/>
            <a:chExt cx="1671120" cy="4071240"/>
          </a:xfrm>
        </p:grpSpPr>
        <p:sp>
          <p:nvSpPr>
            <p:cNvPr id="113" name=""/>
            <p:cNvSpPr/>
            <p:nvPr/>
          </p:nvSpPr>
          <p:spPr>
            <a:xfrm>
              <a:off x="1398960" y="50281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动物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1600" y="1599480"/>
              <a:ext cx="533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植物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43000" y="1905120"/>
              <a:ext cx="152640" cy="350496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1080 h 3504960"/>
                <a:gd name="textAreaBottom" fmla="*/ 3413880 h 35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" y="2799720"/>
              <a:ext cx="729000" cy="13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阳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99072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温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2590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般生物生存温度范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~5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40384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种生物对每一种非生物因素都有一个能够耐受的范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76212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温度是决定生物的分布的主要因素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9810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南桔北枳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97180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同纬度地区的植物分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62120" y="0"/>
            <a:ext cx="8381880" cy="6553080"/>
            <a:chOff x="762120" y="0"/>
            <a:chExt cx="8381880" cy="65530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6041880" y="0"/>
              <a:ext cx="3102120" cy="502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762120" y="3809880"/>
              <a:ext cx="4029120" cy="2743200"/>
              <a:chOff x="762120" y="3809880"/>
              <a:chExt cx="4029120" cy="2743200"/>
            </a:xfrm>
          </p:grpSpPr>
          <p:pic>
            <p:nvPicPr>
              <p:cNvPr id="1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5120" y="3809880"/>
                <a:ext cx="2886120" cy="27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762120" y="5486400"/>
                <a:ext cx="251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阔叶林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990720" y="4038480"/>
            <a:ext cx="5257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海拔高山植物的垂直分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8672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海洋植物的垂直分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594360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286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温度影响生物的生长和发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8862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冬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0" y="3295800"/>
            <a:ext cx="4572000" cy="3349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3520" y="9907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麦种子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~43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范围内才能萌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096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重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—100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猪，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-2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温度条件下增重最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525780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温度影响动物的形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352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温度影响动物的生 活习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6002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昼夜温差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物产量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4495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海洋鱼的季节洄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92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80880" y="52578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较他们的头部外形和毛的分布有何不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类差别有何生态意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教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6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90720" y="2057400"/>
            <a:ext cx="457200" cy="2057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15228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3885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1143000"/>
            <a:ext cx="76320" cy="1676520"/>
          </a:xfrm>
          <a:custGeom>
            <a:avLst/>
            <a:gdLst>
              <a:gd name="textAreaLeft" fmla="*/ 48960 w 76320"/>
              <a:gd name="textAreaRight" fmla="*/ 76320 w 763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91296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分布：广东蜜桔、日本红富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15987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形态：冷则针形叶；热则阔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35053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319896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生存范围：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5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3801240"/>
            <a:ext cx="5410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体形：寒则耳尾小；热则尖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猴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5104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动物的冬眠、夏眠：蜗牛、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251388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温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57913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海洋鱼类的季节洄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2362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生长发育：东北大米、新疆葡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81280" y="1557360"/>
            <a:ext cx="5562720" cy="5300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228600"/>
            <a:ext cx="79250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研究生物与生物之间、生物与无机环境之间的相互关系的科学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生态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447920"/>
            <a:ext cx="3353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球上所有的生物及其无机环境构成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生物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718080"/>
            <a:ext cx="3124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研究生态学的意义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生态学的研究，将使人们从世界范围，从整个生物圈角度来考虑环境问题，进一步认识人与生物圈的关系，设法恢复和保持生物圈的动态平衡，为合理开发自然、建设国土提供指导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4038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11480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生物的生长发育有明显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219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在陆地上的分布，决定陆生生物的面貌分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59092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讨论比较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热带雨林和沙漠地区植物分布的景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952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别生活在水中的生物：盐度、酸碱度、水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5791320" y="327672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3794"/>
                </a:moveTo>
                <a:lnTo>
                  <a:pt x="24990" y="10800"/>
                </a:lnTo>
                <a:lnTo>
                  <a:pt x="1097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343400" y="2936880"/>
            <a:ext cx="4800600" cy="3921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687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105520" y="914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生物种类和数量繁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5029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生物种类少，植被稀疏　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物一般都有抗旱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9144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植物有发达的根系、叶针形、茎肉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971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漠中的动物：蛇、蜥蜴、跳鼠、骆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3733920" cy="3581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438280" cy="2362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352680" y="4724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沙漠中的蛇和嘶蜗，体表有厚鳞，可以减少水分的散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6094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42920" y="1752480"/>
            <a:ext cx="7034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沙漠中的跳鼠食植物的种子和茎叶，一生中从不饮水，它们没有汗腺，生理活动所产生的水，大部分能重复利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6094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809880" cy="3564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114800" y="1143000"/>
            <a:ext cx="39625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胃有三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一个是瘤胃储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~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称“水囊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生命所需水分主要来自体液的减少，可以经受体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5%~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脱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驼峰中的脂肪在化学反应中，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克脂肪可产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克的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汗腺少，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时才出汗；尿浓缩；大肠吸水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38080" y="220968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除光、温度和水以外，还有哪些因素属于非生物因素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143000"/>
            <a:ext cx="1066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讨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411480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风、水，土壤的物理和化学特性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无机环境因素的综合作用和限制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752480"/>
            <a:ext cx="80773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境中的各种生态因素，对生物体是同时共同起作用的，而不是单独地、孤立地起作用的。换句话说，生物的生存和繁衍，受各种生态因素的综合影响。对某个或某种生物来说，各种生态因素所起的作用并不是同等重要的。一般考虑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主导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304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举例：硅藻是一种浮游生物，浅海中的硅藻含量随着光照强度、温度、矿质营养的季节变化而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257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春季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59436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因：矿质营养充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照强度和温度逐步增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188" t="4090" r="0" b="0"/>
          <a:stretch/>
        </p:blipFill>
        <p:spPr>
          <a:xfrm>
            <a:off x="1436760" y="1295280"/>
            <a:ext cx="6350040" cy="3883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657600" y="53341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硅藻生长有一个很高的增长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1120" y="3581280"/>
            <a:ext cx="3352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42670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304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举例：硅藻是一种浮游生物，浅海中的硅藻含量随着光照强度、温度、矿质营养的季节变化而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5257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夏季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943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因：光照强度和温度虽增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矿质营养不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2188" t="4090" r="0" b="0"/>
          <a:stretch/>
        </p:blipFill>
        <p:spPr>
          <a:xfrm>
            <a:off x="1436760" y="1295280"/>
            <a:ext cx="6350040" cy="3883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733920" y="525780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硅藻的增长率减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3657600"/>
            <a:ext cx="2057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42670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304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举例：硅藻是一种浮游生物，浅海中的硅藻含量随着光照强度、温度、矿质营养的季节变化而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秋季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59436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因：光照水温虽下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矿质营养略有补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2188" t="4090" r="0" b="0"/>
          <a:stretch/>
        </p:blipFill>
        <p:spPr>
          <a:xfrm>
            <a:off x="1436760" y="1295280"/>
            <a:ext cx="6350040" cy="3883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743200" y="5257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硅藻有一个略为升高的增长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434340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434340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47920" y="205740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生活在一定的环境条件中，生命活动所需的物质和能量都取之于周围环境。因此，它的生长发育，甚至生命都受到环境的约束和控制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那么影响生物生存的环境因素是什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304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举例：硅藻是一种浮游生物，浅海中的硅藻含量随着光照强度、温度、矿质营养的季节变化而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52578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冬季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1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59436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因：水温较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照强度减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2188" t="4090" r="0" b="0"/>
          <a:stretch/>
        </p:blipFill>
        <p:spPr>
          <a:xfrm>
            <a:off x="1436760" y="1295280"/>
            <a:ext cx="6350040" cy="3883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809880" y="52578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硅藻的含量很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3520" y="914400"/>
            <a:ext cx="8076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此任何情况下，作用于生物体不可能只有一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境因素，而是多种因素起综合作用，但其中任何一种因素的改变，都会影响生物的生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3733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限制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——大多数生物对多数无机环境因素，都有相当宽的适应范围，但其中必有一种或少数几种因素是限制生物生存和繁殖的关键因素，被称为限制因素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53352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农业地区：作物生长所需要的水和二氧化碳是较为充足的，当地作物对温度和光照的适应范围也较宽，影响作物产量的常常是那些供应不足的矿质营养素，这些矿质     营养素就成了作物生长的限制因素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2286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限制因素：  矿质营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2767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洋中藻类的垂直分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3962520"/>
            <a:ext cx="4952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限制因素：  光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0292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雪兔换毛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05120" y="57913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限制因素：  日照时间的季节变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533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海区：高水压、高盐度，决定了它们只能分布在深海；中、上层鱼类，卵的孵化和幼鱼的生长，对水中含氧量要求严格，这就决定了它们的分布范围限于中、上层      海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2286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限制因素：  高水压、高盐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32767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硅藻： 秋冬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2767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限制因素：  光照强度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3434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春夏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43434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限制因素：  矿质营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8600" y="304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限制因素应用的实际意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与有害生物的斗争中，在治理时，应尽可能除去限制因素，以提高治理污染的效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如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太湖水域蓝藻大爆发，造成大爆发的原因是生活污水、工业废水、农业废水污染水体，水体富营养化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含量高，温度条件适宜，引起藻类过度生长，造成水质不断恶化等后果；但是藻类生长必需磷酸盐，若在含有多种营养物的废水中除去磷酸盐，藻类的过度生长就得到了控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4724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如：蚊子在繁殖后代的过程中，卵必须产在水里，所以水成了一个限制因素。为了减少蚊子，一般居民区不宜有水塘、积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分析下列生物现象，其中起主要作用的生态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素分别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苹果树不宜在热带地区栽种；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阳面山坡的小麦比阴面的长得好；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荒漠地区生物种类稀少。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阳光；    ②温度；    ③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24680" y="2666880"/>
            <a:ext cx="304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24680" y="3429000"/>
            <a:ext cx="3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924680" y="4343400"/>
            <a:ext cx="3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2286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380880"/>
            <a:ext cx="891540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我国青藏高原农区小麦高产的主要原因是由于当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昼夜温差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太阳辐射强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 C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浓度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雨量充沛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气温偏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分蒸发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029200"/>
            <a:ext cx="8458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生活在高山上的人血液中的红细胞数量比普通人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影响他们的红细胞增多的生态因素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温度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分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气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阳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2743200"/>
            <a:ext cx="853416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菊花通常要在秋末开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使它提早开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采用的人工处理方法是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喷洒一定浓度的生长素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浇水、多施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早遮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形成短日照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降低温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548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83808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3200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581280" y="2514600"/>
            <a:ext cx="2362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再 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609840" y="761760"/>
            <a:ext cx="10134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节  生物与无机环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24382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物与无机环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24382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、温度、水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3581280"/>
            <a:ext cx="4038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周围环境中的其他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包括同种和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种的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3505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物与有机环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7432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89548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物与环境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228600"/>
            <a:ext cx="3733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无机环境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83808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阳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52388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对绿色植物在地球上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着决定性的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581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对海洋生物的影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209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阳光对植物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3581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呈垂直分布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9218" t="0" r="0" b="0"/>
          <a:stretch/>
        </p:blipFill>
        <p:spPr>
          <a:xfrm>
            <a:off x="2759040" y="228600"/>
            <a:ext cx="6156360" cy="6311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6094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143000"/>
            <a:ext cx="2438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洋植物分布于海面以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0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浅水处生长绿藻，稍深处是褐藻，再深处是红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6094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9144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原因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286000"/>
            <a:ext cx="5715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同水层光照强度不一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同水层光谱成分不一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228600"/>
            <a:ext cx="3733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无机环境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83808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阳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2388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对绿色植物在地球上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着决定性的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09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阳光对植物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5440" y="3594240"/>
            <a:ext cx="29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对陆生植物分布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32767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26440" y="3060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阳生植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3975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阴生植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4952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些植物只有在强光下才能生长得好，如松、杉、柳、槐、小麦、玉米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828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用植物三七、人参等只有在密林下层较阴暗处才能生长得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生物 无机环境</cp:keywords>
  <dc:language>en-US</dc:language>
  <cp:lastModifiedBy/>
  <cp:revision>0</cp:revision>
  <dc:subject/>
  <dc:title/>
</cp:coreProperties>
</file>