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4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13.png" ContentType="image/png"/>
  <Override PartName="/ppt/media/image33.png" ContentType="image/png"/>
  <Override PartName="/ppt/media/image8.png" ContentType="image/png"/>
  <Override PartName="/ppt/media/image46.jpeg" ContentType="image/jpeg"/>
  <Override PartName="/ppt/media/image48.jpeg" ContentType="image/jpeg"/>
  <Override PartName="/ppt/media/image45.jpeg" ContentType="image/jpeg"/>
  <Override PartName="/ppt/media/image50.jpeg" ContentType="image/jpeg"/>
  <Override PartName="/ppt/media/image52.png" ContentType="image/png"/>
  <Override PartName="/ppt/media/image5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38.jpeg" ContentType="image/jpeg"/>
  <Override PartName="/ppt/media/image28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40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C6F-E8D8-4ED6-9A97-518C77E9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A03-1E7B-4D5B-B655-F29691A4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2AB-633E-40BA-8782-8D4A38B2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42A-16EF-444F-B1EF-0FE4CCEC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657-EEEB-45C5-96F3-51DE4CBC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660-CC9B-435C-A4BB-37CCE808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3BA-1A92-4651-BC5C-B4B30358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755-445A-43DB-9F83-B21F234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C83-5B89-487B-9AB2-DE57F648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ABC-A55F-4F96-B277-C06AD70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98E-E3E4-4743-AAFF-96568624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F3A-2481-4131-9799-D37BF881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99E2-5715-4078-A159-91E071D7A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1.png"/><Relationship Id="rId3" Type="http://schemas.openxmlformats.org/officeDocument/2006/relationships/image" Target="../media/image40.png"/><Relationship Id="rId4" Type="http://schemas.openxmlformats.org/officeDocument/2006/relationships/image" Target="../media/image17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27.png"/><Relationship Id="rId8" Type="http://schemas.openxmlformats.org/officeDocument/2006/relationships/image" Target="../media/image18.png"/><Relationship Id="rId9" Type="http://schemas.openxmlformats.org/officeDocument/2006/relationships/image" Target="../media/image14.pn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image" Target="../media/image46.jpeg"/><Relationship Id="rId14" Type="http://schemas.openxmlformats.org/officeDocument/2006/relationships/image" Target="../media/image47.png"/><Relationship Id="rId15" Type="http://schemas.openxmlformats.org/officeDocument/2006/relationships/image" Target="../media/image48.jpeg"/><Relationship Id="rId16" Type="http://schemas.openxmlformats.org/officeDocument/2006/relationships/image" Target="../media/image49.jpe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背景图像04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60360" y="2276640"/>
            <a:ext cx="633600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陶艺与时尚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bg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971800" y="990720"/>
            <a:ext cx="5410080" cy="75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0920" y="2286000"/>
            <a:ext cx="3809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清代的前期，景德镇的瓷业与明代一样，代表着整个封建时代的高水平，尤其是康熙、雍正、乾隆三朝，为封建社会景德镇瓷业的鼎盛时期，乾隆后期以后，景德镇的瓷业开始走下坡路，特别是中国沦为半封建半殖民地国家后，陶瓷行业每况愈下，一些优秀的陶瓷艺人纷纷离去，制瓷水平大为下降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1554120" cy="381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629400" y="2514600"/>
            <a:ext cx="1784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tar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629400" cy="552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124080"/>
            <a:ext cx="7467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鸦片战争以后，中国沦为半封建半殖民地社会，中国的民族工业受到了严重摧残，千载名窑也停滞而趋向衰落。陶瓷生产水平继续下滑，生产规模也日趋萎缩，制造工艺上仍沿行旧法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景德镇毕竟有悠久的制瓷传统，广大瓷工身怀绝迹，在极其艰难困苦的情况下，奋力发展以手工技艺为特色的仿古瓷、美术瓷生产，坚持与外国机器制造的日用瓷相抗争，保持了中国瓷器在国际上的美誉，于衰落中显示了振兴陶瓷的潜力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09680" y="9907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宋体"/>
              </a:rPr>
              <a:t>近代</a:t>
            </a:r>
            <a:r>
              <a: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宋体"/>
              </a:rPr>
              <a:t>·</a:t>
            </a: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89898"/>
                  </a:outerShdw>
                </a:effectLst>
                <a:latin typeface="宋体"/>
              </a:rPr>
              <a:t>在衰落中迎来曙光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89898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190512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819000"/>
            <a:ext cx="1218960" cy="1543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686560" y="6286680"/>
            <a:ext cx="3457440" cy="571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71800" y="2066760"/>
            <a:ext cx="54864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代景德镇的制瓷工艺继承了传统的技法</a:t>
            </a: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和借鉴了国内外的精华</a:t>
            </a: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陶瓷制作达到了一个又一个的高度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雅素静的青花，色彩艳丽的粉彩，明净剔透的玲珑，五彩缤纷的颜色釉，万紫千红的古彩，精美轻巧的薄胎，千姿百态的瓷雕</a:t>
            </a: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....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些无不在现代陶艺人的手中，重放光彩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43040" y="1981080"/>
            <a:ext cx="48744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 rot="20070000">
            <a:off x="2050560" y="5157360"/>
            <a:ext cx="19051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57600" y="609480"/>
            <a:ext cx="4648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进入各种大商场，总能看见柜台上零星地点缀着些陶艺小饰品。用各色软陶泥精心制作的手链、项链、耳环、发夹，还有一些小巧的家居制品，人们不约而同发出了赞叹声。可不是吗？女孩子就是喜欢这些可爱的小饰品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68640"/>
            <a:ext cx="5867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艺，古风之美。适用陶质产品的家具、家饰，无论在造型上或质感上，都呈现出与众不同的品味，是将古朴艺术融入现代生活的表现。陶器朴直的美感，向来受到许多艺术家们的青睐，将其烧制成形形色色的家具或装饰精品置于家中，艺术气息会相当浓厚。现在，将陶器运用在桌面、灯具、壁画等家庭的设计上，既是实用美观的家什，同时又可成为颇有观赏价值的手工艺品。陶艺，因为它还包含了土的感觉、火的魅力，以及作者的情感和泥、釉、火所交融的效果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高原蓝湖2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2590920" cy="1747800"/>
          </a:xfrm>
          <a:prstGeom prst="rect">
            <a:avLst/>
          </a:prstGeom>
          <a:ln w="0">
            <a:noFill/>
          </a:ln>
        </p:spPr>
      </p:pic>
      <p:pic>
        <p:nvPicPr>
          <p:cNvPr id="109" name="岫玉玉雕1(2)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1791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9640" y="1268280"/>
            <a:ext cx="8153640" cy="52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地风景，大漠孤烟，长河落日，西域大漠驼铃声声，多少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之士为她赞叹，多少漂泊游子为她魂牵。走进新疆，走进自然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中国的西南边陲，有一片海拔平均在</a:t>
            </a: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0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以上，面积达</a:t>
            </a: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0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平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公里的土地，这就是号称“世界屋脊”和“地球第三极”的青藏高原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东连云贵高原和四川盆地，西达万山之宗的帕米尔高原，南至喜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拉雅山系。镜泊湖——我国最大的堰塞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湖，兴凯湖——东北最大的淡水湖，虎头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帝庙，久负盛名的布达拉宫，千年古刹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昭寺，世界上著名的三大寺：甘丹寺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拉寺和哲蚌寺。在假日里游玩祖国大好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山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971800" y="380880"/>
            <a:ext cx="3581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陶艺与旅游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12" name="山峰" descr=""/>
          <p:cNvPicPr/>
          <p:nvPr/>
        </p:nvPicPr>
        <p:blipFill>
          <a:blip r:embed="rId1"/>
          <a:stretch/>
        </p:blipFill>
        <p:spPr>
          <a:xfrm>
            <a:off x="5867280" y="4191120"/>
            <a:ext cx="25401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g4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1429800">
            <a:off x="6732360" y="333360"/>
            <a:ext cx="1600200" cy="1279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20479800">
            <a:off x="-34560" y="404280"/>
            <a:ext cx="1598760" cy="1266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932360" y="260280"/>
            <a:ext cx="15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76720" y="2602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6659640" y="2205000"/>
            <a:ext cx="144288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076720" y="4508640"/>
            <a:ext cx="1351080" cy="2133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1692360" y="4540320"/>
            <a:ext cx="138888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3348000" y="2060640"/>
            <a:ext cx="1312920" cy="2133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 rot="5400000">
            <a:off x="5878080" y="284292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0000ff"/>
                </a:solidFill>
                <a:latin typeface="楷体_GB2312"/>
              </a:rPr>
              <a:t>形形色色的陶艺制品</a:t>
            </a:r>
            <a:endParaRPr b="1" lang="en-US" sz="4400" spc="-1" strike="noStrike">
              <a:ln w="0">
                <a:noFill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  <p:pic>
        <p:nvPicPr>
          <p:cNvPr id="123" name="p1" descr=""/>
          <p:cNvPicPr/>
          <p:nvPr/>
        </p:nvPicPr>
        <p:blipFill>
          <a:blip r:embed="rId10"/>
          <a:stretch/>
        </p:blipFill>
        <p:spPr>
          <a:xfrm>
            <a:off x="1547640" y="189000"/>
            <a:ext cx="129564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10" descr=""/>
          <p:cNvPicPr/>
          <p:nvPr/>
        </p:nvPicPr>
        <p:blipFill>
          <a:blip r:embed="rId11"/>
          <a:stretch/>
        </p:blipFill>
        <p:spPr>
          <a:xfrm>
            <a:off x="1763640" y="2060640"/>
            <a:ext cx="1290600" cy="2438280"/>
          </a:xfrm>
          <a:prstGeom prst="rect">
            <a:avLst/>
          </a:prstGeom>
          <a:ln w="0">
            <a:noFill/>
          </a:ln>
        </p:spPr>
      </p:pic>
      <p:pic>
        <p:nvPicPr>
          <p:cNvPr id="125" name="p51-140" descr=""/>
          <p:cNvPicPr/>
          <p:nvPr/>
        </p:nvPicPr>
        <p:blipFill>
          <a:blip r:embed="rId12"/>
          <a:stretch/>
        </p:blipFill>
        <p:spPr>
          <a:xfrm>
            <a:off x="3348000" y="4508640"/>
            <a:ext cx="137952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6" descr=""/>
          <p:cNvPicPr/>
          <p:nvPr/>
        </p:nvPicPr>
        <p:blipFill>
          <a:blip r:embed="rId13"/>
          <a:stretch/>
        </p:blipFill>
        <p:spPr>
          <a:xfrm>
            <a:off x="73080" y="2205000"/>
            <a:ext cx="1474560" cy="2209680"/>
          </a:xfrm>
          <a:prstGeom prst="rect">
            <a:avLst/>
          </a:prstGeom>
          <a:ln w="0">
            <a:noFill/>
          </a:ln>
        </p:spPr>
      </p:pic>
      <p:pic>
        <p:nvPicPr>
          <p:cNvPr id="127" name="p8" descr=""/>
          <p:cNvPicPr/>
          <p:nvPr/>
        </p:nvPicPr>
        <p:blipFill>
          <a:blip r:embed="rId14"/>
          <a:stretch/>
        </p:blipFill>
        <p:spPr>
          <a:xfrm rot="20397600">
            <a:off x="255600" y="4508280"/>
            <a:ext cx="150804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9" descr=""/>
          <p:cNvPicPr/>
          <p:nvPr/>
        </p:nvPicPr>
        <p:blipFill>
          <a:blip r:embed="rId15"/>
          <a:stretch/>
        </p:blipFill>
        <p:spPr>
          <a:xfrm>
            <a:off x="4859280" y="2163600"/>
            <a:ext cx="163692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p4" descr=""/>
          <p:cNvPicPr/>
          <p:nvPr/>
        </p:nvPicPr>
        <p:blipFill>
          <a:blip r:embed="rId16"/>
          <a:stretch/>
        </p:blipFill>
        <p:spPr>
          <a:xfrm rot="674400">
            <a:off x="6588000" y="4708080"/>
            <a:ext cx="16560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000"/>
                            </p:stCondLst>
                            <p:childTnLst>
                              <p:par>
                                <p:cTn id="3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 rot="5400000">
            <a:off x="151920" y="1981080"/>
            <a:ext cx="2441520" cy="91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总结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1066680"/>
            <a:ext cx="6019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过这次“陶艺与时尚”的研究，我们学到了不少生活中的知识，丰富了我们的课余生活，同时感谢晋元高级中学给了我们这样一个学习和研究的机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相信，陶艺事业会更加蓬勃发展，在生活中具有更充分的利用价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90920" y="4343400"/>
            <a:ext cx="5943600" cy="1181160"/>
            <a:chOff x="2590920" y="4343400"/>
            <a:chExt cx="5943600" cy="1181160"/>
          </a:xfrm>
        </p:grpSpPr>
        <p:pic>
          <p:nvPicPr>
            <p:cNvPr id="133" name="天使1" descr=""/>
            <p:cNvPicPr/>
            <p:nvPr/>
          </p:nvPicPr>
          <p:blipFill>
            <a:blip r:embed="rId2"/>
            <a:stretch/>
          </p:blipFill>
          <p:spPr>
            <a:xfrm>
              <a:off x="2590920" y="4343400"/>
              <a:ext cx="129528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天使2" descr=""/>
            <p:cNvPicPr/>
            <p:nvPr/>
          </p:nvPicPr>
          <p:blipFill>
            <a:blip r:embed="rId3"/>
            <a:stretch/>
          </p:blipFill>
          <p:spPr>
            <a:xfrm>
              <a:off x="7239240" y="4343400"/>
              <a:ext cx="1295280" cy="11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4343400" y="472428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隶书"/>
                <a:ea typeface="隶书"/>
              </a:rPr>
              <a:t>作者：</a:t>
            </a:r>
            <a:r>
              <a:rPr b="1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×××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74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74"/>
                            </p:stCondLst>
                            <p:childTnLst>
                              <p:par>
                                <p:cTn id="385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74"/>
                            </p:stCondLst>
                            <p:childTnLst>
                              <p:par>
                                <p:cTn id="3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ianfe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685800"/>
            <a:ext cx="6934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100" spc="-1" strike="noStrike">
                <a:solidFill>
                  <a:srgbClr val="0000ff"/>
                </a:solidFill>
                <a:latin typeface="Times New Roman"/>
              </a:rPr>
              <a:t>陶瓷是科学技术与文化艺术相结合的产物，是一种特别的文化形态，她作为中国传统艺术种类之一，有着悠远的历史，展现着中国人民追求美、向往美、欣赏美、表现美、创造美的审美轨迹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514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主题——陶艺与时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27672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000000"/>
                </a:solidFill>
                <a:latin typeface="Times New Roman"/>
              </a:rPr>
              <a:t>时尚的流行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548640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403848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迪斯科舞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48320"/>
            <a:ext cx="167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十年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403848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八十年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464832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5257800"/>
            <a:ext cx="281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吧  茶坊  旅游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58672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吧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999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499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99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499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999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499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0" y="914400"/>
            <a:ext cx="4724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研究方向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666880"/>
            <a:ext cx="2857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66ff"/>
              </a:buClr>
              <a:buSzPct val="90000"/>
              <a:buFont typeface="Times New Roman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陶瓷的历史足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34290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66ff"/>
              </a:buClr>
              <a:buSzPct val="90000"/>
              <a:buFont typeface="Times New Roman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陶艺成为时尚的原因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4038480"/>
            <a:ext cx="2210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cc00ff"/>
              </a:buClr>
              <a:buSzPct val="70000"/>
              <a:buFont typeface="宋体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陶艺的日用家居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724280"/>
            <a:ext cx="3733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66ff"/>
              </a:buClr>
              <a:buSzPct val="90000"/>
              <a:buFont typeface="Times New Roman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陶艺与其它时尚的比较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5486400"/>
            <a:ext cx="40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66ff"/>
              </a:buClr>
              <a:buSzPct val="90000"/>
              <a:buFont typeface="Times New Roman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陶艺在社会时尚中的位置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62720" y="4038480"/>
            <a:ext cx="1263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cc00ff"/>
              </a:buClr>
              <a:buSzPct val="70000"/>
              <a:buFont typeface="宋体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陶艺的艺术气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4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4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74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74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74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74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4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4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4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4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4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4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tonebg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zi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114480" y="857160"/>
            <a:ext cx="3230280" cy="5410440"/>
          </a:xfrm>
          <a:prstGeom prst="rect">
            <a:avLst/>
          </a:prstGeom>
          <a:ln w="0">
            <a:noFill/>
          </a:ln>
        </p:spPr>
      </p:pic>
      <p:pic>
        <p:nvPicPr>
          <p:cNvPr id="63" name="zi1" descr=""/>
          <p:cNvPicPr/>
          <p:nvPr/>
        </p:nvPicPr>
        <p:blipFill>
          <a:blip r:embed="rId3"/>
          <a:stretch/>
        </p:blipFill>
        <p:spPr>
          <a:xfrm>
            <a:off x="3809880" y="1371600"/>
            <a:ext cx="654120" cy="3890880"/>
          </a:xfrm>
          <a:prstGeom prst="rect">
            <a:avLst/>
          </a:prstGeom>
          <a:ln w="0">
            <a:noFill/>
          </a:ln>
        </p:spPr>
      </p:pic>
      <p:pic>
        <p:nvPicPr>
          <p:cNvPr id="64" name="zi2" descr=""/>
          <p:cNvPicPr/>
          <p:nvPr/>
        </p:nvPicPr>
        <p:blipFill>
          <a:blip r:embed="rId4"/>
          <a:stretch/>
        </p:blipFill>
        <p:spPr>
          <a:xfrm>
            <a:off x="3276720" y="990720"/>
            <a:ext cx="284040" cy="5076720"/>
          </a:xfrm>
          <a:prstGeom prst="rect">
            <a:avLst/>
          </a:prstGeom>
          <a:ln w="0">
            <a:noFill/>
          </a:ln>
        </p:spPr>
      </p:pic>
      <p:pic>
        <p:nvPicPr>
          <p:cNvPr id="65" name="foot1" descr=""/>
          <p:cNvPicPr/>
          <p:nvPr/>
        </p:nvPicPr>
        <p:blipFill>
          <a:blip r:embed="rId5"/>
          <a:stretch/>
        </p:blipFill>
        <p:spPr>
          <a:xfrm>
            <a:off x="4648320" y="12952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ackground1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62320" y="1828800"/>
            <a:ext cx="6019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德镇为我国历代著名瓷都。这里的劳动人民早在汉代就靠山筑窑，伐木烧陶。这时的陶器，已属半陶半瓷的原始瓷器阶段。到南北朝的陈朝，制瓷业有了较大进步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隋唐开始，制瓷工人掌握了用高火度烧制瓷器的方法，所制青瓷胎质致密，釉面莹亮；白瓷更是令人喜爱：釉面光洁，透光度好，特别是白度高。据古籍记载，景德镇烧造的这种高质量瓷器，色泽素润。质地坚固，被誉为“假玉器”。唐武德四年，唐高祖曾下诏“制瓷进御”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4419720" cy="587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1752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3880" y="762120"/>
            <a:ext cx="5943600" cy="65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3000" y="2895480"/>
            <a:ext cx="4876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德镇现已查清和发掘的古窑场，大体分布在三个区域，一为市区和近郊，二为南河流域，三为东河流域。这些早期的窑场被后人称为“龙窑”，兴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日，火似龙腾，烈焰与柔土幻化，成功地烧造了胎质由粗而精、釉色有青有白的五代瓷器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德镇五代窑场的兴烧盛况，为宋元瓷的精进奠定了充分有利的基础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019920" y="3048120"/>
            <a:ext cx="1593720" cy="2590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19320" y="1676520"/>
            <a:ext cx="647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瓷窑的烧造历史，大都始于五代，就总体而言，烧造年代之早，窑场规模之大，延烧时间之长，窑器品质之佳，在世界陶瓷史上是独一无二的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81080" y="762120"/>
            <a:ext cx="5334120" cy="591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419720"/>
            <a:ext cx="5410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青白瓷大部分在坯体上刻暗花纹，薄剔而成为透明飞凤等花纹，内外均可映见，釉而隐现青色，故又称影青瓷。这种影青瓷当时则著行海内，天下均称为景德镇瓷器，从而使景德镇在南北各大窑之间，崭露头角，争得一席之地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14400" y="1905120"/>
            <a:ext cx="185904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553080" y="4267080"/>
            <a:ext cx="1440000" cy="2133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71800" y="1752480"/>
            <a:ext cx="5334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古代造瓷，在釉色方面，素有崇尚青色传统，以青为贵。以前的各朝所追求的色调，无非是浓淡不一，意境略异的青色瓷，而且，重色釉也不曾有过彩绘。景德镇窑在北宋时期，仿效了青白玉的色调和湿润的质感，创造性地烧造出了一种“土白壤而埴、质薄腻、色滋润”的青白瓷，使青瓷艺术达到了高峰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38280" y="1143000"/>
            <a:ext cx="4800600" cy="638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71600" y="3962520"/>
            <a:ext cx="6934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单色釉为主的局面，把瓷器装饰推进到釉下彩的新时代，形成了鲜明的中国瓷器之特色。从而把景德镇瓷业推向遥遥领先的地位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代，官方在景德镇设置“浮梁瓷局”。其时镇内不仅有官办“枢府”窑，而且民窑也增至</a:t>
            </a: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447920" y="2362320"/>
            <a:ext cx="1904760" cy="152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9000" y="2286000"/>
            <a:ext cx="4952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德镇瓷业发展到元代</a:t>
            </a: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艺上出现了划时代的变革。在短短的一个世纪里， 继宋代创青白瓷之后，又创烧成功具有高铝氧成分的白瓷、青花瓷、釉里红、青花釉里红等新品种。结束了我国瓷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e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181840" cy="725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1905120" cy="1943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8120" y="4038480"/>
            <a:ext cx="518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黄、绿、紫相间成趣的素三彩，色如翡翠的孔雀绿、深沉幽净的霁青，娇艳柔美的浅黄，呈色稳定的矾红等等，都创始于明代，如百花齐放，万紫千红，尽态极妍。惟有景德镇为“天下窑器所聚”，抑人之短，扬己之长，形成全国的烧造中心。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600200"/>
            <a:ext cx="7315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代是景德镇的鼎盛阶段的开始，陶瓷艺术集历代瓷艺之精华，取得了更高的发展。凡前代已有的品种，此时应有尽有；大量新工艺、新的装饰手法，也先后涌现。</a:t>
            </a:r>
            <a:r>
              <a:rPr b="0" lang="en-US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新优雅，气韵生动，足与水墨画并驾齐驱的永乐、宣德青花；鲜红莹亮，色若朝霞，灿如霁日宣德霁红；釉下、釉上，互相掩映，柔和精巧的成化斗彩；薄如纸、莹如玉、吹之欲飞的永乐薄胎甜白；金碧辉煌，雍容华贵的嘉靖、万历五彩；还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陶艺 时尚</cp:keywords>
  <dc:language>en-US</dc:language>
  <cp:lastModifiedBy/>
  <cp:revision>0</cp:revision>
  <dc:subject/>
  <dc:title/>
</cp:coreProperties>
</file>