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laser.wav" ContentType="audio/x-wav"/>
  <Override PartName="/ppt/media/image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5.jpeg" ContentType="image/jpeg"/>
  <Override PartName="/ppt/media/chimes.wav" ContentType="audio/x-wav"/>
  <Override PartName="/ppt/media/applause.wav" ContentType="audio/x-wav"/>
  <Override PartName="/ppt/media/image6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19B3-B9A0-4C30-A9E4-43457A42A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2694-8CCD-4F03-ABE6-25B60ED14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BDE4-C1A6-44F9-BA51-DF47AB695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6356-8766-42D7-BFED-7471CF3F1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BBBC8-BCF1-47D9-9A43-2F8455185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E0DAC-A93C-46DF-8C6F-A4317FDFA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F7225-FA9B-412D-9E1F-CB31B65A9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DD7D9-28BD-46B0-B0A8-5E05BB27A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550FF-5738-408F-92A2-BFF9059DA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EF986-37FE-45D9-AD0B-B1C971EFA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C5E40-F95C-406A-B053-CA3F1609B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F0FE-D542-4620-9EEB-334DE56B0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8CAA0-CF1C-44CA-B2E7-2179DF3F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E79AD-D392-44E0-BB08-350F6B64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C7152-407D-4A0F-9703-B308F8D61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CEABB-4E2F-4AAB-82B3-E8AC26367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E895E-63FB-4E59-9A43-C7A2EE99C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B87B-4AFE-4B71-B1C4-65107D028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5344-B10B-4EA1-AE55-AEB1A9CAA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0F4D-1E4F-40AA-8326-E77B2AF76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35A4-A026-48E4-AAD1-F7A929536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023A-5020-47FD-B932-95DA87890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39A6-957C-42AE-A1EB-99BE6E4C8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6447-6918-4257-BE15-4145358AC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16DCF-5FFF-4CD2-AA1E-B2CD32931065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5FA36-3028-45B1-82EE-EB134615F567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../../../download/&#22270;&#29255;&#38598;&#38182;/0water.htm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304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45720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6320" y="4648320"/>
            <a:ext cx="9067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6699"/>
                </a:solidFill>
                <a:latin typeface="隶书"/>
                <a:ea typeface="隶书"/>
              </a:rPr>
              <a:t>我国旅游业有了较快发展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743200" y="5853240"/>
            <a:ext cx="3886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Times New Roman"/>
                <a:ea typeface="隶书"/>
              </a:rPr>
              <a:t>XX</a:t>
            </a:r>
            <a:r>
              <a:rPr b="0" lang="zh-CN" sz="2400" spc="-1" strike="noStrike">
                <a:solidFill>
                  <a:srgbClr val="0099cc"/>
                </a:solidFill>
                <a:latin typeface="Times New Roman"/>
                <a:ea typeface="隶书"/>
              </a:rPr>
              <a:t>学院</a:t>
            </a:r>
            <a:r>
              <a:rPr b="0" lang="en-US" sz="2400" spc="-1" strike="noStrike">
                <a:solidFill>
                  <a:srgbClr val="0099cc"/>
                </a:solidFill>
                <a:latin typeface="Times New Roman"/>
                <a:ea typeface="隶书"/>
              </a:rPr>
              <a:t>XX</a:t>
            </a:r>
            <a:r>
              <a:rPr b="0" lang="zh-CN" sz="2400" spc="-1" strike="noStrike">
                <a:solidFill>
                  <a:srgbClr val="0099cc"/>
                </a:solidFill>
                <a:latin typeface="Times New Roman"/>
                <a:ea typeface="隶书"/>
              </a:rPr>
              <a:t>系</a:t>
            </a:r>
            <a:r>
              <a:rPr b="0" lang="en-US" sz="2400" spc="-1" strike="noStrike">
                <a:solidFill>
                  <a:srgbClr val="0099cc"/>
                </a:solidFill>
                <a:latin typeface="Times New Roman"/>
                <a:ea typeface="隶书"/>
              </a:rPr>
              <a:t>XX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cc"/>
                </a:solidFill>
                <a:latin typeface="Times New Roman"/>
                <a:ea typeface="隶书"/>
              </a:rPr>
              <a:t> </a:t>
            </a:r>
            <a:r>
              <a:rPr b="0" lang="en-US" sz="2400" spc="-1" strike="noStrike">
                <a:solidFill>
                  <a:srgbClr val="0099cc"/>
                </a:solidFill>
                <a:latin typeface="Times New Roman"/>
                <a:ea typeface="隶书"/>
              </a:rPr>
              <a:t>XXXX</a:t>
            </a:r>
            <a:r>
              <a:rPr b="0" lang="zh-CN" sz="2400" spc="-1" strike="noStrike">
                <a:solidFill>
                  <a:srgbClr val="0099cc"/>
                </a:solidFill>
                <a:latin typeface="Times New Roman"/>
                <a:ea typeface="隶书"/>
              </a:rPr>
              <a:t>年</a:t>
            </a:r>
            <a:r>
              <a:rPr b="0" lang="en-US" sz="2400" spc="-1" strike="noStrike">
                <a:solidFill>
                  <a:srgbClr val="0099cc"/>
                </a:solidFill>
                <a:latin typeface="Times New Roman"/>
                <a:ea typeface="隶书"/>
              </a:rPr>
              <a:t>X</a:t>
            </a:r>
            <a:r>
              <a:rPr b="0" lang="zh-CN" sz="2400" spc="-1" strike="noStrike">
                <a:solidFill>
                  <a:srgbClr val="0099cc"/>
                </a:solidFill>
                <a:latin typeface="Times New Roman"/>
                <a:ea typeface="隶书"/>
              </a:rPr>
              <a:t>月</a:t>
            </a:r>
            <a:r>
              <a:rPr b="0" lang="en-US" sz="2400" spc="-1" strike="noStrike">
                <a:solidFill>
                  <a:srgbClr val="0099cc"/>
                </a:solidFill>
                <a:latin typeface="Times New Roman"/>
                <a:ea typeface="隶书"/>
              </a:rPr>
              <a:t>X</a:t>
            </a:r>
            <a:r>
              <a:rPr b="0" lang="zh-CN" sz="2400" spc="-1" strike="noStrike">
                <a:solidFill>
                  <a:srgbClr val="0099cc"/>
                </a:solidFill>
                <a:latin typeface="Times New Roman"/>
                <a:ea typeface="隶书"/>
              </a:rPr>
              <a:t>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640080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33"/>
                </a:solidFill>
                <a:uFillTx/>
                <a:latin typeface="Times New Roman"/>
                <a:ea typeface="隶书"/>
                <a:hlinkClick r:id="rId2"/>
              </a:rPr>
              <a:t>图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895480" cy="10666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228600" y="1447920"/>
            <a:ext cx="1981080" cy="1143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2971800" y="1523880"/>
            <a:ext cx="1905120" cy="990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304920" y="2819520"/>
            <a:ext cx="2666880" cy="17524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7"/>
          <a:stretch/>
        </p:blipFill>
        <p:spPr>
          <a:xfrm>
            <a:off x="3505320" y="2895480"/>
            <a:ext cx="5257800" cy="16765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505320" y="228600"/>
            <a:ext cx="563868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99cc"/>
                </a:solidFill>
                <a:latin typeface="隶书"/>
                <a:ea typeface="隶书"/>
              </a:rPr>
              <a:t>报刊语言教程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99cc"/>
                </a:solidFill>
                <a:latin typeface="隶书"/>
                <a:ea typeface="隶书"/>
              </a:rPr>
              <a:t>第十课</a:t>
            </a:r>
            <a:r>
              <a:rPr b="0" lang="zh-CN" sz="5400" spc="-1" strike="noStrike">
                <a:solidFill>
                  <a:srgbClr val="ffffff"/>
                </a:solidFill>
                <a:latin typeface="隶书"/>
                <a:ea typeface="隶书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838080" y="762120"/>
            <a:ext cx="78487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ffcc66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cc66"/>
                </a:solidFill>
                <a:latin typeface="Times New Roman"/>
              </a:rPr>
              <a:t>相）媲美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事物和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事物的水平一样。质量等级一样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例：中国的家电产品可以和外国产品相媲美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文中的“就产出水平和创汇水平看，旅游业已经可以和一些传统产业和国家确定的支柱产业媲美。”说明在企业的产出水平和创收外汇的水平方面来看，旅游业已经可以和传统的优势产业相比美，也可以和国家确定的最重要的产业相比美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80880" y="457200"/>
            <a:ext cx="853452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cc66"/>
                </a:solidFill>
                <a:latin typeface="Times New Roman"/>
              </a:rPr>
              <a:t>除了……外，……还…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这是一个表现两者或多方面因素都有，说明除了有第一个因素以外，还有更多的因素都包括在内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例：他到北京除了学习汉语以外，还学了中国武术和京剧。（汉语、武术、京剧都学了。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文中的“除了创汇增收外，我国旅游业对经济发展的贡献还表现在（三个方面）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说明：中国旅游业对经济发展的贡献一共有四个方面，第一个贡献是创汇增收，第二个贡献是提供了大量就业机会，第三是让很多人脱贫致富，第四是改善投资环境、促进对外开放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762120" y="609480"/>
            <a:ext cx="739116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隶书"/>
                <a:ea typeface="隶书"/>
              </a:rPr>
              <a:t>6</a:t>
            </a:r>
            <a:r>
              <a:rPr b="0" lang="en-US" sz="2800" spc="-1" strike="noStrike">
                <a:solidFill>
                  <a:srgbClr val="ffcc66"/>
                </a:solidFill>
                <a:latin typeface="隶书"/>
                <a:ea typeface="隶书"/>
              </a:rPr>
              <a:t>、</a:t>
            </a:r>
            <a:r>
              <a:rPr b="0" lang="en-US" sz="2800" spc="-1" strike="noStrike">
                <a:solidFill>
                  <a:srgbClr val="ffcc66"/>
                </a:solidFill>
                <a:latin typeface="隶书"/>
                <a:ea typeface="隶书"/>
              </a:rPr>
              <a:t>A</a:t>
            </a:r>
            <a:r>
              <a:rPr b="0" lang="zh-CN" sz="2800" spc="-1" strike="noStrike">
                <a:solidFill>
                  <a:srgbClr val="ffcc66"/>
                </a:solidFill>
                <a:latin typeface="隶书"/>
                <a:ea typeface="隶书"/>
              </a:rPr>
              <a:t>比</a:t>
            </a:r>
            <a:r>
              <a:rPr b="0" lang="en-US" sz="2800" spc="-1" strike="noStrike">
                <a:solidFill>
                  <a:srgbClr val="ffcc66"/>
                </a:solidFill>
                <a:latin typeface="隶书"/>
                <a:ea typeface="隶书"/>
              </a:rPr>
              <a:t>B</a:t>
            </a:r>
            <a:r>
              <a:rPr b="0" lang="zh-CN" sz="2800" spc="-1" strike="noStrike">
                <a:solidFill>
                  <a:srgbClr val="ffcc66"/>
                </a:solidFill>
                <a:latin typeface="隶书"/>
                <a:ea typeface="隶书"/>
              </a:rPr>
              <a:t>高不了多少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这是一个比较句，说明虽然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的数字比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的数字高一点儿，但差别不大，总体说来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差不多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例：他有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7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m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高，你有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74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m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高，他比你高不了多少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文中的“我国的旅游创汇额比泰国、新加坡高不了多少”说明：中国的旅游创额是比泰国、新加坡高一点儿，但差别不大，和泰国、新加坡差不多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所以中国的旅游业还需要进一步发展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09480" y="685800"/>
            <a:ext cx="7848720" cy="46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A……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只相当于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的…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相当于……：和……差不多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比较小，只和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的一个很小的部分差不多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例：泰国的面积只相当于中国的一个省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根据课文的内容，泰国的面积虽然小，但它的旅游业相当发达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09480" y="228600"/>
            <a:ext cx="83059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难句分析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我国旅游业是改革开放以后才真正步入发展轨道的。经过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7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年的努力，我国旅游业已基本实现了从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Arial Unicode MS"/>
              </a:rPr>
              <a:t>“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事业型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Arial Unicode MS"/>
              </a:rPr>
              <a:t>”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到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Arial Unicode MS"/>
              </a:rPr>
              <a:t>“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产业型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Arial Unicode MS"/>
              </a:rPr>
              <a:t>”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的转变，成为具有相当规模的经济产业。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问题：①中国的旅游业什么时候开始真正发展的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②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为什么改革开放前旅游业没有真正的发展起来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③“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事业型”和“产业型”有什么不同？为什么旅游业要 向产业型转变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④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为什么说旅游产业已经具有相当的经济规模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3049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66"/>
                </a:solidFill>
                <a:latin typeface="Times New Roman"/>
                <a:ea typeface="隶书"/>
              </a:rPr>
              <a:t>课文第一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838080" y="533520"/>
            <a:ext cx="7543800" cy="49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                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难句分析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           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就产出水平和创汇水平看，旅游业已经可以和一些传统产业和国家确定的支柱产业媲美。旅游企业的劳动生产率和人均税利高于大部分传统产业。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问题：①</a:t>
            </a:r>
            <a:r>
              <a:rPr b="1" lang="zh-CN" sz="2400" spc="-1" strike="noStrike">
                <a:solidFill>
                  <a:srgbClr val="ffcc66"/>
                </a:solidFill>
                <a:latin typeface="Times New Roman"/>
              </a:rPr>
              <a:t>为什么说旅游业可以和传统产业媲美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ffcc66"/>
                </a:solidFill>
                <a:latin typeface="Times New Roman"/>
              </a:rPr>
              <a:t>②</a:t>
            </a:r>
            <a:r>
              <a:rPr b="1" lang="zh-CN" sz="2400" spc="-1" strike="noStrike">
                <a:solidFill>
                  <a:srgbClr val="ffcc66"/>
                </a:solidFill>
                <a:latin typeface="Times New Roman"/>
              </a:rPr>
              <a:t>这段话说明了什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304920"/>
            <a:ext cx="51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66"/>
                </a:solidFill>
                <a:latin typeface="Times New Roman"/>
                <a:ea typeface="隶书"/>
              </a:rPr>
              <a:t>课文第一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19320" y="304812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99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年旅游业的产出为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65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亿元，创汇为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73.2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亿美元。而且旅游企业的劳动生产率和人均税利高于大部分传统产业。所以：旅游业可以和传统产业媲美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4800600"/>
            <a:ext cx="6629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这段话说明旅游业的经济效益高，发展前景很好。有可能取代以前有优势的产业，成为新的优势产业或支柱产业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066680" y="1143000"/>
            <a:ext cx="723924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ffff"/>
                </a:solidFill>
                <a:latin typeface="Times New Roman"/>
              </a:rPr>
              <a:t>第一段内容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①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改革开放以后发展起来的中国旅游业成为具有相当规模的经济产业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②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我国国际旅游外汇收入在世界上的排名，已从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978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年的第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位跃升到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99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年的第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位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③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旅游业已经可以和一些传统 产业和国家确定的支柱产业媲美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ffff"/>
                </a:solidFill>
                <a:latin typeface="Times New Roman"/>
              </a:rPr>
              <a:t>本段段意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：迅速发展的中国旅游业，为国家做出了创汇增收的贡献。发展的趋势很好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914400" y="3049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第二段课文讲解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990720"/>
            <a:ext cx="9144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问题：</a:t>
            </a:r>
            <a:r>
              <a:rPr b="1" lang="zh-CN" sz="2800" spc="-1" strike="noStrike">
                <a:solidFill>
                  <a:srgbClr val="ffcc66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cc66"/>
                </a:solidFill>
                <a:latin typeface="Times New Roman"/>
              </a:rPr>
              <a:t>、我国旅游业对经济发展的贡献表现在几个方面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ffcc66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cc66"/>
                </a:solidFill>
                <a:latin typeface="Times New Roman"/>
              </a:rPr>
              <a:t>、发展旅游业能推动农村经济发展吗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ffcc66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cc66"/>
                </a:solidFill>
                <a:latin typeface="Times New Roman"/>
              </a:rPr>
              <a:t>、使一批</a:t>
            </a:r>
            <a:r>
              <a:rPr b="1" lang="zh-CN" sz="2800" spc="-1" strike="noStrike">
                <a:solidFill>
                  <a:srgbClr val="ffcc66"/>
                </a:solidFill>
                <a:latin typeface="宋体"/>
                <a:ea typeface="Arial Unicode MS"/>
              </a:rPr>
              <a:t>“</a:t>
            </a:r>
            <a:r>
              <a:rPr b="1" lang="zh-CN" sz="2800" spc="-1" strike="noStrike">
                <a:solidFill>
                  <a:srgbClr val="ffcc66"/>
                </a:solidFill>
                <a:latin typeface="Times New Roman"/>
              </a:rPr>
              <a:t>老少边穷</a:t>
            </a:r>
            <a:r>
              <a:rPr b="1" lang="zh-CN" sz="2800" spc="-1" strike="noStrike">
                <a:solidFill>
                  <a:srgbClr val="ffcc66"/>
                </a:solidFill>
                <a:latin typeface="宋体"/>
                <a:ea typeface="Arial Unicode MS"/>
              </a:rPr>
              <a:t>”</a:t>
            </a:r>
            <a:r>
              <a:rPr b="1" lang="zh-CN" sz="2800" spc="-1" strike="noStrike">
                <a:solidFill>
                  <a:srgbClr val="ffcc66"/>
                </a:solidFill>
                <a:latin typeface="Times New Roman"/>
              </a:rPr>
              <a:t>地区脱贫致富，对中国的经济发展有什么意义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66"/>
                </a:solidFill>
                <a:latin typeface="Times New Roman"/>
              </a:rPr>
              <a:t>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66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ffcc66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cc66"/>
                </a:solidFill>
                <a:latin typeface="Times New Roman"/>
              </a:rPr>
              <a:t>、旅游业为什么能改善投资环境，促进对外开放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66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本段段意：中国旅游业对中国经济发展的贡献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144792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四个方面。①创汇增收。②提供了大量就业机会。③使一批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老少边穷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地区脱贫致富。④改善投资环境，促进对外开放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" y="1752480"/>
            <a:ext cx="8305920" cy="42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难句分析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我国旅游业发展速度虽然很快，但和国际水平相比还有相当大的差距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问题：</a:t>
            </a:r>
            <a:r>
              <a:rPr b="1" lang="zh-CN" sz="2800" spc="-1" strike="noStrike">
                <a:solidFill>
                  <a:srgbClr val="ffcc66"/>
                </a:solidFill>
                <a:latin typeface="Times New Roman"/>
              </a:rPr>
              <a:t>我国的旅游业发展得怎么样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ffcc66"/>
                </a:solidFill>
                <a:latin typeface="Times New Roman"/>
              </a:rPr>
              <a:t>这句话的中心是在前面还是在后面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0880" y="60948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66"/>
                </a:solidFill>
                <a:latin typeface="Times New Roman"/>
                <a:ea typeface="隶书"/>
              </a:rPr>
              <a:t>第三段课文讲解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335268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速度很快，但和国际水平相比差距很大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76520" y="4648320"/>
            <a:ext cx="662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这句话的中心在后面。在“虽然……但……”这样的结构中，语义重心在后面转折的意义上。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09480" y="609480"/>
            <a:ext cx="8153640" cy="58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如我国的旅游创汇额比泰国、新加坡高不了多少，而泰国的面积只相当于我们的一个省，新加坡只是一个城市国家。我国旅游业产值在国内生产总值中的比重不到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%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而许多国家已达到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0%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左右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问题：</a:t>
            </a:r>
            <a:r>
              <a:rPr b="1" lang="zh-CN" sz="2400" spc="-1" strike="noStrike">
                <a:solidFill>
                  <a:srgbClr val="ffcc66"/>
                </a:solidFill>
                <a:latin typeface="Times New Roman"/>
              </a:rPr>
              <a:t>⑴拿中国的旅游业和泰国、新加坡相比，能得出什么结论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zh-CN" sz="2400" spc="-1" strike="noStrike">
                <a:solidFill>
                  <a:srgbClr val="ffcc66"/>
                </a:solidFill>
                <a:latin typeface="Times New Roman"/>
              </a:rPr>
              <a:t>⑵</a:t>
            </a:r>
            <a:r>
              <a:rPr b="1" lang="zh-CN" sz="2400" spc="-1" strike="noStrike">
                <a:solidFill>
                  <a:srgbClr val="ffcc66"/>
                </a:solidFill>
                <a:latin typeface="Times New Roman"/>
              </a:rPr>
              <a:t>中国旅游业产值在世界前列吗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1" lang="zh-CN" sz="2400" spc="-1" strike="noStrike">
                <a:solidFill>
                  <a:srgbClr val="ffcc66"/>
                </a:solidFill>
                <a:latin typeface="Times New Roman"/>
              </a:rPr>
              <a:t>⑶</a:t>
            </a:r>
            <a:r>
              <a:rPr b="1" lang="zh-CN" sz="2400" spc="-1" strike="noStrike">
                <a:solidFill>
                  <a:srgbClr val="ffcc66"/>
                </a:solidFill>
                <a:latin typeface="Times New Roman"/>
              </a:rPr>
              <a:t>这段话说明什么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289548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从中国这样一个大国来看，旅游创汇的能力远远不如泰国、 新加坡。所以中国旅游业还有待进一步发展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14400" y="41148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不在世界前列。世界上许多国家旅游业产值在国内生产总值中的比重达到了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0%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左右。而中国还不到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%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。所以中国的旅游业产值还很低，需要更快的发展。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579132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中国旅游业和国际水平相比还有很大差距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3886200"/>
            <a:ext cx="4724280" cy="2971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24280" cy="39369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4724280" y="0"/>
            <a:ext cx="4419720" cy="23623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5867280" y="2057400"/>
            <a:ext cx="3276720" cy="22096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4572000" y="4038480"/>
            <a:ext cx="4572000" cy="28195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3086280" y="1752480"/>
            <a:ext cx="2971800" cy="26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838080" y="533520"/>
            <a:ext cx="830592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据测算 ，目前我国开发出的旅游资源尚不到可供开发资源的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/1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。我国旅游业的发展潜力是十分巨大的。按当前的发展势头和具备的潜力，到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01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年我国国际旅游外汇年收入可望达到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38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亿美元，国内旅游年收入将达到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000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亿元人民币，旅游业将成为我国的重要产业之一。对于这样一个很有希望的产业，我们认为要适当采取措施加快发展。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问题：</a:t>
            </a:r>
            <a:r>
              <a:rPr b="1" lang="zh-CN" sz="2400" spc="-1" strike="noStrike">
                <a:solidFill>
                  <a:srgbClr val="ffcc66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cc66"/>
                </a:solidFill>
                <a:latin typeface="Times New Roman"/>
              </a:rPr>
              <a:t>、中国的旅游资源开发的怎么样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66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66"/>
                </a:solidFill>
                <a:latin typeface="Times New Roman"/>
              </a:rPr>
              <a:t>                    </a:t>
            </a:r>
            <a:r>
              <a:rPr b="1" lang="zh-CN" sz="2400" spc="-1" strike="noStrike">
                <a:solidFill>
                  <a:srgbClr val="ffcc66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cc66"/>
                </a:solidFill>
                <a:latin typeface="Times New Roman"/>
              </a:rPr>
              <a:t>、中国旅游业的前景如何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66"/>
                </a:solidFill>
                <a:latin typeface="Times New Roman"/>
              </a:rPr>
              <a:t>                    </a:t>
            </a:r>
            <a:r>
              <a:rPr b="1" lang="zh-CN" sz="2400" spc="-1" strike="noStrike">
                <a:solidFill>
                  <a:srgbClr val="ffcc66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cc66"/>
                </a:solidFill>
                <a:latin typeface="Times New Roman"/>
              </a:rPr>
              <a:t>、作者提出什么建议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95280" y="32767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目前我国开发出的旅游资源尚不到可供开发资源的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/1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。中国丰富的旅游资源还远远没有开发出来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47920" y="434340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按当前的发展势头和具备的潜力，到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01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年旅游业将成为我国的重要产业之一。所以中国的旅游业前景很好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47920" y="548640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对于这样一个很有希望的产业，我们认为要适当采取措施加快发展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09480" y="533520"/>
            <a:ext cx="7772400" cy="51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cc66"/>
                </a:solidFill>
                <a:latin typeface="Times New Roman"/>
                <a:ea typeface="隶书"/>
              </a:rPr>
              <a:t>本段内容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  <a:ea typeface="隶书"/>
              </a:rPr>
              <a:t>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①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中国旅游业虽然发展速度很快，但和国际水平相比差距太大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②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中国的旅游资源开发得太少，发展潜力十分巨大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③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作者认为旅游产业很有希望，要适当采取措施加快发展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本段段意：中国的旅游业和国际水平有差距，还应进一步发展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762120" y="533520"/>
            <a:ext cx="7467480" cy="43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  <a:ea typeface="隶书"/>
              </a:rPr>
              <a:t>全文结构图</a:t>
            </a:r>
            <a:r>
              <a:rPr b="0" lang="zh-CN" sz="3600" spc="-1" strike="noStrike">
                <a:solidFill>
                  <a:srgbClr val="ffcc66"/>
                </a:solidFill>
                <a:latin typeface="Times New Roman"/>
                <a:ea typeface="隶书"/>
              </a:rPr>
              <a:t>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第一段：中国旅游业成为具有相当规模的经济产业。为国家做出了创汇增收的贡献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第二段：中国旅游业对中国经济发展的贡献。（本段主要介绍了三个方面的贡献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第三段：中国的旅游业和国际水平有差距，还应进一步发展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828800" y="30492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  <a:ea typeface="隶书"/>
              </a:rPr>
              <a:t>练习：选择正确答案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1143000"/>
            <a:ext cx="7924680" cy="38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1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我国旅游业对经济发展的贡献主要表现在以下几项。指出文章未曾提到的一项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创汇增收和提供就业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使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老少边穷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”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地区脱贫致富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促进外向型经济的发展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改善投资环境，促进对外开放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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520" y="4724280"/>
            <a:ext cx="685800" cy="609840"/>
          </a:xfrm>
          <a:prstGeom prst="star5">
            <a:avLst/>
          </a:prstGeom>
          <a:solidFill>
            <a:srgbClr val="ff0000"/>
          </a:solidFill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89080" y="325440"/>
            <a:ext cx="329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727200"/>
            <a:ext cx="876312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2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我国旅游业的发展潜力十分巨大，这是因为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和国际水平相比还有相当大的差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旅游业将成为我国的重要产业之一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就发展水平、产值、资源开发都同大国的要求不相称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在世界上的排名才第九位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" y="5105520"/>
            <a:ext cx="685800" cy="609480"/>
          </a:xfrm>
          <a:prstGeom prst="star5">
            <a:avLst/>
          </a:prstGeom>
          <a:solidFill>
            <a:srgbClr val="ff0000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762120" y="762120"/>
            <a:ext cx="731520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3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我国旅游业已经可以和传统产业和支柱产业相比，主要是根据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劳动生产率和人均税利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产出水平和创汇水平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固定资产和入境人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外汇收入在世界上的排名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2971800"/>
            <a:ext cx="685800" cy="609480"/>
          </a:xfrm>
          <a:prstGeom prst="star5">
            <a:avLst/>
          </a:prstGeom>
          <a:solidFill>
            <a:srgbClr val="ff0000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914400" y="609480"/>
            <a:ext cx="70866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4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我国旅游业同国际水平之间的差距，主要表现在以下几项。请指出其中不正确的一项： 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旅游创汇额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旅游产值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旅游入境人数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旅游资源的开发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38080" y="4952880"/>
            <a:ext cx="733680" cy="685800"/>
          </a:xfrm>
          <a:prstGeom prst="star5">
            <a:avLst/>
          </a:prstGeom>
          <a:solidFill>
            <a:srgbClr val="ff0000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066680" y="762120"/>
            <a:ext cx="670572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5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作者写这篇文章的目的是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赞扬中国旅游事业取得的巨大成就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强调旅游业是重要产业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强调要采取措施加快发展旅游业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强调中国旅游业同国际水平相比还有差距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334120"/>
            <a:ext cx="762120" cy="685800"/>
          </a:xfrm>
          <a:prstGeom prst="star5">
            <a:avLst/>
          </a:prstGeom>
          <a:solidFill>
            <a:srgbClr val="ff0000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752480" y="914400"/>
            <a:ext cx="632484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6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文章谈得最多的内容是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我国旅游业的成就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我国旅游业的差距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对我国旅游业前景的预测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关于我国旅游业进一步发展的具体措施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1828800"/>
            <a:ext cx="609480" cy="533520"/>
          </a:xfrm>
          <a:prstGeom prst="star5">
            <a:avLst/>
          </a:prstGeom>
          <a:solidFill>
            <a:srgbClr val="ff0000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5800" y="533520"/>
            <a:ext cx="8001000" cy="62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中国的世界文化遗产（共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24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处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长城   颐和园   天坛    武陵源    泰山    平遥古城    黄山    敦煌石窟    庐山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曲阜三孔    苏州园林    九寨沟黄龙寺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丽江古城    武当山古建筑群    北京故宫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峨眉山    乐山大佛    布达拉宫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秦始皇及兵马俑坑    北京猿人遗址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避暑山庄及周围寺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安徽的宏村、西递和洛阳龙门石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57200" y="609480"/>
            <a:ext cx="8229600" cy="62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  <a:ea typeface="隶书"/>
              </a:rPr>
              <a:t>中国的十大著名风景区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66"/>
                </a:solidFill>
                <a:latin typeface="Times New Roman"/>
                <a:ea typeface="隶书"/>
              </a:rPr>
              <a:t>        </a:t>
            </a:r>
            <a:r>
              <a:rPr b="0" lang="zh-CN" sz="4000" spc="-1" strike="noStrike">
                <a:solidFill>
                  <a:srgbClr val="ffcc66"/>
                </a:solidFill>
                <a:latin typeface="Times New Roman"/>
                <a:ea typeface="隶书"/>
              </a:rPr>
              <a:t>万里长城        安徽黄山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66"/>
                </a:solidFill>
                <a:latin typeface="Times New Roman"/>
                <a:ea typeface="隶书"/>
              </a:rPr>
              <a:t>        </a:t>
            </a:r>
            <a:r>
              <a:rPr b="0" lang="zh-CN" sz="4000" spc="-1" strike="noStrike">
                <a:solidFill>
                  <a:srgbClr val="ffcc66"/>
                </a:solidFill>
                <a:latin typeface="Times New Roman"/>
                <a:ea typeface="隶书"/>
              </a:rPr>
              <a:t>桂林山水        北京故宫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66"/>
                </a:solidFill>
                <a:latin typeface="Times New Roman"/>
                <a:ea typeface="隶书"/>
              </a:rPr>
              <a:t>        </a:t>
            </a:r>
            <a:r>
              <a:rPr b="0" lang="zh-CN" sz="4000" spc="-1" strike="noStrike">
                <a:solidFill>
                  <a:srgbClr val="ffcc66"/>
                </a:solidFill>
                <a:latin typeface="Times New Roman"/>
                <a:ea typeface="隶书"/>
              </a:rPr>
              <a:t>杭州西湖        苏州园林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66"/>
                </a:solidFill>
                <a:latin typeface="Times New Roman"/>
                <a:ea typeface="隶书"/>
              </a:rPr>
              <a:t>        </a:t>
            </a:r>
            <a:r>
              <a:rPr b="0" lang="zh-CN" sz="4000" spc="-1" strike="noStrike">
                <a:solidFill>
                  <a:srgbClr val="ffcc66"/>
                </a:solidFill>
                <a:latin typeface="Times New Roman"/>
                <a:ea typeface="隶书"/>
              </a:rPr>
              <a:t>长江三峡        西安兵马俑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66"/>
                </a:solidFill>
                <a:latin typeface="Times New Roman"/>
                <a:ea typeface="隶书"/>
              </a:rPr>
              <a:t>        </a:t>
            </a:r>
            <a:r>
              <a:rPr b="0" lang="zh-CN" sz="4000" spc="-1" strike="noStrike">
                <a:solidFill>
                  <a:srgbClr val="ffcc66"/>
                </a:solidFill>
                <a:latin typeface="Times New Roman"/>
                <a:ea typeface="隶书"/>
              </a:rPr>
              <a:t>台湾日月潭    承德避暑山庄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99"/>
            </a:gs>
            <a:gs pos="100000">
              <a:srgbClr val="0066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04920" y="0"/>
            <a:ext cx="8610480" cy="41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中国的旅游简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中国现代旅游业兴起于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5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年代初。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195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年，国家成立了中国国际旅行社，并在广州、上海和北京等地建立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1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个分社。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196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年国家旅游局正式成立。自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1978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年改革开放后，中国的旅游业步入了快速发展时期。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1999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年接待入境旅游者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728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万人次，其中外国游客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84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万人次；国际旅游外汇收入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14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亿美元，分别比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1978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年增长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39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倍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5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倍。目前，中国已成为亚洲重要的旅游目的地，为第五大旅游国。在发展国际旅游业的同时，国内旅游业也在蓬勃兴起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1999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年国内接待旅游者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7.19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亿人次，收入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283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亿元，比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199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年分别增长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14.3%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105.9%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。随着人民生活水平的提高，中国公民对出国旅游产生日益浓厚的兴趣，近年来中国公民出游的国家有东南亚地区和欧洲地区。外国旅游商社纷纷来中国设立办事机构，采用多种宣传方式，吸引中国公民到国外旅游。现在，中国正在向世界旅游发达国家方向迈进，并完善旅游设施和改善服务。预计到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202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年，中国将成为世界头号旅游目的地和第四大旅游客源国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971800" y="304920"/>
            <a:ext cx="3352680" cy="764280"/>
          </a:xfrm>
          <a:prstGeom prst="rect">
            <a:avLst/>
          </a:prstGeom>
          <a:solidFill>
            <a:srgbClr val="33cccc">
              <a:alpha val="50000"/>
            </a:srgbClr>
          </a:solidFill>
          <a:ln cap="rnd" w="9360">
            <a:solidFill>
              <a:srgbClr val="ffcc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生词讲解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2209680"/>
            <a:ext cx="8001000" cy="12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具有：有。多用于抽象事物。如：具有信心、具有特点、具有伟大的意义。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这张中国画具有传统的中国水墨画的特点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拥有：有。多用于具体事物。拥有大量的土地、人口、资源、财产、设备等。如：中国拥有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亿人口，是世界上人口最多的国家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19520" y="1219320"/>
            <a:ext cx="3657600" cy="520560"/>
          </a:xfrm>
          <a:prstGeom prst="rect">
            <a:avLst/>
          </a:prstGeom>
          <a:noFill/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比较“具有”和“拥有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99cc"/>
            </a:gs>
            <a:gs pos="100000">
              <a:srgbClr val="0046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80880" y="609480"/>
            <a:ext cx="8382240" cy="24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人次：复合量词。表示若干次（多次）人数的总和。如以参观为例，第一次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300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人，第二次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500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人，第三次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700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人，总共是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1500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人次。如果一个外国人一年之内来了五次中国，海关计算的数字为五人次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老少边穷：指老革命根据地、少数民族地区、边远地区和贫困地区的简称。这些地区是中国经济不发达地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脱贫致富：指摆脱贫困走上富裕的道路。例：现在，中国许多“老少边穷”地区都脱贫致富了。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生词讲解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28600" y="380880"/>
            <a:ext cx="8915400" cy="50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短语和结构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          </a:t>
            </a:r>
            <a:r>
              <a:rPr b="1" lang="zh-CN" sz="2800" spc="-1" strike="noStrike">
                <a:solidFill>
                  <a:srgbClr val="ffcc66"/>
                </a:solidFill>
                <a:latin typeface="Times New Roman"/>
                <a:ea typeface="隶书"/>
              </a:rPr>
              <a:t>从……到……转变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从一种状况变成另一种状况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例：我们学校原来只有一个学院，现在有四个学院：汉语学院、外语学院、汉语速成学院、成人教育学院。已经实现了从单一学科到多学科的转变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文中的：“我国旅游业已基本实现了从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Arial Unicode MS"/>
              </a:rPr>
              <a:t>“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事业型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Arial Unicode MS"/>
              </a:rPr>
              <a:t>”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到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Arial Unicode MS"/>
              </a:rPr>
              <a:t>“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产业型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Arial Unicode MS"/>
              </a:rPr>
              <a:t>”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的转变。”说明原来中国的旅游业是靠国家给钱维持的，是事业单位。现在旅游业已经转变成为获得巨大经济效益的产业型的行业，每年给国家创收很多外汇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28600" y="457200"/>
            <a:ext cx="8686800" cy="63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、 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ffcc66"/>
                </a:solidFill>
                <a:latin typeface="Times New Roman"/>
              </a:rPr>
              <a:t>是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ffcc66"/>
                </a:solidFill>
                <a:latin typeface="Times New Roman"/>
              </a:rPr>
              <a:t>的……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这是一个比较句。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现在的数字）是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以前的数字）的很多倍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例：今年旅游业的经济收入是五年前的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倍。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他现在的工资是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年前的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倍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994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年，我国 旅游业的直接产出已达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655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亿元；来华旅游入境人数达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450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万人次，是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978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年的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4.8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倍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 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ffcc66"/>
                </a:solidFill>
                <a:latin typeface="Times New Roman"/>
              </a:rPr>
              <a:t>占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ffcc66"/>
                </a:solidFill>
                <a:latin typeface="Times New Roman"/>
              </a:rPr>
              <a:t>的……</a:t>
            </a:r>
            <a:r>
              <a:rPr b="1" lang="zh-CN" sz="2400" spc="-1" strike="noStrike">
                <a:solidFill>
                  <a:srgbClr val="ffcc66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这是一个数字比较句。表示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在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里的比例占多少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例：我国的旅游收入占对外贸易收入的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8%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旅游业 发展</cp:keywords>
  <dc:language>en-US</dc:language>
  <cp:lastModifiedBy/>
  <cp:revision>0</cp:revision>
  <dc:subject/>
  <dc:title/>
</cp:coreProperties>
</file>