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E375-D49C-480F-9314-DFD9258C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EF2E-C428-4893-9FFD-C77C8EB4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BC55-70AE-4E92-82AE-4B6AA868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8E0-4783-4218-8E96-34C35BE2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138A-644E-438D-BAF8-353F7326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BD7B-1261-4737-9FB6-CEB61492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3EC5-3BA2-4B11-8AB6-4283365C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8AAA-F8E2-40EC-A511-08D20398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8251-207F-424B-BC9F-513B72BF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2FBA-B5BE-49A6-AA77-3C36E656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CD4C-79BC-4213-BE9D-6A0EC0B8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B20-71E8-4537-AC13-1EE22A33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D6B3-1101-4452-86C9-7E6D6C58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7E54-792C-4106-B426-33953631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79E0-97F8-45EC-89F3-F59DB655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F362-6B47-4B96-A479-6FCA77A2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1561-81CD-431D-AEEF-A64B7049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7DE-6C45-4543-9F45-9BBB8B72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A92A-9CC4-4617-9DD9-AFA14629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061-4FD0-417A-BB1D-5DE5E369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049D-F065-4E62-ADA5-4D58F010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FF9-02D8-4CFE-A0D6-82B102FF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54E-FC09-42C7-828F-1337AF5C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35D-F44E-4C97-BF84-697F92F1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45A1-8A82-41D9-A89A-99A6B962EC9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5C72-5A6B-419F-A9E6-B6F85CA63CC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160020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网络教学支撑平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520" y="3962520"/>
            <a:ext cx="81536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XX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大学现代教育技术研究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XXX     X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88144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830592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3399"/>
                </a:solidFill>
                <a:latin typeface="Tahoma"/>
              </a:rPr>
              <a:t>四、基于网络教学平台的教与学活动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03364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3124080"/>
          <a:ext cx="8915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24080"/>
                    <a:ext cx="8915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505520" y="21607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二）基于网络教学平台的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8144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0010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3399"/>
                </a:solidFill>
                <a:latin typeface="Tahoma"/>
              </a:rPr>
              <a:t>四、基于网络教学平台的教与学活动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3194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2666880"/>
          <a:ext cx="91440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91440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581480" y="19321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三）基于网络教学平台的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8144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304920" y="1562040"/>
            <a:ext cx="9448920" cy="5295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52498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网络教务管理系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4304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1143000"/>
          <a:ext cx="7924680" cy="55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792468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41832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资源管理系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05120" y="19051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70909"/>
                </a:solidFill>
                <a:latin typeface="Tahoma"/>
                <a:ea typeface="方正舒体"/>
              </a:rPr>
              <a:t>感谢大家支持！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25909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50972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网络教学支撑平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2017440"/>
            <a:ext cx="849780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、网络教学平台的基本功能要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二、比较有影响的网络教学平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三、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网络教学平台的设计基本思想及功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四、基于网络教学平台的教与学活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848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一、网络教学平台的基本功能要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制作与发布课程材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师生交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在线评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电子图书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人资料（电子笔记本、邮件、安排等）管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学习空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管理（教师与学生信息管理、课程管理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等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76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三、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XX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的设计基本思想及功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23619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XX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设计基本思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体化管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完全开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简化交互式教学设计的复杂性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支持多种教学策略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49552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743200" y="0"/>
          <a:ext cx="52135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0"/>
                    <a:ext cx="52135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57200" y="2133720"/>
            <a:ext cx="1523880" cy="38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XX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三、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XX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的设计基本思想及功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体系结构与功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、网上教学支持系统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spcAft>
                <a:spcPts val="9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线发布网上课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活动设计和管理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评价、学生管理系统、学习管理工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习与探索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笔记本 、书签 、搜索工具 、学习记录 、学生工作区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讨论和协作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同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异步讨论园地 、课程电子邮箱 、协同工作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三、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XX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的设计基本思想及功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体系结构与功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、网上课程开发系统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素材的组织生成、搜集与利用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②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采用多媒体教学内容表示，支持网络多媒体课件开发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③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支持教学逻辑的设计，能自动生成课程描述和课程内容结构图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④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课程存储与发布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⑤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课程内容预览与播放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⑥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提供针对具体学科的网络课程模板和向导，支持网络课程的快速生成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⑦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作业与试卷生成，支持网上某些课程的自动测试自动判题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⑧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支持视频流媒体课件的制作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三、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XX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的设计基本思想及功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体系结构与功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、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网上教务管理系统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教务管理系统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注册认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学籍管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教师档案管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行政公文管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信息查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数据统计与分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教学评价管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专业与课程管理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专业管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课程管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、）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系统管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、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网上教学资源管理系统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资源服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系统管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资源管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920" y="990720"/>
            <a:ext cx="768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四、基于网络教学平台的教与学活动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用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11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类用户：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学生、教师、管理员（系统管理员、教务管理员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网络 教学 平台</cp:keywords>
  <dc:language>en-US</dc:language>
  <cp:lastModifiedBy/>
  <cp:revision>0</cp:revision>
  <dc:subject/>
  <dc:title/>
</cp:coreProperties>
</file>