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0E5-DB33-46DB-A376-77D75FC2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7CC-6806-41E5-BBB6-5527497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BFE-256E-4440-B706-170B03F4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115-2F52-48CC-BF29-0F1AD6E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2DE8-4E9D-4938-9EAA-39782166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63CA-5A55-40F0-A867-557ECCC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8093-F020-4FC4-98ED-7CE5F8E9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9CCA-31AD-4DF2-B91E-341F4F55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EC08-DF3E-4077-95B9-E98457CC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65A4-9F8C-4414-B907-3650240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061A-5D5F-4709-8E9D-811E6D3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D0B-2084-44C1-973B-899BF8E7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998D-3E81-4DBB-B49C-3329B93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A31-157B-4D90-AD40-0E90150E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AC3-4EF3-4EC0-B770-F3548DE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ADF-4D15-46D9-A1F6-8CAFC99A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74E1-CCAB-4353-8578-443A362D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F0D-50F7-4084-9F3D-B0C983F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C64-C8AD-4B82-942F-46B4DA75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A47-333D-472A-AC52-3D8CD183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242-5306-4926-9168-C3A888D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E3D-CF23-4102-A48C-30F56E6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475-6BDD-454C-8DA2-1169EAE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A56-5935-405C-861A-18D774A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F73-2E47-44E5-A01B-526DB28BFA1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F08-65AC-4466-B995-6DFF7B4BC8F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◎</a:t>
            </a: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作者</a:t>
            </a:r>
            <a:r>
              <a:rPr b="0" lang="zh-TW" sz="5400" spc="-1" strike="noStrike">
                <a:solidFill>
                  <a:srgbClr val="000099"/>
                </a:solidFill>
                <a:latin typeface="華康少女文字W5"/>
                <a:ea typeface="華康少女文字W5"/>
              </a:rPr>
              <a:t>: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  <a:ea typeface="華康少女文字W5"/>
              </a:rPr>
              <a:t>XX</a:t>
            </a:r>
            <a:r>
              <a:rPr b="0" lang="zh-TW" sz="5400" spc="-1" strike="noStrike">
                <a:solidFill>
                  <a:srgbClr val="000099"/>
                </a:solidFill>
                <a:latin typeface="Times New Roman"/>
                <a:ea typeface="華康少女文字W5"/>
              </a:rPr>
              <a:t>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57200"/>
            <a:ext cx="632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3240" y="304920"/>
            <a:ext cx="1648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71640" y="1844280"/>
            <a:ext cx="777240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象鼻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虫</a:t>
            </a:r>
            <a:r>
              <a:rPr b="0" lang="zh-TW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的生</a:t>
            </a: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态</a:t>
            </a:r>
            <a:endParaRPr b="0" lang="en-US" sz="8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fefd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象鼻蟲的身體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46080" y="-1058760"/>
            <a:ext cx="9236160" cy="8978400"/>
            <a:chOff x="-46080" y="-1058760"/>
            <a:chExt cx="9236160" cy="8978400"/>
          </a:xfrm>
        </p:grpSpPr>
        <p:sp>
          <p:nvSpPr>
            <p:cNvPr id="96" name=""/>
            <p:cNvSpPr/>
            <p:nvPr/>
          </p:nvSpPr>
          <p:spPr>
            <a:xfrm>
              <a:off x="46080" y="-1058760"/>
              <a:ext cx="9144000" cy="81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46080" y="709416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984240"/>
            <a:ext cx="6172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絨黑斑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8765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694b6"/>
                </a:solidFill>
                <a:latin typeface="Times New Roman"/>
              </a:rPr>
              <a:t>外觀特徵：</a:t>
            </a:r>
            <a:br>
              <a:rPr sz="2400"/>
            </a:b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體長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10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～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13mm</a:t>
            </a:r>
            <a:r>
              <a:rPr b="0" lang="zh-TW" sz="2400" spc="-1" strike="noStrike">
                <a:solidFill>
                  <a:srgbClr val="303030"/>
                </a:solidFill>
                <a:latin typeface="Times New Roman"/>
              </a:rPr>
              <a:t>。身體外形粗寬隆起；體表滿覆密集的米白色、米黃色、黑褐色和黑色長鱗毛；翅鞘的鱗毛叢呈瘤突狀隆起；各腳脛節端部外側有鋸齒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694b6"/>
                </a:solidFill>
                <a:latin typeface="新細明體"/>
              </a:rPr>
              <a:t>生態習性</a:t>
            </a:r>
            <a:r>
              <a:rPr b="0" lang="zh-TW" sz="2400" spc="-1" strike="noStrike">
                <a:solidFill>
                  <a:srgbClr val="e94d00"/>
                </a:solidFill>
                <a:latin typeface="新細明體"/>
              </a:rPr>
              <a:t>：</a:t>
            </a:r>
            <a:br>
              <a:rPr sz="2400"/>
            </a:br>
            <a:r>
              <a:rPr b="0" lang="zh-TW" sz="2400" spc="-1" strike="noStrike">
                <a:solidFill>
                  <a:srgbClr val="303030"/>
                </a:solidFill>
                <a:latin typeface="新細明體"/>
              </a:rPr>
              <a:t>成蟲出現於春至秋季，生活在平地和低海拔山區。寄主植物為甘藷和朱槿，夜晚具白趨光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52880" y="24382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  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43419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085760" cy="77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2600" y="1882800"/>
            <a:ext cx="57240" cy="3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2600" y="1882800"/>
            <a:ext cx="206280" cy="20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8560" y="1882800"/>
            <a:ext cx="206640" cy="20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3581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694b6"/>
            </a:gs>
            <a:gs pos="100000">
              <a:srgbClr val="fefd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捲葉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捲葉象鼻蟲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體長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 - 11m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雌蟲稍小，體色為黑色，翅鞘略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帶暗褐色，生活於低中海拔山區，寄主植物為水麻，習性機警，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觀察要極為謹慎，稍有動靜，立刻會裝死掉落地面，就看不見了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！本種數量較棕長頸捲葉象鼻蟲少很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581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ff"/>
            </a:gs>
            <a:gs pos="100000">
              <a:srgbClr val="3694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86200"/>
            <a:ext cx="9144000" cy="28382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外觀近似黑點捲葉象鼻蟲，但本種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翅鞘黑色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，不是紅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頭部橙褐色，具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條短的黑色縱帶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。各腳黃褐色。生活於低海拔山區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，喜歡在台灣朴樹葉片上成群築巢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三錐象鼻蟲科 近似黃紋三錐象鼻蟲，但本種體型較小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翅翹各有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枚黃色斑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頭部前方的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長吻口器呈直條狀，觸角長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基部的兩邊，生活於低海拔山區，本種數量較黃紋三錐象鼻蟲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952880" cy="2266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黃紋三點象鼻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100000">
              <a:srgbClr val="3694b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143000"/>
          </a:xfrm>
          <a:prstGeom prst="rect">
            <a:avLst/>
          </a:prstGeom>
          <a:gradFill rotWithShape="0">
            <a:gsLst>
              <a:gs pos="0">
                <a:srgbClr val="4a5730"/>
              </a:gs>
              <a:gs pos="100000">
                <a:srgbClr val="a1bd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象鼻蟲的一種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724280"/>
            <a:ext cx="4572000" cy="764280"/>
          </a:xfrm>
          <a:prstGeom prst="rect">
            <a:avLst/>
          </a:prstGeom>
          <a:solidFill>
            <a:srgbClr val="6699ff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四紋象鼻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0" y="47242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00600"/>
            <a:ext cx="4038840" cy="581400"/>
          </a:xfrm>
          <a:prstGeom prst="rect">
            <a:avLst/>
          </a:prstGeom>
          <a:solidFill>
            <a:srgbClr val="ff3300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bbd83"/>
                </a:solidFill>
                <a:latin typeface="Times New Roman"/>
              </a:rPr>
              <a:t>姬琉璃捲葉象鼻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06d5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心得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438280"/>
            <a:ext cx="6781680" cy="324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覺得象鼻蟲是一種很好玩的昆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牠的鼻子竟然這麼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次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才了解到象鼻蟲的生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許許多多的昆蟲經過這次製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我也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到了很多電腦的技巧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希望大家以後看到昆蟲不要亂玩他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efd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  <a:ea typeface="華康少女文字W5"/>
              </a:rPr>
              <a:t>童詩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728720"/>
            <a:ext cx="7238880" cy="343836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TW" sz="3800" spc="-1" strike="noStrike">
                <a:solidFill>
                  <a:srgbClr val="ff3300"/>
                </a:solidFill>
                <a:latin typeface="Times New Roman"/>
              </a:rPr>
              <a:t>象鼻蟲                      象鼻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ff3300"/>
                </a:solidFill>
                <a:latin typeface="Times New Roman"/>
              </a:rPr>
              <a:t>你的鼻子為甚麼這麼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是不是因為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Times New Roman"/>
              </a:rPr>
              <a:t>說謊才會那麼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06d5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62520" y="1752480"/>
            <a:ext cx="4724280" cy="2590920"/>
          </a:xfrm>
          <a:prstGeom prst="wedgeRoundRectCallout">
            <a:avLst>
              <a:gd name="adj1" fmla="val -46574"/>
              <a:gd name="adj2" fmla="val 60601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謝謝觀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ff3300"/>
                </a:solidFill>
                <a:latin typeface="Times New Roman"/>
                <a:ea typeface="華康少女文字W5"/>
              </a:rPr>
              <a:t>謝謝觀賞</a:t>
            </a:r>
            <a:endParaRPr b="0" lang="en-US" sz="75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象鼻虫 动物 生态</cp:keywords>
  <dc:language>en-US</dc:language>
  <cp:lastModifiedBy/>
  <cp:revision>0</cp:revision>
  <dc:subject/>
  <dc:title/>
</cp:coreProperties>
</file>