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projctor.wav" ContentType="audio/x-wav"/>
  <Override PartName="/ppt/media/image5.gif" ContentType="image/gif"/>
  <Override PartName="/ppt/media/type.wav" ContentType="audio/x-wav"/>
  <Override PartName="/ppt/media/laser.wav" ContentType="audio/x-wav"/>
  <Override PartName="/ppt/media/chimes.wav" ContentType="audio/x-wav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59A-4674-4EF3-B1FB-B5D9B65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3C3-32FD-4157-BB09-02EE997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042-D082-4A7A-B308-607EE8C2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DE4-5332-4EAC-9909-E0794A5E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4604-CA2C-48D5-B5EB-8D3A31A8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B70-9229-436F-A410-EF208726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996A-F22E-442F-9C15-EB48098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AEDF-E18A-45AA-A3B9-9BF64EF9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2E27-99E5-41FB-A48B-70FC449B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EB2F-8F01-4790-84FA-B0B9B39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8BB6-97E9-47BA-A938-AAEEE30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4E7-C102-4C2C-AE3E-2A1A9A71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5027-7334-47C2-AFAE-EE1EDB7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6B79-6BB4-48FA-BC1E-0B591E2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8DCB-C60F-40C3-87D7-7A9ED1B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EB63-CA22-4B52-9C73-9B697D5A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A448-4494-46D2-A381-80C11572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0D9-B129-4F07-9CC7-DBCD44F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6C5-1E27-4178-B04C-72F96BCA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04B-A4F9-4ABC-AB26-14FFBBD1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118-6D37-4726-BCB3-2397896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371-A4ED-4D64-998C-764776C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4AF-744D-442D-BA01-3AFC866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92D-7C48-4C46-8EED-D74B0F8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45E-CBB0-4F92-82A0-C2FE5861CD7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0816-E8FD-49B8-AFF8-00F8120543B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镶边与剪纸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82880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0363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2743200" cy="289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400800" y="762120"/>
            <a:ext cx="228132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480" y="3505320"/>
            <a:ext cx="2667240" cy="262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324480" y="3581280"/>
            <a:ext cx="224964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09480" y="609480"/>
            <a:ext cx="270540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3589200" y="3581280"/>
            <a:ext cx="2506680" cy="251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取一张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厘米宽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厘米的纸条，将它每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厘米一段，一反一正，像“手风琴”那样折叠起来，并在折叠好的纸上画出字母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， 用小刀把画出的字母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挖去，拉开“手风琴”，你就可以得到一条以字母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为图案的花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同学们先想象一下，最终会制出什么样的图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在你所得的花边中，相邻两个图案有什么关系？相间的两个图案有什么关系？说说你的理由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相邻两个图案成轴对称图形；相间的两个图案之间大小和方向完全一样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892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04840" y="2362320"/>
            <a:ext cx="6277320" cy="990360"/>
            <a:chOff x="2004840" y="2362320"/>
            <a:chExt cx="6277320" cy="99036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843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986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5129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6172200" y="2363760"/>
              <a:ext cx="50976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7238880" y="2362320"/>
              <a:ext cx="50976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3376440" y="2438280"/>
              <a:ext cx="50976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5638680" y="2478240"/>
              <a:ext cx="5097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9"/>
            <a:stretch/>
          </p:blipFill>
          <p:spPr>
            <a:xfrm>
              <a:off x="6705720" y="2478240"/>
              <a:ext cx="50940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0"/>
            <a:stretch/>
          </p:blipFill>
          <p:spPr>
            <a:xfrm>
              <a:off x="7772400" y="2478240"/>
              <a:ext cx="5097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1"/>
            <a:stretch/>
          </p:blipFill>
          <p:spPr>
            <a:xfrm>
              <a:off x="4572000" y="2438280"/>
              <a:ext cx="50976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2"/>
            <a:stretch/>
          </p:blipFill>
          <p:spPr>
            <a:xfrm>
              <a:off x="2004840" y="2362320"/>
              <a:ext cx="509760" cy="91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9072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如果以相邻两个图案为一组，每组图案之间有什么关系？三个图案为一组呢？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都成轴对称关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4.  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在上面的活动中，如果先把纸条纵向对折，在折成“手风琴”，然后继续上面的步骤，此时会得到怎样的花边？它是轴对称图形吗？先猜一猜，再做一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得到与上面类似的两层花边，它仍然是轴对称图形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如图所示：取一张薄的正方形纸，沿对角线对折后，得到一个等腰直角三角形，再沿底边上的高线对折，将得到的图形纸沿图中的黑色线剪开，去掉含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角的部分，打开折叠的纸，并将其铺平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286000" y="2666880"/>
            <a:ext cx="5410080" cy="1371600"/>
            <a:chOff x="2286000" y="2666880"/>
            <a:chExt cx="5410080" cy="1371600"/>
          </a:xfrm>
        </p:grpSpPr>
        <p:sp>
          <p:nvSpPr>
            <p:cNvPr id="126" name=""/>
            <p:cNvSpPr/>
            <p:nvPr/>
          </p:nvSpPr>
          <p:spPr>
            <a:xfrm>
              <a:off x="6553080" y="3352680"/>
              <a:ext cx="1143000" cy="685800"/>
            </a:xfrm>
            <a:prstGeom prst="triangle">
              <a:avLst>
                <a:gd name="adj" fmla="val 50000"/>
              </a:avLst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286000" y="2666880"/>
              <a:ext cx="5105520" cy="1371600"/>
              <a:chOff x="2286000" y="2666880"/>
              <a:chExt cx="5105520" cy="1371600"/>
            </a:xfrm>
          </p:grpSpPr>
          <p:sp>
            <p:nvSpPr>
              <p:cNvPr id="128" name=""/>
              <p:cNvSpPr/>
              <p:nvPr/>
            </p:nvSpPr>
            <p:spPr>
              <a:xfrm>
                <a:off x="2286000" y="2666880"/>
                <a:ext cx="1295280" cy="1371600"/>
              </a:xfrm>
              <a:prstGeom prst="rect">
                <a:avLst/>
              </a:prstGeom>
              <a:solidFill>
                <a:srgbClr val="eeb00b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9880" y="2666880"/>
                <a:ext cx="1143000" cy="1371600"/>
              </a:xfrm>
              <a:prstGeom prst="rtTriangle">
                <a:avLst/>
              </a:prstGeom>
              <a:solidFill>
                <a:srgbClr val="eeb00b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05520" y="3352680"/>
                <a:ext cx="11430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eeb00b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05520" y="2743200"/>
                <a:ext cx="0" cy="1295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05520" y="2666880"/>
                <a:ext cx="533160" cy="685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81680" y="3581280"/>
                <a:ext cx="609840" cy="228600"/>
              </a:xfrm>
              <a:custGeom>
                <a:avLst/>
                <a:gdLst/>
                <a:ahLst/>
                <a:rect l="l" t="t" r="r" b="b"/>
                <a:pathLst>
                  <a:path w="672" h="160">
                    <a:moveTo>
                      <a:pt x="0" y="144"/>
                    </a:moveTo>
                    <a:cubicBezTo>
                      <a:pt x="80" y="120"/>
                      <a:pt x="160" y="96"/>
                      <a:pt x="240" y="96"/>
                    </a:cubicBezTo>
                    <a:cubicBezTo>
                      <a:pt x="320" y="96"/>
                      <a:pt x="408" y="160"/>
                      <a:pt x="480" y="144"/>
                    </a:cubicBezTo>
                    <a:cubicBezTo>
                      <a:pt x="552" y="128"/>
                      <a:pt x="640" y="24"/>
                      <a:pt x="672" y="0"/>
                    </a:cubicBezTo>
                  </a:path>
                </a:pathLst>
              </a:custGeom>
              <a:noFill/>
              <a:ln cap="sq" w="28440">
                <a:solidFill>
                  <a:srgbClr val="200b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1066680" y="4114800"/>
            <a:ext cx="769644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会得到怎样的图案？先猜一猜，再做一做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得到一个有两条对称轴的图形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能说明为什么会得到这样的图案吗？应用学过的轴对称知识试一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实际上相当于折出了正方形的两条对称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685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如果将正方形的纸按上面方式对折三次（如图所示），然后沿圆弧剪开，去掉较小部分，展开后结果又会怎样？为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2743200" y="2438280"/>
            <a:ext cx="761760" cy="609480"/>
            <a:chOff x="2743200" y="2438280"/>
            <a:chExt cx="761760" cy="609480"/>
          </a:xfrm>
        </p:grpSpPr>
        <p:sp>
          <p:nvSpPr>
            <p:cNvPr id="138" name=""/>
            <p:cNvSpPr/>
            <p:nvPr/>
          </p:nvSpPr>
          <p:spPr>
            <a:xfrm>
              <a:off x="2743200" y="2438280"/>
              <a:ext cx="761760" cy="609480"/>
            </a:xfrm>
            <a:prstGeom prst="triangle">
              <a:avLst>
                <a:gd name="adj" fmla="val 97727"/>
              </a:avLst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97000" y="2819160"/>
              <a:ext cx="16920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44" y="60"/>
                    <a:pt x="88" y="120"/>
                    <a:pt x="96" y="144"/>
                  </a:cubicBezTo>
                </a:path>
              </a:pathLst>
            </a:custGeom>
            <a:noFill/>
            <a:ln w="28440">
              <a:solidFill>
                <a:srgbClr val="200b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16000" y="4038480"/>
            <a:ext cx="7189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当纸对折两次后，剪出的图案至少有几条对称轴？三次呢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当纸对折两次剪出的图案至少有两条对称轴；当纸对折三次剪出的图案至少有四条对称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276720"/>
            <a:ext cx="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实际上相当于折出了正方形的四条对称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9920" y="6019920"/>
            <a:ext cx="479160" cy="46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692280"/>
            <a:ext cx="1271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378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这一节课你学到了什么？有怎样的体会和想法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597040"/>
            <a:ext cx="7396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收集并欣赏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-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个中国民间剪纸图案，你能找到它的对称轴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4502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设计并制作一个镶边或剪纸图案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71600" y="2521080"/>
            <a:ext cx="1219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作业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蓝天 白云</cp:keywords>
  <dc:language>en-US</dc:language>
  <cp:lastModifiedBy/>
  <cp:revision>0</cp:revision>
  <dc:subject/>
  <dc:title/>
</cp:coreProperties>
</file>