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C22-73E9-4417-BE46-4C91A4F0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02F-78F4-46E5-8246-861F15E2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D37-5C0C-4130-88AF-31B037DF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132-B80F-47E5-B3CC-C324049C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787F-2D9D-4338-BDB7-46A6B9E7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272D-DA96-423D-9139-3243A1A0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36F7-F28A-41EB-8A30-61948AD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9A58-2E83-4404-A9BB-BA0BECFF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2BDC-6535-463D-B24B-0471314B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E577-53A7-4022-BAF1-560681CC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987A-D870-48A3-92F9-05BE93A0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48B-AA6E-40D2-B7AA-6D5A3B5E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723F-E102-4CC2-9025-50DA91D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7DEA-CC12-4A2B-ACCA-521F437B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2618-C29C-4FD5-930B-F8344370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1059-1210-4051-B4A9-49415BEE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28B7-6C99-4903-B02F-5D5D0890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2AC-0DFA-4EE0-A093-7C1A5519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9FB-1614-449C-A31D-CA20E105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85B-962A-4795-B7FB-8C3BD6BA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388-5100-4C49-994A-F0CB6935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C16-E6F4-448B-B978-6D45D4E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000-1120-404C-81EA-FF2089ED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45B-E930-4364-8245-794D86D9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D9FD-AE0E-4B50-84ED-ADE63BD93E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7745-78BD-415C-92C2-41ABEA92492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6738" r="0" b="0"/>
          <a:stretch/>
        </p:blipFill>
        <p:spPr>
          <a:xfrm>
            <a:off x="1600200" y="1587600"/>
            <a:ext cx="7238880" cy="4449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683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" y="22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36504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寻访“丝绸之路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9781"/>
          <a:stretch/>
        </p:blipFill>
        <p:spPr>
          <a:xfrm>
            <a:off x="1311120" y="1066680"/>
            <a:ext cx="4784760" cy="4953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5880" y="18590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风不度玉门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72200" y="2743200"/>
            <a:ext cx="289548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47640" y="765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地势高敞，人广昌盛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吐鲁番（高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2861" r="0" b="0"/>
          <a:stretch/>
        </p:blipFill>
        <p:spPr>
          <a:xfrm>
            <a:off x="2843280" y="2060640"/>
            <a:ext cx="46591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7400" y="920880"/>
            <a:ext cx="632448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00200" y="15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27de0"/>
                </a:solidFill>
                <a:latin typeface="宋体"/>
              </a:rPr>
              <a:t>音乐之都——库车（龟兹）</a:t>
            </a:r>
            <a:r>
              <a:rPr b="1" lang="zh-CN" sz="4000" spc="-1" strike="noStrike">
                <a:solidFill>
                  <a:srgbClr val="727de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9907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龟兹是古代西域位极显赫的大国，丝绸之路中战略重地，中西文化的荟萃之所，也是著名的音乐歌舞之乡，隋唐时“龟兹乐舞，名噪中原”，唐玄奘西天取经到过此地，盛赞“管弦伎舞，特善诸国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51080" y="2125800"/>
            <a:ext cx="4643280" cy="2606400"/>
            <a:chOff x="2251080" y="2125800"/>
            <a:chExt cx="4643280" cy="2606400"/>
          </a:xfrm>
        </p:grpSpPr>
        <p:sp>
          <p:nvSpPr>
            <p:cNvPr id="148" name=""/>
            <p:cNvSpPr/>
            <p:nvPr/>
          </p:nvSpPr>
          <p:spPr>
            <a:xfrm>
              <a:off x="2251080" y="2125800"/>
              <a:ext cx="4643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51080" y="2125800"/>
              <a:ext cx="46432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5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177920" y="2681280"/>
            <a:ext cx="678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77920" y="2092320"/>
            <a:ext cx="678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416640" y="3048120"/>
            <a:ext cx="2041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伊斯兰教中心——喀什（疏勒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1880" y="250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4038840" cy="2355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83800" y="1523880"/>
            <a:ext cx="1155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香妃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584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514600" y="37846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934320" y="3733920"/>
            <a:ext cx="60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9600" y="6248520"/>
            <a:ext cx="83808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553080" y="990720"/>
            <a:ext cx="23083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3465" t="4948" r="3465" b="6433"/>
          <a:stretch/>
        </p:blipFill>
        <p:spPr>
          <a:xfrm>
            <a:off x="2438280" y="152280"/>
            <a:ext cx="4419720" cy="2946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4343400" cy="3147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15200" y="533520"/>
            <a:ext cx="457200" cy="21283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4162320"/>
            <a:ext cx="457200" cy="1557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沙漠之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76520" y="795240"/>
            <a:ext cx="7010280" cy="4691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657600" y="5791320"/>
            <a:ext cx="266688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丝绸之路上的古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3527" t="5272" r="3527" b="5017"/>
          <a:stretch/>
        </p:blipFill>
        <p:spPr>
          <a:xfrm>
            <a:off x="3276720" y="133200"/>
            <a:ext cx="5105160" cy="329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520" y="2128680"/>
            <a:ext cx="8778960" cy="360"/>
            <a:chOff x="182520" y="2128680"/>
            <a:chExt cx="8778960" cy="360"/>
          </a:xfrm>
        </p:grpSpPr>
        <p:sp>
          <p:nvSpPr>
            <p:cNvPr id="173" name=""/>
            <p:cNvSpPr/>
            <p:nvPr/>
          </p:nvSpPr>
          <p:spPr>
            <a:xfrm>
              <a:off x="182520" y="2128680"/>
              <a:ext cx="8778960" cy="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82520" y="2128680"/>
              <a:ext cx="8778960" cy="360"/>
              <a:chOff x="182520" y="2128680"/>
              <a:chExt cx="8778960" cy="360"/>
            </a:xfrm>
          </p:grpSpPr>
          <p:sp>
            <p:nvSpPr>
              <p:cNvPr id="175" name=""/>
              <p:cNvSpPr/>
              <p:nvPr/>
            </p:nvSpPr>
            <p:spPr>
              <a:xfrm>
                <a:off x="182520" y="2128680"/>
                <a:ext cx="8778960" cy="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2520" y="2128680"/>
                <a:ext cx="8778960" cy="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6858000" cy="4915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038480" y="5943600"/>
            <a:ext cx="175284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帕米尔高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6324480" cy="3871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343400" y="5410080"/>
            <a:ext cx="144792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山天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5867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86950"/>
                </a:solidFill>
                <a:latin typeface="Times New Roman"/>
              </a:rPr>
              <a:t>谢谢观赏！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382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主线（长安—敦煌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3341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南线（阳关—葱岭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58672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北线（玉门关—葱岭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6324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国外部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8935" t="4647" r="11753" b="33399"/>
          <a:stretch/>
        </p:blipFill>
        <p:spPr>
          <a:xfrm>
            <a:off x="1371600" y="360360"/>
            <a:ext cx="7620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24040" y="1920960"/>
            <a:ext cx="5697360" cy="3017880"/>
            <a:chOff x="1724040" y="1920960"/>
            <a:chExt cx="5697360" cy="3017880"/>
          </a:xfrm>
        </p:grpSpPr>
        <p:sp>
          <p:nvSpPr>
            <p:cNvPr id="97" name=""/>
            <p:cNvSpPr/>
            <p:nvPr/>
          </p:nvSpPr>
          <p:spPr>
            <a:xfrm>
              <a:off x="1724040" y="1920960"/>
              <a:ext cx="5697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24040" y="1920960"/>
              <a:ext cx="56973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  </a:t>
              </a:r>
              <a:r>
                <a:rPr b="0" lang="zh-CN" sz="18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68360" y="609480"/>
            <a:ext cx="5184720" cy="5410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71800" y="6248520"/>
            <a:ext cx="160020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安  鼓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11653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54f41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d54f41"/>
                </a:solidFill>
                <a:latin typeface="宋体"/>
              </a:rPr>
              <a:t>西安，古称长安，为中国六大古都（北京、西安、洛阳、开封、南京、杭州）之首，与世界名城雅典、开罗、罗马齐名，并称世界四大古都，闻名遐迩的“丝绸之路”就是从这里开始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2286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54f41"/>
                </a:solidFill>
                <a:latin typeface="Times New Roman"/>
              </a:rPr>
              <a:t>河西走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066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河西四镇：武威、张掖、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酒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敦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ygb.gif (17579 bytes)"/>
          <p:cNvPicPr/>
          <p:nvPr/>
        </p:nvPicPr>
        <p:blipFill>
          <a:blip r:embed="rId1"/>
          <a:stretch/>
        </p:blipFill>
        <p:spPr>
          <a:xfrm>
            <a:off x="1447920" y="3962520"/>
            <a:ext cx="2590560" cy="2071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6172200"/>
            <a:ext cx="236232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葡萄美酒夜光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2379600"/>
            <a:ext cx="9144000" cy="2098440"/>
            <a:chOff x="0" y="2379600"/>
            <a:chExt cx="9144000" cy="2098440"/>
          </a:xfrm>
        </p:grpSpPr>
        <p:sp>
          <p:nvSpPr>
            <p:cNvPr id="108" name=""/>
            <p:cNvSpPr/>
            <p:nvPr/>
          </p:nvSpPr>
          <p:spPr>
            <a:xfrm>
              <a:off x="0" y="2379600"/>
              <a:ext cx="678672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2379600"/>
              <a:ext cx="9144000" cy="2098440"/>
              <a:chOff x="0" y="2379600"/>
              <a:chExt cx="9144000" cy="209844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2379600"/>
                <a:ext cx="530388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0" y="2379600"/>
                <a:ext cx="9144000" cy="2098440"/>
                <a:chOff x="0" y="2379600"/>
                <a:chExt cx="9144000" cy="20984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0" y="2379600"/>
                  <a:ext cx="9144000" cy="20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379600"/>
                  <a:ext cx="914400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zh-CN" sz="7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590560" cy="1781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24000" y="18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267080" y="2917800"/>
            <a:ext cx="4724640" cy="3178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6248520"/>
            <a:ext cx="137160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神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981080"/>
            <a:ext cx="152388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酒泉公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2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54f41"/>
                </a:solidFill>
                <a:latin typeface="Times New Roman"/>
              </a:rPr>
              <a:t>敦煌：东方艺术之都，</a:t>
            </a:r>
            <a:r>
              <a:rPr b="1" lang="zh-CN" sz="2800" spc="-1" strike="noStrike">
                <a:solidFill>
                  <a:srgbClr val="d54f41"/>
                </a:solidFill>
                <a:latin typeface="宋体"/>
              </a:rPr>
              <a:t>古丝绸之路的咽喉要冲</a:t>
            </a:r>
            <a:r>
              <a:rPr b="1" lang="zh-CN" sz="2800" spc="-1" strike="noStrike">
                <a:solidFill>
                  <a:srgbClr val="d54f4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5780" t="7014" r="0" b="0"/>
          <a:stretch/>
        </p:blipFill>
        <p:spPr>
          <a:xfrm>
            <a:off x="1981080" y="1143000"/>
            <a:ext cx="3200400" cy="2652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62720" y="1143000"/>
            <a:ext cx="3368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-46080" y="-1343160"/>
            <a:ext cx="9236160" cy="9545400"/>
            <a:chOff x="-46080" y="-1343160"/>
            <a:chExt cx="9236160" cy="9545400"/>
          </a:xfrm>
        </p:grpSpPr>
        <p:sp>
          <p:nvSpPr>
            <p:cNvPr id="125" name=""/>
            <p:cNvSpPr/>
            <p:nvPr/>
          </p:nvSpPr>
          <p:spPr>
            <a:xfrm>
              <a:off x="-46080" y="-1343160"/>
              <a:ext cx="9236160" cy="9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-46080" y="-1343160"/>
              <a:ext cx="9144000" cy="8466120"/>
              <a:chOff x="-46080" y="-1343160"/>
              <a:chExt cx="9144000" cy="8466120"/>
            </a:xfrm>
          </p:grpSpPr>
          <p:sp>
            <p:nvSpPr>
              <p:cNvPr id="127" name=""/>
              <p:cNvSpPr/>
              <p:nvPr/>
            </p:nvSpPr>
            <p:spPr>
              <a:xfrm>
                <a:off x="-46080" y="-1343160"/>
                <a:ext cx="9144000" cy="84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-46080" y="-1343160"/>
                <a:ext cx="91440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8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6934320" cy="3522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52680" y="486108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西出阳关无故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67080" y="152280"/>
            <a:ext cx="4724640" cy="3103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4800600" cy="3006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705720" y="5943600"/>
            <a:ext cx="213336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兰与罗布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95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玉石故乡——和田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阗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7703" t="0" r="22514" b="0"/>
          <a:stretch/>
        </p:blipFill>
        <p:spPr>
          <a:xfrm>
            <a:off x="1447920" y="1463760"/>
            <a:ext cx="7543800" cy="1355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319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6248520"/>
            <a:ext cx="83808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寻访 丝绸 之路</cp:keywords>
  <dc:language>en-US</dc:language>
  <cp:lastModifiedBy/>
  <cp:revision>0</cp:revision>
  <dc:subject/>
  <dc:title/>
</cp:coreProperties>
</file>