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2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24.gif" ContentType="image/gif"/>
  <Override PartName="/ppt/media/image16.png" ContentType="image/png"/>
  <Override PartName="/ppt/media/image21.gif" ContentType="image/gif"/>
  <Override PartName="/ppt/media/image19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3.gif" ContentType="image/gif"/>
  <Override PartName="/ppt/media/image17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CCF-F0AA-4BCF-B05D-A7EA250B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5EA-BDC3-4C68-85AE-BF147889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2DD99-5262-4A19-A0FB-4C24BB6C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6942D-D654-4452-BF3C-4A897C57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D67FC-F6DB-4218-AE3B-01134AD5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25FDE-991B-4BC3-B82F-9667CBA8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5C54C-60AF-4728-8246-F46A52E1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7A307-6966-4E2A-9C17-F6C31870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625F7-E5C3-4DD3-897A-5710AE98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3583E-7378-4373-999C-55464122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7A97F-313E-4192-9254-EAF55948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E5A67-C54E-4F80-82B6-E9E5DD5B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DB9-F572-4EFE-AF6F-E3FA24A3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0532B-EDAD-4DE9-941B-E3AEE53D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7AD6A-7585-4400-A80E-C37916CD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C0720-1C5C-442B-9494-B54A374B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F0379-FD62-4908-B0AC-E0EBF2D3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EE5EF-4061-4CBD-A717-248D7AD0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D5344-606E-4B80-A27A-4065085B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12709-42E0-43BC-80C1-6004DC50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D0FB9-F042-4084-BD8B-ACCA31A3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61A35-4651-46E5-80F6-B2A0CF6F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FF6B2-15DB-4136-B3E2-C9DA2C3E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1D9-F324-4193-9D00-036148A7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17062-93F4-484F-8E2A-B1124CE2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66D4C-4EDF-43FA-BAF2-1FB77485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9DF53-77C7-4050-B71F-CCA0E219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2A18F-B63C-4FCC-A51E-D79CDEAA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8447F-89AD-4467-8F93-71BAFFB8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C06A6-423C-4286-807F-2EA240E3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6B050-EDC1-416C-AB85-6E24B073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B11BA-E725-4D6D-890D-02F19EEA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68D2D-6188-471A-9FAA-FFD2C1EE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44684-75BC-47A2-A983-C1E9BE87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236E-90FC-4F55-819F-01016A7E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18B03-C70E-47D0-B46A-851150B1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3AFC9-BC09-473D-B6CC-B0923AA4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CCFC9-0B05-49CF-B86D-3214E016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E1D1F-F465-4B76-9DC7-2DC45EC6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9DF43-9B5D-4912-B90E-BBBD9E99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2AEF5-6036-4ABB-A789-6A22519A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FC9DC-CCB4-48BB-A550-4EBC9F60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47D9E-4622-46CB-83E4-F6B5DE0C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AE52D-6C3C-419D-A0F2-A15493F7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9DF69-8CDF-4648-9A98-46EA6A34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E185-3D9A-4A71-9DEC-D36DB4A9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8E310-F9D2-4ED0-A2F9-9E6CDD6A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61F41-324B-4B8C-90B2-0305FF0C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B1A85-21BC-4E13-8437-F69A0765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3EE66-610A-43B2-A142-1097934C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3B52A-5DE3-4FA4-BF30-353B335A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383A7-E2B8-4D96-91B6-2F3F126E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5D39C-9823-415A-8AA3-1D79CC14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AAC37-6CB6-4771-B4A5-F0AEAFC2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6114AE-ED84-44B4-88B1-F818723A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452E6-FEBE-4703-B16E-78270A0D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49B5-738E-472D-9C93-3F3E015D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A151D-425F-4B3E-93AA-ECC651F3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AFD2D-1B97-454D-8979-F5243015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04D59-969F-433A-A3C8-4691841D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D674D-08E1-4BC1-8D80-DF0B313F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2E696-251F-4303-96C0-D5149358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A86A3-88C2-48FD-9C0A-4FCCFA64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D6F0B-4D14-4A2F-8400-13B42D00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2FEB11-5AFD-445A-8D8E-5683923E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4B7B4F-8520-44D4-8A7B-8CBCB426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2A642-1F3A-44CA-9790-3FC7ED30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5531-7F11-4A6D-A0D3-1E00EB03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098EBB-E605-48F0-B531-5FFE09D5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D9259-30F2-40EC-A65E-2F885620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F9A48-0953-4FA0-BE73-56DFDB10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9FDBD0-71EC-4390-8546-0BC65023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91228-034E-4EEA-B94A-C8728D45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6D8F6-E0A5-4FDD-8415-32E83412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655B4-D324-4DD5-9978-4EF307A4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B0BDB-DD62-4C91-9700-59779A82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51FAEC-405B-4D95-99BD-515CB08A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322AD5-46E6-4588-9A00-E6D46283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7FE7-9648-404A-A1A7-CB1C5709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A59AA52-8214-446D-B8A4-BBACFF96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EC7F694-A5B4-49B4-BF3E-A7428E71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220C08-364E-4F06-AEB3-E2BE829F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DFA3D8-D073-47E7-A208-31803FE0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4FEFC4-C8F7-43F3-946C-A8DE8E47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33297C-95DD-466F-8A52-2F2B14CC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252835-B9D8-40CA-8AA9-99698195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906C76-7DB9-495C-8001-EF172A65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54C5232-7C18-4C43-9780-97470530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80F856-9839-43F1-BC6D-49168BAF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38BD-A9C2-49DD-8B4B-43E2BB18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2A1613-E35C-40AB-A874-CFEED624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323C57-371C-4B09-8F35-A6BBE0B6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B33F6-9D8E-4FBC-8728-667C2C38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F17912-036D-48D1-A656-19A19229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3BF5FC-0B46-44D8-802D-140828F7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026E9D-3374-42D8-958D-95A32D95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A96BD-A924-43D3-846B-A1084C39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F4A285-0B62-4498-8158-F3871CA9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38171B-7800-4D72-AD30-FC27F685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8053AE-F805-4895-AA53-05CF7658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BED9-988B-4534-AC86-76B26240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340C9F-6A92-494D-801E-36E55A64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DCBD0-0C6D-47CA-93DB-AD7B84F4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49E254-D336-4317-A9F1-A8957340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A305C-3F69-42D3-BBB7-3AD572DF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70EE95-712F-4D8C-9403-20216D4C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F60B08-84C8-4AB8-8A76-EA950481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83EAA-FA73-4885-8A34-021C3379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4ABD30-16E3-44FD-A8FD-789F583B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4039FB-9B71-4A52-8D13-C4DE164B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BAD66D-A788-49F6-9BCB-C9DBDC4C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0F8-7115-417F-9F5A-42C458F1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1287-9E84-48C6-94C9-959CAD4E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5E0928-6CC5-4D69-8E31-0DD7B7F3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3AAD8E-9A51-45D4-B7D9-53448609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D2DC2A-921D-4BBD-A1F4-163518A3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0A1A01-838F-47B5-A5B2-2938A598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71831F-7A87-4EAA-B4B2-4B017982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BCA855-2D15-47C2-B9D1-478C4918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BE43FA-14C9-4B80-8202-5D6A65A7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3FFBFB-74B9-4B25-9597-42ABF529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156DAA-0553-48AE-B413-D5F5D4A5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081BC-76D0-4FA8-A15F-7D3682A1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BFF7-1579-4899-934C-82E0DE10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B60B85-C18A-4794-B928-E25F45F9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D7D365-85CD-4F21-9810-B46E822A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DDE4D4-CC93-4A3E-A0DB-8AB9DDB8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C97EB6-2875-4D2C-9E98-108EEFE3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744E29-F576-48CE-B31E-D57CF38E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360113-B07A-4F53-A9BA-B2F1D352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A388EA-48F9-4F00-A571-130AECE6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91970A-456E-4A06-8092-E0FD130E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14163E-EFA0-4989-A17B-A680985F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D38168-0733-4C74-9B26-67E08DF9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26FC-A9FB-40F9-BCFD-215EB6BB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094609-5658-41B4-86DB-A5C22DFA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33A28D-8FFA-459C-A5AA-B8AE7016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AB9747-1128-491E-8AE8-64E5DEEA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95F465-771E-44A9-A582-3AA6A0EA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DEFA37-0DF9-4790-A6F3-6B1F8559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44BC1-A51C-4B4C-B95C-BC4BD2A7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EA3D85-61E5-4FA5-BD66-EE32D8E9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8F17CB-5A04-4CD7-965B-E411EA9B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25E5E7-A931-4F70-81CA-28F20DA5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C87025-AB9F-4E08-8E87-783C0D79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73B0-F88B-4B6B-ADFD-D0636A89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218B47-3639-475D-B31C-6A537AA3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B8C457-8789-4AE8-8FAC-ED4B0FD3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09011A-4F04-4853-89E6-FF9CFDFD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0588CB-5416-4D39-ACAC-C2A4BCDE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0F7E5F-CC73-4546-9926-4808125A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E0BB5A-E78D-413D-BA40-0FB82384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C89064-AC22-4EB5-A2C9-70757CC2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1226EC-B218-4E24-97FC-D51CEE17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A2AC4B-F002-4511-AF3F-F48B23FF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49BE46-F2FE-44CE-98EA-5EF7F95B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4C8F-8532-4DB0-865D-BC23BB1E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C08612-2F1E-42DB-AD03-0730025A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BFA6CA-1B02-4F63-A12E-71AC5134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E64B93-862B-4BCF-A40D-8E4EB871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0F4C22-40E4-43F3-92E7-40B5E272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E81D82-306D-460D-A0F0-5F67E7CD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7F6953-F642-44E1-82CC-4FC67ED0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64D9F-A33A-438F-9031-F837FEB5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AE46D-668D-4E2D-845C-F96A44C6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BDFAAA-2D1B-4026-8BBE-718C0512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6A77A2-879A-43BD-AC6B-707E7713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20DAA-CBBA-4709-BCCD-F8631535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A3E79D-3378-4D1E-9565-E6B609CA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979A85-9672-434E-B4F1-5191BB8D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F238FB-07A2-453B-B355-12F56D78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0086188-39C6-4533-8F1A-3A304823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8E8574F-4694-4A87-B221-51E60B0A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6D5D92D-1D4F-4774-9253-8D4B4F82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78FEDF8-AC57-48A4-9D39-33E9EEB2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F462CE0-5139-418D-AF07-EDC7CD74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6E5B001-F36B-4623-9AFE-DBFA15B0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8D31995-EADF-4C97-B661-BC21DC84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5A8D5-B4E1-4899-A194-744C7727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E29C32E-2C05-4E19-9CA3-B7774A76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AFFEE5B-6997-47BD-AB3A-85EA1D30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CE8E647-2848-4570-B68A-6C65545B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71207F2-FDEF-4781-A3B0-6995D3CF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8A70E4F-FAB2-4062-BAD2-5ACD74B7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32A0FE-D799-4916-8729-2D57AEDB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51C651-A519-4185-AE7F-BFEAE611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094378-A775-4FE3-94E8-8E2D1500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B67861-3C45-4544-8D07-6EA72E7A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4D4ED2-DC65-40B0-B4AF-6941C56E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5689D-9378-4F7E-BE42-07CEDAA3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8FFBD6-40A5-4EEE-814C-F849DFF8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5BE855-8231-4567-8C8F-A56796CD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5FCFC5-0C74-4989-A6CD-F96D73F3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00CF78-1B62-4F12-BFC4-B688584A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51CBF6-4147-4C0A-89AD-37EB1FF3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DC3FFA-C4BE-494C-A6E4-3CA63218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EB289C-F017-48B3-A33B-D6C85FBD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CDAC78-746F-4068-B0DC-78F1C106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287CC2-71E5-4C35-BD28-05B931CD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92CC82-7125-4014-8A88-63153AA8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88FCB-9CEF-4D80-A619-B41662AC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624F08-E2C2-43A9-B4AB-83747998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553535-FBD6-4460-A33D-079EC9B1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8D308E-63C3-4B5B-80C3-781274B9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92068C-804D-473E-AE77-78ED563E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4AA9B2-9480-42B3-ADB5-57224ADB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C26459-7095-457F-88B8-D52E0225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6E98E3-8C80-4CA9-A797-A08A8B99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326586-8FBE-4343-B5AE-3BD64CCC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7598DF-C198-4194-8D26-F46D1B2F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2BC0170-A9B4-4876-BE08-F7C5322F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0D5AF-BC81-42D8-9E2C-AFDE40C6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A681724-1838-4EBC-8430-9A3363BC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146BAB5-7D15-473C-9769-70BC8F89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1189359-49E8-4A8F-877F-A6226AAF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EB13E5B-136A-4AC6-9069-58440275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075EC45-D45B-48B9-B11B-90C06B78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8F9F353-B4C1-4175-BEDA-3412912E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5498D83-AA6B-472C-B6FB-BFC74D99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5DB651F-C00C-46C1-834D-8BB05C10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C91F622-2155-4877-887C-A9711E75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1F6BFD7-FDE4-44DA-99A6-CB18ECCB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E73-A19E-41FC-A6C4-4AA17224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CB4F2-3CEE-444A-A543-0E85B8D4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FBE9B2-14BF-43EE-B3E8-F14918C2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1EB56C-555D-477D-AAC7-68D94FB9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B74252-F2CD-4C52-AF4D-C0E352FF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1FB9EA-84B1-4126-A15D-51FBF7B6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6940CF-0570-4948-BFB8-68E755E9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9734D5-7A21-4DB2-96CA-A6F747BA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BD0C33-C6A3-4F78-ABE8-005E3491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7BFD98-29F8-4EEF-AE5C-483A1447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0F4FD9-BC1A-4E3A-989F-085D37AF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571B4A-7A92-4B7C-9F8D-A5D48444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BC779-E320-4F24-8BEC-D448C15E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681245-A11E-4F32-B2B9-1804A131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DF731E-5B51-4948-A414-B0094607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52EB15-980E-430A-A75C-2782E4BF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33334-695C-462F-A228-B39E7D19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F5DEB-C536-4AAB-BFC2-35AD3FE5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8E339-260E-40CC-84A2-C21B41FF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F1B2E-0A3B-4566-BB17-E8657EB5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D83AE-B082-4A04-AAC7-EFFA1F6D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2CE70-06FC-4F93-A10F-B3FBEE6E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4B05F-50FD-46C6-B5D8-FD96A9DB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07F82-FC1F-422F-9649-08E1E308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207-333A-4722-A623-7BE57E4F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2C0A8-1E52-4007-8147-75E73908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796AB-CB2F-4156-BFBF-FEE534C2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41C43-FB4B-4566-BF8D-9019020D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3083D-403D-4112-BCA3-6AE31BA4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81D20-6EB9-442D-9F1C-33B02D76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F6461-9B40-4E76-8386-A12EA345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BAF98-28F4-4754-B7FE-F3CF4938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0F60D-89DE-46E5-9432-3AEB0021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37BCE-F121-48B1-9473-8C977B31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DEEED-5735-46D7-B476-8DE7137F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D16-B5AF-44EA-A6CE-073DA218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8DF3A-EAD5-4BA4-86E0-B7321620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D13B6-8ABA-4F42-B9AD-EFD3286E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A0194-C9C0-4CBA-B648-110B294E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26B00-DC19-4F09-B18F-0DFAAACA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FD9F8-6A88-4F30-B2C3-17C81745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FF0B0-ACE6-4ED8-89EC-474A1D2E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08CB6-3C33-45FA-80BB-C9EA0144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982DA-DE26-43B9-B18E-CF1D8627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8B13F-8D53-4E4D-9697-E27D9A9F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45DAB-6AF0-48F3-8BF4-BBF40453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43C-955F-4025-94FA-4747C1E3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DE23E-DE46-4638-B9B3-0E1DC181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1A1B4-AA2C-434C-B9A6-596A9EF5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6732A-02D7-43BE-896A-1C4FBF39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807C0-CAD1-4AF9-944D-9AE69C22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9B9F2-35CC-464D-B53B-960E6E39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81C8D-433E-4ACE-B93D-D2A50C20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90D80-32CD-4273-8848-D4B122E4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78153-79D8-44ED-8FC1-9B19D59F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FF6D7-7298-4A93-B1AE-D6CC8DB2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E9804-2CA2-4BE7-91D1-468E478C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6CA-A61B-452F-9419-26461626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9E88A-70FC-465F-B8A2-1DA0BAE4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ED705-BBC8-474D-8E21-715B67D2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19A61-BC7B-44C2-9DE3-C0E7933B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22C76-67E9-4D80-A4FE-5CB2D050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DA2E2-1B0F-478F-8D9C-5AB30AB6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98C5A-A65B-4AA1-9BC2-78ECA06F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0B28F-E568-467B-ADC0-09AF4E61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D1E40-01A9-4BD2-BA61-4EC670EB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7C1EF-6EB5-43CD-8F0A-BA56CB61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F5D49-07E2-46C6-9C5C-0F7132F3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146-4225-4ABD-90AA-B5FE5DC3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52607-7F6D-4292-B891-CA2B83FB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0427D-405D-47D0-A219-08B0F0F0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68D3A-BCF5-4071-891A-B1B30124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07FF8-1A45-438B-B11C-DE1CC405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FBD77-2008-416F-968B-43E570ED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1B312-8BAE-48D8-B5BE-FD34EB24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FC21E-A19E-4765-9F7E-8C5BF891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7C886-8020-4A23-B36B-5624A450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E9D3F-A40D-4097-860F-E1CFA540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A865B-D8EB-4D4A-82FD-DED113B7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45F-2BDB-42D6-B31D-E9163076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3C71B-DA26-45B0-AB33-63EBD8A9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3ACA6-2318-4047-9D4B-4332D434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2CE4D-E8AA-40E9-BFFF-ACEAE493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307AF-EC09-4EEC-A481-CAB3A043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333F1-FCA3-4AEA-BED4-3F3E3AC0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D748C-16D5-4E79-881A-F9DDCD8F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57705-FCB5-41A9-A313-CEDE577E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15B43-DB5A-4226-94ED-C0A116CD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EA85E-9756-40AF-A8C7-19C27334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DC02A-D5FF-4A5C-8212-058B9AAF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145.xml"/><Relationship Id="rId35" Type="http://schemas.openxmlformats.org/officeDocument/2006/relationships/slideLayout" Target="../slideLayouts/slideLayout146.xml"/><Relationship Id="rId36" Type="http://schemas.openxmlformats.org/officeDocument/2006/relationships/slideLayout" Target="../slideLayouts/slideLayout147.xml"/><Relationship Id="rId37" Type="http://schemas.openxmlformats.org/officeDocument/2006/relationships/slideLayout" Target="../slideLayouts/slideLayout148.xml"/><Relationship Id="rId38" Type="http://schemas.openxmlformats.org/officeDocument/2006/relationships/slideLayout" Target="../slideLayouts/slideLayout149.xml"/><Relationship Id="rId39" Type="http://schemas.openxmlformats.org/officeDocument/2006/relationships/slideLayout" Target="../slideLayouts/slideLayout150.xml"/><Relationship Id="rId40" Type="http://schemas.openxmlformats.org/officeDocument/2006/relationships/slideLayout" Target="../slideLayouts/slideLayout151.xml"/><Relationship Id="rId41" Type="http://schemas.openxmlformats.org/officeDocument/2006/relationships/slideLayout" Target="../slideLayouts/slideLayout152.xml"/><Relationship Id="rId42" Type="http://schemas.openxmlformats.org/officeDocument/2006/relationships/slideLayout" Target="../slideLayouts/slideLayout153.xml"/><Relationship Id="rId43" Type="http://schemas.openxmlformats.org/officeDocument/2006/relationships/slideLayout" Target="../slideLayouts/slideLayout154.xml"/><Relationship Id="rId44" Type="http://schemas.openxmlformats.org/officeDocument/2006/relationships/slideLayout" Target="../slideLayouts/slideLayout155.xml"/><Relationship Id="rId4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157.xml"/><Relationship Id="rId32" Type="http://schemas.openxmlformats.org/officeDocument/2006/relationships/slideLayout" Target="../slideLayouts/slideLayout158.xml"/><Relationship Id="rId33" Type="http://schemas.openxmlformats.org/officeDocument/2006/relationships/slideLayout" Target="../slideLayouts/slideLayout159.xml"/><Relationship Id="rId34" Type="http://schemas.openxmlformats.org/officeDocument/2006/relationships/slideLayout" Target="../slideLayouts/slideLayout160.xml"/><Relationship Id="rId35" Type="http://schemas.openxmlformats.org/officeDocument/2006/relationships/slideLayout" Target="../slideLayouts/slideLayout161.xml"/><Relationship Id="rId36" Type="http://schemas.openxmlformats.org/officeDocument/2006/relationships/slideLayout" Target="../slideLayouts/slideLayout162.xml"/><Relationship Id="rId37" Type="http://schemas.openxmlformats.org/officeDocument/2006/relationships/slideLayout" Target="../slideLayouts/slideLayout163.xml"/><Relationship Id="rId38" Type="http://schemas.openxmlformats.org/officeDocument/2006/relationships/slideLayout" Target="../slideLayouts/slideLayout164.xml"/><Relationship Id="rId39" Type="http://schemas.openxmlformats.org/officeDocument/2006/relationships/slideLayout" Target="../slideLayouts/slideLayout165.xml"/><Relationship Id="rId40" Type="http://schemas.openxmlformats.org/officeDocument/2006/relationships/slideLayout" Target="../slideLayouts/slideLayout166.xml"/><Relationship Id="rId41" Type="http://schemas.openxmlformats.org/officeDocument/2006/relationships/slideLayout" Target="../slideLayouts/slideLayout167.xml"/><Relationship Id="rId4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CA7C-20A9-48A7-97D9-6B66FC2A0C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FAA9-5998-4033-AD39-2179DA9ABE6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9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9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1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3359-7DA8-4BF4-9630-6B8E187616A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8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8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0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6F85-12AA-4B75-B44C-0C2A3B6432FC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1D90-E84A-439A-BC2C-E9CB82DD45F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4"/>
    <p:sldLayoutId id="2147483806" r:id="rId35"/>
    <p:sldLayoutId id="2147483807" r:id="rId36"/>
    <p:sldLayoutId id="2147483808" r:id="rId37"/>
    <p:sldLayoutId id="2147483809" r:id="rId38"/>
    <p:sldLayoutId id="2147483810" r:id="rId39"/>
    <p:sldLayoutId id="2147483811" r:id="rId40"/>
    <p:sldLayoutId id="2147483812" r:id="rId41"/>
    <p:sldLayoutId id="2147483813" r:id="rId42"/>
    <p:sldLayoutId id="2147483814" r:id="rId43"/>
    <p:sldLayoutId id="2147483815" r:id="rId44"/>
    <p:sldLayoutId id="2147483816" r:id="rId4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7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7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8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8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8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9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9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1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E7B5-198D-47F9-9D3C-CD8BA263503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1"/>
    <p:sldLayoutId id="2147483819" r:id="rId32"/>
    <p:sldLayoutId id="2147483820" r:id="rId33"/>
    <p:sldLayoutId id="2147483821" r:id="rId34"/>
    <p:sldLayoutId id="2147483822" r:id="rId35"/>
    <p:sldLayoutId id="2147483823" r:id="rId36"/>
    <p:sldLayoutId id="2147483824" r:id="rId37"/>
    <p:sldLayoutId id="2147483825" r:id="rId38"/>
    <p:sldLayoutId id="2147483826" r:id="rId39"/>
    <p:sldLayoutId id="2147483827" r:id="rId40"/>
    <p:sldLayoutId id="2147483828" r:id="rId41"/>
    <p:sldLayoutId id="2147483829" r:id="rId4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069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4" name="PlaceHolder 1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D09E-9091-4883-9C0C-85429F5480B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dt" idx="4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ftr" idx="4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5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326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3A14-5AF6-4888-9C1F-905B1D4D78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58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58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58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58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59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59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9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59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60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60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60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61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1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2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2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2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3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63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64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64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64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65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65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65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6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6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6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66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67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67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67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68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68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68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68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69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9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BD82-F16B-4480-8EA5-169EAF87BBC4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5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5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76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76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76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76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77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77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77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78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78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78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8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78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79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79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79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80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80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80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81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81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81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81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2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82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2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82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2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82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3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3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83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83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83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84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84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84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85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85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85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86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86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6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86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86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7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87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FE72-1EC0-4B27-AB72-8C879F9C148D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 type="dt" idx="5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458E-00AD-4B22-A70E-1BD0B64DC6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EF21-C970-488E-B28D-20D89AEC87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dt" idx="58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ftr" idx="59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sldNum" idx="60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6DB2-D06A-4B49-9E26-2A4BE77A6ED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FCB3-181D-45FB-9FE4-1CFAD88BAA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ftr" idx="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sldNum" idx="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C6EB-1DAB-4902-B6BD-9CB3C7E28E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 type="dt" idx="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9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 type="dt" idx="6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 type="ftr" idx="6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039F-36F0-4CEB-BE4F-B3B9C70B2C9E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17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4" name="PlaceHolder 1"/>
          <p:cNvSpPr>
            <a:spLocks noGrp="1"/>
          </p:cNvSpPr>
          <p:nvPr>
            <p:ph type="dt" idx="7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 type="ftr" idx="7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 type="sldNum" idx="7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DF1E-98E6-4369-9D4E-C24E7ECDD0C2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dt" idx="7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ldNum" idx="7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02EC-8E62-4386-AAF8-66FDA92DEAD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24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24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5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 type="ftr" idx="7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29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29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 type="dt" idx="7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 type="ftr" idx="7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 type="sldNum" idx="7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054B-EAD5-4982-A38B-A0AC558296C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17CB-23EE-4713-B341-B69B1176FC9A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D7D9-2940-4C9A-BC4B-73E253F5E347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4085-27A0-4D50-AFCB-DABBF942FD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2A86-F8BE-4BE3-BEEE-BFEEB59011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27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EF9A-9D81-41FD-AF1F-C71F883ED840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71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DC98-A6A8-466B-A1C5-04D65CE8993A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93CA-EE2F-42DB-B027-3BF9636A4D5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6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22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5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4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C:\Documents and Settings\All Users\Documents\My Music\&#26410;&#30693;&#21809;&#29255;&#38598; (2003-9-4 22 36 23)\10 &#26354;&#30446; 10.wma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../../8.27PPT/&#20154;&#29983;&#30340;&#24555;&#20048;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eec94"/>
                </a:solidFill>
                <a:latin typeface="Times New Roman"/>
                <a:ea typeface="华文新魏"/>
              </a:rPr>
              <a:t>心理健康第一课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00"/>
                </a:solidFill>
                <a:latin typeface="Tahoma"/>
                <a:ea typeface="华文彩云"/>
              </a:rPr>
              <a:t> </a:t>
            </a:r>
            <a:r>
              <a:rPr b="1" lang="zh-CN" sz="10000" spc="-1" strike="noStrike">
                <a:solidFill>
                  <a:srgbClr val="ff0000"/>
                </a:solidFill>
                <a:latin typeface="Tahoma"/>
                <a:ea typeface="华文彩云"/>
              </a:rPr>
              <a:t>喜  </a:t>
            </a:r>
            <a:r>
              <a:rPr b="1" lang="zh-CN" sz="11000" spc="-1" strike="noStrike">
                <a:solidFill>
                  <a:srgbClr val="996600"/>
                </a:solidFill>
                <a:latin typeface="Tahoma"/>
                <a:ea typeface="楷体_GB2312"/>
              </a:rPr>
              <a:t>怒</a:t>
            </a:r>
            <a:r>
              <a:rPr b="1" lang="zh-CN" sz="11000" spc="-1" strike="noStrike">
                <a:solidFill>
                  <a:srgbClr val="f77141"/>
                </a:solidFill>
                <a:latin typeface="Tahoma"/>
                <a:ea typeface="楷体_GB2312"/>
              </a:rPr>
              <a:t>  </a:t>
            </a:r>
            <a:r>
              <a:rPr b="1" lang="zh-CN" sz="10500" spc="-1" strike="noStrike">
                <a:solidFill>
                  <a:srgbClr val="663300"/>
                </a:solidFill>
                <a:latin typeface="Tahoma"/>
                <a:ea typeface="楷体_GB2312"/>
              </a:rPr>
              <a:t>哀  </a:t>
            </a:r>
            <a:r>
              <a:rPr b="1" i="1" lang="zh-CN" sz="11000" spc="-1" strike="noStrike">
                <a:solidFill>
                  <a:srgbClr val="4d4d4d"/>
                </a:solidFill>
                <a:latin typeface="Tahoma"/>
                <a:ea typeface="楷体_GB2312"/>
              </a:rPr>
              <a:t>恐</a:t>
            </a:r>
            <a:endParaRPr b="0" lang="en-US" sz="1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dbbd71"/>
                </a:solidFill>
                <a:latin typeface="Tahoma"/>
                <a:ea typeface="方正舒体"/>
              </a:rPr>
              <a:t> </a:t>
            </a:r>
            <a:r>
              <a:rPr b="1" lang="zh-CN" sz="16000" spc="-1" strike="noStrike">
                <a:solidFill>
                  <a:srgbClr val="e16bd6"/>
                </a:solidFill>
                <a:latin typeface="Tahoma"/>
                <a:ea typeface="方正舒体"/>
              </a:rPr>
              <a:t>爱</a:t>
            </a:r>
            <a:r>
              <a:rPr b="1" lang="zh-CN" sz="16000" spc="-1" strike="noStrike">
                <a:solidFill>
                  <a:srgbClr val="dbbd71"/>
                </a:solidFill>
                <a:latin typeface="Tahoma"/>
                <a:ea typeface="方正舒体"/>
              </a:rPr>
              <a:t> </a:t>
            </a:r>
            <a:r>
              <a:rPr b="1" lang="zh-CN" sz="18000" spc="-1" strike="noStrike">
                <a:solidFill>
                  <a:srgbClr val="000000"/>
                </a:solidFill>
                <a:latin typeface="Tahoma"/>
                <a:ea typeface="华文新魏"/>
              </a:rPr>
              <a:t>恶 </a:t>
            </a:r>
            <a:r>
              <a:rPr b="1" lang="zh-CN" sz="16000" spc="-1" strike="noStrike">
                <a:solidFill>
                  <a:srgbClr val="cc3300"/>
                </a:solidFill>
                <a:latin typeface="Tahoma"/>
                <a:ea typeface="华文新魏"/>
              </a:rPr>
              <a:t>欲</a:t>
            </a:r>
            <a:endParaRPr b="0" lang="en-US" sz="1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3399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00"/>
                </a:solidFill>
                <a:latin typeface="华文新魏"/>
                <a:ea typeface="华文新魏"/>
              </a:rPr>
              <a:t>忧者见之而忧，喜者见之而喜 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华文新魏"/>
              </a:rPr>
              <a:t>情绪表演：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华文行楷"/>
              </a:rPr>
              <a:t>           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行楷"/>
              </a:rPr>
              <a:t>乐            快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5" name="" descr=""/>
          <p:cNvPicPr/>
          <p:nvPr/>
        </p:nvPicPr>
        <p:blipFill>
          <a:blip r:embed="rId2"/>
          <a:stretch/>
        </p:blipFill>
        <p:spPr>
          <a:xfrm>
            <a:off x="5141880" y="4149720"/>
            <a:ext cx="2743200" cy="1800360"/>
          </a:xfrm>
          <a:prstGeom prst="rect">
            <a:avLst/>
          </a:prstGeom>
          <a:ln w="0">
            <a:noFill/>
          </a:ln>
        </p:spPr>
      </p:pic>
      <p:sp>
        <p:nvSpPr>
          <p:cNvPr id="2376" name=""/>
          <p:cNvSpPr/>
          <p:nvPr/>
        </p:nvSpPr>
        <p:spPr>
          <a:xfrm>
            <a:off x="468360" y="270828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77141"/>
                </a:solidFill>
                <a:latin typeface="Arial"/>
                <a:ea typeface="华文新魏"/>
              </a:rPr>
              <a:t>得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3132000" y="1557360"/>
            <a:ext cx="25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77141"/>
                </a:solidFill>
                <a:latin typeface="Arial"/>
                <a:ea typeface="华文新魏"/>
              </a:rPr>
              <a:t>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8" name="" descr=""/>
          <p:cNvPicPr/>
          <p:nvPr/>
        </p:nvPicPr>
        <p:blipFill>
          <a:blip r:embed="rId3"/>
          <a:stretch/>
        </p:blipFill>
        <p:spPr>
          <a:xfrm>
            <a:off x="6156360" y="-100080"/>
            <a:ext cx="2232000" cy="2755800"/>
          </a:xfrm>
          <a:prstGeom prst="rect">
            <a:avLst/>
          </a:prstGeom>
          <a:ln w="0">
            <a:noFill/>
          </a:ln>
        </p:spPr>
      </p:pic>
      <p:sp>
        <p:nvSpPr>
          <p:cNvPr id="2379" name=""/>
          <p:cNvSpPr/>
          <p:nvPr/>
        </p:nvSpPr>
        <p:spPr>
          <a:xfrm>
            <a:off x="1405080" y="242100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0000"/>
                </a:solidFill>
                <a:latin typeface="Arial"/>
                <a:ea typeface="华文新魏"/>
              </a:rPr>
              <a:t>气愤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1403280" y="2565360"/>
            <a:ext cx="23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0000"/>
                </a:solidFill>
                <a:latin typeface="Arial"/>
                <a:ea typeface="华文新魏"/>
              </a:rPr>
              <a:t>伤心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1835280" y="2781360"/>
            <a:ext cx="23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华文新魏"/>
              </a:rPr>
              <a:t>害怕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1476360" y="1901880"/>
            <a:ext cx="23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b4f3d"/>
                </a:solidFill>
                <a:latin typeface="Arial"/>
                <a:ea typeface="华文新魏"/>
              </a:rPr>
              <a:t>痛快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1547640" y="2565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77141"/>
                </a:solidFill>
                <a:latin typeface="Arial"/>
                <a:ea typeface="华文新魏"/>
              </a:rPr>
              <a:t>紧  张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1981080" y="2276640"/>
            <a:ext cx="23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cc"/>
                </a:solidFill>
                <a:latin typeface="Arial"/>
                <a:ea typeface="华文新魏"/>
              </a:rPr>
              <a:t>担心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1549440" y="1989000"/>
            <a:ext cx="287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Arial"/>
                <a:ea typeface="华文新魏"/>
              </a:rPr>
              <a:t>狂 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1476360" y="2205000"/>
            <a:ext cx="295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0000"/>
                </a:solidFill>
                <a:latin typeface="Arial"/>
                <a:ea typeface="华文新魏"/>
              </a:rPr>
              <a:t>痛  苦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2050920" y="242100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99"/>
                </a:solidFill>
                <a:latin typeface="Arial"/>
                <a:ea typeface="华文新魏"/>
              </a:rPr>
              <a:t>满 足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527040" y="1988280"/>
            <a:ext cx="1275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快乐、得意、气愤、伤心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害怕、痛快、紧张、担心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狂喜、痛苦、满足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755640" y="1773360"/>
            <a:ext cx="7273800" cy="2399040"/>
          </a:xfrm>
          <a:prstGeom prst="rect">
            <a:avLst/>
          </a:pr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华文新魏"/>
              </a:rPr>
              <a:t>停！坐姿端正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华文新魏"/>
              </a:rPr>
              <a:t>目视前方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1000"/>
                                        <p:tgtEl>
                                          <p:spTgt spid="2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2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2" dur="20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2" dur="20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2" dur="20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2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ahoma"/>
                <a:ea typeface="华文新魏"/>
              </a:rPr>
              <a:t>察言观色：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91" name="" descr=""/>
          <p:cNvPicPr/>
          <p:nvPr/>
        </p:nvPicPr>
        <p:blipFill>
          <a:blip r:embed="rId1"/>
          <a:stretch/>
        </p:blipFill>
        <p:spPr>
          <a:xfrm>
            <a:off x="5364000" y="3624120"/>
            <a:ext cx="2880000" cy="2541600"/>
          </a:xfrm>
          <a:prstGeom prst="rect">
            <a:avLst/>
          </a:prstGeom>
          <a:ln w="0">
            <a:noFill/>
          </a:ln>
        </p:spPr>
      </p:pic>
      <p:sp>
        <p:nvSpPr>
          <p:cNvPr id="2392" name=""/>
          <p:cNvSpPr/>
          <p:nvPr/>
        </p:nvSpPr>
        <p:spPr>
          <a:xfrm>
            <a:off x="1116000" y="2376360"/>
            <a:ext cx="525636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6699"/>
                </a:solidFill>
                <a:latin typeface="Arial"/>
                <a:ea typeface="华文新魏"/>
              </a:rPr>
              <a:t>    </a:t>
            </a:r>
            <a:r>
              <a:rPr b="1" lang="zh-CN" sz="7000" spc="-1" strike="noStrike">
                <a:solidFill>
                  <a:srgbClr val="ff6699"/>
                </a:solidFill>
                <a:latin typeface="Arial"/>
                <a:ea typeface="华文新魏"/>
              </a:rPr>
              <a:t>看表情，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6699"/>
                </a:solidFill>
                <a:latin typeface="Arial"/>
                <a:ea typeface="华文新魏"/>
              </a:rPr>
              <a:t>猜心情！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1" dur="5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Tahoma"/>
                <a:ea typeface="华文新魏"/>
              </a:rPr>
              <a:t>微笑是什么？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577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微笑是人类最美丽的语言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她能给家庭带来幸福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是我们巨大的财富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她是悲者的阳光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能给失意者带来光明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她的价值在于给予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5" name="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506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514920" y="301320"/>
            <a:ext cx="19429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85800" y="301320"/>
            <a:ext cx="323856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 Black"/>
                <a:ea typeface="华文新魏"/>
              </a:rPr>
              <a:t>不良情绪会影响我们的身心健康！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98" name="" descr=""/>
          <p:cNvPicPr/>
          <p:nvPr/>
        </p:nvPicPr>
        <p:blipFill>
          <a:blip r:embed="rId1"/>
          <a:stretch/>
        </p:blipFill>
        <p:spPr>
          <a:xfrm>
            <a:off x="4788000" y="3573360"/>
            <a:ext cx="3732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e5e5ff"/>
                </a:solidFill>
                <a:latin typeface="Garamond"/>
                <a:ea typeface="华文新魏"/>
              </a:rPr>
              <a:t>如何化解不良情绪？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0" name=""/>
          <p:cNvSpPr/>
          <p:nvPr/>
        </p:nvSpPr>
        <p:spPr>
          <a:xfrm>
            <a:off x="108000" y="3493080"/>
            <a:ext cx="5184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66"/>
                </a:solidFill>
                <a:latin typeface="华文行楷"/>
                <a:ea typeface="华文行楷"/>
              </a:rPr>
              <a:t>作一个乐观向上的少年，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66"/>
                </a:solidFill>
                <a:latin typeface="华文行楷"/>
                <a:ea typeface="华文行楷"/>
              </a:rPr>
              <a:t>     </a:t>
            </a:r>
            <a:r>
              <a:rPr b="1" lang="zh-CN" sz="3500" spc="-1" strike="noStrike">
                <a:solidFill>
                  <a:srgbClr val="ffff66"/>
                </a:solidFill>
                <a:latin typeface="华文行楷"/>
                <a:ea typeface="华文行楷"/>
              </a:rPr>
              <a:t>拥有快乐的人生！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1042920" y="1700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新魏"/>
              </a:rPr>
              <a:t>一、直指目标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1042920" y="234936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新魏"/>
              </a:rPr>
              <a:t>二、向第三方宣泄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6840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SzPct val="10288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7d47d"/>
                </a:solidFill>
                <a:latin typeface="Arial"/>
                <a:ea typeface="华文新魏"/>
              </a:rPr>
              <a:t>善于调节、控制自己的情绪保持乐观、愉悦的心情！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5" name="" descr=""/>
          <p:cNvPicPr/>
          <p:nvPr/>
        </p:nvPicPr>
        <p:blipFill>
          <a:blip r:embed="rId2"/>
          <a:stretch/>
        </p:blipFill>
        <p:spPr>
          <a:xfrm>
            <a:off x="4645080" y="530208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2406" name="" descr=""/>
          <p:cNvPicPr/>
          <p:nvPr/>
        </p:nvPicPr>
        <p:blipFill>
          <a:blip r:embed="rId3"/>
          <a:stretch/>
        </p:blipFill>
        <p:spPr>
          <a:xfrm>
            <a:off x="5748480" y="4732200"/>
            <a:ext cx="1271520" cy="10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00"/>
                </a:solidFill>
                <a:latin typeface="Tahoma"/>
                <a:ea typeface="华文新魏"/>
              </a:rPr>
              <a:t>良好心境培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cccc"/>
                </a:solidFill>
                <a:latin typeface="Tahoma"/>
                <a:ea typeface="华文新魏"/>
              </a:rPr>
              <a:t>退一步海阔天空</a:t>
            </a:r>
            <a:r>
              <a:rPr b="1" lang="zh-CN" sz="5000" spc="-1" strike="noStrike">
                <a:solidFill>
                  <a:srgbClr val="33cccc"/>
                </a:solidFill>
                <a:latin typeface="华文新魏"/>
                <a:ea typeface="华文新魏"/>
              </a:rPr>
              <a:t>;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cccc"/>
                </a:solidFill>
                <a:latin typeface="华文新魏"/>
                <a:ea typeface="华文新魏"/>
              </a:rPr>
              <a:t>变换自己的思想</a:t>
            </a:r>
            <a:r>
              <a:rPr b="1" lang="zh-CN" sz="5000" spc="-1" strike="noStrike">
                <a:solidFill>
                  <a:srgbClr val="33cccc"/>
                </a:solidFill>
                <a:latin typeface="华文新魏"/>
                <a:ea typeface="华文新魏"/>
              </a:rPr>
              <a:t>;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cccc"/>
                </a:solidFill>
                <a:latin typeface="华文新魏"/>
                <a:ea typeface="华文新魏"/>
              </a:rPr>
              <a:t>换一个角度去思考问题</a:t>
            </a:r>
            <a:r>
              <a:rPr b="1" lang="zh-CN" sz="5000" spc="-1" strike="noStrike">
                <a:solidFill>
                  <a:srgbClr val="33cccc"/>
                </a:solidFill>
                <a:latin typeface="华文新魏"/>
                <a:ea typeface="华文新魏"/>
              </a:rPr>
              <a:t>;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cccc"/>
                </a:solidFill>
                <a:latin typeface="Tahoma"/>
                <a:ea typeface="华文新魏"/>
              </a:rPr>
              <a:t>做情绪的主人，能屈能伸！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好心情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14436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好心情是人生中最好的伴侣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好心情是自制的一剂良药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好心情会让阴雨连绵的日子出现阳光；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好心情会让枯萎的花朵开放；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好心情会让没有希望也燃烧起一簇希望的火苗来；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好心情会让你骤然绽放一种新的面容，像是点燃一根爆竹的捻儿，能响起你意想不到的声音，怒放出你意想不到的花朵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Times New Roman"/>
              </a:rPr>
              <a:t>别不相信，好心情，有时能创造奇迹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3000"/>
                                        <p:tgtEl>
                                          <p:spTgt spid="2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3000"/>
                                        <p:tgtEl>
                                          <p:spTgt spid="2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3000"/>
                                        <p:tgtEl>
                                          <p:spTgt spid="2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900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3000"/>
                                        <p:tgtEl>
                                          <p:spTgt spid="2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3000"/>
                                        <p:tgtEl>
                                          <p:spTgt spid="2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3000"/>
                                        <p:tgtEl>
                                          <p:spTgt spid="2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3000"/>
                                        <p:tgtEl>
                                          <p:spTgt spid="2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好心情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179280" y="188892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就像虎豹为了抗寒需要一身漂亮而结实的毛皮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就像树木为了结出果实需要一树茂盛而芬芳的花叶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就像鸟儿为了飞翔需要一副拍天的翅膀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就像船儿为了航行需要一桅赴汤蹈火的风帆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好心情可以伴你飞翔、帮你航行，鼓气你的勇气、树起你的自信，去结出属于你生命的果实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让好心情伴我们一生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3000"/>
                                        <p:tgtEl>
                                          <p:spTgt spid="2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3000"/>
                                        <p:tgtEl>
                                          <p:spTgt spid="2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3000"/>
                                        <p:tgtEl>
                                          <p:spTgt spid="2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0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3000"/>
                                        <p:tgtEl>
                                          <p:spTgt spid="2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3000"/>
                                        <p:tgtEl>
                                          <p:spTgt spid="2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3000"/>
                                        <p:tgtEl>
                                          <p:spTgt spid="2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0000"/>
                </a:solidFill>
                <a:latin typeface="Arial"/>
                <a:ea typeface="华文彩云"/>
              </a:rPr>
              <a:t>喜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1116000" y="-100080"/>
            <a:ext cx="7272360" cy="6308640"/>
          </a:xfrm>
          <a:prstGeom prst="irregularSeal2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77141"/>
                </a:solidFill>
                <a:latin typeface="Tahoma"/>
                <a:ea typeface="楷体_GB2312"/>
              </a:rPr>
              <a:t>怒</a:t>
            </a:r>
            <a:endParaRPr b="0" lang="en-US" sz="1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2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"/>
          <p:cNvSpPr/>
          <p:nvPr/>
        </p:nvSpPr>
        <p:spPr>
          <a:xfrm>
            <a:off x="1187280" y="1628640"/>
            <a:ext cx="6624720" cy="3600720"/>
          </a:xfrm>
          <a:prstGeom prst="cloudCallout">
            <a:avLst>
              <a:gd name="adj1" fmla="val -27379"/>
              <a:gd name="adj2" fmla="val 6397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3366"/>
                </a:solidFill>
                <a:latin typeface="Tahoma"/>
                <a:ea typeface="楷体_GB2312"/>
              </a:rPr>
              <a:t>哀</a:t>
            </a:r>
            <a:endParaRPr b="0" lang="en-US" sz="1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1692360" y="1628640"/>
            <a:ext cx="6624720" cy="3384720"/>
          </a:xfrm>
          <a:prstGeom prst="lightningBol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5000" spc="-1" strike="noStrike">
                <a:solidFill>
                  <a:srgbClr val="ffffff"/>
                </a:solidFill>
                <a:latin typeface="Tahoma"/>
                <a:ea typeface="楷体_GB2312"/>
              </a:rPr>
              <a:t>恐</a:t>
            </a:r>
            <a:endParaRPr b="0" lang="en-US" sz="1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8" name=""/>
          <p:cNvSpPr/>
          <p:nvPr/>
        </p:nvSpPr>
        <p:spPr>
          <a:xfrm rot="2116200">
            <a:off x="1476000" y="2997360"/>
            <a:ext cx="3743280" cy="2232000"/>
          </a:xfrm>
          <a:prstGeom prst="lightningBolt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">
    <p:comb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50" fill="hold"/>
                                        <p:tgtEl>
                                          <p:spTgt spid="2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"/>
          <p:cNvSpPr/>
          <p:nvPr/>
        </p:nvSpPr>
        <p:spPr>
          <a:xfrm>
            <a:off x="1619280" y="1700280"/>
            <a:ext cx="4537080" cy="3457440"/>
          </a:xfrm>
          <a:custGeom>
            <a:avLst/>
            <a:gdLst>
              <a:gd name="textAreaLeft" fmla="*/ 1066320 w 4537080"/>
              <a:gd name="textAreaRight" fmla="*/ 3467880 w 4537080"/>
              <a:gd name="textAreaTop" fmla="*/ 406440 h 3457440"/>
              <a:gd name="textAreaBottom" fmla="*/ 2168640 h 345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d47d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7d47d"/>
                </a:solidFill>
                <a:latin typeface="Arial"/>
                <a:ea typeface="方正舒体"/>
              </a:rPr>
              <a:t>爱</a:t>
            </a:r>
            <a:endParaRPr b="0" lang="en-US" sz="1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2000">
    <p:strips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2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/>
          <p:nvPr/>
        </p:nvSpPr>
        <p:spPr>
          <a:xfrm>
            <a:off x="2195640" y="1413000"/>
            <a:ext cx="4392360" cy="3744720"/>
          </a:xfrm>
          <a:custGeom>
            <a:avLst/>
            <a:gdLst>
              <a:gd name="textAreaLeft" fmla="*/ 1002600 w 4392360"/>
              <a:gd name="textAreaRight" fmla="*/ 3389760 w 4392360"/>
              <a:gd name="textAreaTop" fmla="*/ 854640 h 3744720"/>
              <a:gd name="textAreaBottom" fmla="*/ 2890080 h 37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9c9c9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ffff"/>
                </a:solidFill>
                <a:latin typeface="Arial"/>
                <a:ea typeface="华文新魏"/>
              </a:rPr>
              <a:t>  </a:t>
            </a: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华文新魏"/>
              </a:rPr>
              <a:t>恶</a:t>
            </a:r>
            <a:endParaRPr b="0" lang="en-US" sz="1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1" dur="2000" fill="hold"/>
                                        <p:tgtEl>
                                          <p:spTgt spid="2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"/>
          <p:cNvSpPr/>
          <p:nvPr/>
        </p:nvSpPr>
        <p:spPr>
          <a:xfrm>
            <a:off x="3780000" y="2276640"/>
            <a:ext cx="2376360" cy="4032000"/>
          </a:xfrm>
          <a:prstGeom prst="upArrowCallout">
            <a:avLst>
              <a:gd name="adj1" fmla="val 25002"/>
              <a:gd name="adj2" fmla="val 25000"/>
              <a:gd name="adj3" fmla="val 28279"/>
              <a:gd name="adj4" fmla="val 6666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806400" y="419256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cc3300"/>
                </a:solidFill>
                <a:latin typeface="Tahoma"/>
                <a:ea typeface="华文新魏"/>
              </a:rPr>
              <a:t>欲</a:t>
            </a:r>
            <a:endParaRPr b="0" lang="en-US" sz="1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8" name=""/>
          <p:cNvSpPr/>
          <p:nvPr/>
        </p:nvSpPr>
        <p:spPr>
          <a:xfrm>
            <a:off x="1332000" y="2133720"/>
            <a:ext cx="2592360" cy="2303280"/>
          </a:xfrm>
          <a:prstGeom prst="sun">
            <a:avLst>
              <a:gd name="adj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7" dur="2000" fill="hold"/>
                                        <p:tgtEl>
                                          <p:spTgt spid="2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00254 L 0.25 -0.33549 E">
                                      <p:cBhvr>
                                        <p:cTn id="49" dur="2000" fill="hold"/>
                                        <p:tgtEl>
                                          <p:spTgt spid="2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心理 健康 第一课</cp:keywords>
  <dc:language>en-US</dc:language>
  <cp:lastModifiedBy/>
  <cp:revision>0</cp:revision>
  <dc:subject/>
  <dc:title/>
</cp:coreProperties>
</file>