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807-92D2-40C4-9A0E-1D05945A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894-F324-4716-A585-33F01DB1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A0D-1159-40BD-BD71-81DB91B8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97D-1D3A-4150-8946-092885B1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7C5-75B4-4B0B-A7A6-087F3EDE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DEE-A3DD-4D67-BDEB-62327833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D31-157A-45B7-9D6D-C1C623A0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456-1518-4BD5-9178-FFA9169D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C2C-90FD-40C8-885E-5F9B82BB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A74-8B57-4DC8-A3BA-3E6DCEA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A13-261D-42E7-AC61-BAF12D69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B5E-37AD-41FA-9C88-4510224C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ABC0-38D8-49FE-9D99-F1FE7624C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1295280"/>
            <a:ext cx="541008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学  生  课  题  开  题   报  告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791320" y="2819520"/>
          <a:ext cx="33526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819520"/>
                    <a:ext cx="33526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5880" y="533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67200" y="3770280"/>
            <a:ext cx="325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楷体_GB2312"/>
              </a:rPr>
              <a:t>高一（</a:t>
            </a:r>
            <a:r>
              <a:rPr b="1" lang="en-US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楷体_GB2312"/>
              </a:rPr>
              <a:t>3</a:t>
            </a:r>
            <a:r>
              <a:rPr b="1" lang="zh-CN" sz="24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楷体_GB2312"/>
              </a:rPr>
              <a:t>）班课题组</a:t>
            </a:r>
            <a:endParaRPr b="1" lang="en-US" sz="24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楷体_GB2312"/>
              <a:ea typeface="楷体_GB2312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33520" y="6100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00E-DA35-4306-8E0B-C327FB898FDA}" type="slidenum">
              <a:t>1</a:t>
            </a:fld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10800" y="1674360"/>
            <a:ext cx="49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资料保存、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7960" y="2629080"/>
            <a:ext cx="10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网络、电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70360" y="3208320"/>
            <a:ext cx="15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财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45840" y="3787920"/>
            <a:ext cx="10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记录、数据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55240" y="4367160"/>
            <a:ext cx="10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考勤、统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6880" y="494676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论文撰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1587600" y="2168640"/>
            <a:ext cx="223560" cy="223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1587600" y="277812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-42000"/>
          </a:blip>
          <a:stretch/>
        </p:blipFill>
        <p:spPr>
          <a:xfrm>
            <a:off x="1587600" y="336060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>
            <a:lum bright="-42000"/>
          </a:blip>
          <a:stretch/>
        </p:blipFill>
        <p:spPr>
          <a:xfrm>
            <a:off x="1587600" y="393048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>
            <a:lum bright="-42000"/>
          </a:blip>
          <a:stretch/>
        </p:blipFill>
        <p:spPr>
          <a:xfrm>
            <a:off x="1587600" y="452592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>
            <a:lum bright="-42000"/>
          </a:blip>
          <a:stretch/>
        </p:blipFill>
        <p:spPr>
          <a:xfrm>
            <a:off x="1630440" y="5162400"/>
            <a:ext cx="223920" cy="2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6861240" y="4340160"/>
          <a:ext cx="2282760" cy="17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61240" y="4340160"/>
                    <a:ext cx="228276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 txBox="1"/>
          <p:nvPr/>
        </p:nvSpPr>
        <p:spPr>
          <a:xfrm>
            <a:off x="803160" y="492120"/>
            <a:ext cx="23432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活动计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3133800" y="12175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一、计划分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>
            <a:lum bright="-42000"/>
          </a:blip>
          <a:stretch/>
        </p:blipFill>
        <p:spPr>
          <a:xfrm>
            <a:off x="1647720" y="5753160"/>
            <a:ext cx="223920" cy="22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76440" y="5499000"/>
            <a:ext cx="454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</a:rPr>
              <a:t>XXX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：宣传、公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F42-DBBF-479E-8789-1382AE83F8BD}" type="slidenum">
              <a:t>10</a:t>
            </a:fld>
          </a:p>
        </p:txBody>
      </p:sp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03160" y="264960"/>
            <a:ext cx="23432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活动计划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36" name=""/>
          <p:cNvSpPr/>
          <p:nvPr/>
        </p:nvSpPr>
        <p:spPr>
          <a:xfrm>
            <a:off x="4379040" y="449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二、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03160" y="1384200"/>
          <a:ext cx="7615440" cy="5121360"/>
        </p:xfrm>
        <a:graphic>
          <a:graphicData uri="http://schemas.openxmlformats.org/drawingml/2006/table">
            <a:tbl>
              <a:tblPr/>
              <a:tblGrid>
                <a:gridCol w="1693800"/>
                <a:gridCol w="1571760"/>
                <a:gridCol w="1965240"/>
                <a:gridCol w="2384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阶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2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主要任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阶段目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准备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5-15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（本学期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前期调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确定课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准备开题报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资料收集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6-20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资料收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整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作好理论准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调查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-6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（下学期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实地调查访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获得更深入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资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整理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7-10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资料整理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信息处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对资料进行精简、统计、分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总结阶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第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1-15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小组讨论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成果汇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提出建议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完成结题报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778-1324-41BB-AD81-F1EDD98C0E4E}" type="slidenum">
              <a:t>11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14480" y="725400"/>
            <a:ext cx="234324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活动计划</a:t>
            </a:r>
            <a:endParaRPr b="1" lang="en-US" sz="2400" spc="1" strike="noStrike">
              <a:ln w="12600">
                <a:solidFill>
                  <a:srgbClr val="0033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67000"/>
            <a:ext cx="61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三、计划访问的专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4480" y="2208240"/>
            <a:ext cx="779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、本课题将在本校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地理老师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、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语文老师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数学老师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、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英语老师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的指导下进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7000" y="3394080"/>
            <a:ext cx="775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、在本课题进行过程中将采访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昆山市旅游局局长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、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XX</a:t>
            </a:r>
            <a:r>
              <a:rPr b="1" i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旅游股份有限公司负责人，报社、电台记者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等专家</a:t>
            </a:r>
            <a:r>
              <a:rPr b="1" i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领导，并以问卷形式采访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XX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当地居民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和</a:t>
            </a:r>
            <a:r>
              <a:rPr b="1" i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部分游客</a:t>
            </a:r>
            <a:r>
              <a:rPr b="1" i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8DB-6344-456E-A1C2-14EF582C479A}" type="slidenum">
              <a:t>12</a:t>
            </a:fld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14480" y="725400"/>
            <a:ext cx="234324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活动计划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3103200" y="1457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</a:rPr>
              <a:t>四、活动所需条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14480" y="2416320"/>
            <a:ext cx="73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、图书资料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XX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志》、《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XX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志》《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XX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日报》、《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XX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旅游资源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88920" y="3654360"/>
            <a:ext cx="21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、实验设备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校电子阅览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83480" y="6594480"/>
            <a:ext cx="403200" cy="201600"/>
          </a:xfrm>
          <a:custGeom>
            <a:avLst/>
            <a:gdLst>
              <a:gd name="textAreaLeft" fmla="*/ 50400 w 403200"/>
              <a:gd name="textAreaRight" fmla="*/ 352800 w 403200"/>
              <a:gd name="textAreaTop" fmla="*/ 50400 h 201600"/>
              <a:gd name="textAreaBottom" fmla="*/ 151200 h 201600"/>
            </a:gdLst>
            <a:ahLst/>
            <a:rect l="textAreaLeft" t="textAreaTop" r="textAreaRight" b="textAreaBottom"/>
            <a:pathLst>
              <a:path w="43161" h="21600">
                <a:moveTo>
                  <a:pt x="0" y="0"/>
                </a:moveTo>
                <a:lnTo>
                  <a:pt x="43161" y="0"/>
                </a:lnTo>
                <a:lnTo>
                  <a:pt x="43161" y="21600"/>
                </a:lnTo>
                <a:lnTo>
                  <a:pt x="0" y="21600"/>
                </a:lnTo>
                <a:close/>
              </a:path>
              <a:path fill="lightenLess" w="43161" h="21600">
                <a:moveTo>
                  <a:pt x="0" y="0"/>
                </a:moveTo>
                <a:lnTo>
                  <a:pt x="43161" y="0"/>
                </a:lnTo>
                <a:lnTo>
                  <a:pt x="37762" y="5400"/>
                </a:lnTo>
                <a:lnTo>
                  <a:pt x="5400" y="5400"/>
                </a:lnTo>
                <a:close/>
              </a:path>
              <a:path fill="darken" w="43161" h="21600">
                <a:moveTo>
                  <a:pt x="43161" y="0"/>
                </a:moveTo>
                <a:lnTo>
                  <a:pt x="43161" y="21600"/>
                </a:lnTo>
                <a:lnTo>
                  <a:pt x="37762" y="16200"/>
                </a:lnTo>
                <a:lnTo>
                  <a:pt x="37762" y="5400"/>
                </a:lnTo>
                <a:close/>
              </a:path>
              <a:path fill="darkenLess" w="43161" h="21600">
                <a:moveTo>
                  <a:pt x="43161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7762" y="16200"/>
                </a:lnTo>
                <a:close/>
              </a:path>
              <a:path fill="lighten" w="43161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2400" y="4473720"/>
            <a:ext cx="8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、交通工具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自行车、公交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8600" y="5267160"/>
            <a:ext cx="10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、其他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计算机、照相机、录音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720-9FCD-4160-869A-CE28BF383F72}" type="slidenum">
              <a:t>13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87400" y="873000"/>
            <a:ext cx="24145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预期成果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38360" y="1727280"/>
            <a:ext cx="694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结题报告、论文、建议信（</a:t>
            </a:r>
            <a:r>
              <a:rPr b="1" i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XX</a:t>
            </a:r>
            <a:r>
              <a:rPr b="1" i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旅游开发现状评价并对其今后发展提出建议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87400" y="3838680"/>
            <a:ext cx="22860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宋体"/>
              </a:rPr>
              <a:t>表达形式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/>
          <p:nvPr/>
        </p:nvSpPr>
        <p:spPr>
          <a:xfrm>
            <a:off x="4601880" y="462132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文字、图片、多媒体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837560" y="5322960"/>
            <a:ext cx="1082520" cy="1271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475000" y="230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8C3-AECB-46F0-9FBC-04FCD4F3B4C7}" type="slidenum">
              <a:t>14</a:t>
            </a:fld>
          </a:p>
        </p:txBody>
      </p:sp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98560" y="944640"/>
            <a:ext cx="466884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我们将尽我们所能为周庄古镇发展</a:t>
            </a:r>
            <a:endParaRPr b="0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贡献自己的力量！</a:t>
            </a:r>
            <a:endParaRPr b="0" lang="en-US" sz="2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09640" y="2689200"/>
            <a:ext cx="634212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希望各位老师多关心指导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0560" y="5205240"/>
            <a:ext cx="2475000" cy="1219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621480" y="334800"/>
            <a:ext cx="2109600" cy="121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426520" y="6405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56B-6812-437B-B73F-8E6B954267AC}" type="slidenum">
              <a:t>15</a:t>
            </a:fld>
          </a:p>
        </p:txBody>
      </p:sp>
    </p:spTree>
  </p:cSld>
  <p:transition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6840" y="8953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宋体"/>
              </a:rPr>
              <a:t>报告内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宋体"/>
              <a:ea typeface="宋体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54120" y="1625760"/>
            <a:ext cx="3870360" cy="647280"/>
            <a:chOff x="1554120" y="1625760"/>
            <a:chExt cx="3870360" cy="647280"/>
          </a:xfrm>
        </p:grpSpPr>
        <p:sp>
          <p:nvSpPr>
            <p:cNvPr id="50" name=""/>
            <p:cNvSpPr/>
            <p:nvPr/>
          </p:nvSpPr>
          <p:spPr>
            <a:xfrm>
              <a:off x="2249280" y="1625760"/>
              <a:ext cx="24800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一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课题组成员介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4120" y="2205000"/>
              <a:ext cx="387036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468440" y="2205000"/>
            <a:ext cx="3460680" cy="647280"/>
            <a:chOff x="1468440" y="2205000"/>
            <a:chExt cx="3460680" cy="647280"/>
          </a:xfrm>
        </p:grpSpPr>
        <p:sp>
          <p:nvSpPr>
            <p:cNvPr id="53" name=""/>
            <p:cNvSpPr/>
            <p:nvPr/>
          </p:nvSpPr>
          <p:spPr>
            <a:xfrm>
              <a:off x="2162160" y="2205000"/>
              <a:ext cx="20732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二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简要背景说明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68440" y="2784600"/>
              <a:ext cx="346068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468440" y="2916360"/>
            <a:ext cx="4651200" cy="647280"/>
            <a:chOff x="1468440" y="2916360"/>
            <a:chExt cx="4651200" cy="647280"/>
          </a:xfrm>
        </p:grpSpPr>
        <p:sp>
          <p:nvSpPr>
            <p:cNvPr id="56" name=""/>
            <p:cNvSpPr/>
            <p:nvPr/>
          </p:nvSpPr>
          <p:spPr>
            <a:xfrm>
              <a:off x="2371680" y="2916360"/>
              <a:ext cx="28047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三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课题研究目的与意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68440" y="3495600"/>
              <a:ext cx="465120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468440" y="3533760"/>
            <a:ext cx="2638440" cy="647280"/>
            <a:chOff x="1468440" y="3533760"/>
            <a:chExt cx="2638440" cy="647280"/>
          </a:xfrm>
        </p:grpSpPr>
        <p:sp>
          <p:nvSpPr>
            <p:cNvPr id="59" name=""/>
            <p:cNvSpPr/>
            <p:nvPr/>
          </p:nvSpPr>
          <p:spPr>
            <a:xfrm>
              <a:off x="1993320" y="3533760"/>
              <a:ext cx="15854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四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活动计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68440" y="4113360"/>
              <a:ext cx="263844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468440" y="4151160"/>
            <a:ext cx="2638440" cy="647280"/>
            <a:chOff x="1468440" y="4151160"/>
            <a:chExt cx="2638440" cy="647280"/>
          </a:xfrm>
        </p:grpSpPr>
        <p:sp>
          <p:nvSpPr>
            <p:cNvPr id="62" name=""/>
            <p:cNvSpPr/>
            <p:nvPr/>
          </p:nvSpPr>
          <p:spPr>
            <a:xfrm>
              <a:off x="1931400" y="4151160"/>
              <a:ext cx="15854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五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预期成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68440" y="4705200"/>
              <a:ext cx="263844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468440" y="4870440"/>
            <a:ext cx="2638440" cy="647280"/>
            <a:chOff x="1468440" y="4870440"/>
            <a:chExt cx="2638440" cy="647280"/>
          </a:xfrm>
        </p:grpSpPr>
        <p:sp>
          <p:nvSpPr>
            <p:cNvPr id="65" name=""/>
            <p:cNvSpPr/>
            <p:nvPr/>
          </p:nvSpPr>
          <p:spPr>
            <a:xfrm>
              <a:off x="1996560" y="4870440"/>
              <a:ext cx="15854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六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Times New Roman"/>
                </a:rPr>
                <a:t>、</a:t>
              </a:r>
              <a:r>
                <a:rPr b="1" lang="zh-CN" sz="3200" spc="-1" strike="noStrike">
                  <a:solidFill>
                    <a:srgbClr val="993300"/>
                  </a:solidFill>
                  <a:latin typeface="Times New Roman"/>
                </a:rPr>
                <a:t>英文概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8440" y="5450040"/>
              <a:ext cx="263844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05A-624B-4532-A3B4-0B43166C8F9F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03480" y="1933560"/>
            <a:ext cx="6313320" cy="468936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828800" y="2592360"/>
            <a:ext cx="6208560" cy="2887560"/>
            <a:chOff x="1828800" y="2592360"/>
            <a:chExt cx="6208560" cy="2887560"/>
          </a:xfrm>
        </p:grpSpPr>
        <p:sp>
          <p:nvSpPr>
            <p:cNvPr id="69" name=""/>
            <p:cNvSpPr/>
            <p:nvPr/>
          </p:nvSpPr>
          <p:spPr>
            <a:xfrm>
              <a:off x="2108160" y="259236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组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08160" y="3112920"/>
              <a:ext cx="464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别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08160" y="3683160"/>
              <a:ext cx="5929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格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开朗、 办事认真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作风严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4959360"/>
              <a:ext cx="51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爱好、特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足球 、音乐、   集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6FB-BB3F-4CF2-938D-B2E24232AF2F}" type="slidenum">
              <a:t>3</a:t>
            </a:fld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03480" y="1933560"/>
            <a:ext cx="6313320" cy="46893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1930320" y="2684520"/>
            <a:ext cx="5711760" cy="2547720"/>
            <a:chOff x="1930320" y="2684520"/>
            <a:chExt cx="5711760" cy="2547720"/>
          </a:xfrm>
        </p:grpSpPr>
        <p:sp>
          <p:nvSpPr>
            <p:cNvPr id="76" name=""/>
            <p:cNvSpPr/>
            <p:nvPr/>
          </p:nvSpPr>
          <p:spPr>
            <a:xfrm>
              <a:off x="2325600" y="268452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姓名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5600" y="3341520"/>
              <a:ext cx="441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别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25600" y="402444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格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开朗、 乐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30320" y="4711680"/>
              <a:ext cx="571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爱好、特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看书 、搞小发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5AC-A578-4D04-B475-85D2A4EB6352}" type="slidenum">
              <a:t>4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03480" y="1933560"/>
            <a:ext cx="6313320" cy="4689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10666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28920" y="2684520"/>
            <a:ext cx="4768920" cy="3218760"/>
            <a:chOff x="2428920" y="2684520"/>
            <a:chExt cx="4768920" cy="3218760"/>
          </a:xfrm>
        </p:grpSpPr>
        <p:sp>
          <p:nvSpPr>
            <p:cNvPr id="84" name=""/>
            <p:cNvSpPr/>
            <p:nvPr/>
          </p:nvSpPr>
          <p:spPr>
            <a:xfrm>
              <a:off x="2781360" y="268452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姓名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81360" y="338616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别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81360" y="411804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格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开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28920" y="4734000"/>
              <a:ext cx="47689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爱好、特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篮球、网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制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BCF-F4E2-4CD2-839F-8D2753CDE4EA}" type="slidenum">
              <a:t>5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03480" y="1933560"/>
            <a:ext cx="6313320" cy="46893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2514600" y="2819520"/>
            <a:ext cx="7010280" cy="2425320"/>
            <a:chOff x="2514600" y="2819520"/>
            <a:chExt cx="7010280" cy="2425320"/>
          </a:xfrm>
        </p:grpSpPr>
        <p:sp>
          <p:nvSpPr>
            <p:cNvPr id="91" name=""/>
            <p:cNvSpPr/>
            <p:nvPr/>
          </p:nvSpPr>
          <p:spPr>
            <a:xfrm>
              <a:off x="2514600" y="28195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姓名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14600" y="336564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别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4025880"/>
              <a:ext cx="58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性格：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开朗、自信、有毅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724280"/>
              <a:ext cx="701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爱好、特长：</a:t>
              </a:r>
              <a:r>
                <a:rPr b="1" lang="zh-CN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民族音乐、 漫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600200" y="63928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6FA-CB25-4609-B0E5-5CDABE813E96}" type="slidenum">
              <a:t>6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16120" y="2614680"/>
            <a:ext cx="2343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指导老师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16120" y="34876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特邀顾问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8809200" y="6575400"/>
            <a:ext cx="334800" cy="282600"/>
          </a:xfrm>
          <a:custGeom>
            <a:avLst/>
            <a:gdLst>
              <a:gd name="textAreaLeft" fmla="*/ 70560 w 334800"/>
              <a:gd name="textAreaRight" fmla="*/ 264240 w 33480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0185" y="5400"/>
                </a:lnTo>
                <a:lnTo>
                  <a:pt x="5400" y="5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0185" y="16200"/>
                </a:lnTo>
                <a:lnTo>
                  <a:pt x="20185" y="5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185" y="16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 rot="21496800">
            <a:off x="2108160" y="523800"/>
            <a:ext cx="40276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24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课题组成员介绍</a:t>
            </a:r>
            <a:endParaRPr b="0" lang="en-US" sz="2800" spc="1" strike="noStrike">
              <a:ln w="324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B63-15EA-45FE-968D-4D2D1E419EE3}" type="slidenum">
              <a:t>7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15800" y="496800"/>
            <a:ext cx="2827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背景简要说明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1407960"/>
            <a:ext cx="604224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乡古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因陈逸飞的油画《双桥》而闻名于世。随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国内外旅游市场 知名度的不断提 高，海内外游客纷至沓来。然而，旅游业为古镇带来经济效益的同时，也带来了负面影响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470640" y="1179360"/>
          <a:ext cx="260208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0640" y="1179360"/>
                    <a:ext cx="260208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271520" y="4649760"/>
            <a:ext cx="49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旅游旺季，大量游客涌来，人流过多而造成对古镇的破坏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71520" y="3029040"/>
            <a:ext cx="489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商业气息过浓，削减了古镇本身的韵味，更对古镇的建筑造成了严重破坏。而且在商旅结合的同时，忽视了文化品味的提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794800" y="6673680"/>
            <a:ext cx="349200" cy="184320"/>
          </a:xfrm>
          <a:custGeom>
            <a:avLst/>
            <a:gdLst>
              <a:gd name="textAreaLeft" fmla="*/ 46080 w 349200"/>
              <a:gd name="textAreaRight" fmla="*/ 303120 w 349200"/>
              <a:gd name="textAreaTop" fmla="*/ 46080 h 184320"/>
              <a:gd name="textAreaBottom" fmla="*/ 138240 h 184320"/>
            </a:gdLst>
            <a:ahLst/>
            <a:rect l="textAreaLeft" t="textAreaTop" r="textAreaRight" b="textAreaBottom"/>
            <a:pathLst>
              <a:path w="40884" h="21600">
                <a:moveTo>
                  <a:pt x="0" y="0"/>
                </a:moveTo>
                <a:lnTo>
                  <a:pt x="40884" y="0"/>
                </a:lnTo>
                <a:lnTo>
                  <a:pt x="40884" y="21600"/>
                </a:lnTo>
                <a:lnTo>
                  <a:pt x="0" y="21600"/>
                </a:lnTo>
                <a:close/>
              </a:path>
              <a:path fill="lightenLess" w="40884" h="21600">
                <a:moveTo>
                  <a:pt x="0" y="0"/>
                </a:moveTo>
                <a:lnTo>
                  <a:pt x="40884" y="0"/>
                </a:lnTo>
                <a:lnTo>
                  <a:pt x="35484" y="5400"/>
                </a:lnTo>
                <a:lnTo>
                  <a:pt x="5400" y="5400"/>
                </a:lnTo>
                <a:close/>
              </a:path>
              <a:path fill="darken" w="40884" h="21600">
                <a:moveTo>
                  <a:pt x="40884" y="0"/>
                </a:moveTo>
                <a:lnTo>
                  <a:pt x="40884" y="21600"/>
                </a:lnTo>
                <a:lnTo>
                  <a:pt x="35484" y="16200"/>
                </a:lnTo>
                <a:lnTo>
                  <a:pt x="35484" y="5400"/>
                </a:lnTo>
                <a:close/>
              </a:path>
              <a:path fill="darkenLess" w="40884" h="21600">
                <a:moveTo>
                  <a:pt x="4088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5484" y="16200"/>
                </a:lnTo>
                <a:close/>
              </a:path>
              <a:path fill="lighten" w="4088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57D-53E2-4E53-9664-8321B1B1B533}" type="slidenum">
              <a:t>8</a:t>
            </a:fld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702640" y="6566040"/>
            <a:ext cx="441360" cy="291960"/>
          </a:xfrm>
          <a:custGeom>
            <a:avLst/>
            <a:gdLst>
              <a:gd name="textAreaLeft" fmla="*/ 71280 w 441360"/>
              <a:gd name="textAreaRight" fmla="*/ 370080 w 441360"/>
              <a:gd name="textAreaTop" fmla="*/ 71280 h 291960"/>
              <a:gd name="textAreaBottom" fmla="*/ 220680 h 291960"/>
            </a:gdLst>
            <a:ahLst/>
            <a:rect l="textAreaLeft" t="textAreaTop" r="textAreaRight" b="textAreaBottom"/>
            <a:pathLst>
              <a:path w="32639" h="21600">
                <a:moveTo>
                  <a:pt x="0" y="0"/>
                </a:moveTo>
                <a:lnTo>
                  <a:pt x="32639" y="0"/>
                </a:lnTo>
                <a:lnTo>
                  <a:pt x="32639" y="21600"/>
                </a:lnTo>
                <a:lnTo>
                  <a:pt x="0" y="21600"/>
                </a:lnTo>
                <a:close/>
              </a:path>
              <a:path fill="lightenLess" w="32639" h="21600">
                <a:moveTo>
                  <a:pt x="0" y="0"/>
                </a:moveTo>
                <a:lnTo>
                  <a:pt x="32639" y="0"/>
                </a:lnTo>
                <a:lnTo>
                  <a:pt x="27357" y="5283"/>
                </a:lnTo>
                <a:lnTo>
                  <a:pt x="5283" y="5283"/>
                </a:lnTo>
                <a:close/>
              </a:path>
              <a:path fill="darken" w="32639" h="21600">
                <a:moveTo>
                  <a:pt x="32639" y="0"/>
                </a:moveTo>
                <a:lnTo>
                  <a:pt x="32639" y="21600"/>
                </a:lnTo>
                <a:lnTo>
                  <a:pt x="27357" y="16317"/>
                </a:lnTo>
                <a:lnTo>
                  <a:pt x="27357" y="5283"/>
                </a:lnTo>
                <a:close/>
              </a:path>
              <a:path fill="darkenLess" w="32639" h="21600">
                <a:moveTo>
                  <a:pt x="32639" y="21600"/>
                </a:moveTo>
                <a:lnTo>
                  <a:pt x="0" y="21600"/>
                </a:lnTo>
                <a:lnTo>
                  <a:pt x="5283" y="16317"/>
                </a:lnTo>
                <a:lnTo>
                  <a:pt x="27357" y="16317"/>
                </a:lnTo>
                <a:close/>
              </a:path>
              <a:path fill="lighten" w="32639" h="21600">
                <a:moveTo>
                  <a:pt x="0" y="21600"/>
                </a:moveTo>
                <a:lnTo>
                  <a:pt x="0" y="0"/>
                </a:lnTo>
                <a:lnTo>
                  <a:pt x="5283" y="5283"/>
                </a:lnTo>
                <a:lnTo>
                  <a:pt x="5283" y="1631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9760" y="4888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课题的目的与意义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1098720" y="1192320"/>
            <a:ext cx="72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、了解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XX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旅游资源的开发情况及其取得 的成绩和开发过程中存在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50760" y="2386080"/>
            <a:ext cx="7229520" cy="1648080"/>
            <a:chOff x="950760" y="2386080"/>
            <a:chExt cx="7229520" cy="1648080"/>
          </a:xfrm>
        </p:grpSpPr>
        <p:sp>
          <p:nvSpPr>
            <p:cNvPr id="112" name=""/>
            <p:cNvSpPr/>
            <p:nvPr/>
          </p:nvSpPr>
          <p:spPr>
            <a:xfrm>
              <a:off x="950760" y="2386080"/>
              <a:ext cx="722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99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、通过对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XX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旅游资源的调查，充分挖掘潜力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, 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就开发新的旅游项目提出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82040" y="3452760"/>
              <a:ext cx="13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设性建议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077840" y="4108320"/>
            <a:ext cx="7376760" cy="1619280"/>
            <a:chOff x="1077840" y="4108320"/>
            <a:chExt cx="7376760" cy="1619280"/>
          </a:xfrm>
        </p:grpSpPr>
        <p:sp>
          <p:nvSpPr>
            <p:cNvPr id="115" name=""/>
            <p:cNvSpPr/>
            <p:nvPr/>
          </p:nvSpPr>
          <p:spPr>
            <a:xfrm>
              <a:off x="1077840" y="4108320"/>
              <a:ext cx="73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、锻炼社会活动能力，培养团结合作精神，关心社会，学会运用书本知识解决实际问题，提高自身 综合素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93800" y="5148360"/>
              <a:ext cx="184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46E-15B7-42F0-A9DB-A82F3CF27F5C}" type="slidenum">
              <a:t>9</a:t>
            </a:fld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课题 报告</cp:keywords>
  <dc:language>en-US</dc:language>
  <cp:lastModifiedBy/>
  <cp:revision>0</cp:revision>
  <dc:subject/>
  <dc:title/>
</cp:coreProperties>
</file>