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gif" ContentType="image/gif"/>
  <Override PartName="/ppt/media/image17.png" ContentType="image/png"/>
  <Override PartName="/ppt/media/image24.gif" ContentType="image/gif"/>
  <Override PartName="/ppt/media/type.wav" ContentType="audio/x-wav"/>
  <Override PartName="/ppt/media/image15.png" ContentType="image/png"/>
  <Override PartName="/ppt/media/image22.gif" ContentType="image/gif"/>
  <Override PartName="/ppt/media/drumroll.wav" ContentType="audio/x-wav"/>
  <Override PartName="/ppt/media/image27.png" ContentType="image/png"/>
  <Override PartName="/ppt/media/cashreg.wav" ContentType="audio/x-wav"/>
  <Override PartName="/ppt/media/image13.png" ContentType="image/png"/>
  <Override PartName="/ppt/media/image20.gif" ContentType="image/gif"/>
  <Override PartName="/ppt/media/image19.png" ContentType="image/png"/>
  <Override PartName="/ppt/media/image16.gif" ContentType="image/gif"/>
  <Override PartName="/ppt/media/driveby.wav" ContentType="audio/x-wav"/>
  <Override PartName="/ppt/media/image8.gif" ContentType="image/gif"/>
  <Override PartName="/ppt/media/image3.png" ContentType="image/png"/>
  <Override PartName="/ppt/media/image26.png" ContentType="image/png"/>
  <Override PartName="/ppt/media/image4.png" ContentType="image/png"/>
  <Override PartName="/ppt/media/glass.wav" ContentType="audio/x-wav"/>
  <Override PartName="/ppt/media/image10.png" ContentType="image/png"/>
  <Override PartName="/ppt/media/image25.png" ContentType="image/png"/>
  <Override PartName="/ppt/media/image2.gif" ContentType="image/gif"/>
  <Override PartName="/ppt/media/applause.wav" ContentType="audio/x-wav"/>
  <Override PartName="/ppt/media/image5.png" ContentType="image/png"/>
  <Override PartName="/ppt/media/explode.wav" ContentType="audio/x-wav"/>
  <Override PartName="/ppt/media/laser.wav" ContentType="audio/x-wav"/>
  <Override PartName="/ppt/media/image9.gif" ContentType="image/gif"/>
  <Override PartName="/ppt/media/camera.wav" ContentType="audio/x-wav"/>
  <Override PartName="/ppt/media/projctor.wav" ContentType="audio/x-wav"/>
  <Override PartName="/ppt/media/image23.png" ContentType="image/png"/>
  <Override PartName="/ppt/media/ricochet.wav" ContentType="audio/x-wav"/>
  <Override PartName="/ppt/media/chimes.wav" ContentType="audio/x-wav"/>
  <Override PartName="/ppt/media/image6.gif" ContentType="image/gif"/>
  <Override PartName="/ppt/media/image7.gif" ContentType="image/gif"/>
  <Override PartName="/ppt/media/carbrake.wav" ContentType="audio/x-wav"/>
  <Override PartName="/ppt/media/image1.png" ContentType="image/png"/>
  <Override PartName="/ppt/media/image11.gif" ContentType="image/gif"/>
  <Override PartName="/ppt/media/image21.gif" ContentType="image/gif"/>
  <Override PartName="/ppt/media/image14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04A-27F6-4F8F-8467-EF1A213F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949-54C2-4FE5-8C52-050BBFDF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392-CBAA-48ED-B278-6C80F687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C1B-FB43-4401-B6ED-798D3112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FCE-4D1D-4D05-9335-5C4D0E2E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3C2-F059-4A4A-B19B-D0D2DBE6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FBA-BE5D-429E-AC80-5419B46A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42A-4598-4B1C-A805-74E6509A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F59-D5B8-4BE4-8F18-359C5F51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B54-A02C-42DF-9F87-C3A9A81B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0AE-E03A-48AD-BDC8-198C1CE4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A44-9647-4154-9B0E-5D83586C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A26A-9CB4-4F6F-8374-3393CA9C859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applause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audio" Target="../media/applaus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drumroll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drumroll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explod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drumroll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drumroll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audio" Target="../media/cashreg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cc0000"/>
                </a:solidFill>
                <a:latin typeface="Times New Roman"/>
                <a:ea typeface="超研澤疊圓體"/>
              </a:rPr>
              <a:t>休</a:t>
            </a:r>
            <a:r>
              <a:rPr b="0" lang="zh-CN" sz="8000" spc="-1" strike="noStrike">
                <a:solidFill>
                  <a:srgbClr val="cc0000"/>
                </a:solidFill>
                <a:latin typeface="Times New Roman"/>
                <a:ea typeface="超研澤疊圓體"/>
              </a:rPr>
              <a:t>闲</a:t>
            </a:r>
            <a:r>
              <a:rPr b="0" lang="zh-TW" sz="8000" spc="-1" strike="noStrike">
                <a:solidFill>
                  <a:srgbClr val="cc0000"/>
                </a:solidFill>
                <a:latin typeface="Times New Roman"/>
                <a:ea typeface="超研澤疊圓體"/>
              </a:rPr>
              <a:t>的定</a:t>
            </a:r>
            <a:r>
              <a:rPr b="0" lang="zh-CN" sz="8000" spc="-1" strike="noStrike">
                <a:solidFill>
                  <a:srgbClr val="cc0000"/>
                </a:solidFill>
                <a:latin typeface="Times New Roman"/>
                <a:ea typeface="超研澤疊圓體"/>
              </a:rPr>
              <a:t>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什</a:t>
            </a:r>
            <a:r>
              <a:rPr b="0" lang="zh-CN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么</a:t>
            </a:r>
            <a:r>
              <a:rPr b="0" lang="zh-TW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是休</a:t>
            </a:r>
            <a:r>
              <a:rPr b="0" lang="zh-CN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休</a:t>
            </a:r>
            <a:r>
              <a:rPr b="0" lang="zh-CN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么</a:t>
            </a:r>
            <a:r>
              <a:rPr b="0" lang="zh-TW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的演</a:t>
            </a:r>
            <a:r>
              <a:rPr b="0" lang="zh-CN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914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33cc33"/>
                </a:solidFill>
                <a:latin typeface="Times New Roman"/>
                <a:ea typeface="金梅浪漫原體字"/>
              </a:rPr>
              <a:t>休閒之旅遊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  <a:ea typeface="富漢通中疊圓"/>
              </a:rPr>
              <a:t>依旅行方式來區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  <a:ea typeface="富漢通中疊圓"/>
              </a:rPr>
              <a:t>依區域來區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00ff"/>
                </a:solidFill>
                <a:latin typeface="Times New Roman"/>
                <a:ea typeface="全真古印體"/>
              </a:rPr>
              <a:t>依旅行方式來區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cc00"/>
                </a:solidFill>
                <a:latin typeface="Times New Roman"/>
                <a:ea typeface="超研澤海報體"/>
              </a:rPr>
              <a:t>自助旅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cc00"/>
                </a:solidFill>
                <a:latin typeface="Times New Roman"/>
                <a:ea typeface="超研澤海報體"/>
              </a:rPr>
              <a:t>旅行團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0000"/>
                </a:solidFill>
                <a:latin typeface="Times New Roman"/>
                <a:ea typeface="超研澤超明"/>
              </a:rPr>
              <a:t>依區域來區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超研澤勘亭流"/>
              </a:rPr>
              <a:t>國內旅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超研澤勘亭流"/>
              </a:rPr>
              <a:t>國外旅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超研澤勘亭流"/>
              </a:rPr>
              <a:t>太空旅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9900"/>
                </a:solidFill>
                <a:latin typeface="Times New Roman"/>
                <a:ea typeface="華康POP1體"/>
              </a:rPr>
              <a:t>太空旅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8080"/>
                </a:solidFill>
                <a:latin typeface="Times New Roman"/>
                <a:ea typeface="華康流隸體(P)"/>
              </a:rPr>
              <a:t>太空上的生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8080"/>
                </a:solidFill>
                <a:latin typeface="Times New Roman"/>
                <a:ea typeface="華康流隸體(P)"/>
              </a:rPr>
              <a:t>空氣與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8080"/>
                </a:solidFill>
                <a:latin typeface="Times New Roman"/>
                <a:ea typeface="華康流隸體(P)"/>
              </a:rPr>
              <a:t>飲食和睡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8080"/>
                </a:solidFill>
                <a:latin typeface="Times New Roman"/>
                <a:ea typeface="華康流隸體(P)"/>
              </a:rPr>
              <a:t>太空艙外的活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7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dddddd"/>
                </a:solidFill>
                <a:latin typeface="Times New Roman"/>
                <a:ea typeface="超研澤超黑"/>
              </a:rPr>
              <a:t>未來可能的太空旅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1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34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cc99"/>
                </a:solidFill>
                <a:latin typeface="Times New Roman"/>
                <a:ea typeface="全真綜藝體"/>
              </a:rPr>
              <a:t>太空方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34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cc99"/>
                </a:solidFill>
                <a:latin typeface="Times New Roman"/>
                <a:ea typeface="全真綜藝體"/>
              </a:rPr>
              <a:t>太空冬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34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cc99"/>
                </a:solidFill>
                <a:latin typeface="Times New Roman"/>
                <a:ea typeface="全真綜藝體"/>
              </a:rPr>
              <a:t>太空播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6600cc"/>
                </a:solidFill>
                <a:latin typeface="Times New Roman"/>
                <a:ea typeface="華康POP1體"/>
              </a:rPr>
              <a:t>休閒之電影與電視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7239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00"/>
                </a:solidFill>
                <a:latin typeface="Times New Roman"/>
                <a:ea typeface="金梅浪漫原體字"/>
              </a:rPr>
              <a:t>網路電視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66cc"/>
                </a:solidFill>
                <a:latin typeface="Times New Roman"/>
                <a:ea typeface="全真細圓體"/>
              </a:rPr>
              <a:t>   </a:t>
            </a:r>
            <a:r>
              <a:rPr b="0" lang="zh-TW" sz="3600" spc="-1" strike="noStrike">
                <a:solidFill>
                  <a:srgbClr val="ff66cc"/>
                </a:solidFill>
                <a:latin typeface="全真古印體"/>
                <a:ea typeface="全真古印體"/>
              </a:rPr>
              <a:t>三十年前還沒有有線電視，二十年前沒有錄放影機，五年前還沒有全球資訊網 ，現在全球已有一半已上已鋪設了有線電攬，不難想像在不久的未來全球將鋪設滿光纖線，屆時的電視將會是一個結合網路的電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0" spc="-1" strike="noStrike">
                <a:solidFill>
                  <a:srgbClr val="00ccff"/>
                </a:solidFill>
                <a:latin typeface="Times New Roman"/>
                <a:ea typeface="金梅浪漫原體字"/>
              </a:rPr>
              <a:t>新聞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00cc"/>
                </a:solidFill>
                <a:latin typeface="Times New Roman"/>
                <a:ea typeface="全真古印體"/>
              </a:rPr>
              <a:t>因為一打開電視即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00cc"/>
                </a:solidFill>
                <a:latin typeface="Times New Roman"/>
                <a:ea typeface="全真古印體"/>
              </a:rPr>
              <a:t>世界搭上線，因此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00cc"/>
                </a:solidFill>
                <a:latin typeface="Times New Roman"/>
                <a:ea typeface="全真古印體"/>
              </a:rPr>
              <a:t>聞即成為更人性化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00cc"/>
                </a:solidFill>
                <a:latin typeface="Times New Roman"/>
                <a:ea typeface="全真古印體"/>
              </a:rPr>
              <a:t>元的選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網路電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娛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75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75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75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75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金梅浪漫原體字"/>
                <a:ea typeface="金梅浪漫原體字"/>
              </a:rPr>
              <a:t>e</a:t>
            </a:r>
            <a:r>
              <a:rPr b="0" lang="zh-TW" sz="6000" spc="-1" strike="noStrike">
                <a:solidFill>
                  <a:srgbClr val="000000"/>
                </a:solidFill>
                <a:latin typeface="金梅浪漫原體字"/>
                <a:ea typeface="金梅浪漫原體字"/>
              </a:rPr>
              <a:t>世代休閒分為四大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富漢通粗角流"/>
              </a:rPr>
              <a:t>購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富漢通粗角流"/>
              </a:rPr>
              <a:t>音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富漢通粗角流"/>
              </a:rPr>
              <a:t>旅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富漢通粗角流"/>
              </a:rPr>
              <a:t>電影和電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33920" y="4267080"/>
            <a:ext cx="5410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6600cc"/>
                </a:solidFill>
                <a:latin typeface="Times New Roman"/>
                <a:ea typeface="超研澤ＰＯＰ－２"/>
              </a:rPr>
              <a:t>休閒之網路購物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8763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全真特圓體"/>
              </a:rPr>
              <a:t>會員管理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全真特圓體"/>
              </a:rPr>
              <a:t>商店建立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全真特圓體"/>
              </a:rPr>
              <a:t>商品瀏覽訂購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全真特圓體"/>
              </a:rPr>
              <a:t>商品管理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全真特圓體"/>
              </a:rPr>
              <a:t>供應商管理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全真特圓體"/>
              </a:rPr>
              <a:t>進出貨管理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Times New Roman"/>
                <a:ea typeface="金梅浪漫原體字"/>
              </a:rPr>
              <a:t>統計分析系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Times New Roman"/>
                <a:ea typeface="金梅浪漫原體字"/>
              </a:rPr>
              <a:t>訂單查詢系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Times New Roman"/>
                <a:ea typeface="金梅浪漫原體字"/>
              </a:rPr>
              <a:t>訂單管理系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Times New Roman"/>
                <a:ea typeface="金梅浪漫原體字"/>
              </a:rPr>
              <a:t>安全付款系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Times New Roman"/>
                <a:ea typeface="金梅浪漫原體字"/>
              </a:rPr>
              <a:t>電子賀卡系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Times New Roman"/>
                <a:ea typeface="金梅浪漫原體字"/>
              </a:rPr>
              <a:t>客戶服務系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9933"/>
                </a:solidFill>
                <a:latin typeface="Times New Roman"/>
              </a:rPr>
              <a:t>休閒之音樂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76920" y="4282920"/>
            <a:ext cx="4267080" cy="2575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babbe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66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6600ff"/>
                </a:solidFill>
                <a:latin typeface="新細明體"/>
              </a:rPr>
              <a:t>樂團的盛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66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6600ff"/>
                </a:solidFill>
                <a:latin typeface="新細明體"/>
              </a:rPr>
              <a:t>MP3</a:t>
            </a:r>
            <a:r>
              <a:rPr b="1" lang="zh-TW" sz="6000" spc="-1" strike="noStrike">
                <a:solidFill>
                  <a:srgbClr val="6600ff"/>
                </a:solidFill>
                <a:latin typeface="新細明體"/>
              </a:rPr>
              <a:t>的流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66ff"/>
                </a:solidFill>
                <a:latin typeface="Times New Roman"/>
              </a:rPr>
              <a:t>樂團興起的原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cc"/>
                </a:solidFill>
                <a:latin typeface="新細明體"/>
              </a:rPr>
              <a:t>e</a:t>
            </a:r>
            <a:r>
              <a:rPr b="1" lang="zh-TW" sz="5400" spc="-1" strike="noStrike">
                <a:solidFill>
                  <a:srgbClr val="3333cc"/>
                </a:solidFill>
                <a:latin typeface="新細明體"/>
              </a:rPr>
              <a:t>世代人尋求刺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cc"/>
                </a:solidFill>
                <a:latin typeface="新細明體"/>
              </a:rPr>
              <a:t>e</a:t>
            </a:r>
            <a:r>
              <a:rPr b="1" lang="zh-TW" sz="5400" spc="-1" strike="noStrike">
                <a:solidFill>
                  <a:srgbClr val="3333cc"/>
                </a:solidFill>
                <a:latin typeface="新細明體"/>
              </a:rPr>
              <a:t>世代人的發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563868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213372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553080" y="4857840"/>
            <a:ext cx="25909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0000"/>
                </a:solidFill>
                <a:latin typeface="富漢通粗角流"/>
                <a:ea typeface="富漢通粗角流"/>
              </a:rPr>
              <a:t>MP3</a:t>
            </a:r>
            <a:r>
              <a:rPr b="0" lang="zh-TW" sz="8000" spc="-1" strike="noStrike">
                <a:solidFill>
                  <a:srgbClr val="000000"/>
                </a:solidFill>
                <a:latin typeface="富漢通粗角流"/>
                <a:ea typeface="富漢通粗角流"/>
              </a:rPr>
              <a:t>流行的原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流隸體(P)"/>
              </a:rPr>
              <a:t>唱片價格太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流隸體(P)"/>
              </a:rPr>
              <a:t>歌手品質降低，音樂商業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流隸體(P)"/>
              </a:rPr>
              <a:t>網路的方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38480" cy="1959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276720" y="5372280"/>
            <a:ext cx="541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6600ff"/>
                </a:solidFill>
                <a:latin typeface="Times New Roman"/>
              </a:rPr>
              <a:t>好東西與你分享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EZPEER:MP3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搜尋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KURO:MP3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搜尋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WINAMP:MP3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播放軟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MUSICMATCH JUKEBOX: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播放軟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REALPLAYER: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播放軟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休闲 定义</cp:keywords>
  <dc:language>en-US</dc:language>
  <cp:lastModifiedBy/>
  <cp:revision>0</cp:revision>
  <dc:subject/>
  <dc:title/>
</cp:coreProperties>
</file>