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8EF4-54F4-4D35-97C6-8B1D0039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4C6B-2A81-436F-8A93-4F2F1758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06D-ADC3-4302-82C2-8A166B50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916-36E6-4889-86F9-F2907E52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9203-7FB9-4A6C-B457-53E64666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B41E-261A-4834-854F-5243C1A0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C2ED-7F5D-415E-A8A4-93C555DE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44A8-24EA-4638-8E75-0956005B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1EC5-2692-4D39-9A51-E7F0F793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1FF6-56EB-43E6-90EA-B4574176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F16F-2364-4ACC-80CF-40BE386C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D8B0-9767-42C7-A303-5819C235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2A1B-09F4-41DF-94CB-6B3373E1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623D-3BA0-468D-9061-11FD903C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393F-6531-4C25-AFC1-53D73D31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D308-51B4-4430-AD48-0B98C4E8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5C82-61F6-43D4-A37C-F300370C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43F0-3915-4799-A0E0-BD2A754F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4F06-DE60-481A-80AC-1FAE48FE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88D5-E811-4F69-A512-6C795549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AE89-F210-4229-A860-C75579FB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A859-9E21-4517-95C8-0B0FB1E6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141A-AC8F-4890-9632-A4890419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945D-22D1-45C4-9452-6441CE34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8F76-4AAF-4E6B-8DDB-1C427EC40AA3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041F-20ED-4C72-A217-7F60C08764C4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二、 美国“</a:t>
            </a:r>
            <a:r>
              <a:rPr b="0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XX”</a:t>
            </a:r>
            <a:br>
              <a:rPr sz="18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、高技术工业特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844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、刺激“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XX”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崛起的主要因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844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地理位置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844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气候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844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科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84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交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84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市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844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、 “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XX”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在世界电子工业中的地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844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、 “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XX”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企业的扩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762120" y="1828800"/>
            <a:ext cx="1752480" cy="2438280"/>
            <a:chOff x="762120" y="1828800"/>
            <a:chExt cx="1752480" cy="2438280"/>
          </a:xfrm>
        </p:grpSpPr>
        <p:sp>
          <p:nvSpPr>
            <p:cNvPr id="223" name=""/>
            <p:cNvSpPr/>
            <p:nvPr/>
          </p:nvSpPr>
          <p:spPr>
            <a:xfrm>
              <a:off x="762120" y="1828800"/>
              <a:ext cx="1295280" cy="1905120"/>
            </a:xfrm>
            <a:prstGeom prst="rect">
              <a:avLst/>
            </a:prstGeom>
            <a:solidFill>
              <a:srgbClr val="e2e71b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大批廉价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劳动力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57400" y="3733920"/>
              <a:ext cx="457200" cy="5331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362320" y="685800"/>
            <a:ext cx="1295280" cy="3048120"/>
            <a:chOff x="2362320" y="685800"/>
            <a:chExt cx="1295280" cy="3048120"/>
          </a:xfrm>
        </p:grpSpPr>
        <p:sp>
          <p:nvSpPr>
            <p:cNvPr id="226" name=""/>
            <p:cNvSpPr/>
            <p:nvPr/>
          </p:nvSpPr>
          <p:spPr>
            <a:xfrm>
              <a:off x="2362320" y="685800"/>
              <a:ext cx="1295280" cy="2362320"/>
            </a:xfrm>
            <a:prstGeom prst="rect">
              <a:avLst/>
            </a:prstGeom>
            <a:solidFill>
              <a:srgbClr val="e2e71b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20</a:t>
              </a: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世纪</a:t>
              </a: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70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年代原料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和能源大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幅度涨价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24080" y="3048120"/>
              <a:ext cx="304920" cy="6858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886200" y="685800"/>
            <a:ext cx="1295280" cy="2971800"/>
            <a:chOff x="3886200" y="685800"/>
            <a:chExt cx="1295280" cy="2971800"/>
          </a:xfrm>
        </p:grpSpPr>
        <p:sp>
          <p:nvSpPr>
            <p:cNvPr id="229" name=""/>
            <p:cNvSpPr/>
            <p:nvPr/>
          </p:nvSpPr>
          <p:spPr>
            <a:xfrm>
              <a:off x="3886200" y="685800"/>
              <a:ext cx="1295280" cy="2362320"/>
            </a:xfrm>
            <a:prstGeom prst="rect">
              <a:avLst/>
            </a:prstGeom>
            <a:solidFill>
              <a:srgbClr val="e2e71b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发达的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银行信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贷体系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0" y="3048120"/>
              <a:ext cx="0" cy="60948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410080" y="685800"/>
            <a:ext cx="1295640" cy="3048120"/>
            <a:chOff x="5410080" y="685800"/>
            <a:chExt cx="1295640" cy="3048120"/>
          </a:xfrm>
        </p:grpSpPr>
        <p:sp>
          <p:nvSpPr>
            <p:cNvPr id="232" name=""/>
            <p:cNvSpPr/>
            <p:nvPr/>
          </p:nvSpPr>
          <p:spPr>
            <a:xfrm>
              <a:off x="5410080" y="685800"/>
              <a:ext cx="1295640" cy="2362320"/>
            </a:xfrm>
            <a:prstGeom prst="rect">
              <a:avLst/>
            </a:prstGeom>
            <a:solidFill>
              <a:srgbClr val="e2e71b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XX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经济高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度开放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638320" y="3048120"/>
              <a:ext cx="381240" cy="6858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553080" y="1905120"/>
            <a:ext cx="1752840" cy="2209680"/>
            <a:chOff x="6553080" y="1905120"/>
            <a:chExt cx="1752840" cy="2209680"/>
          </a:xfrm>
        </p:grpSpPr>
        <p:sp>
          <p:nvSpPr>
            <p:cNvPr id="235" name=""/>
            <p:cNvSpPr/>
            <p:nvPr/>
          </p:nvSpPr>
          <p:spPr>
            <a:xfrm>
              <a:off x="7010280" y="1905120"/>
              <a:ext cx="1295640" cy="1904760"/>
            </a:xfrm>
            <a:prstGeom prst="rect">
              <a:avLst/>
            </a:prstGeom>
            <a:solidFill>
              <a:srgbClr val="e2e71b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政府的大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ahoma"/>
                </a:rPr>
                <a:t>力支持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6553080" y="3809880"/>
              <a:ext cx="457200" cy="30492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14600" y="3581280"/>
            <a:ext cx="4191120" cy="1752840"/>
          </a:xfrm>
          <a:prstGeom prst="ellipse">
            <a:avLst/>
          </a:prstGeom>
          <a:solidFill>
            <a:srgbClr val="bdffee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ahoma"/>
              </a:rPr>
              <a:t>中小企业的发展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3360" y="551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隶书"/>
              </a:rPr>
              <a:t>XX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隶书"/>
              </a:rPr>
              <a:t>新兴工业区发展的主要条件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610480" y="6477120"/>
            <a:ext cx="533520" cy="372960"/>
          </a:xfrm>
          <a:custGeom>
            <a:avLst/>
            <a:gdLst>
              <a:gd name="textAreaLeft" fmla="*/ 24120 w 533520"/>
              <a:gd name="textAreaRight" fmla="*/ 509400 w 533520"/>
              <a:gd name="textAreaTop" fmla="*/ 24120 h 372960"/>
              <a:gd name="textAreaBottom" fmla="*/ 348840 h 372960"/>
            </a:gdLst>
            <a:ahLst/>
            <a:rect l="textAreaLeft" t="textAreaTop" r="textAreaRight" b="textAreaBottom"/>
            <a:pathLst>
              <a:path w="30890" h="21600">
                <a:moveTo>
                  <a:pt x="0" y="0"/>
                </a:moveTo>
                <a:lnTo>
                  <a:pt x="30890" y="0"/>
                </a:lnTo>
                <a:lnTo>
                  <a:pt x="30890" y="21600"/>
                </a:lnTo>
                <a:lnTo>
                  <a:pt x="0" y="21600"/>
                </a:lnTo>
                <a:close/>
              </a:path>
              <a:path fill="lightenLess" w="30890" h="21600">
                <a:moveTo>
                  <a:pt x="0" y="0"/>
                </a:moveTo>
                <a:lnTo>
                  <a:pt x="30890" y="0"/>
                </a:lnTo>
                <a:lnTo>
                  <a:pt x="29490" y="1400"/>
                </a:lnTo>
                <a:lnTo>
                  <a:pt x="1400" y="1400"/>
                </a:lnTo>
                <a:close/>
              </a:path>
              <a:path fill="darken" w="30890" h="21600">
                <a:moveTo>
                  <a:pt x="30890" y="0"/>
                </a:moveTo>
                <a:lnTo>
                  <a:pt x="30890" y="21600"/>
                </a:lnTo>
                <a:lnTo>
                  <a:pt x="29490" y="20200"/>
                </a:lnTo>
                <a:lnTo>
                  <a:pt x="29490" y="1400"/>
                </a:lnTo>
                <a:close/>
              </a:path>
              <a:path fill="darkenLess" w="30890" h="21600">
                <a:moveTo>
                  <a:pt x="30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90" y="20200"/>
                </a:lnTo>
                <a:close/>
              </a:path>
              <a:path fill="lighten" w="30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90" h="21600">
                <a:moveTo>
                  <a:pt x="8438" y="7493"/>
                </a:moveTo>
                <a:lnTo>
                  <a:pt x="11946" y="7493"/>
                </a:lnTo>
                <a:lnTo>
                  <a:pt x="11946" y="12828"/>
                </a:lnTo>
                <a:cubicBezTo>
                  <a:pt x="11946" y="13751"/>
                  <a:pt x="12747" y="14482"/>
                  <a:pt x="13783" y="14482"/>
                </a:cubicBezTo>
                <a:lnTo>
                  <a:pt x="15445" y="14482"/>
                </a:lnTo>
                <a:cubicBezTo>
                  <a:pt x="16481" y="14482"/>
                  <a:pt x="17281" y="13751"/>
                  <a:pt x="17281" y="12828"/>
                </a:cubicBezTo>
                <a:lnTo>
                  <a:pt x="17281" y="7493"/>
                </a:lnTo>
                <a:lnTo>
                  <a:pt x="15445" y="7493"/>
                </a:lnTo>
                <a:lnTo>
                  <a:pt x="18953" y="3985"/>
                </a:lnTo>
                <a:lnTo>
                  <a:pt x="22625" y="7493"/>
                </a:lnTo>
                <a:lnTo>
                  <a:pt x="20789" y="7493"/>
                </a:lnTo>
                <a:lnTo>
                  <a:pt x="20789" y="12828"/>
                </a:lnTo>
                <a:cubicBezTo>
                  <a:pt x="20789" y="15596"/>
                  <a:pt x="18213" y="18155"/>
                  <a:pt x="15445" y="18155"/>
                </a:cubicBezTo>
                <a:lnTo>
                  <a:pt x="13783" y="18155"/>
                </a:lnTo>
                <a:cubicBezTo>
                  <a:pt x="11015" y="18155"/>
                  <a:pt x="8438" y="15596"/>
                  <a:pt x="8438" y="12828"/>
                </a:cubicBezTo>
                <a:close/>
              </a:path>
            </a:pathLst>
          </a:custGeom>
          <a:solidFill>
            <a:srgbClr val="ebf7ff"/>
          </a:solidFill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dc5900"/>
            </a:solidFill>
            <a:miter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42920" y="5949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隶书"/>
              </a:rPr>
              <a:t>XX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隶书"/>
              </a:rPr>
              <a:t>的生产—销售—服务—信息网络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818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ebf7ff"/>
          </a:solidFill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234144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隶书"/>
              </a:rPr>
              <a:t>一、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43080" y="981000"/>
            <a:ext cx="82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、概念</a:t>
            </a:r>
            <a:r>
              <a:rPr b="0" lang="zh-CN" sz="1800" spc="-1" strike="noStrike">
                <a:solidFill>
                  <a:srgbClr val="007a77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1989000"/>
            <a:ext cx="576360" cy="1656000"/>
          </a:xfrm>
          <a:custGeom>
            <a:avLst/>
            <a:gdLst>
              <a:gd name="textAreaLeft" fmla="*/ 368280 w 576360"/>
              <a:gd name="textAreaRight" fmla="*/ 576720 w 576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6440" y="166068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(1)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时间新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242100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Garamond"/>
                <a:ea typeface="隶书"/>
              </a:rPr>
              <a:t>特点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6440" y="259704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(2)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地区新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0080" y="3460680"/>
            <a:ext cx="22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(3)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企业规模小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04000" y="1628640"/>
            <a:ext cx="45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20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世纪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50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年代后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第三次技术革命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00360" y="256536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没有传统工业基础的乡村地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17800" y="3429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以中小型为主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479736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XX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东北部和中部地区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德国南部地区，美国“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XX”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，日本“硅岛”（九州岛），英国苏格兰地区等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4160" y="407664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、世界上主要的新兴工业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46836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二、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XX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新兴工业区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23280" y="126828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、分布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0400" y="190188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、发展条件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13760" y="3141720"/>
            <a:ext cx="20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生产规模</a:t>
            </a:r>
            <a:r>
              <a:rPr b="1" i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31040" y="3716280"/>
            <a:ext cx="20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工业部门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23280" y="249228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、特点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97440" y="3141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以中</a:t>
            </a:r>
            <a:r>
              <a:rPr b="1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小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企业为主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25440" y="371628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以</a:t>
            </a:r>
            <a:r>
              <a:rPr b="1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轻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工业为主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13760" y="4365720"/>
            <a:ext cx="20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生产过程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19640" y="436572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大多是分</a:t>
            </a:r>
            <a:r>
              <a:rPr b="1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散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的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或实行家庭包工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57760" y="5013360"/>
            <a:ext cx="24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资本集中程度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98120" y="501336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低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中小企业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82360" y="5661000"/>
            <a:ext cx="21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工业分布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19640" y="566100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大多分</a:t>
            </a:r>
            <a:r>
              <a:rPr b="1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散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在小城镇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甚至农村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成为“分散型工业化”地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324000" y="1628640"/>
            <a:ext cx="8381520" cy="4800240"/>
            <a:chOff x="324000" y="1628640"/>
            <a:chExt cx="8381520" cy="4800240"/>
          </a:xfrm>
        </p:grpSpPr>
        <p:grpSp>
          <p:nvGrpSpPr>
            <p:cNvPr id="109" name=""/>
            <p:cNvGrpSpPr/>
            <p:nvPr/>
          </p:nvGrpSpPr>
          <p:grpSpPr>
            <a:xfrm>
              <a:off x="331560" y="1633680"/>
              <a:ext cx="8364960" cy="4788720"/>
              <a:chOff x="331560" y="1633680"/>
              <a:chExt cx="8364960" cy="478872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331560" y="1633680"/>
                <a:ext cx="2787840" cy="1054440"/>
                <a:chOff x="331560" y="1633680"/>
                <a:chExt cx="2787840" cy="10544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43520" y="1633680"/>
                  <a:ext cx="2563920" cy="105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0000"/>
                      </a:solidFill>
                      <a:latin typeface="Times New Roman"/>
                      <a:ea typeface="隶书"/>
                    </a:rPr>
                    <a:t>比较项目</a:t>
                  </a:r>
                  <a:endParaRPr b="0" lang="en-US" sz="32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31560" y="1633680"/>
                  <a:ext cx="2787840" cy="105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3119760" y="1633680"/>
                <a:ext cx="2788560" cy="1054440"/>
                <a:chOff x="3119760" y="1633680"/>
                <a:chExt cx="2788560" cy="10544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3231720" y="1633680"/>
                  <a:ext cx="2563920" cy="105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0000"/>
                      </a:solidFill>
                      <a:latin typeface="Times New Roman"/>
                      <a:ea typeface="隶书"/>
                    </a:rPr>
                    <a:t>新兴工业区</a:t>
                  </a:r>
                  <a:endParaRPr b="0" lang="en-US" sz="32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119760" y="1633680"/>
                  <a:ext cx="2788560" cy="105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908680" y="1633680"/>
                <a:ext cx="2787840" cy="1054440"/>
                <a:chOff x="5908680" y="1633680"/>
                <a:chExt cx="2787840" cy="10544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6020280" y="1633680"/>
                  <a:ext cx="2564280" cy="105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0000"/>
                      </a:solidFill>
                      <a:latin typeface="Times New Roman"/>
                      <a:ea typeface="隶书"/>
                    </a:rPr>
                    <a:t>传统工业区</a:t>
                  </a:r>
                  <a:endParaRPr b="0" lang="en-US" sz="32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908680" y="1633680"/>
                  <a:ext cx="2787840" cy="105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31560" y="2688480"/>
                <a:ext cx="2787840" cy="746280"/>
                <a:chOff x="331560" y="2688480"/>
                <a:chExt cx="2787840" cy="7462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443520" y="2688480"/>
                  <a:ext cx="256392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ff"/>
                      </a:solidFill>
                      <a:latin typeface="Times New Roman"/>
                      <a:ea typeface="隶书"/>
                    </a:rPr>
                    <a:t>生产规模</a:t>
                  </a: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31560" y="2688480"/>
                  <a:ext cx="278784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3119760" y="2688480"/>
                <a:ext cx="2788560" cy="746280"/>
                <a:chOff x="3119760" y="2688480"/>
                <a:chExt cx="2788560" cy="7462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3231720" y="2688480"/>
                  <a:ext cx="256392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990099"/>
                      </a:solidFill>
                      <a:latin typeface="Times New Roman"/>
                      <a:ea typeface="隶书"/>
                    </a:rPr>
                    <a:t>以中小型企业为主</a:t>
                  </a:r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119760" y="2688480"/>
                  <a:ext cx="278856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908680" y="2688480"/>
                <a:ext cx="2787840" cy="746280"/>
                <a:chOff x="5908680" y="2688480"/>
                <a:chExt cx="2787840" cy="7462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020280" y="2688480"/>
                  <a:ext cx="256428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3300"/>
                      </a:solidFill>
                      <a:latin typeface="Times New Roman"/>
                      <a:ea typeface="隶书"/>
                    </a:rPr>
                    <a:t>以大型企业为主</a:t>
                  </a:r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908680" y="2688480"/>
                  <a:ext cx="278784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31560" y="3435480"/>
                <a:ext cx="2787840" cy="746280"/>
                <a:chOff x="331560" y="3435480"/>
                <a:chExt cx="2787840" cy="746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43520" y="3435480"/>
                  <a:ext cx="256392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ff"/>
                      </a:solidFill>
                      <a:latin typeface="Times New Roman"/>
                      <a:ea typeface="隶书"/>
                    </a:rPr>
                    <a:t>主要工业部门</a:t>
                  </a: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31560" y="3435480"/>
                  <a:ext cx="278784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3119760" y="3435480"/>
                <a:ext cx="2788560" cy="746280"/>
                <a:chOff x="3119760" y="3435480"/>
                <a:chExt cx="2788560" cy="7462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231720" y="3435480"/>
                  <a:ext cx="256392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990099"/>
                      </a:solidFill>
                      <a:latin typeface="Times New Roman"/>
                      <a:ea typeface="隶书"/>
                    </a:rPr>
                    <a:t>轻工业</a:t>
                  </a: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119760" y="3435480"/>
                  <a:ext cx="278856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908680" y="3435480"/>
                <a:ext cx="2787840" cy="746280"/>
                <a:chOff x="5908680" y="3435480"/>
                <a:chExt cx="2787840" cy="7462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6020280" y="3435480"/>
                  <a:ext cx="256428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3300"/>
                      </a:solidFill>
                      <a:latin typeface="Times New Roman"/>
                      <a:ea typeface="隶书"/>
                    </a:rPr>
                    <a:t>重工业</a:t>
                  </a: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908680" y="3435480"/>
                  <a:ext cx="278784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331560" y="4182480"/>
                <a:ext cx="2787840" cy="746280"/>
                <a:chOff x="331560" y="4182480"/>
                <a:chExt cx="2787840" cy="7462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443520" y="4182480"/>
                  <a:ext cx="256392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ff"/>
                      </a:solidFill>
                      <a:latin typeface="Times New Roman"/>
                      <a:ea typeface="隶书"/>
                    </a:rPr>
                    <a:t>生产过程</a:t>
                  </a: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1560" y="4182480"/>
                  <a:ext cx="278784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3119760" y="4182480"/>
                <a:ext cx="2788560" cy="746280"/>
                <a:chOff x="3119760" y="4182480"/>
                <a:chExt cx="2788560" cy="7462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231720" y="4182480"/>
                  <a:ext cx="256392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990099"/>
                      </a:solidFill>
                      <a:latin typeface="Times New Roman"/>
                      <a:ea typeface="隶书"/>
                    </a:rPr>
                    <a:t>分散</a:t>
                  </a: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119760" y="4182480"/>
                  <a:ext cx="278856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908680" y="4182480"/>
                <a:ext cx="2787840" cy="746280"/>
                <a:chOff x="5908680" y="4182480"/>
                <a:chExt cx="2787840" cy="7462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020280" y="4182480"/>
                  <a:ext cx="256428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3300"/>
                      </a:solidFill>
                      <a:latin typeface="Times New Roman"/>
                      <a:ea typeface="隶书"/>
                    </a:rPr>
                    <a:t>集中</a:t>
                  </a: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908680" y="4182480"/>
                  <a:ext cx="278784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31560" y="4929120"/>
                <a:ext cx="2787840" cy="746280"/>
                <a:chOff x="331560" y="4929120"/>
                <a:chExt cx="2787840" cy="74628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443520" y="4929120"/>
                  <a:ext cx="256392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ff"/>
                      </a:solidFill>
                      <a:latin typeface="Times New Roman"/>
                      <a:ea typeface="隶书"/>
                    </a:rPr>
                    <a:t>资金集中程度</a:t>
                  </a: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31560" y="4929120"/>
                  <a:ext cx="278784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3119760" y="4929120"/>
                <a:ext cx="2788560" cy="746280"/>
                <a:chOff x="3119760" y="4929120"/>
                <a:chExt cx="2788560" cy="74628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3231720" y="4929120"/>
                  <a:ext cx="256392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990099"/>
                      </a:solidFill>
                      <a:latin typeface="Times New Roman"/>
                      <a:ea typeface="隶书"/>
                    </a:rPr>
                    <a:t>低</a:t>
                  </a: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119760" y="4929120"/>
                  <a:ext cx="278856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908680" y="4929120"/>
                <a:ext cx="2787840" cy="746280"/>
                <a:chOff x="5908680" y="4929120"/>
                <a:chExt cx="2787840" cy="7462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020280" y="4929120"/>
                  <a:ext cx="256428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3300"/>
                      </a:solidFill>
                      <a:latin typeface="Times New Roman"/>
                      <a:ea typeface="隶书"/>
                    </a:rPr>
                    <a:t>高</a:t>
                  </a: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908680" y="4929120"/>
                  <a:ext cx="278784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31560" y="5676120"/>
                <a:ext cx="2787840" cy="746280"/>
                <a:chOff x="331560" y="5676120"/>
                <a:chExt cx="2787840" cy="7462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443520" y="5676120"/>
                  <a:ext cx="256392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ff"/>
                      </a:solidFill>
                      <a:latin typeface="Times New Roman"/>
                      <a:ea typeface="隶书"/>
                    </a:rPr>
                    <a:t>工业分布</a:t>
                  </a: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31560" y="5676120"/>
                  <a:ext cx="278784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119760" y="5676120"/>
                <a:ext cx="2788560" cy="746280"/>
                <a:chOff x="3119760" y="5676120"/>
                <a:chExt cx="2788560" cy="7462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231720" y="5676120"/>
                  <a:ext cx="256392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990099"/>
                      </a:solidFill>
                      <a:latin typeface="Times New Roman"/>
                      <a:ea typeface="隶书"/>
                    </a:rPr>
                    <a:t>分散</a:t>
                  </a: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119760" y="5676120"/>
                  <a:ext cx="278856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5908680" y="5676120"/>
                <a:ext cx="2787840" cy="746280"/>
                <a:chOff x="5908680" y="5676120"/>
                <a:chExt cx="2787840" cy="7462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6020280" y="5676120"/>
                  <a:ext cx="256428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3300"/>
                      </a:solidFill>
                      <a:latin typeface="Times New Roman"/>
                      <a:ea typeface="隶书"/>
                    </a:rPr>
                    <a:t>集中</a:t>
                  </a: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908680" y="5676120"/>
                  <a:ext cx="278784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4" name=""/>
            <p:cNvSpPr/>
            <p:nvPr/>
          </p:nvSpPr>
          <p:spPr>
            <a:xfrm>
              <a:off x="324000" y="1628640"/>
              <a:ext cx="8381520" cy="48002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隶书"/>
              </a:rPr>
              <a:t>XX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隶书"/>
              </a:rPr>
              <a:t>新兴工业区与传统工业区比较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61272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、发展模式——工业小区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1268280"/>
            <a:ext cx="646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）工业小区的概念和意义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1916280"/>
            <a:ext cx="83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）普拉托的生产—销售—服务—信息网络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5680" y="2625840"/>
            <a:ext cx="321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三、 </a:t>
            </a: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XX</a:t>
            </a: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国“</a:t>
            </a: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XX”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98280" y="3595680"/>
            <a:ext cx="18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、高技术工业发展的背景、部门和特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45086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）发展背景和主要部门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32000" y="5229360"/>
            <a:ext cx="737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电子工业、半导体工业、核工业、航天工业、高分子合成工业、遗传工程、激光工业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219708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隶书"/>
                <a:ea typeface="隶书"/>
              </a:rPr>
              <a:t>）主要特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95280" y="1600200"/>
          <a:ext cx="8291520" cy="4924440"/>
        </p:xfrm>
        <a:graphic>
          <a:graphicData uri="http://schemas.openxmlformats.org/drawingml/2006/table">
            <a:tbl>
              <a:tblPr/>
              <a:tblGrid>
                <a:gridCol w="4248000"/>
                <a:gridCol w="2089440"/>
                <a:gridCol w="195408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  <a:ea typeface="隶书"/>
                        </a:rPr>
                        <a:t>高技术工业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  <a:ea typeface="隶书"/>
                        </a:rPr>
                        <a:t>传统工业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7a77"/>
                          </a:solidFill>
                          <a:latin typeface="Arial"/>
                          <a:ea typeface="隶书"/>
                        </a:rPr>
                        <a:t>科技人员比例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7a77"/>
                          </a:solidFill>
                          <a:latin typeface="Arial"/>
                          <a:ea typeface="隶书"/>
                        </a:rPr>
                        <a:t>产品增加值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7a77"/>
                          </a:solidFill>
                          <a:latin typeface="Arial"/>
                          <a:ea typeface="隶书"/>
                        </a:rPr>
                        <a:t>生产增长速度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7a77"/>
                          </a:solidFill>
                          <a:latin typeface="Arial"/>
                          <a:ea typeface="隶书"/>
                        </a:rPr>
                        <a:t>产品更新换代周期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7a77"/>
                          </a:solidFill>
                          <a:latin typeface="Arial"/>
                          <a:ea typeface="隶书"/>
                        </a:rPr>
                        <a:t>投入中的研究开发费用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5212080" y="2459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Garamond"/>
                <a:ea typeface="隶书"/>
              </a:rPr>
              <a:t>高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28440" y="24890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低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32960" y="3308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Garamond"/>
                <a:ea typeface="隶书"/>
              </a:rPr>
              <a:t>高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48960" y="3354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低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2960" y="4098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Garamond"/>
                <a:ea typeface="隶书"/>
              </a:rPr>
              <a:t>快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20600" y="421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慢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4240" y="49640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Garamond"/>
                <a:ea typeface="隶书"/>
              </a:rPr>
              <a:t>短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3320" y="5010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长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4240" y="5756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Garamond"/>
                <a:ea typeface="隶书"/>
              </a:rPr>
              <a:t>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50560" y="5802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少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91320" y="1301760"/>
            <a:ext cx="33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地理</a:t>
            </a:r>
            <a:r>
              <a:rPr b="0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位置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优越，环境优美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3440" y="194940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</a:t>
            </a:r>
            <a:r>
              <a:rPr b="0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气候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宜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9120" y="2597040"/>
            <a:ext cx="29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有高等院校（</a:t>
            </a:r>
            <a:r>
              <a:rPr b="0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科技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36000" y="3317760"/>
            <a:ext cx="20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便捷的</a:t>
            </a:r>
            <a:r>
              <a:rPr b="0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交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9480" y="403848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军事定货（</a:t>
            </a:r>
            <a:r>
              <a:rPr b="0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市场</a:t>
            </a:r>
            <a:r>
              <a:rPr b="0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dc5900"/>
                </a:solidFill>
                <a:uFillTx/>
                <a:latin typeface="隶书"/>
                <a:ea typeface="隶书"/>
              </a:rPr>
              <a:t>2</a:t>
            </a:r>
            <a:r>
              <a:rPr b="0" lang="zh-CN" sz="4000" spc="-1" strike="noStrike" u="sng">
                <a:solidFill>
                  <a:srgbClr val="dc5900"/>
                </a:solidFill>
                <a:uFillTx/>
                <a:latin typeface="隶书"/>
                <a:ea typeface="隶书"/>
              </a:rPr>
              <a:t>、刺激“</a:t>
            </a:r>
            <a:r>
              <a:rPr b="0" lang="zh-CN" sz="4000" spc="-1" strike="noStrike" u="sng">
                <a:solidFill>
                  <a:srgbClr val="dc5900"/>
                </a:solidFill>
                <a:uFillTx/>
                <a:latin typeface="隶书"/>
                <a:ea typeface="隶书"/>
              </a:rPr>
              <a:t>XX”</a:t>
            </a:r>
            <a:r>
              <a:rPr b="0" lang="zh-CN" sz="4000" spc="-1" strike="noStrike" u="sng">
                <a:solidFill>
                  <a:srgbClr val="dc5900"/>
                </a:solidFill>
                <a:uFillTx/>
                <a:latin typeface="隶书"/>
                <a:ea typeface="隶书"/>
              </a:rPr>
              <a:t>崛起的主要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01680" y="609120"/>
            <a:ext cx="854064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47480" y="1773360"/>
            <a:ext cx="44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、 “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XX”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企业的扩散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2924280"/>
            <a:ext cx="576000" cy="3384360"/>
          </a:xfrm>
          <a:prstGeom prst="flowChartAlternateProcess">
            <a:avLst/>
          </a:prstGeom>
          <a:solidFill>
            <a:srgbClr val="ebf7ff"/>
          </a:solidFill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Garamond"/>
                <a:ea typeface="隶书"/>
              </a:rPr>
              <a:t>XX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49200" y="2954160"/>
            <a:ext cx="576360" cy="3384720"/>
          </a:xfrm>
          <a:prstGeom prst="flowChartAlternateProcess">
            <a:avLst/>
          </a:prstGeom>
          <a:solidFill>
            <a:srgbClr val="ebf7ff"/>
          </a:solidFill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地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被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占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用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殆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尽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4653000"/>
            <a:ext cx="360360" cy="0"/>
          </a:xfrm>
          <a:prstGeom prst="line">
            <a:avLst/>
          </a:prstGeom>
          <a:ln w="255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5560" y="4683240"/>
            <a:ext cx="432000" cy="0"/>
          </a:xfrm>
          <a:prstGeom prst="line">
            <a:avLst/>
          </a:prstGeom>
          <a:ln w="255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68360" y="2997360"/>
            <a:ext cx="576360" cy="3384360"/>
          </a:xfrm>
          <a:prstGeom prst="flowChartAlternateProcess">
            <a:avLst/>
          </a:prstGeom>
          <a:solidFill>
            <a:srgbClr val="ebf7ff"/>
          </a:solidFill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扩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散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43280" y="4697280"/>
            <a:ext cx="431640" cy="0"/>
          </a:xfrm>
          <a:prstGeom prst="line">
            <a:avLst/>
          </a:prstGeom>
          <a:ln w="255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47960" y="3387600"/>
            <a:ext cx="431640" cy="0"/>
          </a:xfrm>
          <a:prstGeom prst="line">
            <a:avLst/>
          </a:prstGeom>
          <a:ln w="255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7960" y="5935680"/>
            <a:ext cx="431640" cy="0"/>
          </a:xfrm>
          <a:prstGeom prst="line">
            <a:avLst/>
          </a:prstGeom>
          <a:ln w="255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65560" y="3127320"/>
            <a:ext cx="1728720" cy="50328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Garamond"/>
              </a:rPr>
              <a:t>XX</a:t>
            </a:r>
            <a:r>
              <a:rPr b="1" lang="zh-CN" sz="2800" spc="-1" strike="noStrike">
                <a:solidFill>
                  <a:srgbClr val="007a77"/>
                </a:solidFill>
                <a:latin typeface="Garamond"/>
              </a:rPr>
              <a:t>国内地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59280" y="4437000"/>
            <a:ext cx="1800000" cy="50328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Garamond"/>
              </a:rPr>
              <a:t>YY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9600" y="5689440"/>
            <a:ext cx="1729080" cy="50328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Garamond"/>
              </a:rPr>
              <a:t>ZZ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89600" y="3386160"/>
            <a:ext cx="446040" cy="0"/>
          </a:xfrm>
          <a:prstGeom prst="line">
            <a:avLst/>
          </a:prstGeom>
          <a:ln w="255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92840" y="4695840"/>
            <a:ext cx="431640" cy="0"/>
          </a:xfrm>
          <a:prstGeom prst="line">
            <a:avLst/>
          </a:prstGeom>
          <a:ln w="255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03640" y="5950080"/>
            <a:ext cx="432000" cy="0"/>
          </a:xfrm>
          <a:prstGeom prst="line">
            <a:avLst/>
          </a:prstGeom>
          <a:ln w="255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35640" y="2997360"/>
            <a:ext cx="576360" cy="3384360"/>
          </a:xfrm>
          <a:prstGeom prst="flowChartAlternateProcess">
            <a:avLst/>
          </a:prstGeom>
          <a:solidFill>
            <a:srgbClr val="ebf7ff"/>
          </a:solidFill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位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优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Garamond"/>
                <a:ea typeface="隶书"/>
              </a:rPr>
              <a:t>势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12000" y="3357720"/>
            <a:ext cx="21564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97600" y="4695840"/>
            <a:ext cx="21600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2000" y="5950080"/>
            <a:ext cx="21564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29440" y="3068640"/>
            <a:ext cx="2663640" cy="576360"/>
          </a:xfrm>
          <a:prstGeom prst="flowChartAlternateProcess">
            <a:avLst/>
          </a:prstGeom>
          <a:solidFill>
            <a:srgbClr val="ebf7ff"/>
          </a:solidFill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Garamond"/>
              </a:rPr>
              <a:t>劳动力丰富廉价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29440" y="4408560"/>
            <a:ext cx="2663640" cy="576360"/>
          </a:xfrm>
          <a:prstGeom prst="flowChartAlternateProcess">
            <a:avLst/>
          </a:prstGeom>
          <a:solidFill>
            <a:srgbClr val="ebf7ff"/>
          </a:solidFill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Garamond"/>
              </a:rPr>
              <a:t>土地租金低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27640" y="5646600"/>
            <a:ext cx="2664000" cy="576360"/>
          </a:xfrm>
          <a:prstGeom prst="flowChartAlternateProcess">
            <a:avLst/>
          </a:prstGeom>
          <a:solidFill>
            <a:srgbClr val="ebf7ff"/>
          </a:solidFill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Garamond"/>
              </a:rPr>
              <a:t>住房租金低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、 “</a:t>
            </a: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XX”</a:t>
            </a: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在世界电子工业中的地位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24000" y="108000"/>
            <a:ext cx="1582560" cy="1008000"/>
          </a:xfrm>
          <a:prstGeom prst="ellipse">
            <a:avLst/>
          </a:prstGeom>
          <a:gradFill rotWithShape="0">
            <a:gsLst>
              <a:gs pos="0">
                <a:srgbClr val="dc5900"/>
              </a:gs>
              <a:gs pos="100000">
                <a:srgbClr val="652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7a77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32800" y="1295280"/>
            <a:ext cx="29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一、</a:t>
            </a:r>
            <a:r>
              <a:rPr b="0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XX</a:t>
            </a:r>
            <a:r>
              <a:rPr b="0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新兴工业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048480" y="-36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Garamond"/>
                <a:ea typeface="华文新魏"/>
              </a:rPr>
              <a:t>小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3360" y="20570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、分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、发展条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、特点：</a:t>
            </a:r>
            <a:r>
              <a:rPr b="1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小 、轻、散、低、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生产规模</a:t>
            </a:r>
            <a:r>
              <a:rPr b="1" i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工业部门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生产过程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资本集中程度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工业分布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、发展模式——工业小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普拉托的生产—销售—服务—信息网络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新兴 工业区</cp:keywords>
  <dc:language>en-US</dc:language>
  <cp:lastModifiedBy/>
  <cp:revision>0</cp:revision>
  <dc:subject/>
  <dc:title/>
</cp:coreProperties>
</file>