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03E-2044-4CC0-9CB9-4281DEC2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94B-0645-4444-8445-AB219137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31C-8F7D-4BA9-969F-FA1C8C20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72E-6E9F-48DE-B88D-DAA1B2D8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447-DE5D-427C-927E-74CEF50E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617-C14F-47FE-A85F-5528C115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97C-EFE3-4FEF-8D82-8FE9D392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AA9-624D-4B8C-850E-C0715660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AF9-F2D5-49D6-9098-E61F4AA4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E3D-E128-4DDD-B316-29130C6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931-12AD-4256-9389-13D41E78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18E-FC5E-4A15-BE97-54E04DD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6B1F-6002-42FA-AD75-B443C48631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048120"/>
            <a:ext cx="743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华文行楷"/>
                <a:ea typeface="华文行楷"/>
              </a:rPr>
              <a:t>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9120" y="1676520"/>
            <a:ext cx="27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66"/>
                </a:solidFill>
                <a:latin typeface="宋体"/>
              </a:rPr>
              <a:t>第 </a:t>
            </a:r>
            <a:r>
              <a:rPr b="1" lang="zh-CN" sz="7200" spc="-1" strike="noStrike">
                <a:solidFill>
                  <a:srgbClr val="000066"/>
                </a:solidFill>
                <a:latin typeface="宋体"/>
              </a:rPr>
              <a:t>4 </a:t>
            </a:r>
            <a:r>
              <a:rPr b="1" lang="zh-CN" sz="7200" spc="-1" strike="noStrike">
                <a:solidFill>
                  <a:srgbClr val="000066"/>
                </a:solidFill>
                <a:latin typeface="宋体"/>
              </a:rPr>
              <a:t>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7640" y="5230800"/>
            <a:ext cx="15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XX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25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25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1614600"/>
            <a:ext cx="460692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0" y="2647800"/>
            <a:ext cx="462924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33720" y="3914640"/>
            <a:ext cx="460692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305080" y="5210280"/>
            <a:ext cx="462924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56080" y="16146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的电脑”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26478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用“我的电脑”管理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39146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资源管理器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25780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退出放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781680" y="2362320"/>
            <a:ext cx="1371600" cy="125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762120" y="3505320"/>
            <a:ext cx="1371600" cy="1251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810480" y="487692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38080" y="1219320"/>
            <a:ext cx="1371600" cy="125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5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25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25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25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25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25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25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25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25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25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25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25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09680" y="1614600"/>
            <a:ext cx="460692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0" y="2647800"/>
            <a:ext cx="462924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133720" y="3914640"/>
            <a:ext cx="4606920" cy="60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305080" y="5210280"/>
            <a:ext cx="4629240" cy="609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56080" y="16146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的电脑”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4560" y="26478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用“我的电脑”管理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9146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资源管理器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525780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退出放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781680" y="2362320"/>
            <a:ext cx="1371600" cy="125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62120" y="3505320"/>
            <a:ext cx="1371600" cy="1251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6810480" y="487692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838080" y="1219320"/>
            <a:ext cx="1371600" cy="125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1214280"/>
            <a:ext cx="3810240" cy="459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 三 节 资源管理器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05120"/>
            <a:ext cx="800100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资源管理器是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Windows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系统中一个很重要的工具程序，用它可以方便地查看和管理计算机资源。可以查看信息在磁盘上的存储情况，可以完成文件、文件夹与磁盘的各种管理操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2520" y="3124080"/>
            <a:ext cx="170460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启动与退出资源管理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35560" y="312408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47920" y="4809960"/>
            <a:ext cx="204768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905120" y="5191200"/>
            <a:ext cx="1323720" cy="1266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373392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按键盘上的快捷键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WIN + E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26708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右击“我的电脑”图标，选择并单击资源管理器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84200" y="5791320"/>
            <a:ext cx="6096240" cy="28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00200" y="3962520"/>
            <a:ext cx="2305080" cy="2133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4280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156120" y="2743200"/>
            <a:ext cx="240948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384200" y="2832120"/>
            <a:ext cx="1790640" cy="3219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137160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右击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&lt;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开始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按钮，单击“资源管理器”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8108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单击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&lt;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开始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按钮，打开开始菜单，选定“程序（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选项，在出现的子菜单中，单击“资源管理器”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3880" y="17305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80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51000" y="1219320"/>
            <a:ext cx="140004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资源管理器的窗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5600" y="121932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728720"/>
            <a:ext cx="6096240" cy="1764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1219320"/>
            <a:ext cx="1219320" cy="380880"/>
          </a:xfrm>
          <a:prstGeom prst="wedgeRoundRectCallout">
            <a:avLst>
              <a:gd name="adj1" fmla="val -43518"/>
              <a:gd name="adj2" fmla="val 941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标题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1219320"/>
            <a:ext cx="175284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显示当前资源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928880"/>
            <a:ext cx="6096240" cy="1760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438280"/>
            <a:ext cx="1219320" cy="381240"/>
          </a:xfrm>
          <a:prstGeom prst="wedgeRoundRectCallout">
            <a:avLst>
              <a:gd name="adj1" fmla="val 102995"/>
              <a:gd name="adj2" fmla="val -156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菜单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971800"/>
            <a:ext cx="175248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通过单击菜单项，执行资源管理器所能完成的相应操作任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103480"/>
            <a:ext cx="6096240" cy="4111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2209680"/>
            <a:ext cx="1219320" cy="381240"/>
          </a:xfrm>
          <a:prstGeom prst="wedgeRoundRectCallout">
            <a:avLst>
              <a:gd name="adj1" fmla="val -127342"/>
              <a:gd name="adj2" fmla="val -16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666880"/>
            <a:ext cx="175284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通过单击工具按钮，执行资源管理器所能完成的相应操作任务。可以通过菜单栏操作来显示或隐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971800"/>
            <a:ext cx="3886200" cy="31240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3276720"/>
            <a:ext cx="1219320" cy="380880"/>
          </a:xfrm>
          <a:prstGeom prst="wedgeRoundRectCallout">
            <a:avLst>
              <a:gd name="adj1" fmla="val -127342"/>
              <a:gd name="adj2" fmla="val -16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右窗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733920"/>
            <a:ext cx="175284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显示当前打开的文件夹下包含的所有子文件夹和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505320"/>
            <a:ext cx="1371600" cy="380880"/>
          </a:xfrm>
          <a:prstGeom prst="wedgeRoundRectCallout">
            <a:avLst>
              <a:gd name="adj1" fmla="val 106481"/>
              <a:gd name="adj2" fmla="val -106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左窗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962520"/>
            <a:ext cx="175284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以树型结构显示本台计算机的资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971800"/>
            <a:ext cx="2057400" cy="31240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514600"/>
            <a:ext cx="5867640" cy="2286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657600"/>
            <a:ext cx="1828800" cy="380880"/>
          </a:xfrm>
          <a:prstGeom prst="wedgeRoundRectCallout">
            <a:avLst>
              <a:gd name="adj1" fmla="val 26300"/>
              <a:gd name="adj2" fmla="val -326250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地址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6124680"/>
            <a:ext cx="6096240" cy="1760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5562720"/>
            <a:ext cx="1219320" cy="380880"/>
          </a:xfrm>
          <a:prstGeom prst="wedgeRoundRectCallout">
            <a:avLst>
              <a:gd name="adj1" fmla="val -154949"/>
              <a:gd name="adj2" fmla="val 123333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状态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显示当前资源的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52520" y="1219320"/>
            <a:ext cx="170460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资源管理器的基本操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65600" y="121932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797120"/>
            <a:ext cx="182880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指定当前文件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362320"/>
            <a:ext cx="8001000" cy="6426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单击资源管理器左窗格中的某个资源图标，使它的名称以蓝底白字的方式显示，从而把它指定为当前资源。这时右窗格显示该资源里的内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200400"/>
            <a:ext cx="25909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展开和关闭层次结构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2384280" cy="3124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387680" y="3124080"/>
            <a:ext cx="22860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733920"/>
            <a:ext cx="2362320" cy="1676160"/>
          </a:xfrm>
          <a:prstGeom prst="wedgeRoundRectCallout">
            <a:avLst>
              <a:gd name="adj1" fmla="val 56787"/>
              <a:gd name="adj2" fmla="val -8191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显示加号，表示该文件夹里有子文件夹，其层次结构图尚未展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048200"/>
            <a:ext cx="22860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133720" cy="1676520"/>
          </a:xfrm>
          <a:prstGeom prst="wedgeRoundRectCallout">
            <a:avLst>
              <a:gd name="adj1" fmla="val -144495"/>
              <a:gd name="adj2" fmla="val 7101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显示减号，表示该文件夹里有子文件夹，其层次结构图已经展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86360"/>
            <a:ext cx="114300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5029200"/>
            <a:ext cx="2362320" cy="1143000"/>
          </a:xfrm>
          <a:prstGeom prst="wedgeRoundRectCallout">
            <a:avLst>
              <a:gd name="adj1" fmla="val -116462"/>
              <a:gd name="adj2" fmla="val 37361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没有加号或减号，表示该文件夹里没有子文件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551560"/>
            <a:ext cx="2590920" cy="6426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单击加号，可以展开层次结构图，单击减号，可以关闭层次结构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05160" y="1219320"/>
            <a:ext cx="216180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改变右窗格中的资源排列顺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92760" y="121932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276720"/>
            <a:ext cx="7848720" cy="642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打开“查看”菜单，移到“排列图标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命令上打开它的子菜单，单击其中的“按名称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N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、”按大小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、”按日期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D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“等命令，就可以按相应的方式排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43828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选择“详细资料”显示方式时，单击右窗格顶部的“名称”、“修改时间”、“大小”和“类型”按钮，可以让右窗格里显示的资源按相应的方式排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90512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右击鼠标，选择“排列图标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命令上打开它的子菜单，选择排序方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4394160"/>
            <a:ext cx="358164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用资源管理器管理磁盘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08600" y="439416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5170320"/>
            <a:ext cx="784872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与使用“我的电脑”窗口时的情况类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9000" y="5629320"/>
            <a:ext cx="1810080" cy="237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51000" y="1219320"/>
            <a:ext cx="140004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查找文件或文件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219320"/>
            <a:ext cx="83808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757520"/>
            <a:ext cx="784872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磁盘、光盘上保存的文件夹和文件夹非常多，利用资源管理器中的“查找”命令，可以快速找到所需的文件或文件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38080" y="563868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1809720" y="5857920"/>
            <a:ext cx="1590840" cy="399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8080" y="2590920"/>
            <a:ext cx="2057400" cy="17398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打开资源管理器窗口菜单栏里的“工具”菜单，选定其中的“查找（</a:t>
            </a:r>
            <a:r>
              <a:rPr b="1" lang="zh-CN" sz="1800" spc="-1" strike="noStrike" u="sng">
                <a:solidFill>
                  <a:srgbClr val="000066"/>
                </a:solidFill>
                <a:uFillTx/>
                <a:latin typeface="宋体"/>
              </a:rPr>
              <a:t>F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）”命令，打开它的子菜单，单击子菜单中的“文件或文件夹（</a:t>
            </a:r>
            <a:r>
              <a:rPr b="1" lang="zh-CN" sz="1800" spc="-1" strike="noStrike" u="sng">
                <a:solidFill>
                  <a:srgbClr val="000066"/>
                </a:solidFill>
                <a:uFillTx/>
                <a:latin typeface="宋体"/>
              </a:rPr>
              <a:t>F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）…”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就可以打开“查找”对话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886200" y="2600280"/>
            <a:ext cx="4210200" cy="3267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52880" y="3429000"/>
            <a:ext cx="198144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666880"/>
            <a:ext cx="2819520" cy="1295640"/>
          </a:xfrm>
          <a:prstGeom prst="wedgeRoundRectCallout">
            <a:avLst>
              <a:gd name="adj1" fmla="val 104333"/>
              <a:gd name="adj2" fmla="val 1764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输入所要查找的文件或文件夹的名称，其中＊代表任意个字符，？代表一个任意字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3676680"/>
            <a:ext cx="198144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343400"/>
            <a:ext cx="2819160" cy="685800"/>
          </a:xfrm>
          <a:prstGeom prst="wedgeRoundRectCallout">
            <a:avLst>
              <a:gd name="adj1" fmla="val 105912"/>
              <a:gd name="adj2" fmla="val -13472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输入所要查找的文件中所包含的文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905280"/>
            <a:ext cx="198144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3962520"/>
            <a:ext cx="1524240" cy="990360"/>
          </a:xfrm>
          <a:prstGeom prst="wedgeRoundRectCallout">
            <a:avLst>
              <a:gd name="adj1" fmla="val -117291"/>
              <a:gd name="adj2" fmla="val -41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搜索的范围，可以是盘符或文件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4191120"/>
            <a:ext cx="1219320" cy="2286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5334120"/>
            <a:ext cx="1828800" cy="990360"/>
          </a:xfrm>
          <a:prstGeom prst="wedgeRoundRectCallout">
            <a:avLst>
              <a:gd name="adj1" fmla="val 139759"/>
              <a:gd name="adj2" fmla="val -150481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选择搜索的范围，是否包含子文件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800600"/>
            <a:ext cx="4038480" cy="10666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5867280"/>
            <a:ext cx="2895480" cy="533520"/>
          </a:xfrm>
          <a:prstGeom prst="wedgeRoundRectCallout">
            <a:avLst>
              <a:gd name="adj1" fmla="val -36185"/>
              <a:gd name="adj2" fmla="val -18541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显示查找的结果和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信息 技术</cp:keywords>
  <dc:language>en-US</dc:language>
  <cp:lastModifiedBy/>
  <cp:revision>0</cp:revision>
  <dc:subject/>
  <dc:title/>
</cp:coreProperties>
</file>