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WHOOSH.WAV" ContentType="audio/x-wav"/>
  <Override PartName="/ppt/media/CARBRAKE.WAV" ContentType="audio/x-wav"/>
  <Override PartName="/ppt/media/image8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CHIMES.WAV" ContentType="audio/x-wav"/>
  <Override PartName="/ppt/media/image7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ECC2-739D-4190-9015-BB06E3453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619E-28C4-4A17-AA3E-45F72BE0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28F1-D0D7-4A6A-B7B4-1A932109C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C7FC-D646-4CF0-ADD7-5583063BF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32A9-47D1-46F1-8FAE-BCF18544B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FD984-F2EE-449D-9EA4-CF5AEBC5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5348-DF7D-45EF-BDF3-146E5CF8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B31D-EF67-4478-BDA6-DCD24430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3A4E0-E95E-46D4-BEDD-E8ADB881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6DAC-7776-4F77-A9FC-6DCF40A4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5401-2B44-47C6-AD1F-BE3AEB42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E386-530D-48DC-BEDA-E32680C5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397CD-6EF5-4DBC-8DC9-49702F19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4654-9A73-40AD-9C78-35B42A02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B2C3-34E0-4D41-B3CD-5A9A0021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5D08-02E2-47CC-8D0A-5855AAA8E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FDB1-F5BF-4879-B12B-E31FBCCBB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6A68-73C9-4053-B2E9-8E9CCE3F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DBFD-0E42-4E5F-A99A-25833276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334C-E4F0-4291-9F2D-AA0591FA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607E-3F95-42DF-AA28-01FEEE53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3863-D250-4BB7-B2A2-CCD44F88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9C0A-8A72-49D6-ABCE-550A9841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56EB-8DA8-4E9C-B02B-3CE689F8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EC7A-FDEC-4B57-B3D8-A57DAA213D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38E1-8971-4660-B3BE-D570FB0EBB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6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7.wmf"/><Relationship Id="rId8" Type="http://schemas.openxmlformats.org/officeDocument/2006/relationships/package" Target="../embeddings/oleObject4.docx"/><Relationship Id="rId9" Type="http://schemas.openxmlformats.org/officeDocument/2006/relationships/image" Target="../media/image7.wmf"/><Relationship Id="rId10" Type="http://schemas.openxmlformats.org/officeDocument/2006/relationships/package" Target="../embeddings/oleObject5.docx"/><Relationship Id="rId11" Type="http://schemas.openxmlformats.org/officeDocument/2006/relationships/image" Target="../media/image8.wmf"/><Relationship Id="rId1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0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0.wmf"/><Relationship Id="rId8" Type="http://schemas.openxmlformats.org/officeDocument/2006/relationships/package" Target="../embeddings/oleObject4.docx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第二章 运算器和运算方法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219320"/>
            <a:ext cx="8839080" cy="34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本章需解决的关键问题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如何以加法器为基础，实现各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运算处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解决思路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复杂运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71800" y="434340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396252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四则运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15000" y="434340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96252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加法运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5257800"/>
            <a:ext cx="883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876920"/>
            <a:ext cx="8839080" cy="18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解决方法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在加法器的基础上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增加移位传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功能，并选择输入控制条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0" y="228600"/>
            <a:ext cx="8839080" cy="29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SN7418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芯片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位片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ALU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为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组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一位逻辑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04920" y="5257800"/>
            <a:ext cx="883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981080" y="3733920"/>
            <a:ext cx="152640" cy="1371600"/>
          </a:xfrm>
          <a:custGeom>
            <a:avLst/>
            <a:gdLst>
              <a:gd name="textAreaLeft" fmla="*/ 97560 w 152640"/>
              <a:gd name="textAreaRight" fmla="*/ 153000 w 15264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438280" y="3429000"/>
            <a:ext cx="6172200" cy="20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位加法器（求和、进位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位选择器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对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个公共控制门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位共用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000"/>
                            </p:stCondLst>
                            <p:childTnLst>
                              <p:par>
                                <p:cTn id="7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1500"/>
                            </p:stCondLst>
                            <p:childTnLst>
                              <p:par>
                                <p:cTn id="7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"/>
          <p:cNvGrpSpPr/>
          <p:nvPr/>
        </p:nvGrpSpPr>
        <p:grpSpPr>
          <a:xfrm>
            <a:off x="685800" y="0"/>
            <a:ext cx="9448920" cy="6859800"/>
            <a:chOff x="685800" y="0"/>
            <a:chExt cx="9448920" cy="6859800"/>
          </a:xfrm>
        </p:grpSpPr>
        <p:sp>
          <p:nvSpPr>
            <p:cNvPr id="414" name=""/>
            <p:cNvSpPr/>
            <p:nvPr/>
          </p:nvSpPr>
          <p:spPr>
            <a:xfrm>
              <a:off x="2819520" y="2773440"/>
              <a:ext cx="1447560" cy="60948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5320" y="216360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200400" y="338292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886200" y="3382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18" name=""/>
            <p:cNvGraphicFramePr/>
            <p:nvPr/>
          </p:nvGraphicFramePr>
          <p:xfrm>
            <a:off x="3124080" y="2544840"/>
            <a:ext cx="1143000" cy="114300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41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124080" y="2544840"/>
                      <a:ext cx="11430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0" name=""/>
            <p:cNvSpPr/>
            <p:nvPr/>
          </p:nvSpPr>
          <p:spPr>
            <a:xfrm>
              <a:off x="762120" y="2316240"/>
              <a:ext cx="7543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62120" y="2468520"/>
              <a:ext cx="6705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981080" y="3535200"/>
              <a:ext cx="3505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495680" y="3992400"/>
              <a:ext cx="2057400" cy="83844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495680" y="4449600"/>
              <a:ext cx="205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257800" y="4221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86400" y="406872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105520" y="444960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791320" y="444960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410080" y="38401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486400" y="35352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952880" y="4830840"/>
              <a:ext cx="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257800" y="4830840"/>
              <a:ext cx="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38680" y="4830840"/>
              <a:ext cx="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172200" y="4830840"/>
              <a:ext cx="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48320" y="48308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3352680" y="57445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990720" y="411120"/>
              <a:ext cx="68580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Ci                        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85800" y="6278400"/>
              <a:ext cx="822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S3     S2          Bi           S1  S0  Ai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276720" y="63547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095880" y="63547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86200" y="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962520" y="763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238880" y="6278400"/>
              <a:ext cx="2895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M   Ci-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124080" y="487440"/>
              <a:ext cx="1447920" cy="60948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809880" y="1522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505320" y="109692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191120" y="1096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48" name=""/>
            <p:cNvGraphicFramePr/>
            <p:nvPr/>
          </p:nvGraphicFramePr>
          <p:xfrm>
            <a:off x="3352680" y="258840"/>
            <a:ext cx="1143000" cy="114300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44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352680" y="258840"/>
                      <a:ext cx="11430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0" name=""/>
            <p:cNvSpPr/>
            <p:nvPr/>
          </p:nvSpPr>
          <p:spPr>
            <a:xfrm>
              <a:off x="1066680" y="1249200"/>
              <a:ext cx="1447920" cy="83844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066680" y="170640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752480" y="170640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752480" y="7160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371600" y="208764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286000" y="2087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81080" y="2087640"/>
              <a:ext cx="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143000" y="2087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523880" y="14778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752480" y="132552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676520" y="10969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2209680" y="239220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1066680" y="239220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1295280" y="22392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600200" y="208764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38080" y="3992400"/>
              <a:ext cx="1447920" cy="83844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600200" y="36115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600200" y="444960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990720" y="4830840"/>
              <a:ext cx="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752480" y="483084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38080" y="444960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371600" y="4221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600200" y="406872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523880" y="38401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209680" y="48308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219320" y="483084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447920" y="4830840"/>
              <a:ext cx="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981080" y="4830840"/>
              <a:ext cx="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105520" y="1554120"/>
              <a:ext cx="1218960" cy="53352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638680" y="1401840"/>
              <a:ext cx="152640" cy="15228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410080" y="2087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019920" y="208764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715000" y="124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191120" y="124920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600200" y="368784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4983120"/>
              <a:ext cx="2438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858000" y="4145040"/>
              <a:ext cx="1219320" cy="53316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391520" y="3992400"/>
              <a:ext cx="152280" cy="15264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467480" y="46782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305920" y="2316240"/>
              <a:ext cx="0" cy="3962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467480" y="2468520"/>
              <a:ext cx="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819520" y="5288040"/>
              <a:ext cx="1218960" cy="38088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5135400"/>
              <a:ext cx="152640" cy="15264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429000" y="56689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429000" y="4906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5334120" y="239220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5943600" y="2239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3352680" y="490680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3809880" y="34585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6095880" y="58968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1676520" y="5896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219320" y="597384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447920" y="5821200"/>
              <a:ext cx="3809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1523880" y="36108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143000" y="48744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62120" y="33066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x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715000" y="33066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ld"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"/>
          <p:cNvGrpSpPr/>
          <p:nvPr/>
        </p:nvGrpSpPr>
        <p:grpSpPr>
          <a:xfrm>
            <a:off x="1143000" y="228600"/>
            <a:ext cx="8229600" cy="6631920"/>
            <a:chOff x="1143000" y="228600"/>
            <a:chExt cx="8229600" cy="6631920"/>
          </a:xfrm>
        </p:grpSpPr>
        <p:sp>
          <p:nvSpPr>
            <p:cNvPr id="508" name=""/>
            <p:cNvSpPr/>
            <p:nvPr/>
          </p:nvSpPr>
          <p:spPr>
            <a:xfrm>
              <a:off x="3276720" y="2895480"/>
              <a:ext cx="1447560" cy="609840"/>
            </a:xfrm>
            <a:prstGeom prst="rect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962520" y="2286000"/>
              <a:ext cx="0" cy="6094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657600" y="3505320"/>
              <a:ext cx="0" cy="30456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343400" y="3505320"/>
              <a:ext cx="0" cy="1522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219320" y="2438280"/>
              <a:ext cx="754380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219320" y="2590920"/>
              <a:ext cx="670536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438280" y="3657600"/>
              <a:ext cx="350532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952880" y="4114800"/>
              <a:ext cx="2057400" cy="838080"/>
            </a:xfrm>
            <a:prstGeom prst="rect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952880" y="4572000"/>
              <a:ext cx="205740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715000" y="4343400"/>
              <a:ext cx="45720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43600" y="4191120"/>
              <a:ext cx="0" cy="30456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562720" y="4572000"/>
              <a:ext cx="0" cy="3808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248520" y="4572000"/>
              <a:ext cx="0" cy="3808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867280" y="3962520"/>
              <a:ext cx="152640" cy="152280"/>
            </a:xfrm>
            <a:prstGeom prst="ellipse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943600" y="3657600"/>
              <a:ext cx="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410080" y="4952880"/>
              <a:ext cx="0" cy="1447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715000" y="4952880"/>
              <a:ext cx="0" cy="9907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095880" y="4952880"/>
              <a:ext cx="0" cy="1447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629400" y="4952880"/>
              <a:ext cx="0" cy="1447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105520" y="4952880"/>
              <a:ext cx="0" cy="1526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3809880" y="5867280"/>
              <a:ext cx="152640" cy="1526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523880" y="533520"/>
              <a:ext cx="6858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2b2b2"/>
                  </a:solidFill>
                  <a:latin typeface="Times New Roman"/>
                </a:rPr>
                <a:t>Ci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143000" y="6400800"/>
              <a:ext cx="617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S3        S2                Bi                S1     S0   Ai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733920" y="64771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53080" y="64771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343400" y="228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F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419720" y="304920"/>
              <a:ext cx="30456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696080" y="64008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M     Ci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267080" y="228600"/>
              <a:ext cx="0" cy="3808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962520" y="1219320"/>
              <a:ext cx="0" cy="1143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648320" y="1219320"/>
              <a:ext cx="0" cy="1522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523880" y="1371600"/>
              <a:ext cx="1447920" cy="838080"/>
            </a:xfrm>
            <a:prstGeom prst="rect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523880" y="1828800"/>
              <a:ext cx="144792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209680" y="1828800"/>
              <a:ext cx="0" cy="3808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209680" y="838080"/>
              <a:ext cx="0" cy="3812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828800" y="2209680"/>
              <a:ext cx="0" cy="2286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743200" y="2209680"/>
              <a:ext cx="0" cy="3812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438280" y="2209680"/>
              <a:ext cx="0" cy="1447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600200" y="2209680"/>
              <a:ext cx="0" cy="3812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981080" y="1600200"/>
              <a:ext cx="45720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209680" y="1447920"/>
              <a:ext cx="0" cy="30456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133720" y="1219320"/>
              <a:ext cx="152280" cy="152280"/>
            </a:xfrm>
            <a:prstGeom prst="ellipse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2666880" y="2513880"/>
              <a:ext cx="15264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1523880" y="2513880"/>
              <a:ext cx="15264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1752480" y="2361600"/>
              <a:ext cx="15264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057400" y="2209680"/>
              <a:ext cx="0" cy="1600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295280" y="4114800"/>
              <a:ext cx="1447920" cy="838080"/>
            </a:xfrm>
            <a:prstGeom prst="rect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057400" y="37339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057400" y="4572000"/>
              <a:ext cx="0" cy="3808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447920" y="4952880"/>
              <a:ext cx="0" cy="1447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209680" y="4952880"/>
              <a:ext cx="0" cy="1143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295280" y="4572000"/>
              <a:ext cx="144792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828800" y="4343400"/>
              <a:ext cx="45720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057400" y="4191120"/>
              <a:ext cx="0" cy="30456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666880" y="4952880"/>
              <a:ext cx="0" cy="1526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676520" y="4952880"/>
              <a:ext cx="0" cy="1143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905120" y="4952880"/>
              <a:ext cx="0" cy="9907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438280" y="4952880"/>
              <a:ext cx="0" cy="1447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562720" y="1676520"/>
              <a:ext cx="1218960" cy="533160"/>
            </a:xfrm>
            <a:prstGeom prst="rect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095880" y="1523880"/>
              <a:ext cx="152640" cy="152640"/>
            </a:xfrm>
            <a:prstGeom prst="ellipse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867280" y="2209680"/>
              <a:ext cx="0" cy="3812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477120" y="2209680"/>
              <a:ext cx="0" cy="2286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172200" y="1371600"/>
              <a:ext cx="0" cy="1522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648320" y="1371600"/>
              <a:ext cx="152388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057400" y="3809880"/>
              <a:ext cx="160020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666880" y="5105520"/>
              <a:ext cx="243864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315200" y="4267080"/>
              <a:ext cx="1219320" cy="533520"/>
            </a:xfrm>
            <a:prstGeom prst="rect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848720" y="4114800"/>
              <a:ext cx="152280" cy="152280"/>
            </a:xfrm>
            <a:prstGeom prst="ellipse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924680" y="4800600"/>
              <a:ext cx="0" cy="1600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763120" y="2438280"/>
              <a:ext cx="0" cy="3962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924680" y="2590920"/>
              <a:ext cx="0" cy="15238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276720" y="5410080"/>
              <a:ext cx="1218960" cy="381240"/>
            </a:xfrm>
            <a:prstGeom prst="rect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809880" y="5257800"/>
              <a:ext cx="152640" cy="152280"/>
            </a:xfrm>
            <a:prstGeom prst="ellipse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886200" y="5791320"/>
              <a:ext cx="0" cy="6094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886200" y="5029200"/>
              <a:ext cx="0" cy="2286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5791320" y="2513880"/>
              <a:ext cx="15228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6400800" y="2361600"/>
              <a:ext cx="15228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3809880" y="5028480"/>
              <a:ext cx="15264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4267080" y="3581280"/>
              <a:ext cx="152640" cy="1526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6553080" y="6019200"/>
              <a:ext cx="15264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2133720" y="6019200"/>
              <a:ext cx="15228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76520" y="6095880"/>
              <a:ext cx="495288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905120" y="5943600"/>
              <a:ext cx="380988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1981080" y="3733200"/>
              <a:ext cx="15264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600200" y="609480"/>
              <a:ext cx="30492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581280" y="609480"/>
              <a:ext cx="1447920" cy="609840"/>
            </a:xfrm>
            <a:prstGeom prst="rect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95" name=""/>
            <p:cNvGraphicFramePr/>
            <p:nvPr/>
          </p:nvGraphicFramePr>
          <p:xfrm rot="10800000">
            <a:off x="3962520" y="456480"/>
            <a:ext cx="1752480" cy="87300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59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 rot="10800000">
                      <a:off x="3962520" y="456480"/>
                      <a:ext cx="1752480" cy="87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7" name=""/>
            <p:cNvGraphicFramePr/>
            <p:nvPr/>
          </p:nvGraphicFramePr>
          <p:xfrm rot="10800000">
            <a:off x="3657600" y="2742840"/>
            <a:ext cx="1752480" cy="87300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59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 rot="10800000">
                      <a:off x="3657600" y="2742840"/>
                      <a:ext cx="1752480" cy="87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9" name=""/>
            <p:cNvSpPr/>
            <p:nvPr/>
          </p:nvSpPr>
          <p:spPr>
            <a:xfrm>
              <a:off x="1295280" y="3657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2b2b2"/>
                  </a:solidFill>
                  <a:latin typeface="Times New Roman"/>
                </a:rPr>
                <a:t>X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095880" y="36576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Y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0" y="0"/>
            <a:ext cx="3048120" cy="19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输入端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操作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低位进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i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320" y="3505320"/>
            <a:ext cx="152280" cy="761760"/>
          </a:xfrm>
          <a:custGeom>
            <a:avLst/>
            <a:gdLst>
              <a:gd name="textAreaLeft" fmla="*/ 97200 w 152280"/>
              <a:gd name="textAreaRight" fmla="*/ 152640 w 15228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04920" y="32767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04920" y="38098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0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0" y="26668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控制信号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04920" y="510552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控制产生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Gi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P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2280" y="5334120"/>
            <a:ext cx="152640" cy="761760"/>
          </a:xfrm>
          <a:custGeom>
            <a:avLst/>
            <a:gdLst>
              <a:gd name="textAreaLeft" fmla="*/ 97560 w 152640"/>
              <a:gd name="textAreaRight" fmla="*/ 153000 w 15264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04920" y="571500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控制形成多种输入组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523880" y="6094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86000" y="6094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85800" y="32767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作逻辑运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85800" y="38098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作算术运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0" y="45720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控制信号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3S2S1S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7315200" y="4114800"/>
            <a:ext cx="1219320" cy="685800"/>
            <a:chOff x="7315200" y="4114800"/>
            <a:chExt cx="1219320" cy="685800"/>
          </a:xfrm>
        </p:grpSpPr>
        <p:sp>
          <p:nvSpPr>
            <p:cNvPr id="615" name=""/>
            <p:cNvSpPr/>
            <p:nvPr/>
          </p:nvSpPr>
          <p:spPr>
            <a:xfrm>
              <a:off x="7315200" y="4267080"/>
              <a:ext cx="1219320" cy="53352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848720" y="41148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7924680" y="4800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5562720" y="1523880"/>
            <a:ext cx="1218960" cy="685800"/>
            <a:chOff x="5562720" y="1523880"/>
            <a:chExt cx="1218960" cy="685800"/>
          </a:xfrm>
        </p:grpSpPr>
        <p:sp>
          <p:nvSpPr>
            <p:cNvPr id="619" name=""/>
            <p:cNvSpPr/>
            <p:nvPr/>
          </p:nvSpPr>
          <p:spPr>
            <a:xfrm>
              <a:off x="5562720" y="1676520"/>
              <a:ext cx="1218960" cy="53316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095880" y="15238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7924680" y="25909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8763120" y="24382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19320" y="2590920"/>
            <a:ext cx="6705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219320" y="243828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4771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6400800" y="2361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867280" y="22096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5791320" y="251388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172200" y="1371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648320" y="1371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648320" y="1219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962520" y="12193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3581280" y="380880"/>
            <a:ext cx="1447920" cy="916920"/>
            <a:chOff x="3581280" y="380880"/>
            <a:chExt cx="1447920" cy="916920"/>
          </a:xfrm>
        </p:grpSpPr>
        <p:sp>
          <p:nvSpPr>
            <p:cNvPr id="634" name=""/>
            <p:cNvSpPr/>
            <p:nvPr/>
          </p:nvSpPr>
          <p:spPr>
            <a:xfrm>
              <a:off x="3581280" y="609480"/>
              <a:ext cx="1447920" cy="60984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809880" y="380880"/>
              <a:ext cx="99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⊕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3276720" y="2286000"/>
            <a:ext cx="1600200" cy="1297800"/>
            <a:chOff x="3276720" y="2286000"/>
            <a:chExt cx="1600200" cy="1297800"/>
          </a:xfrm>
        </p:grpSpPr>
        <p:sp>
          <p:nvSpPr>
            <p:cNvPr id="637" name=""/>
            <p:cNvSpPr/>
            <p:nvPr/>
          </p:nvSpPr>
          <p:spPr>
            <a:xfrm>
              <a:off x="3962520" y="22860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276720" y="2895480"/>
              <a:ext cx="1447560" cy="60984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505320" y="2666880"/>
              <a:ext cx="1371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⊕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0" name=""/>
          <p:cNvSpPr/>
          <p:nvPr/>
        </p:nvSpPr>
        <p:spPr>
          <a:xfrm>
            <a:off x="4267080" y="2286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419720" y="3049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343400" y="228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743200" y="22096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2666880" y="251388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438280" y="22096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057400" y="22096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82880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1752480" y="23616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600200" y="22096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1523880" y="251388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09680" y="8380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343400" y="3505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657600" y="3505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467480" y="48006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91520" y="3581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324480" y="1066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514600" y="762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0" y="0"/>
            <a:ext cx="3048120" cy="19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2b2b2"/>
                </a:solidFill>
                <a:latin typeface="Times New Roman"/>
                <a:ea typeface="黑体"/>
              </a:rPr>
              <a:t>输入端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2b2b2"/>
                </a:solidFill>
                <a:latin typeface="Times New Roman"/>
                <a:ea typeface="黑体"/>
              </a:rPr>
              <a:t>操作数</a:t>
            </a:r>
            <a:r>
              <a:rPr b="1" lang="zh-CN" sz="3600" spc="-1" strike="noStrike">
                <a:solidFill>
                  <a:srgbClr val="b2b2b2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b2b2b2"/>
                </a:solidFill>
                <a:latin typeface="Times New Roman"/>
                <a:ea typeface="黑体"/>
              </a:rPr>
              <a:t>i</a:t>
            </a:r>
            <a:r>
              <a:rPr b="1" lang="zh-CN" sz="2800" spc="-1" strike="noStrike">
                <a:solidFill>
                  <a:srgbClr val="b2b2b2"/>
                </a:solidFill>
                <a:latin typeface="Times New Roman"/>
                <a:ea typeface="黑体"/>
              </a:rPr>
              <a:t>、</a:t>
            </a:r>
            <a:r>
              <a:rPr b="1" lang="zh-CN" sz="3600" spc="-1" strike="noStrike">
                <a:solidFill>
                  <a:srgbClr val="b2b2b2"/>
                </a:solidFill>
                <a:latin typeface="Times New Roman"/>
                <a:ea typeface="黑体"/>
              </a:rPr>
              <a:t>B</a:t>
            </a:r>
            <a:r>
              <a:rPr b="1" lang="zh-CN" sz="2800" spc="-1" strike="noStrike">
                <a:solidFill>
                  <a:srgbClr val="b2b2b2"/>
                </a:solidFill>
                <a:latin typeface="Times New Roman"/>
                <a:ea typeface="黑体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2b2b2"/>
                </a:solidFill>
                <a:latin typeface="Times New Roman"/>
                <a:ea typeface="黑体"/>
              </a:rPr>
              <a:t>低位进位</a:t>
            </a:r>
            <a:r>
              <a:rPr b="1" lang="zh-CN" sz="3600" spc="-1" strike="noStrike">
                <a:solidFill>
                  <a:srgbClr val="b2b2b2"/>
                </a:solidFill>
                <a:latin typeface="Times New Roman"/>
                <a:ea typeface="黑体"/>
              </a:rPr>
              <a:t>C</a:t>
            </a:r>
            <a:r>
              <a:rPr b="1" lang="zh-CN" sz="2800" spc="-1" strike="noStrike">
                <a:solidFill>
                  <a:srgbClr val="b2b2b2"/>
                </a:solidFill>
                <a:latin typeface="Times New Roman"/>
                <a:ea typeface="黑体"/>
              </a:rPr>
              <a:t>i</a:t>
            </a:r>
            <a:r>
              <a:rPr b="1" lang="zh-CN" sz="3600" spc="-1" strike="noStrike">
                <a:solidFill>
                  <a:srgbClr val="b2b2b2"/>
                </a:solidFill>
                <a:latin typeface="Times New Roman"/>
                <a:ea typeface="黑体"/>
              </a:rPr>
              <a:t>-</a:t>
            </a:r>
            <a:r>
              <a:rPr b="1" lang="zh-CN" sz="2800" spc="-1" strike="noStrike">
                <a:solidFill>
                  <a:srgbClr val="b2b2b2"/>
                </a:solidFill>
                <a:latin typeface="Times New Roman"/>
                <a:ea typeface="黑体"/>
              </a:rPr>
              <a:t>1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523880" y="609480"/>
            <a:ext cx="3049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286000" y="609480"/>
            <a:ext cx="3049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1523880" y="1219320"/>
            <a:ext cx="1447920" cy="990360"/>
            <a:chOff x="1523880" y="1219320"/>
            <a:chExt cx="1447920" cy="990360"/>
          </a:xfrm>
        </p:grpSpPr>
        <p:sp>
          <p:nvSpPr>
            <p:cNvPr id="662" name=""/>
            <p:cNvSpPr/>
            <p:nvPr/>
          </p:nvSpPr>
          <p:spPr>
            <a:xfrm>
              <a:off x="1523880" y="1371600"/>
              <a:ext cx="1447920" cy="83808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523880" y="182880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209680" y="18288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981080" y="16002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209680" y="14479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133720" y="1219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1676520" y="609480"/>
            <a:ext cx="685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i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752480" y="685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8077320" y="48006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8077320" y="3581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000"/>
                            </p:stCondLst>
                            <p:childTnLst>
                              <p:par>
                                <p:cTn id="7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500"/>
                            </p:stCondLst>
                            <p:childTnLst>
                              <p:par>
                                <p:cTn id="7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500"/>
                            </p:stCondLst>
                            <p:childTnLst>
                              <p:par>
                                <p:cTn id="7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500"/>
                            </p:stCondLst>
                            <p:childTnLst>
                              <p:par>
                                <p:cTn id="7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2000"/>
                            </p:stCondLst>
                            <p:childTnLst>
                              <p:par>
                                <p:cTn id="7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500"/>
                            </p:stCondLst>
                            <p:childTnLst>
                              <p:par>
                                <p:cTn id="7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3000"/>
                            </p:stCondLst>
                            <p:childTnLst>
                              <p:par>
                                <p:cTn id="7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3500"/>
                            </p:stCondLst>
                            <p:childTnLst>
                              <p:par>
                                <p:cTn id="7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4000"/>
                            </p:stCondLst>
                            <p:childTnLst>
                              <p:par>
                                <p:cTn id="8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4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4500"/>
                            </p:stCondLst>
                            <p:childTnLst>
                              <p:par>
                                <p:cTn id="8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8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5000"/>
                            </p:stCondLst>
                            <p:childTnLst>
                              <p:par>
                                <p:cTn id="8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5500"/>
                            </p:stCondLst>
                            <p:childTnLst>
                              <p:par>
                                <p:cTn id="8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6000"/>
                            </p:stCondLst>
                            <p:childTnLst>
                              <p:par>
                                <p:cTn id="8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6500"/>
                            </p:stCondLst>
                            <p:childTnLst>
                              <p:par>
                                <p:cTn id="8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7000"/>
                            </p:stCondLst>
                            <p:childTnLst>
                              <p:par>
                                <p:cTn id="8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7500"/>
                            </p:stCondLst>
                            <p:childTnLst>
                              <p:par>
                                <p:cTn id="8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8000"/>
                            </p:stCondLst>
                            <p:childTnLst>
                              <p:par>
                                <p:cTn id="8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6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8500"/>
                            </p:stCondLst>
                            <p:childTnLst>
                              <p:par>
                                <p:cTn id="8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9000"/>
                            </p:stCondLst>
                            <p:childTnLst>
                              <p:par>
                                <p:cTn id="8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9500"/>
                            </p:stCondLst>
                            <p:childTnLst>
                              <p:par>
                                <p:cTn id="8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0500"/>
                            </p:stCondLst>
                            <p:childTnLst>
                              <p:par>
                                <p:cTn id="8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11000"/>
                            </p:stCondLst>
                            <p:childTnLst>
                              <p:par>
                                <p:cTn id="8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11500"/>
                            </p:stCondLst>
                            <p:childTnLst>
                              <p:par>
                                <p:cTn id="8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2000"/>
                            </p:stCondLst>
                            <p:childTnLst>
                              <p:par>
                                <p:cTn id="8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12500"/>
                            </p:stCondLst>
                            <p:childTnLst>
                              <p:par>
                                <p:cTn id="8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13000"/>
                            </p:stCondLst>
                            <p:childTnLst>
                              <p:par>
                                <p:cTn id="8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13500"/>
                            </p:stCondLst>
                            <p:childTnLst>
                              <p:par>
                                <p:cTn id="8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0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14000"/>
                            </p:stCondLst>
                            <p:childTnLst>
                              <p:par>
                                <p:cTn id="8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14500"/>
                            </p:stCondLst>
                            <p:childTnLst>
                              <p:par>
                                <p:cTn id="8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8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15000"/>
                            </p:stCondLst>
                            <p:childTnLst>
                              <p:par>
                                <p:cTn id="8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5500"/>
                            </p:stCondLst>
                            <p:childTnLst>
                              <p:par>
                                <p:cTn id="8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6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16000"/>
                            </p:stCondLst>
                            <p:childTnLst>
                              <p:par>
                                <p:cTn id="8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16500"/>
                            </p:stCondLst>
                            <p:childTnLst>
                              <p:par>
                                <p:cTn id="9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17000"/>
                            </p:stCondLst>
                            <p:childTnLst>
                              <p:par>
                                <p:cTn id="9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7500"/>
                            </p:stCondLst>
                            <p:childTnLst>
                              <p:par>
                                <p:cTn id="9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18000"/>
                            </p:stCondLst>
                            <p:childTnLst>
                              <p:par>
                                <p:cTn id="9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500"/>
                            </p:stCondLst>
                            <p:childTnLst>
                              <p:par>
                                <p:cTn id="9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500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500"/>
                            </p:stCondLst>
                            <p:childTnLst>
                              <p:par>
                                <p:cTn id="9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9" dur="5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4" dur="5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4343400" y="228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267080" y="228600"/>
            <a:ext cx="0" cy="38088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1143000" y="304920"/>
            <a:ext cx="8229600" cy="6555600"/>
            <a:chOff x="1143000" y="304920"/>
            <a:chExt cx="8229600" cy="6555600"/>
          </a:xfrm>
        </p:grpSpPr>
        <p:sp>
          <p:nvSpPr>
            <p:cNvPr id="675" name=""/>
            <p:cNvSpPr/>
            <p:nvPr/>
          </p:nvSpPr>
          <p:spPr>
            <a:xfrm>
              <a:off x="3276720" y="2895480"/>
              <a:ext cx="1447560" cy="609840"/>
            </a:xfrm>
            <a:prstGeom prst="rect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62520" y="2286000"/>
              <a:ext cx="0" cy="6094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657600" y="3505320"/>
              <a:ext cx="0" cy="30456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343400" y="3505320"/>
              <a:ext cx="0" cy="1522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219320" y="2438280"/>
              <a:ext cx="754380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219320" y="2590920"/>
              <a:ext cx="670536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438280" y="3657600"/>
              <a:ext cx="350532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952880" y="4114800"/>
              <a:ext cx="2057400" cy="83808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952880" y="4572000"/>
              <a:ext cx="205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715000" y="43434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943600" y="41911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562720" y="4572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248520" y="4572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867280" y="39625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943600" y="36576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410080" y="4952880"/>
              <a:ext cx="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715000" y="495288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095880" y="4952880"/>
              <a:ext cx="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629400" y="4952880"/>
              <a:ext cx="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10552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809880" y="58672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523880" y="533520"/>
              <a:ext cx="6858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2b2b2"/>
                  </a:solidFill>
                  <a:latin typeface="Times New Roman"/>
                </a:rPr>
                <a:t>Ci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143000" y="6400800"/>
              <a:ext cx="617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S3        S2                Bi                S1     S0   Ai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733920" y="64771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553080" y="64771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19720" y="304920"/>
              <a:ext cx="30456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696080" y="64008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M     Ci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962520" y="1219320"/>
              <a:ext cx="0" cy="1143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648320" y="1219320"/>
              <a:ext cx="0" cy="1522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523880" y="1371600"/>
              <a:ext cx="1447920" cy="838080"/>
            </a:xfrm>
            <a:prstGeom prst="rect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523880" y="1828800"/>
              <a:ext cx="144792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209680" y="1828800"/>
              <a:ext cx="0" cy="3808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209680" y="838080"/>
              <a:ext cx="0" cy="3812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828800" y="2209680"/>
              <a:ext cx="0" cy="2286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743200" y="2209680"/>
              <a:ext cx="0" cy="3812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438280" y="2209680"/>
              <a:ext cx="0" cy="1447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600200" y="2209680"/>
              <a:ext cx="0" cy="3812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981080" y="1600200"/>
              <a:ext cx="45720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209680" y="1447920"/>
              <a:ext cx="0" cy="30456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133720" y="1219320"/>
              <a:ext cx="152280" cy="152280"/>
            </a:xfrm>
            <a:prstGeom prst="ellipse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2666880" y="2513880"/>
              <a:ext cx="15264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1523880" y="2513880"/>
              <a:ext cx="15264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1752480" y="2361600"/>
              <a:ext cx="15264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057400" y="2209680"/>
              <a:ext cx="0" cy="1600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295280" y="4114800"/>
              <a:ext cx="1447920" cy="83808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057400" y="37339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057400" y="4572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447920" y="4952880"/>
              <a:ext cx="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209680" y="495288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295280" y="457200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828800" y="43434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057400" y="41911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66688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676520" y="495288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905120" y="495288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438280" y="4952880"/>
              <a:ext cx="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562720" y="1676520"/>
              <a:ext cx="1218960" cy="533160"/>
            </a:xfrm>
            <a:prstGeom prst="rect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095880" y="1523880"/>
              <a:ext cx="152640" cy="152640"/>
            </a:xfrm>
            <a:prstGeom prst="ellipse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867280" y="2209680"/>
              <a:ext cx="0" cy="3812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477120" y="2209680"/>
              <a:ext cx="0" cy="2286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172200" y="1371600"/>
              <a:ext cx="0" cy="1522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648320" y="1371600"/>
              <a:ext cx="152388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057400" y="3809880"/>
              <a:ext cx="160020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666880" y="5105520"/>
              <a:ext cx="2438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315200" y="4267080"/>
              <a:ext cx="1219320" cy="533520"/>
            </a:xfrm>
            <a:prstGeom prst="rect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848720" y="4114800"/>
              <a:ext cx="152280" cy="152280"/>
            </a:xfrm>
            <a:prstGeom prst="ellipse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924680" y="4800600"/>
              <a:ext cx="0" cy="1600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8763120" y="2438280"/>
              <a:ext cx="0" cy="3962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924680" y="2590920"/>
              <a:ext cx="0" cy="15238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276720" y="5410080"/>
              <a:ext cx="1218960" cy="38124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809880" y="52578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886200" y="57913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8862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5791320" y="2513880"/>
              <a:ext cx="15228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6400800" y="2361600"/>
              <a:ext cx="15228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3809880" y="502848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4267080" y="3581280"/>
              <a:ext cx="152640" cy="1526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6553080" y="60192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2133720" y="6019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676520" y="609588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905120" y="5943600"/>
              <a:ext cx="3809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1981080" y="3733200"/>
              <a:ext cx="15264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600200" y="609480"/>
              <a:ext cx="30492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581280" y="609480"/>
              <a:ext cx="1447920" cy="609840"/>
            </a:xfrm>
            <a:prstGeom prst="rect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60" name=""/>
            <p:cNvGraphicFramePr/>
            <p:nvPr/>
          </p:nvGraphicFramePr>
          <p:xfrm rot="10800000">
            <a:off x="3962520" y="456480"/>
            <a:ext cx="1752480" cy="87300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76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 rot="10800000">
                      <a:off x="3962520" y="456480"/>
                      <a:ext cx="1752480" cy="87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2" name=""/>
            <p:cNvGraphicFramePr/>
            <p:nvPr/>
          </p:nvGraphicFramePr>
          <p:xfrm rot="10800000">
            <a:off x="3657600" y="2742840"/>
            <a:ext cx="1752480" cy="87300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76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 rot="10800000">
                      <a:off x="3657600" y="2742840"/>
                      <a:ext cx="1752480" cy="87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4" name=""/>
            <p:cNvSpPr/>
            <p:nvPr/>
          </p:nvSpPr>
          <p:spPr>
            <a:xfrm>
              <a:off x="1295280" y="3657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X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5880" y="36576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6" name=""/>
          <p:cNvSpPr/>
          <p:nvPr/>
        </p:nvSpPr>
        <p:spPr>
          <a:xfrm>
            <a:off x="1219320" y="4572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S3S2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输出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Xi   S1S0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输出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Yi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295280" y="1066680"/>
            <a:ext cx="6629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572000" y="609480"/>
            <a:ext cx="0" cy="297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447920" y="1143000"/>
            <a:ext cx="914400" cy="24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048120" y="1143000"/>
            <a:ext cx="137160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Ai+B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809880" y="17524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315200" y="23623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029200" y="1143000"/>
            <a:ext cx="914400" cy="24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553080" y="1066680"/>
            <a:ext cx="1371600" cy="24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A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AiB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AiB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295280" y="3581280"/>
            <a:ext cx="6629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048120" y="2438280"/>
            <a:ext cx="144756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i+B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048120" y="2438280"/>
            <a:ext cx="1676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Ai+B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553080" y="1733400"/>
            <a:ext cx="1371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AiB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781680" y="3124080"/>
            <a:ext cx="1371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200400" y="2819520"/>
            <a:ext cx="914400" cy="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114800" y="2819520"/>
            <a:ext cx="304920" cy="106668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038480" y="37339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P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8001000" y="2895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G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858000" y="2133720"/>
            <a:ext cx="914400" cy="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772400" y="2133720"/>
            <a:ext cx="380880" cy="91440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990720" y="6019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514600" y="6019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209680" y="3581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952880" y="60199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715000" y="6019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257800" y="35812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Times New Roman"/>
              </a:rPr>
              <a:t>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0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500"/>
                            </p:stCondLst>
                            <p:childTnLst>
                              <p:par>
                                <p:cTn id="98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5" dur="5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500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500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500"/>
                            </p:stCondLst>
                            <p:childTnLst>
                              <p:par>
                                <p:cTn id="10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4" dur="500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500"/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500"/>
                            </p:stCondLst>
                            <p:childTnLst>
                              <p:par>
                                <p:cTn id="10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8" dur="500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500"/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500"/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3" dur="500"/>
                                        <p:tgtEl>
                                          <p:spTgt spid="7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500"/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3" dur="500"/>
                                        <p:tgtEl>
                                          <p:spTgt spid="7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8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500"/>
                            </p:stCondLst>
                            <p:childTnLst>
                              <p:par>
                                <p:cTn id="10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2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7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2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7" dur="500"/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2" dur="500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500"/>
                            </p:stCondLst>
                            <p:childTnLst>
                              <p:par>
                                <p:cTn id="10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6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1" dur="500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6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1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5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9" dur="500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4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3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7" dur="500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0" y="228600"/>
            <a:ext cx="8839080" cy="34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多位逻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见教材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P49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位全加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位并行进位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位选择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个控制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04920" y="4038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原始进位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Cn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04920" y="5181480"/>
            <a:ext cx="350496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进位输出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971800" y="502920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124080" y="4952880"/>
            <a:ext cx="2133720" cy="21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Cn+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P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352680" y="56386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267080" y="56386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105520" y="49528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构成组间串行进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648320" y="52578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648320" y="5791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105520" y="556272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构成组间并行进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500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5" dur="50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0" dur="500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500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500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2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7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500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6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0" dur="500"/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"/>
          <p:cNvGrpSpPr/>
          <p:nvPr/>
        </p:nvGrpSpPr>
        <p:grpSpPr>
          <a:xfrm>
            <a:off x="1295280" y="228600"/>
            <a:ext cx="8229600" cy="6631920"/>
            <a:chOff x="1295280" y="228600"/>
            <a:chExt cx="8229600" cy="6631920"/>
          </a:xfrm>
        </p:grpSpPr>
        <p:sp>
          <p:nvSpPr>
            <p:cNvPr id="804" name=""/>
            <p:cNvSpPr/>
            <p:nvPr/>
          </p:nvSpPr>
          <p:spPr>
            <a:xfrm>
              <a:off x="3429000" y="2895480"/>
              <a:ext cx="1447560" cy="609840"/>
            </a:xfrm>
            <a:prstGeom prst="rect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114800" y="2286000"/>
              <a:ext cx="0" cy="6094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809880" y="3505320"/>
              <a:ext cx="0" cy="30456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495680" y="3505320"/>
              <a:ext cx="0" cy="1522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371600" y="2438280"/>
              <a:ext cx="754380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371600" y="2590920"/>
              <a:ext cx="670536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590560" y="3657600"/>
              <a:ext cx="350532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105160" y="4114800"/>
              <a:ext cx="2057400" cy="838080"/>
            </a:xfrm>
            <a:prstGeom prst="rect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105160" y="4572000"/>
              <a:ext cx="205740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867280" y="4343400"/>
              <a:ext cx="45720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095880" y="4191120"/>
              <a:ext cx="0" cy="30456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715000" y="4572000"/>
              <a:ext cx="0" cy="3808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400800" y="4572000"/>
              <a:ext cx="0" cy="3808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019560" y="3962520"/>
              <a:ext cx="152640" cy="152280"/>
            </a:xfrm>
            <a:prstGeom prst="ellipse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95880" y="3657600"/>
              <a:ext cx="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562360" y="4952880"/>
              <a:ext cx="0" cy="1447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867280" y="4952880"/>
              <a:ext cx="0" cy="9907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248160" y="4952880"/>
              <a:ext cx="0" cy="1447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781680" y="4952880"/>
              <a:ext cx="0" cy="1447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257800" y="4952880"/>
              <a:ext cx="0" cy="1526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3962160" y="5867280"/>
              <a:ext cx="152640" cy="1526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676160" y="533520"/>
              <a:ext cx="6858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2b2b2"/>
                  </a:solidFill>
                  <a:latin typeface="Times New Roman"/>
                </a:rPr>
                <a:t>Ci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295280" y="6400800"/>
              <a:ext cx="617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S3        S2                Bi                S1     S0   Ai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886200" y="64771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705360" y="64771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495680" y="228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F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572000" y="304920"/>
              <a:ext cx="30456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848360" y="64008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M     Ci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419360" y="228600"/>
              <a:ext cx="0" cy="3808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114800" y="1219320"/>
              <a:ext cx="0" cy="1143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800600" y="1219320"/>
              <a:ext cx="0" cy="1522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676160" y="1371600"/>
              <a:ext cx="1447920" cy="838080"/>
            </a:xfrm>
            <a:prstGeom prst="rect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676160" y="1828800"/>
              <a:ext cx="144792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361960" y="1828800"/>
              <a:ext cx="0" cy="3808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361960" y="838080"/>
              <a:ext cx="0" cy="3812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981080" y="2209680"/>
              <a:ext cx="0" cy="2286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895480" y="2209680"/>
              <a:ext cx="0" cy="3812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590560" y="2209680"/>
              <a:ext cx="0" cy="1447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752480" y="2209680"/>
              <a:ext cx="0" cy="3812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133360" y="1600200"/>
              <a:ext cx="45720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361960" y="1447920"/>
              <a:ext cx="0" cy="30456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286000" y="1219320"/>
              <a:ext cx="152280" cy="152280"/>
            </a:xfrm>
            <a:prstGeom prst="ellipse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2819160" y="2513880"/>
              <a:ext cx="15264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>
              <a:off x="1676160" y="2513880"/>
              <a:ext cx="15264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1904760" y="2361600"/>
              <a:ext cx="15264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209680" y="2209680"/>
              <a:ext cx="0" cy="1600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560" y="4114800"/>
              <a:ext cx="1447920" cy="838080"/>
            </a:xfrm>
            <a:prstGeom prst="rect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209680" y="37339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209680" y="4572000"/>
              <a:ext cx="0" cy="3808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600200" y="4952880"/>
              <a:ext cx="0" cy="1447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361960" y="4952880"/>
              <a:ext cx="0" cy="1143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447560" y="4572000"/>
              <a:ext cx="144792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981080" y="4343400"/>
              <a:ext cx="45720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209680" y="4191120"/>
              <a:ext cx="0" cy="30456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133360" y="3962520"/>
              <a:ext cx="152640" cy="152280"/>
            </a:xfrm>
            <a:prstGeom prst="ellipse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819160" y="4952880"/>
              <a:ext cx="0" cy="1526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828800" y="4952880"/>
              <a:ext cx="0" cy="1143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057400" y="4952880"/>
              <a:ext cx="0" cy="9907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590560" y="4952880"/>
              <a:ext cx="0" cy="1447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715000" y="1676520"/>
              <a:ext cx="1218960" cy="533160"/>
            </a:xfrm>
            <a:prstGeom prst="rect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8160" y="1523880"/>
              <a:ext cx="152640" cy="152640"/>
            </a:xfrm>
            <a:prstGeom prst="ellipse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019560" y="2209680"/>
              <a:ext cx="0" cy="3812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629400" y="2209680"/>
              <a:ext cx="0" cy="2286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24480" y="1371600"/>
              <a:ext cx="0" cy="1522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800600" y="1371600"/>
              <a:ext cx="152388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209680" y="3809880"/>
              <a:ext cx="160020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819160" y="5105520"/>
              <a:ext cx="243864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467480" y="4267080"/>
              <a:ext cx="1219320" cy="533520"/>
            </a:xfrm>
            <a:prstGeom prst="rect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8001000" y="4114800"/>
              <a:ext cx="152280" cy="152280"/>
            </a:xfrm>
            <a:prstGeom prst="ellipse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076960" y="4800600"/>
              <a:ext cx="0" cy="1600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915400" y="2438280"/>
              <a:ext cx="0" cy="3962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076960" y="2590920"/>
              <a:ext cx="0" cy="15238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429000" y="5410080"/>
              <a:ext cx="1218960" cy="381240"/>
            </a:xfrm>
            <a:prstGeom prst="rect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962160" y="5257800"/>
              <a:ext cx="152640" cy="152280"/>
            </a:xfrm>
            <a:prstGeom prst="ellipse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038480" y="5791320"/>
              <a:ext cx="0" cy="6094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038480" y="5029200"/>
              <a:ext cx="0" cy="2286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5943600" y="2513880"/>
              <a:ext cx="15228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6553080" y="2361600"/>
              <a:ext cx="15228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3962160" y="5028480"/>
              <a:ext cx="15264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>
              <a:off x="4419360" y="3581280"/>
              <a:ext cx="152640" cy="1526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6705360" y="6019200"/>
              <a:ext cx="15264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2286000" y="6019200"/>
              <a:ext cx="15228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828800" y="6095880"/>
              <a:ext cx="495288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57400" y="5943600"/>
              <a:ext cx="380988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2133360" y="3733200"/>
              <a:ext cx="15264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752480" y="609480"/>
              <a:ext cx="30492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733560" y="609480"/>
              <a:ext cx="1447920" cy="609840"/>
            </a:xfrm>
            <a:prstGeom prst="rect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91" name=""/>
            <p:cNvGraphicFramePr/>
            <p:nvPr/>
          </p:nvGraphicFramePr>
          <p:xfrm rot="10800000">
            <a:off x="4114800" y="456480"/>
            <a:ext cx="1752480" cy="87300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89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 rot="10800000">
                      <a:off x="4114800" y="456480"/>
                      <a:ext cx="1752480" cy="87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93" name=""/>
            <p:cNvGraphicFramePr/>
            <p:nvPr/>
          </p:nvGraphicFramePr>
          <p:xfrm rot="10800000">
            <a:off x="3809880" y="2742840"/>
            <a:ext cx="1752480" cy="87300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89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 rot="10800000">
                      <a:off x="3809880" y="2742840"/>
                      <a:ext cx="1752480" cy="87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5" name=""/>
            <p:cNvSpPr/>
            <p:nvPr/>
          </p:nvSpPr>
          <p:spPr>
            <a:xfrm>
              <a:off x="1447560" y="3657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2b2b2"/>
                  </a:solidFill>
                  <a:latin typeface="Times New Roman"/>
                </a:rPr>
                <a:t>X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248160" y="36576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Y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7" name=""/>
          <p:cNvSpPr/>
          <p:nvPr/>
        </p:nvSpPr>
        <p:spPr>
          <a:xfrm>
            <a:off x="0" y="228600"/>
            <a:ext cx="9982080" cy="36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运算功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种算术运算功能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种逻辑运算功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列于表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-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P5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 S3S2S1S0   Xi   Yi    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=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=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0  0  0  0      1    A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1201" dur="indefinite" restart="never" nodeType="tmRoot">
          <p:childTnLst>
            <p:seq>
              <p:cTn id="1202" dur="indefinite" nodeType="mainSeq">
                <p:childTnLst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7" dur="500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2" dur="500"/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7" dur="500"/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500"/>
                                        <p:tgtEl>
                                          <p:spTgt spid="8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7" dur="500"/>
                                        <p:tgtEl>
                                          <p:spTgt spid="8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"/>
          <p:cNvGrpSpPr/>
          <p:nvPr/>
        </p:nvGrpSpPr>
        <p:grpSpPr>
          <a:xfrm>
            <a:off x="685800" y="0"/>
            <a:ext cx="9448920" cy="6859800"/>
            <a:chOff x="685800" y="0"/>
            <a:chExt cx="9448920" cy="6859800"/>
          </a:xfrm>
        </p:grpSpPr>
        <p:sp>
          <p:nvSpPr>
            <p:cNvPr id="899" name=""/>
            <p:cNvSpPr/>
            <p:nvPr/>
          </p:nvSpPr>
          <p:spPr>
            <a:xfrm>
              <a:off x="2819520" y="2773440"/>
              <a:ext cx="1447560" cy="60948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505320" y="216360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200400" y="338292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886200" y="3382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03" name=""/>
            <p:cNvGraphicFramePr/>
            <p:nvPr/>
          </p:nvGraphicFramePr>
          <p:xfrm>
            <a:off x="3124080" y="2544840"/>
            <a:ext cx="1143000" cy="114300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90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124080" y="2544840"/>
                      <a:ext cx="11430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05" name=""/>
            <p:cNvSpPr/>
            <p:nvPr/>
          </p:nvSpPr>
          <p:spPr>
            <a:xfrm>
              <a:off x="762120" y="2316240"/>
              <a:ext cx="7543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62120" y="2468520"/>
              <a:ext cx="6705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981080" y="3535200"/>
              <a:ext cx="3505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495680" y="3992400"/>
              <a:ext cx="2057400" cy="83844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495680" y="4449600"/>
              <a:ext cx="205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257800" y="4221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486400" y="406872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105520" y="444960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791320" y="444960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410080" y="38401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486400" y="35352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952880" y="4830840"/>
              <a:ext cx="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57800" y="4830840"/>
              <a:ext cx="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638680" y="4830840"/>
              <a:ext cx="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172200" y="4830840"/>
              <a:ext cx="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648320" y="48308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3352680" y="57445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990720" y="411120"/>
              <a:ext cx="68580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Ci                        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85800" y="6278400"/>
              <a:ext cx="822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S3     S2          Bi           S1  S0  Ai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276720" y="63547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095880" y="63547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886200" y="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962520" y="763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238880" y="6278400"/>
              <a:ext cx="2895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M   Ci-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124080" y="487440"/>
              <a:ext cx="1447920" cy="60948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809880" y="1522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505320" y="109692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191120" y="1096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33" name=""/>
            <p:cNvGraphicFramePr/>
            <p:nvPr/>
          </p:nvGraphicFramePr>
          <p:xfrm>
            <a:off x="3352680" y="258840"/>
            <a:ext cx="1143000" cy="114300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93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352680" y="258840"/>
                      <a:ext cx="11430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5" name=""/>
            <p:cNvSpPr/>
            <p:nvPr/>
          </p:nvSpPr>
          <p:spPr>
            <a:xfrm>
              <a:off x="1066680" y="1249200"/>
              <a:ext cx="1447920" cy="83844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066680" y="170640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752480" y="170640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752480" y="7160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371600" y="208764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286000" y="2087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981080" y="2087640"/>
              <a:ext cx="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143000" y="2087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523880" y="14778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752480" y="132552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676520" y="10969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V="1">
              <a:off x="2209680" y="239220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1066680" y="239220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V="1">
              <a:off x="1295280" y="22392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600200" y="208764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38080" y="3992400"/>
              <a:ext cx="1447920" cy="83844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600200" y="36115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600200" y="444960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990720" y="4830840"/>
              <a:ext cx="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752480" y="483084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38080" y="444960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371600" y="4221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600200" y="406872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523880" y="38401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209680" y="48308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219320" y="483084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447920" y="4830840"/>
              <a:ext cx="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981080" y="4830840"/>
              <a:ext cx="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105520" y="1554120"/>
              <a:ext cx="1218960" cy="53352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638680" y="1401840"/>
              <a:ext cx="152640" cy="15228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410080" y="2087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019920" y="208764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715000" y="124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191120" y="124920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600200" y="368784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209680" y="4983120"/>
              <a:ext cx="2438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858000" y="4145040"/>
              <a:ext cx="1219320" cy="53316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391520" y="3992400"/>
              <a:ext cx="152280" cy="15264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467480" y="46782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8305920" y="2316240"/>
              <a:ext cx="0" cy="3962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467480" y="2468520"/>
              <a:ext cx="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819520" y="5288040"/>
              <a:ext cx="1218960" cy="38088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352680" y="5135400"/>
              <a:ext cx="152640" cy="15264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429000" y="56689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429000" y="4906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V="1">
              <a:off x="5334120" y="239220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V="1">
              <a:off x="5943600" y="2239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V="1">
              <a:off x="3352680" y="490680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3809880" y="34585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V="1">
              <a:off x="6095880" y="58968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V="1">
              <a:off x="1676520" y="5896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219320" y="597384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447920" y="5821200"/>
              <a:ext cx="3809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1523880" y="36108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143000" y="48744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62120" y="33066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x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715000" y="33066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2" name=""/>
          <p:cNvSpPr/>
          <p:nvPr/>
        </p:nvSpPr>
        <p:spPr>
          <a:xfrm>
            <a:off x="457200" y="5867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447920" y="5867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419720" y="5867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181480" y="5867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57200" y="33526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648320" y="3429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A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010280" y="57913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934320" y="35053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867280" y="914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010280" y="57913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934320" y="35053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867280" y="914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086600" y="57913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010280" y="35053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5486400" y="685800"/>
            <a:ext cx="1218960" cy="581400"/>
            <a:chOff x="5486400" y="685800"/>
            <a:chExt cx="1218960" cy="581400"/>
          </a:xfrm>
        </p:grpSpPr>
        <p:sp>
          <p:nvSpPr>
            <p:cNvPr id="1007" name=""/>
            <p:cNvSpPr/>
            <p:nvPr/>
          </p:nvSpPr>
          <p:spPr>
            <a:xfrm>
              <a:off x="5486400" y="6858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ff"/>
                  </a:solidFill>
                  <a:latin typeface="Times New Roman"/>
                </a:rPr>
                <a:t>Ci-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638680" y="762120"/>
              <a:ext cx="304920" cy="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ld"/>
  </p:transition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500"/>
                            </p:stCondLst>
                            <p:childTnLst>
                              <p:par>
                                <p:cTn id="1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8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2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6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1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6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1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500"/>
                            </p:stCondLst>
                            <p:childTnLst>
                              <p:par>
                                <p:cTn id="1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5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9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4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500"/>
                            </p:stCondLst>
                            <p:childTnLst>
                              <p:par>
                                <p:cTn id="1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8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2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7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1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6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9" name=""/>
          <p:cNvGrpSpPr/>
          <p:nvPr/>
        </p:nvGrpSpPr>
        <p:grpSpPr>
          <a:xfrm>
            <a:off x="1295280" y="228600"/>
            <a:ext cx="8229600" cy="6631920"/>
            <a:chOff x="1295280" y="228600"/>
            <a:chExt cx="8229600" cy="6631920"/>
          </a:xfrm>
        </p:grpSpPr>
        <p:sp>
          <p:nvSpPr>
            <p:cNvPr id="1010" name=""/>
            <p:cNvSpPr/>
            <p:nvPr/>
          </p:nvSpPr>
          <p:spPr>
            <a:xfrm>
              <a:off x="3429000" y="2895480"/>
              <a:ext cx="1447560" cy="609840"/>
            </a:xfrm>
            <a:prstGeom prst="rect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114800" y="2286000"/>
              <a:ext cx="0" cy="6094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809880" y="3505320"/>
              <a:ext cx="0" cy="30456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495680" y="3505320"/>
              <a:ext cx="0" cy="1522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371600" y="2438280"/>
              <a:ext cx="754380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371600" y="2590920"/>
              <a:ext cx="670536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590560" y="3657600"/>
              <a:ext cx="350532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105160" y="4114800"/>
              <a:ext cx="2057400" cy="838080"/>
            </a:xfrm>
            <a:prstGeom prst="rect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105160" y="4572000"/>
              <a:ext cx="205740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867280" y="4343400"/>
              <a:ext cx="45720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095880" y="4191120"/>
              <a:ext cx="0" cy="30456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715000" y="4572000"/>
              <a:ext cx="0" cy="3808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400800" y="4572000"/>
              <a:ext cx="0" cy="3808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019560" y="3962520"/>
              <a:ext cx="152640" cy="152280"/>
            </a:xfrm>
            <a:prstGeom prst="ellipse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095880" y="3657600"/>
              <a:ext cx="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562360" y="4952880"/>
              <a:ext cx="0" cy="1447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867280" y="4952880"/>
              <a:ext cx="0" cy="9907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248160" y="4952880"/>
              <a:ext cx="0" cy="1447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781680" y="4952880"/>
              <a:ext cx="0" cy="1447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57800" y="4952880"/>
              <a:ext cx="0" cy="1526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V="1">
              <a:off x="3962160" y="5867280"/>
              <a:ext cx="152640" cy="1526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676160" y="533520"/>
              <a:ext cx="6858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2b2b2"/>
                  </a:solidFill>
                  <a:latin typeface="Times New Roman"/>
                </a:rPr>
                <a:t>Ci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295280" y="6400800"/>
              <a:ext cx="617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S3        S2                Bi                S1     S0   Ai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886200" y="64771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705360" y="64771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495680" y="228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F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572000" y="304920"/>
              <a:ext cx="30456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848360" y="64008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M     Ci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419360" y="228600"/>
              <a:ext cx="0" cy="3808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114800" y="1219320"/>
              <a:ext cx="0" cy="1143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800600" y="1219320"/>
              <a:ext cx="0" cy="1522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676160" y="1371600"/>
              <a:ext cx="1447920" cy="838080"/>
            </a:xfrm>
            <a:prstGeom prst="rect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676160" y="1828800"/>
              <a:ext cx="144792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361960" y="1828800"/>
              <a:ext cx="0" cy="3808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361960" y="838080"/>
              <a:ext cx="0" cy="3812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981080" y="2209680"/>
              <a:ext cx="0" cy="2286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895480" y="2209680"/>
              <a:ext cx="0" cy="3812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90560" y="2209680"/>
              <a:ext cx="0" cy="1447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752480" y="2209680"/>
              <a:ext cx="0" cy="3812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133360" y="1600200"/>
              <a:ext cx="45720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361960" y="1447920"/>
              <a:ext cx="0" cy="30456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286000" y="1219320"/>
              <a:ext cx="152280" cy="152280"/>
            </a:xfrm>
            <a:prstGeom prst="ellipse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>
              <a:off x="2819160" y="2513880"/>
              <a:ext cx="15264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V="1">
              <a:off x="1676160" y="2513880"/>
              <a:ext cx="15264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V="1">
              <a:off x="1904760" y="2361600"/>
              <a:ext cx="15264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209680" y="2209680"/>
              <a:ext cx="0" cy="1600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447560" y="4114800"/>
              <a:ext cx="1447920" cy="838080"/>
            </a:xfrm>
            <a:prstGeom prst="rect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209680" y="37339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209680" y="4572000"/>
              <a:ext cx="0" cy="3808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600200" y="4952880"/>
              <a:ext cx="0" cy="1447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361960" y="4952880"/>
              <a:ext cx="0" cy="1143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447560" y="4572000"/>
              <a:ext cx="144792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981080" y="4343400"/>
              <a:ext cx="45720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209680" y="4191120"/>
              <a:ext cx="0" cy="30456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133360" y="3962520"/>
              <a:ext cx="152640" cy="152280"/>
            </a:xfrm>
            <a:prstGeom prst="ellipse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819160" y="4952880"/>
              <a:ext cx="0" cy="1526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828800" y="4952880"/>
              <a:ext cx="0" cy="1143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057400" y="4952880"/>
              <a:ext cx="0" cy="9907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590560" y="4952880"/>
              <a:ext cx="0" cy="1447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715000" y="1676520"/>
              <a:ext cx="1218960" cy="533160"/>
            </a:xfrm>
            <a:prstGeom prst="rect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248160" y="1523880"/>
              <a:ext cx="152640" cy="152640"/>
            </a:xfrm>
            <a:prstGeom prst="ellipse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019560" y="2209680"/>
              <a:ext cx="0" cy="3812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629400" y="2209680"/>
              <a:ext cx="0" cy="2286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324480" y="1371600"/>
              <a:ext cx="0" cy="1522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800600" y="1371600"/>
              <a:ext cx="152388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209680" y="3809880"/>
              <a:ext cx="160020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819160" y="5105520"/>
              <a:ext cx="243864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467480" y="4267080"/>
              <a:ext cx="1219320" cy="533520"/>
            </a:xfrm>
            <a:prstGeom prst="rect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8001000" y="4114800"/>
              <a:ext cx="152280" cy="152280"/>
            </a:xfrm>
            <a:prstGeom prst="ellipse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8076960" y="4800600"/>
              <a:ext cx="0" cy="1600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915400" y="2438280"/>
              <a:ext cx="0" cy="3962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076960" y="2590920"/>
              <a:ext cx="0" cy="15238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429000" y="5410080"/>
              <a:ext cx="1218960" cy="381240"/>
            </a:xfrm>
            <a:prstGeom prst="rect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962160" y="5257800"/>
              <a:ext cx="152640" cy="152280"/>
            </a:xfrm>
            <a:prstGeom prst="ellipse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38480" y="5791320"/>
              <a:ext cx="0" cy="6094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38480" y="5029200"/>
              <a:ext cx="0" cy="2286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V="1">
              <a:off x="5943600" y="2513880"/>
              <a:ext cx="15228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6553080" y="2361600"/>
              <a:ext cx="15228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3962160" y="5028480"/>
              <a:ext cx="15264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V="1">
              <a:off x="4419360" y="3581280"/>
              <a:ext cx="152640" cy="1526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6705360" y="6019200"/>
              <a:ext cx="15264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V="1">
              <a:off x="2286000" y="6019200"/>
              <a:ext cx="15228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828800" y="6095880"/>
              <a:ext cx="495288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057400" y="5943600"/>
              <a:ext cx="380988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V="1">
              <a:off x="2133360" y="3733200"/>
              <a:ext cx="15264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752480" y="609480"/>
              <a:ext cx="30492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733560" y="609480"/>
              <a:ext cx="1447920" cy="609840"/>
            </a:xfrm>
            <a:prstGeom prst="rect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97" name=""/>
            <p:cNvGraphicFramePr/>
            <p:nvPr/>
          </p:nvGraphicFramePr>
          <p:xfrm rot="10800000">
            <a:off x="4114800" y="456480"/>
            <a:ext cx="1752480" cy="87300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109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 rot="10800000">
                      <a:off x="4114800" y="456480"/>
                      <a:ext cx="1752480" cy="87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99" name=""/>
            <p:cNvGraphicFramePr/>
            <p:nvPr/>
          </p:nvGraphicFramePr>
          <p:xfrm rot="10800000">
            <a:off x="3809880" y="2742840"/>
            <a:ext cx="1752480" cy="87300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110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 rot="10800000">
                      <a:off x="3809880" y="2742840"/>
                      <a:ext cx="1752480" cy="87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1" name=""/>
            <p:cNvSpPr/>
            <p:nvPr/>
          </p:nvSpPr>
          <p:spPr>
            <a:xfrm>
              <a:off x="1447560" y="3657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2b2b2"/>
                  </a:solidFill>
                  <a:latin typeface="Times New Roman"/>
                </a:rPr>
                <a:t>X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248160" y="36576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Y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3" name=""/>
          <p:cNvGrpSpPr/>
          <p:nvPr/>
        </p:nvGrpSpPr>
        <p:grpSpPr>
          <a:xfrm>
            <a:off x="0" y="228600"/>
            <a:ext cx="9448920" cy="6144120"/>
            <a:chOff x="0" y="228600"/>
            <a:chExt cx="9448920" cy="6144120"/>
          </a:xfrm>
        </p:grpSpPr>
        <p:sp>
          <p:nvSpPr>
            <p:cNvPr id="1104" name=""/>
            <p:cNvSpPr/>
            <p:nvPr/>
          </p:nvSpPr>
          <p:spPr>
            <a:xfrm>
              <a:off x="0" y="228600"/>
              <a:ext cx="9448920" cy="37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例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1. S3S2S1S0   Xi   Yi    F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M=1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M=0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0  0  0  0      1    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971800" y="45720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6" name=""/>
            <p:cNvGrpSpPr/>
            <p:nvPr/>
          </p:nvGrpSpPr>
          <p:grpSpPr>
            <a:xfrm>
              <a:off x="0" y="3962520"/>
              <a:ext cx="8915400" cy="581400"/>
              <a:chOff x="0" y="3962520"/>
              <a:chExt cx="8915400" cy="581400"/>
            </a:xfrm>
          </p:grpSpPr>
          <p:sp>
            <p:nvSpPr>
              <p:cNvPr id="1107" name=""/>
              <p:cNvSpPr/>
              <p:nvPr/>
            </p:nvSpPr>
            <p:spPr>
              <a:xfrm>
                <a:off x="0" y="3962520"/>
                <a:ext cx="8915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M=1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：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Fi=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Xi    Yi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）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1=1    Ai    1=Ai    1=Ai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08" name=""/>
              <p:cNvGrpSpPr/>
              <p:nvPr/>
            </p:nvGrpSpPr>
            <p:grpSpPr>
              <a:xfrm>
                <a:off x="2819520" y="4114800"/>
                <a:ext cx="304560" cy="304920"/>
                <a:chOff x="2819520" y="4114800"/>
                <a:chExt cx="304560" cy="304920"/>
              </a:xfrm>
            </p:grpSpPr>
            <p:sp>
              <p:nvSpPr>
                <p:cNvPr id="1109" name=""/>
                <p:cNvSpPr/>
                <p:nvPr/>
              </p:nvSpPr>
              <p:spPr>
                <a:xfrm>
                  <a:off x="2819520" y="4267080"/>
                  <a:ext cx="304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2971800" y="411480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2819520" y="4114800"/>
                  <a:ext cx="304560" cy="30492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2" name=""/>
              <p:cNvGrpSpPr/>
              <p:nvPr/>
            </p:nvGrpSpPr>
            <p:grpSpPr>
              <a:xfrm>
                <a:off x="5715000" y="4114800"/>
                <a:ext cx="304560" cy="304920"/>
                <a:chOff x="5715000" y="4114800"/>
                <a:chExt cx="304560" cy="30492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5715000" y="4267080"/>
                  <a:ext cx="304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5867280" y="411480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5715000" y="4114800"/>
                  <a:ext cx="304560" cy="30492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4800600" y="4114800"/>
                <a:ext cx="304560" cy="304920"/>
                <a:chOff x="4800600" y="4114800"/>
                <a:chExt cx="304560" cy="30492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4800600" y="4267080"/>
                  <a:ext cx="304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4952880" y="411480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4800600" y="4114800"/>
                  <a:ext cx="304560" cy="30492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0" name=""/>
              <p:cNvGrpSpPr/>
              <p:nvPr/>
            </p:nvGrpSpPr>
            <p:grpSpPr>
              <a:xfrm>
                <a:off x="3809880" y="4114800"/>
                <a:ext cx="304560" cy="304920"/>
                <a:chOff x="3809880" y="4114800"/>
                <a:chExt cx="304560" cy="304920"/>
              </a:xfrm>
            </p:grpSpPr>
            <p:sp>
              <p:nvSpPr>
                <p:cNvPr id="1121" name=""/>
                <p:cNvSpPr/>
                <p:nvPr/>
              </p:nvSpPr>
              <p:spPr>
                <a:xfrm>
                  <a:off x="3809880" y="4267080"/>
                  <a:ext cx="304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3962160" y="411480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3809880" y="4114800"/>
                  <a:ext cx="304560" cy="30492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4" name=""/>
              <p:cNvGrpSpPr/>
              <p:nvPr/>
            </p:nvGrpSpPr>
            <p:grpSpPr>
              <a:xfrm>
                <a:off x="6934320" y="4114800"/>
                <a:ext cx="304560" cy="304920"/>
                <a:chOff x="6934320" y="4114800"/>
                <a:chExt cx="304560" cy="304920"/>
              </a:xfrm>
            </p:grpSpPr>
            <p:sp>
              <p:nvSpPr>
                <p:cNvPr id="1125" name=""/>
                <p:cNvSpPr/>
                <p:nvPr/>
              </p:nvSpPr>
              <p:spPr>
                <a:xfrm>
                  <a:off x="6934320" y="4267080"/>
                  <a:ext cx="304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7086600" y="411480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6934320" y="4114800"/>
                  <a:ext cx="304560" cy="30492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8" name=""/>
              <p:cNvSpPr/>
              <p:nvPr/>
            </p:nvSpPr>
            <p:spPr>
              <a:xfrm>
                <a:off x="6477120" y="403848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1371600" y="403848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0" name=""/>
            <p:cNvSpPr/>
            <p:nvPr/>
          </p:nvSpPr>
          <p:spPr>
            <a:xfrm>
              <a:off x="1066680" y="4495680"/>
              <a:ext cx="3733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所以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F = A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1" name=""/>
            <p:cNvGrpSpPr/>
            <p:nvPr/>
          </p:nvGrpSpPr>
          <p:grpSpPr>
            <a:xfrm>
              <a:off x="0" y="5181480"/>
              <a:ext cx="8305920" cy="581400"/>
              <a:chOff x="0" y="5181480"/>
              <a:chExt cx="8305920" cy="581400"/>
            </a:xfrm>
          </p:grpSpPr>
          <p:grpSp>
            <p:nvGrpSpPr>
              <p:cNvPr id="1132" name=""/>
              <p:cNvGrpSpPr/>
              <p:nvPr/>
            </p:nvGrpSpPr>
            <p:grpSpPr>
              <a:xfrm>
                <a:off x="2514600" y="5334120"/>
                <a:ext cx="304560" cy="304560"/>
                <a:chOff x="2514600" y="5334120"/>
                <a:chExt cx="304560" cy="304560"/>
              </a:xfrm>
            </p:grpSpPr>
            <p:sp>
              <p:nvSpPr>
                <p:cNvPr id="1133" name=""/>
                <p:cNvSpPr/>
                <p:nvPr/>
              </p:nvSpPr>
              <p:spPr>
                <a:xfrm>
                  <a:off x="2514600" y="5486040"/>
                  <a:ext cx="304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2666880" y="53341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2514600" y="5334120"/>
                  <a:ext cx="304560" cy="3045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6" name=""/>
              <p:cNvGrpSpPr/>
              <p:nvPr/>
            </p:nvGrpSpPr>
            <p:grpSpPr>
              <a:xfrm>
                <a:off x="3581280" y="5334120"/>
                <a:ext cx="304560" cy="304560"/>
                <a:chOff x="3581280" y="5334120"/>
                <a:chExt cx="304560" cy="304560"/>
              </a:xfrm>
            </p:grpSpPr>
            <p:sp>
              <p:nvSpPr>
                <p:cNvPr id="1137" name=""/>
                <p:cNvSpPr/>
                <p:nvPr/>
              </p:nvSpPr>
              <p:spPr>
                <a:xfrm>
                  <a:off x="3581280" y="5486040"/>
                  <a:ext cx="304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3733560" y="53341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3581280" y="5334120"/>
                  <a:ext cx="304560" cy="3045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0" name=""/>
              <p:cNvSpPr/>
              <p:nvPr/>
            </p:nvSpPr>
            <p:spPr>
              <a:xfrm>
                <a:off x="1371600" y="525780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0" y="5181480"/>
                <a:ext cx="8305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M=0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：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Fi=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1    Ai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）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Ci-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1    Ai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）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Ci-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5181480" y="5257800"/>
                <a:ext cx="2362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3962520" y="525780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4" name=""/>
              <p:cNvGrpSpPr/>
              <p:nvPr/>
            </p:nvGrpSpPr>
            <p:grpSpPr>
              <a:xfrm>
                <a:off x="6553080" y="5334120"/>
                <a:ext cx="304560" cy="304560"/>
                <a:chOff x="6553080" y="5334120"/>
                <a:chExt cx="304560" cy="304560"/>
              </a:xfrm>
            </p:grpSpPr>
            <p:sp>
              <p:nvSpPr>
                <p:cNvPr id="1145" name=""/>
                <p:cNvSpPr/>
                <p:nvPr/>
              </p:nvSpPr>
              <p:spPr>
                <a:xfrm>
                  <a:off x="6553080" y="5486040"/>
                  <a:ext cx="304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6705360" y="53341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6553080" y="5334120"/>
                  <a:ext cx="304560" cy="3045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8" name=""/>
              <p:cNvGrpSpPr/>
              <p:nvPr/>
            </p:nvGrpSpPr>
            <p:grpSpPr>
              <a:xfrm>
                <a:off x="5562720" y="5334120"/>
                <a:ext cx="304560" cy="304560"/>
                <a:chOff x="5562720" y="5334120"/>
                <a:chExt cx="304560" cy="304560"/>
              </a:xfrm>
            </p:grpSpPr>
            <p:sp>
              <p:nvSpPr>
                <p:cNvPr id="1149" name=""/>
                <p:cNvSpPr/>
                <p:nvPr/>
              </p:nvSpPr>
              <p:spPr>
                <a:xfrm>
                  <a:off x="5562720" y="5486040"/>
                  <a:ext cx="304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5715000" y="53341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5562720" y="5334120"/>
                  <a:ext cx="304560" cy="3045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52" name=""/>
            <p:cNvSpPr/>
            <p:nvPr/>
          </p:nvSpPr>
          <p:spPr>
            <a:xfrm>
              <a:off x="1143000" y="5791320"/>
              <a:ext cx="624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所以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F = A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加全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 = A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减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086600" y="320040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减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4" name=""/>
            <p:cNvGrpSpPr/>
            <p:nvPr/>
          </p:nvGrpSpPr>
          <p:grpSpPr>
            <a:xfrm>
              <a:off x="5486400" y="3200400"/>
              <a:ext cx="1295280" cy="642600"/>
              <a:chOff x="5486400" y="3200400"/>
              <a:chExt cx="1295280" cy="642600"/>
            </a:xfrm>
          </p:grpSpPr>
          <p:sp>
            <p:nvSpPr>
              <p:cNvPr id="1155" name=""/>
              <p:cNvSpPr/>
              <p:nvPr/>
            </p:nvSpPr>
            <p:spPr>
              <a:xfrm>
                <a:off x="5486400" y="3200400"/>
                <a:ext cx="1295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5562720" y="335304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slow">
    <p:cover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"/>
          <p:cNvSpPr/>
          <p:nvPr/>
        </p:nvSpPr>
        <p:spPr>
          <a:xfrm>
            <a:off x="0" y="228600"/>
            <a:ext cx="8839080" cy="12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进位逻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组间串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8" name=""/>
          <p:cNvGrpSpPr/>
          <p:nvPr/>
        </p:nvGrpSpPr>
        <p:grpSpPr>
          <a:xfrm>
            <a:off x="-360" y="1676520"/>
            <a:ext cx="9525240" cy="1236600"/>
            <a:chOff x="-360" y="1676520"/>
            <a:chExt cx="9525240" cy="1236600"/>
          </a:xfrm>
        </p:grpSpPr>
        <p:sp>
          <p:nvSpPr>
            <p:cNvPr id="1159" name=""/>
            <p:cNvSpPr/>
            <p:nvPr/>
          </p:nvSpPr>
          <p:spPr>
            <a:xfrm>
              <a:off x="609480" y="1752480"/>
              <a:ext cx="1447920" cy="83772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057400" y="213336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85800" y="19047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6       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057400" y="16765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743200" y="1752480"/>
              <a:ext cx="1447920" cy="83772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191120" y="213336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819520" y="19047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6       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343400" y="16765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876920" y="1752480"/>
              <a:ext cx="1447560" cy="83772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324480" y="213336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952880" y="19047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6       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477120" y="16765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010280" y="1752480"/>
              <a:ext cx="1447920" cy="83772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8458200" y="213336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086600" y="19047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6       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8610480" y="16765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-360" y="213336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0" y="16765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934320" y="2514240"/>
              <a:ext cx="190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Cn+4     C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8" name=""/>
          <p:cNvSpPr/>
          <p:nvPr/>
        </p:nvSpPr>
        <p:spPr>
          <a:xfrm>
            <a:off x="0" y="320040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组间并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228600" y="3733920"/>
            <a:ext cx="8915400" cy="2898000"/>
            <a:chOff x="228600" y="3733920"/>
            <a:chExt cx="8915400" cy="2898000"/>
          </a:xfrm>
        </p:grpSpPr>
        <p:sp>
          <p:nvSpPr>
            <p:cNvPr id="1180" name=""/>
            <p:cNvSpPr/>
            <p:nvPr/>
          </p:nvSpPr>
          <p:spPr>
            <a:xfrm flipH="1">
              <a:off x="228600" y="57909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33520" y="4190760"/>
              <a:ext cx="7924680" cy="53316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2" name=""/>
            <p:cNvGrpSpPr/>
            <p:nvPr/>
          </p:nvGrpSpPr>
          <p:grpSpPr>
            <a:xfrm>
              <a:off x="457200" y="4724280"/>
              <a:ext cx="2438280" cy="1907280"/>
              <a:chOff x="457200" y="4724280"/>
              <a:chExt cx="2438280" cy="1907280"/>
            </a:xfrm>
          </p:grpSpPr>
          <p:sp>
            <p:nvSpPr>
              <p:cNvPr id="1183" name=""/>
              <p:cNvSpPr/>
              <p:nvPr/>
            </p:nvSpPr>
            <p:spPr>
              <a:xfrm>
                <a:off x="609480" y="5409720"/>
                <a:ext cx="1447920" cy="761760"/>
              </a:xfrm>
              <a:prstGeom prst="rect">
                <a:avLst/>
              </a:prstGeom>
              <a:solidFill>
                <a:srgbClr val="00cc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2361960" y="472428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flipH="1">
                <a:off x="2057400" y="579096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457200" y="5333760"/>
                <a:ext cx="1523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17   1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1752480" y="556236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 flipV="1">
                <a:off x="990360" y="4724280"/>
                <a:ext cx="0" cy="685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 flipV="1">
                <a:off x="1371600" y="4724280"/>
                <a:ext cx="0" cy="685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61760" y="6171840"/>
                <a:ext cx="121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7418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2057400" y="579096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II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2" name=""/>
            <p:cNvGrpSpPr/>
            <p:nvPr/>
          </p:nvGrpSpPr>
          <p:grpSpPr>
            <a:xfrm>
              <a:off x="2514600" y="4724280"/>
              <a:ext cx="2438280" cy="1907280"/>
              <a:chOff x="2514600" y="4724280"/>
              <a:chExt cx="2438280" cy="1907280"/>
            </a:xfrm>
          </p:grpSpPr>
          <p:sp>
            <p:nvSpPr>
              <p:cNvPr id="1193" name=""/>
              <p:cNvSpPr/>
              <p:nvPr/>
            </p:nvSpPr>
            <p:spPr>
              <a:xfrm>
                <a:off x="2666880" y="5409720"/>
                <a:ext cx="1447920" cy="761760"/>
              </a:xfrm>
              <a:prstGeom prst="rect">
                <a:avLst/>
              </a:prstGeom>
              <a:solidFill>
                <a:srgbClr val="00cc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4419360" y="472428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flipH="1">
                <a:off x="4114800" y="579096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2514600" y="5333760"/>
                <a:ext cx="1523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17   1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809880" y="556236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flipV="1">
                <a:off x="3047760" y="4724280"/>
                <a:ext cx="0" cy="685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 flipV="1">
                <a:off x="3429000" y="4724280"/>
                <a:ext cx="0" cy="685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2819160" y="6171840"/>
                <a:ext cx="121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7418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4114800" y="579096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I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2" name=""/>
            <p:cNvGrpSpPr/>
            <p:nvPr/>
          </p:nvGrpSpPr>
          <p:grpSpPr>
            <a:xfrm>
              <a:off x="4572000" y="4724280"/>
              <a:ext cx="2438280" cy="1907280"/>
              <a:chOff x="4572000" y="4724280"/>
              <a:chExt cx="2438280" cy="1907280"/>
            </a:xfrm>
          </p:grpSpPr>
          <p:sp>
            <p:nvSpPr>
              <p:cNvPr id="1203" name=""/>
              <p:cNvSpPr/>
              <p:nvPr/>
            </p:nvSpPr>
            <p:spPr>
              <a:xfrm>
                <a:off x="4724280" y="5409720"/>
                <a:ext cx="1447920" cy="761760"/>
              </a:xfrm>
              <a:prstGeom prst="rect">
                <a:avLst/>
              </a:prstGeom>
              <a:solidFill>
                <a:srgbClr val="00cc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6476760" y="472428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flipH="1">
                <a:off x="6172200" y="579096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572000" y="5333760"/>
                <a:ext cx="1523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17   1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867280" y="556236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flipV="1">
                <a:off x="5105160" y="4724280"/>
                <a:ext cx="0" cy="685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flipV="1">
                <a:off x="5486400" y="4724280"/>
                <a:ext cx="0" cy="685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4876560" y="6171840"/>
                <a:ext cx="121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7418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172200" y="579096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2" name=""/>
            <p:cNvSpPr/>
            <p:nvPr/>
          </p:nvSpPr>
          <p:spPr>
            <a:xfrm>
              <a:off x="6858000" y="5410080"/>
              <a:ext cx="1447920" cy="76176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8763120" y="4419360"/>
              <a:ext cx="0" cy="137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H="1">
              <a:off x="8305920" y="57909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705720" y="53337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7   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8001000" y="55623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7238880" y="4724280"/>
              <a:ext cx="0" cy="68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V="1">
              <a:off x="7620120" y="4724280"/>
              <a:ext cx="0" cy="68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010280" y="61722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7418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8305920" y="579096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971800" y="419076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7418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并行进位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H="1">
              <a:off x="8458200" y="44193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3" name=""/>
            <p:cNvGrpSpPr/>
            <p:nvPr/>
          </p:nvGrpSpPr>
          <p:grpSpPr>
            <a:xfrm>
              <a:off x="6705720" y="4952880"/>
              <a:ext cx="838080" cy="459720"/>
              <a:chOff x="6705720" y="4952880"/>
              <a:chExt cx="838080" cy="459720"/>
            </a:xfrm>
          </p:grpSpPr>
          <p:sp>
            <p:nvSpPr>
              <p:cNvPr id="1224" name=""/>
              <p:cNvSpPr/>
              <p:nvPr/>
            </p:nvSpPr>
            <p:spPr>
              <a:xfrm>
                <a:off x="6705720" y="495288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858000" y="50284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6" name=""/>
            <p:cNvGrpSpPr/>
            <p:nvPr/>
          </p:nvGrpSpPr>
          <p:grpSpPr>
            <a:xfrm>
              <a:off x="7696080" y="4952880"/>
              <a:ext cx="838080" cy="459720"/>
              <a:chOff x="7696080" y="4952880"/>
              <a:chExt cx="838080" cy="459720"/>
            </a:xfrm>
          </p:grpSpPr>
          <p:sp>
            <p:nvSpPr>
              <p:cNvPr id="1227" name=""/>
              <p:cNvSpPr/>
              <p:nvPr/>
            </p:nvSpPr>
            <p:spPr>
              <a:xfrm>
                <a:off x="7696080" y="495288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7772040" y="50284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9" name=""/>
            <p:cNvSpPr/>
            <p:nvPr/>
          </p:nvSpPr>
          <p:spPr>
            <a:xfrm flipV="1">
              <a:off x="1219320" y="3809520"/>
              <a:ext cx="0" cy="38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V="1">
              <a:off x="1447920" y="3809520"/>
              <a:ext cx="0" cy="38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838080" y="37339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      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914400" y="38098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600200" y="38098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ld"/>
  </p:transition>
  <p:timing>
    <p:tnLst>
      <p:par>
        <p:cTn id="1297" dur="indefinite" restart="never" nodeType="tmRoot">
          <p:childTnLst>
            <p:seq>
              <p:cTn id="1298" dur="indefinite" nodeType="mainSeq">
                <p:childTnLst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3" dur="500"/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8" dur="500"/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3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8" dur="500"/>
                                        <p:tgtEl>
                                          <p:spTgt spid="1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3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"/>
          <p:cNvSpPr/>
          <p:nvPr/>
        </p:nvSpPr>
        <p:spPr>
          <a:xfrm>
            <a:off x="304920" y="53352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二节  运算器组织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048120" y="18288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352680" y="14479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独立结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276720" y="2590920"/>
            <a:ext cx="2438280" cy="12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小型存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器结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638680" y="27432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5867280" y="2590920"/>
            <a:ext cx="1524240" cy="12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单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双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85800" y="182880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寄存器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0" y="434340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独立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R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双口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RAM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用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多路选择器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作为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ALU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输入逻辑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单口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RAM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用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锁存器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作为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ALU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输入逻辑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30" dur="500"/>
                                        <p:tgtEl>
                                          <p:spTgt spid="1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5" dur="500"/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9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4" dur="500"/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4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500"/>
                            </p:stCondLst>
                            <p:childTnLst>
                              <p:par>
                                <p:cTn id="1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8" dur="500"/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2" dur="500"/>
                                        <p:tgtEl>
                                          <p:spTgt spid="1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7" dur="500"/>
                                        <p:tgtEl>
                                          <p:spTgt spid="1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2" dur="500"/>
                                        <p:tgtEl>
                                          <p:spTgt spid="1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533520" y="2971800"/>
            <a:ext cx="5715000" cy="3248280"/>
            <a:chOff x="533520" y="2971800"/>
            <a:chExt cx="5715000" cy="3248280"/>
          </a:xfrm>
        </p:grpSpPr>
        <p:sp>
          <p:nvSpPr>
            <p:cNvPr id="116" name=""/>
            <p:cNvSpPr/>
            <p:nvPr/>
          </p:nvSpPr>
          <p:spPr>
            <a:xfrm>
              <a:off x="1067040" y="3809880"/>
              <a:ext cx="3962160" cy="129564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52840" y="4114800"/>
              <a:ext cx="281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加法单元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1676520" y="5105160"/>
              <a:ext cx="0" cy="609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886200" y="3200040"/>
              <a:ext cx="0" cy="609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3048120" y="5105160"/>
              <a:ext cx="0" cy="609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496040" y="5105160"/>
              <a:ext cx="0" cy="609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96040" y="57150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10040" y="335268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1295640" y="3352680"/>
              <a:ext cx="914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67040" y="5638680"/>
              <a:ext cx="5181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Ai          Bi                  Ci-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3520" y="29718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C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14800" y="29718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∑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 rot="16200000">
            <a:off x="2400120" y="5753160"/>
            <a:ext cx="76320" cy="914400"/>
          </a:xfrm>
          <a:custGeom>
            <a:avLst/>
            <a:gdLst>
              <a:gd name="textAreaLeft" fmla="*/ 48960 w 76320"/>
              <a:gd name="textAreaRight" fmla="*/ 7632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62784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本位操作数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62784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低位进位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4382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本位进位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29000" y="24382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本位和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228600"/>
            <a:ext cx="7086600" cy="20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一节   算术逻辑运算部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.1.1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加法单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加法单元的输入和输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19920" y="2590920"/>
            <a:ext cx="3124080" cy="29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一个输入为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∑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i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为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Ci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为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两个输入为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∑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i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为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Ci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为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三个输入为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∑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i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为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Ci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为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"/>
          <p:cNvSpPr/>
          <p:nvPr/>
        </p:nvSpPr>
        <p:spPr>
          <a:xfrm>
            <a:off x="380880" y="30492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.2.1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带多路选择器的运算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3" name=""/>
          <p:cNvGrpSpPr/>
          <p:nvPr/>
        </p:nvGrpSpPr>
        <p:grpSpPr>
          <a:xfrm>
            <a:off x="228600" y="1143000"/>
            <a:ext cx="7772400" cy="4345920"/>
            <a:chOff x="228600" y="1143000"/>
            <a:chExt cx="7772400" cy="4345920"/>
          </a:xfrm>
        </p:grpSpPr>
        <p:sp>
          <p:nvSpPr>
            <p:cNvPr id="1244" name=""/>
            <p:cNvSpPr/>
            <p:nvPr/>
          </p:nvSpPr>
          <p:spPr>
            <a:xfrm>
              <a:off x="1143000" y="1981440"/>
              <a:ext cx="1371600" cy="53316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905120" y="1600200"/>
              <a:ext cx="6095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143000" y="2971800"/>
              <a:ext cx="1371600" cy="53352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1981440" y="4038840"/>
              <a:ext cx="1371600" cy="53316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04920" y="4038840"/>
              <a:ext cx="1371600" cy="53316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962520" y="1981440"/>
              <a:ext cx="1371600" cy="53316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248520" y="1981440"/>
              <a:ext cx="1371600" cy="53316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V="1">
              <a:off x="4648320" y="159984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V="1">
              <a:off x="1371600" y="350532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V="1">
              <a:off x="1828800" y="25146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V="1">
              <a:off x="1905120" y="159984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 flipV="1">
              <a:off x="6934320" y="159984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V="1">
              <a:off x="1371600" y="457164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V="1">
              <a:off x="533520" y="457164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V="1">
              <a:off x="2210040" y="350532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V="1">
              <a:off x="4648320" y="251424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V="1">
              <a:off x="6934320" y="251424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V="1">
              <a:off x="3124440" y="457164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V="1">
              <a:off x="2210040" y="457164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09840" y="487692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286000" y="487692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410440" y="221004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29564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移位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371600" y="304812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L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905120" y="411480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多路选择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28600" y="411480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多路选择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343400" y="20574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629400" y="20574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04920" y="502920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 . . Rn       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 . . R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505320" y="114300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内部总线（单向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4" name=""/>
          <p:cNvSpPr/>
          <p:nvPr/>
        </p:nvSpPr>
        <p:spPr>
          <a:xfrm>
            <a:off x="3657600" y="3581280"/>
            <a:ext cx="6705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特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R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各自独立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可同时向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ALU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提供两个操作数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采用单向内总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1373" dur="indefinite" restart="never" nodeType="tmRoot">
          <p:childTnLst>
            <p:seq>
              <p:cTn id="1374" dur="indefinite" nodeType="mainSeq">
                <p:childTnLst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9" dur="500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4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"/>
          <p:cNvSpPr/>
          <p:nvPr/>
        </p:nvSpPr>
        <p:spPr>
          <a:xfrm>
            <a:off x="380880" y="30492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.2.2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带输入锁存器的运算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029200" y="1295280"/>
            <a:ext cx="44197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特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单口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RAM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不能同时向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ALU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提供两个操作数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用锁存器暂存操作数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采用双向内总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7" name=""/>
          <p:cNvGrpSpPr/>
          <p:nvPr/>
        </p:nvGrpSpPr>
        <p:grpSpPr>
          <a:xfrm>
            <a:off x="304920" y="1294920"/>
            <a:ext cx="7619760" cy="5337000"/>
            <a:chOff x="304920" y="1294920"/>
            <a:chExt cx="7619760" cy="5337000"/>
          </a:xfrm>
        </p:grpSpPr>
        <p:sp>
          <p:nvSpPr>
            <p:cNvPr id="1278" name=""/>
            <p:cNvSpPr/>
            <p:nvPr/>
          </p:nvSpPr>
          <p:spPr>
            <a:xfrm>
              <a:off x="1523880" y="1676520"/>
              <a:ext cx="1371600" cy="53316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04920" y="4648320"/>
              <a:ext cx="6095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523880" y="2666880"/>
              <a:ext cx="1371600" cy="53352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362320" y="3733920"/>
              <a:ext cx="1371600" cy="53316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85800" y="3733920"/>
              <a:ext cx="1371600" cy="53316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V="1">
              <a:off x="4572000" y="1295280"/>
              <a:ext cx="0" cy="335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V="1">
              <a:off x="1752480" y="32004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V="1">
              <a:off x="2209680" y="22096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V="1">
              <a:off x="2286000" y="129492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V="1">
              <a:off x="2209680" y="4648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V="1">
              <a:off x="1295280" y="426672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V="1">
              <a:off x="2590920" y="32004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V="1">
              <a:off x="2971800" y="426672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676520" y="16765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移位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752480" y="27432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L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514600" y="380988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锁存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838080" y="380988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锁存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581280" y="464832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内部总线（双向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286000" y="1295280"/>
              <a:ext cx="22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219320" y="5029200"/>
              <a:ext cx="1981080" cy="160020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295280" y="54864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219320" y="548640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219320" y="617220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905120" y="50292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905120" y="61722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133720" y="5562720"/>
              <a:ext cx="0" cy="53316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657600" y="5638680"/>
              <a:ext cx="42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通用寄存器组（小型存储器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3429000" y="5334120"/>
              <a:ext cx="76320" cy="106668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209680" y="4724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ld"/>
  </p:transition>
  <p:timing>
    <p:tnLst>
      <p:par>
        <p:cTn id="1391" dur="indefinite" restart="never" nodeType="tmRoot">
          <p:childTnLst>
            <p:seq>
              <p:cTn id="1392" dur="indefinite" nodeType="mainSeq">
                <p:childTnLst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7" dur="500"/>
                                        <p:tgtEl>
                                          <p:spTgt spid="1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2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/>
          <p:nvPr/>
        </p:nvSpPr>
        <p:spPr>
          <a:xfrm>
            <a:off x="0" y="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.2.3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位片式运算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5638680" y="990720"/>
            <a:ext cx="350532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特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用双口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RAM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（两地址端、两数据端）作通用寄存器组，可同时提供数据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用多路选择器作输入逻辑，不需暂存操作数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ALU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增加乘、除功能，用乘商寄存器存放乘数、乘积或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0" y="9144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 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位片运算器粗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0" name=""/>
          <p:cNvGrpSpPr/>
          <p:nvPr/>
        </p:nvGrpSpPr>
        <p:grpSpPr>
          <a:xfrm>
            <a:off x="228600" y="1676520"/>
            <a:ext cx="5257800" cy="5184000"/>
            <a:chOff x="228600" y="1676520"/>
            <a:chExt cx="5257800" cy="5184000"/>
          </a:xfrm>
        </p:grpSpPr>
        <p:sp>
          <p:nvSpPr>
            <p:cNvPr id="1311" name=""/>
            <p:cNvSpPr/>
            <p:nvPr/>
          </p:nvSpPr>
          <p:spPr>
            <a:xfrm>
              <a:off x="1676520" y="2362320"/>
              <a:ext cx="1371600" cy="53316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28600" y="6400800"/>
              <a:ext cx="205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676520" y="3352680"/>
              <a:ext cx="1371600" cy="53352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514600" y="4419720"/>
              <a:ext cx="1371600" cy="53316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838080" y="4419720"/>
              <a:ext cx="1371600" cy="53316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352680" y="2362320"/>
              <a:ext cx="1828800" cy="53316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676520" y="5486400"/>
              <a:ext cx="1371600" cy="53352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V="1">
              <a:off x="4191120" y="198072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V="1">
              <a:off x="1905120" y="38862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V="1">
              <a:off x="2362320" y="28954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V="1">
              <a:off x="2362320" y="17524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 flipV="1">
              <a:off x="1905120" y="49528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V="1">
              <a:off x="1066680" y="495252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V="1">
              <a:off x="2743200" y="38862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V="1">
              <a:off x="3733920" y="495252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 flipV="1">
              <a:off x="3200400" y="495252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V="1">
              <a:off x="2743200" y="49528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1828800" y="23623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移位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1905120" y="34290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L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438280" y="449568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多路选择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62120" y="449568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多路选择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514600" y="16765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905120" y="55627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V="1">
              <a:off x="2286000" y="601956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28600" y="213372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28600" y="2133720"/>
              <a:ext cx="0" cy="426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733920" y="533412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191120" y="198108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334120" y="1981080"/>
              <a:ext cx="0" cy="335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362320" y="320040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 flipV="1">
              <a:off x="4191120" y="289512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H="1">
              <a:off x="3047760" y="36576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362320" y="64008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429000" y="57150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B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地址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H="1">
              <a:off x="3047760" y="571500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143000" y="571500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28600" y="571500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地址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733920" y="3352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C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124080" y="5105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57200" y="5105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80880" y="31240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H="1">
              <a:off x="1219320" y="3429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H="1">
              <a:off x="1219320" y="36576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H="1">
              <a:off x="1219320" y="38862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28600" y="380988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控制信息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80880" y="34290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Cn+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57200" y="32004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990720" y="32004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352680" y="23623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乘商寄存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0" name=""/>
            <p:cNvGrpSpPr/>
            <p:nvPr/>
          </p:nvGrpSpPr>
          <p:grpSpPr>
            <a:xfrm>
              <a:off x="1066680" y="1752480"/>
              <a:ext cx="457200" cy="437760"/>
              <a:chOff x="1066680" y="1752480"/>
              <a:chExt cx="457200" cy="437760"/>
            </a:xfrm>
          </p:grpSpPr>
          <p:sp>
            <p:nvSpPr>
              <p:cNvPr id="1361" name=""/>
              <p:cNvSpPr/>
              <p:nvPr/>
            </p:nvSpPr>
            <p:spPr>
              <a:xfrm flipH="1">
                <a:off x="1218960" y="2015280"/>
                <a:ext cx="152640" cy="174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1066680" y="175248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3" name=""/>
            <p:cNvGrpSpPr/>
            <p:nvPr/>
          </p:nvGrpSpPr>
          <p:grpSpPr>
            <a:xfrm>
              <a:off x="3276720" y="2895480"/>
              <a:ext cx="457200" cy="398880"/>
              <a:chOff x="3276720" y="2895480"/>
              <a:chExt cx="457200" cy="398880"/>
            </a:xfrm>
          </p:grpSpPr>
          <p:sp>
            <p:nvSpPr>
              <p:cNvPr id="1364" name=""/>
              <p:cNvSpPr/>
              <p:nvPr/>
            </p:nvSpPr>
            <p:spPr>
              <a:xfrm flipH="1">
                <a:off x="3429000" y="3124080"/>
                <a:ext cx="1526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3276720" y="289548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6" name=""/>
            <p:cNvGrpSpPr/>
            <p:nvPr/>
          </p:nvGrpSpPr>
          <p:grpSpPr>
            <a:xfrm>
              <a:off x="1143000" y="5410080"/>
              <a:ext cx="457200" cy="398880"/>
              <a:chOff x="1143000" y="5410080"/>
              <a:chExt cx="457200" cy="398880"/>
            </a:xfrm>
          </p:grpSpPr>
          <p:sp>
            <p:nvSpPr>
              <p:cNvPr id="1367" name=""/>
              <p:cNvSpPr/>
              <p:nvPr/>
            </p:nvSpPr>
            <p:spPr>
              <a:xfrm flipH="1">
                <a:off x="1295280" y="5638680"/>
                <a:ext cx="1526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1143000" y="541008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9" name=""/>
            <p:cNvGrpSpPr/>
            <p:nvPr/>
          </p:nvGrpSpPr>
          <p:grpSpPr>
            <a:xfrm>
              <a:off x="5029200" y="3505320"/>
              <a:ext cx="457200" cy="398880"/>
              <a:chOff x="5029200" y="3505320"/>
              <a:chExt cx="457200" cy="398880"/>
            </a:xfrm>
          </p:grpSpPr>
          <p:sp>
            <p:nvSpPr>
              <p:cNvPr id="1370" name=""/>
              <p:cNvSpPr/>
              <p:nvPr/>
            </p:nvSpPr>
            <p:spPr>
              <a:xfrm flipH="1">
                <a:off x="5257440" y="3733920"/>
                <a:ext cx="1522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5029200" y="350532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2" name=""/>
            <p:cNvGrpSpPr/>
            <p:nvPr/>
          </p:nvGrpSpPr>
          <p:grpSpPr>
            <a:xfrm>
              <a:off x="2438280" y="3962520"/>
              <a:ext cx="457200" cy="398880"/>
              <a:chOff x="2438280" y="3962520"/>
              <a:chExt cx="457200" cy="398880"/>
            </a:xfrm>
          </p:grpSpPr>
          <p:sp>
            <p:nvSpPr>
              <p:cNvPr id="1373" name=""/>
              <p:cNvSpPr/>
              <p:nvPr/>
            </p:nvSpPr>
            <p:spPr>
              <a:xfrm flipH="1">
                <a:off x="2666520" y="4191120"/>
                <a:ext cx="1522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2438280" y="396252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5" name=""/>
            <p:cNvGrpSpPr/>
            <p:nvPr/>
          </p:nvGrpSpPr>
          <p:grpSpPr>
            <a:xfrm>
              <a:off x="1600200" y="3962520"/>
              <a:ext cx="457200" cy="398880"/>
              <a:chOff x="1600200" y="3962520"/>
              <a:chExt cx="457200" cy="398880"/>
            </a:xfrm>
          </p:grpSpPr>
          <p:sp>
            <p:nvSpPr>
              <p:cNvPr id="1376" name=""/>
              <p:cNvSpPr/>
              <p:nvPr/>
            </p:nvSpPr>
            <p:spPr>
              <a:xfrm flipH="1">
                <a:off x="1828440" y="4191120"/>
                <a:ext cx="1522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1600200" y="396252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8" name=""/>
            <p:cNvGrpSpPr/>
            <p:nvPr/>
          </p:nvGrpSpPr>
          <p:grpSpPr>
            <a:xfrm>
              <a:off x="3200400" y="5410080"/>
              <a:ext cx="457200" cy="398880"/>
              <a:chOff x="3200400" y="5410080"/>
              <a:chExt cx="457200" cy="398880"/>
            </a:xfrm>
          </p:grpSpPr>
          <p:sp>
            <p:nvSpPr>
              <p:cNvPr id="1379" name=""/>
              <p:cNvSpPr/>
              <p:nvPr/>
            </p:nvSpPr>
            <p:spPr>
              <a:xfrm flipH="1">
                <a:off x="3352680" y="5638680"/>
                <a:ext cx="1526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3200400" y="541008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1" name=""/>
            <p:cNvGrpSpPr/>
            <p:nvPr/>
          </p:nvGrpSpPr>
          <p:grpSpPr>
            <a:xfrm>
              <a:off x="2057400" y="2819520"/>
              <a:ext cx="457200" cy="398880"/>
              <a:chOff x="2057400" y="2819520"/>
              <a:chExt cx="457200" cy="398880"/>
            </a:xfrm>
          </p:grpSpPr>
          <p:sp>
            <p:nvSpPr>
              <p:cNvPr id="1382" name=""/>
              <p:cNvSpPr/>
              <p:nvPr/>
            </p:nvSpPr>
            <p:spPr>
              <a:xfrm flipH="1">
                <a:off x="2285640" y="3048120"/>
                <a:ext cx="1522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2057400" y="281952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4" name=""/>
            <p:cNvGrpSpPr/>
            <p:nvPr/>
          </p:nvGrpSpPr>
          <p:grpSpPr>
            <a:xfrm>
              <a:off x="2057400" y="1676520"/>
              <a:ext cx="457200" cy="398880"/>
              <a:chOff x="2057400" y="1676520"/>
              <a:chExt cx="457200" cy="398880"/>
            </a:xfrm>
          </p:grpSpPr>
          <p:sp>
            <p:nvSpPr>
              <p:cNvPr id="1385" name=""/>
              <p:cNvSpPr/>
              <p:nvPr/>
            </p:nvSpPr>
            <p:spPr>
              <a:xfrm flipH="1">
                <a:off x="2285640" y="1905120"/>
                <a:ext cx="1522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2057400" y="167652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7" name=""/>
            <p:cNvGrpSpPr/>
            <p:nvPr/>
          </p:nvGrpSpPr>
          <p:grpSpPr>
            <a:xfrm>
              <a:off x="1981080" y="5943600"/>
              <a:ext cx="457200" cy="398880"/>
              <a:chOff x="1981080" y="5943600"/>
              <a:chExt cx="457200" cy="398880"/>
            </a:xfrm>
          </p:grpSpPr>
          <p:sp>
            <p:nvSpPr>
              <p:cNvPr id="1388" name=""/>
              <p:cNvSpPr/>
              <p:nvPr/>
            </p:nvSpPr>
            <p:spPr>
              <a:xfrm flipH="1">
                <a:off x="2209320" y="6172200"/>
                <a:ext cx="1522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1981080" y="594360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0" name=""/>
            <p:cNvGrpSpPr/>
            <p:nvPr/>
          </p:nvGrpSpPr>
          <p:grpSpPr>
            <a:xfrm>
              <a:off x="1600200" y="5029200"/>
              <a:ext cx="457200" cy="398880"/>
              <a:chOff x="1600200" y="5029200"/>
              <a:chExt cx="457200" cy="398880"/>
            </a:xfrm>
          </p:grpSpPr>
          <p:sp>
            <p:nvSpPr>
              <p:cNvPr id="1391" name=""/>
              <p:cNvSpPr/>
              <p:nvPr/>
            </p:nvSpPr>
            <p:spPr>
              <a:xfrm flipH="1">
                <a:off x="1828440" y="5257800"/>
                <a:ext cx="1522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1600200" y="502920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3" name=""/>
            <p:cNvGrpSpPr/>
            <p:nvPr/>
          </p:nvGrpSpPr>
          <p:grpSpPr>
            <a:xfrm>
              <a:off x="2438280" y="5029200"/>
              <a:ext cx="457200" cy="398880"/>
              <a:chOff x="2438280" y="5029200"/>
              <a:chExt cx="457200" cy="398880"/>
            </a:xfrm>
          </p:grpSpPr>
          <p:sp>
            <p:nvSpPr>
              <p:cNvPr id="1394" name=""/>
              <p:cNvSpPr/>
              <p:nvPr/>
            </p:nvSpPr>
            <p:spPr>
              <a:xfrm flipH="1">
                <a:off x="2666520" y="5257800"/>
                <a:ext cx="1522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2438280" y="502920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slow">
    <p:cover dir="ld"/>
  </p:transition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5" dur="500"/>
                                        <p:tgtEl>
                                          <p:spTgt spid="1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0" dur="500"/>
                                        <p:tgtEl>
                                          <p:spTgt spid="1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5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"/>
          <p:cNvSpPr/>
          <p:nvPr/>
        </p:nvSpPr>
        <p:spPr>
          <a:xfrm>
            <a:off x="304920" y="3049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三节  定点加减运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0" y="12952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.3.1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补码加减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1066680" y="213372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数用补码表示，符号位参加运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990720" y="3505320"/>
            <a:ext cx="79246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Times New Roman"/>
                <a:ea typeface="黑体"/>
              </a:rPr>
              <a:t>实际操作能否只取决于操作码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黑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Times New Roman"/>
                <a:ea typeface="黑体"/>
              </a:rPr>
              <a:t>结果需不需修正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Times New Roman"/>
                <a:ea typeface="黑体"/>
              </a:rPr>
              <a:t>如何将减法转换为加法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1432" dur="indefinite" restart="never" nodeType="tmRoot">
          <p:childTnLst>
            <p:seq>
              <p:cTn id="1433" dur="indefinite" nodeType="mainSeq">
                <p:childTnLst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8" dur="500"/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3" dur="500"/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1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1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1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1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"/>
          <p:cNvSpPr/>
          <p:nvPr/>
        </p:nvSpPr>
        <p:spPr>
          <a:xfrm>
            <a:off x="0" y="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基本关系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0" y="914400"/>
            <a:ext cx="86104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黑体"/>
              </a:rPr>
              <a:t>( X + Y 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补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黑体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黑体"/>
              </a:rPr>
              <a:t>= X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补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黑体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黑体"/>
              </a:rPr>
              <a:t>+  Y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黑体"/>
              </a:rPr>
              <a:t>( X -  Y 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补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黑体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黑体"/>
              </a:rPr>
              <a:t>= X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补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黑体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黑体"/>
              </a:rPr>
              <a:t>+  (-Y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28600" y="2362320"/>
            <a:ext cx="82296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式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操作码为“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时，两数直接相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0" y="5424480"/>
            <a:ext cx="16002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) X=  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= –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1295280" y="5410080"/>
            <a:ext cx="22860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0 00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1 11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276720" y="60958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3429000" y="59436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1523880" y="632448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2133720" y="63388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 0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2971800" y="6400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+1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补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4495680" y="3657600"/>
            <a:ext cx="16002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) X= –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= –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5791320" y="3657600"/>
            <a:ext cx="22860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1 1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1 11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7772400" y="43434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7924680" y="41911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019920" y="4572000"/>
            <a:ext cx="2209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629400" y="4572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 10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7391520" y="45720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–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补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0" y="3657600"/>
            <a:ext cx="16002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) X=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=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1143000" y="3657600"/>
            <a:ext cx="22860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0 00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0 0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3124080" y="43434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3276720" y="41911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371600" y="4572000"/>
            <a:ext cx="2209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1981080" y="4572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 0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2819520" y="46483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+5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补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4495680" y="5410080"/>
            <a:ext cx="16002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) X= –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=  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5867280" y="5410080"/>
            <a:ext cx="22860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1 1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0 0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7848720" y="60958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8001000" y="59436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6095880" y="632448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6705720" y="63388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 11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7543800" y="6338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–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补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5486400" y="2819520"/>
            <a:ext cx="2362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28600" y="29718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X+Y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1468" dur="indefinite" restart="never" nodeType="tmRoot">
          <p:childTnLst>
            <p:seq>
              <p:cTn id="1469" dur="indefinite" nodeType="mainSeq">
                <p:childTnLst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4" dur="500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5" dur="500"/>
                                        <p:tgtEl>
                                          <p:spTgt spid="1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500"/>
                            </p:stCondLst>
                            <p:childTnLst>
                              <p:par>
                                <p:cTn id="1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9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4" dur="500"/>
                                        <p:tgtEl>
                                          <p:spTgt spid="1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9" dur="500"/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4" dur="500"/>
                                        <p:tgtEl>
                                          <p:spTgt spid="1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9" dur="500"/>
                                        <p:tgtEl>
                                          <p:spTgt spid="1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4" dur="500"/>
                                        <p:tgtEl>
                                          <p:spTgt spid="1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9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500"/>
                            </p:stCondLst>
                            <p:childTnLst>
                              <p:par>
                                <p:cTn id="1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3" dur="5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7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2" dur="500"/>
                                        <p:tgtEl>
                                          <p:spTgt spid="1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7" dur="500"/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2" dur="500"/>
                                        <p:tgtEl>
                                          <p:spTgt spid="1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7" dur="500"/>
                                        <p:tgtEl>
                                          <p:spTgt spid="1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2" dur="500"/>
                                        <p:tgtEl>
                                          <p:spTgt spid="1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7" dur="500"/>
                                        <p:tgtEl>
                                          <p:spTgt spid="1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2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500"/>
                            </p:stCondLst>
                            <p:childTnLst>
                              <p:par>
                                <p:cTn id="1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6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0" dur="5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5" dur="500"/>
                                        <p:tgtEl>
                                          <p:spTgt spid="1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0" dur="500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5" dur="500"/>
                                        <p:tgtEl>
                                          <p:spTgt spid="1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0" dur="500"/>
                                        <p:tgtEl>
                                          <p:spTgt spid="1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5" dur="500"/>
                                        <p:tgtEl>
                                          <p:spTgt spid="1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0" dur="500"/>
                                        <p:tgtEl>
                                          <p:spTgt spid="1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5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6" fill="hold">
                            <p:stCondLst>
                              <p:cond delay="500"/>
                            </p:stCondLst>
                            <p:childTnLst>
                              <p:par>
                                <p:cTn id="16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9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3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8" dur="500"/>
                                        <p:tgtEl>
                                          <p:spTgt spid="1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3" dur="500"/>
                                        <p:tgtEl>
                                          <p:spTgt spid="1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8" dur="500"/>
                                        <p:tgtEl>
                                          <p:spTgt spid="1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3" dur="500"/>
                                        <p:tgtEl>
                                          <p:spTgt spid="1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8" dur="500"/>
                                        <p:tgtEl>
                                          <p:spTgt spid="1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3" dur="500"/>
                                        <p:tgtEl>
                                          <p:spTgt spid="1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8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9" fill="hold">
                            <p:stCondLst>
                              <p:cond delay="500"/>
                            </p:stCondLst>
                            <p:childTnLst>
                              <p:par>
                                <p:cTn id="16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2" dur="5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6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1" dur="500"/>
                                        <p:tgtEl>
                                          <p:spTgt spid="1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500"/>
                                        <p:tgtEl>
                                          <p:spTgt spid="1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"/>
          <p:cNvSpPr/>
          <p:nvPr/>
        </p:nvSpPr>
        <p:spPr>
          <a:xfrm>
            <a:off x="0" y="228600"/>
            <a:ext cx="86104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黑体"/>
              </a:rPr>
              <a:t>( X + Y 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补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黑体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黑体"/>
              </a:rPr>
              <a:t>= X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补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黑体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黑体"/>
              </a:rPr>
              <a:t>+  Y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黑体"/>
              </a:rPr>
              <a:t>( X -  Y 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补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黑体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黑体"/>
              </a:rPr>
              <a:t>= X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补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黑体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黑体"/>
              </a:rPr>
              <a:t>+  (-Y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228600" y="1752480"/>
            <a:ext cx="86868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式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操作码为“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时，将减转换为加。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0" y="4952880"/>
            <a:ext cx="16002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) X=  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= –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143000" y="4952880"/>
            <a:ext cx="259092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0 0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1 10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-Y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0 0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429000" y="60958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581280" y="59436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1219320" y="632448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2209680" y="6338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 1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3048120" y="64008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+9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补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4495680" y="4876920"/>
            <a:ext cx="16002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) X= –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=  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5638680" y="4876920"/>
            <a:ext cx="22860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1 1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0 0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-Y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1 10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7848720" y="60958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8001000" y="59436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5791320" y="632448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6705720" y="63388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 01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7543800" y="6338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–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补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228600" y="4343400"/>
            <a:ext cx="82296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X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Y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04920" y="32004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补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–Y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1219320" y="35053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914400" y="28954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将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Y</a:t>
            </a:r>
            <a:r>
              <a:rPr b="1" lang="zh-CN" sz="2000" spc="-1" strike="noStrike">
                <a:solidFill>
                  <a:srgbClr val="3333ff"/>
                </a:solidFill>
                <a:latin typeface="黑体"/>
                <a:ea typeface="黑体"/>
              </a:rPr>
              <a:t>补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变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3809880" y="316872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不管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Y</a:t>
            </a:r>
            <a:r>
              <a:rPr b="1" lang="zh-CN" sz="2000" spc="-1" strike="noStrike">
                <a:solidFill>
                  <a:srgbClr val="3333ff"/>
                </a:solidFill>
                <a:latin typeface="黑体"/>
                <a:ea typeface="黑体"/>
              </a:rPr>
              <a:t>补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为正或负，将其符号连同尾数一起各位变反，末位加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228600" y="22096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即将减数变补后与被减数相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838080" y="2743200"/>
            <a:ext cx="4724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1143000" y="4952880"/>
            <a:ext cx="25909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0 0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dddddd"/>
                </a:solidFill>
                <a:latin typeface="Times New Roman"/>
              </a:rPr>
              <a:t>补</a:t>
            </a:r>
            <a:r>
              <a:rPr b="1" lang="zh-CN" sz="2800" spc="-1" strike="noStrike">
                <a:solidFill>
                  <a:srgbClr val="dddddd"/>
                </a:solidFill>
                <a:latin typeface="Times New Roman"/>
              </a:rPr>
              <a:t>=1 10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638680" y="4876920"/>
            <a:ext cx="22860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1 1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dddddd"/>
                </a:solidFill>
                <a:latin typeface="Times New Roman"/>
              </a:rPr>
              <a:t>补</a:t>
            </a:r>
            <a:r>
              <a:rPr b="1" lang="zh-CN" sz="2800" spc="-1" strike="noStrike">
                <a:solidFill>
                  <a:srgbClr val="dddddd"/>
                </a:solidFill>
                <a:latin typeface="Times New Roman"/>
              </a:rPr>
              <a:t>=0 0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1667" dur="indefinite" restart="never" nodeType="tmRoot">
          <p:childTnLst>
            <p:seq>
              <p:cTn id="1668" dur="indefinite" nodeType="mainSeq">
                <p:childTnLst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3" dur="500"/>
                                        <p:tgtEl>
                                          <p:spTgt spid="1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fill="hold">
                      <p:stCondLst>
                        <p:cond delay="indefinite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8" dur="500"/>
                                        <p:tgtEl>
                                          <p:spTgt spid="1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fill="hold">
                            <p:stCondLst>
                              <p:cond delay="500"/>
                            </p:stCondLst>
                            <p:childTnLst>
                              <p:par>
                                <p:cTn id="16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2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9" dur="500"/>
                                        <p:tgtEl>
                                          <p:spTgt spid="1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0" fill="hold">
                            <p:stCondLst>
                              <p:cond delay="500"/>
                            </p:stCondLst>
                            <p:childTnLst>
                              <p:par>
                                <p:cTn id="17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3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8" dur="500"/>
                                        <p:tgtEl>
                                          <p:spTgt spid="1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3" dur="500"/>
                                        <p:tgtEl>
                                          <p:spTgt spid="1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8" dur="500"/>
                                        <p:tgtEl>
                                          <p:spTgt spid="1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3" dur="500"/>
                                        <p:tgtEl>
                                          <p:spTgt spid="1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fill="hold">
                      <p:stCondLst>
                        <p:cond delay="indefinite"/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8" dur="500"/>
                                        <p:tgtEl>
                                          <p:spTgt spid="1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3" dur="500"/>
                                        <p:tgtEl>
                                          <p:spTgt spid="1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8" dur="500"/>
                                        <p:tgtEl>
                                          <p:spTgt spid="1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3" dur="500"/>
                                        <p:tgtEl>
                                          <p:spTgt spid="1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4" fill="hold">
                            <p:stCondLst>
                              <p:cond delay="500"/>
                            </p:stCondLst>
                            <p:childTnLst>
                              <p:par>
                                <p:cTn id="17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7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1" dur="5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5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6" fill="hold">
                      <p:stCondLst>
                        <p:cond delay="indefinite"/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0" dur="500"/>
                                        <p:tgtEl>
                                          <p:spTgt spid="1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5" dur="500"/>
                                        <p:tgtEl>
                                          <p:spTgt spid="1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0" dur="500"/>
                                        <p:tgtEl>
                                          <p:spTgt spid="1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5" dur="500"/>
                                        <p:tgtEl>
                                          <p:spTgt spid="1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0" dur="500"/>
                                        <p:tgtEl>
                                          <p:spTgt spid="1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5" dur="500"/>
                                        <p:tgtEl>
                                          <p:spTgt spid="1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0" dur="500"/>
                                        <p:tgtEl>
                                          <p:spTgt spid="1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5" dur="500"/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0" dur="500"/>
                                        <p:tgtEl>
                                          <p:spTgt spid="1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1" fill="hold">
                            <p:stCondLst>
                              <p:cond delay="500"/>
                            </p:stCondLst>
                            <p:childTnLst>
                              <p:par>
                                <p:cTn id="18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4" dur="5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8" dur="5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2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7" dur="500"/>
                                        <p:tgtEl>
                                          <p:spTgt spid="1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fill="hold">
                      <p:stCondLst>
                        <p:cond delay="indefinite"/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2" dur="500"/>
                                        <p:tgtEl>
                                          <p:spTgt spid="1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"/>
          <p:cNvSpPr/>
          <p:nvPr/>
        </p:nvSpPr>
        <p:spPr>
          <a:xfrm>
            <a:off x="0" y="304920"/>
            <a:ext cx="960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注意：某数的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补码表示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与某数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变补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区别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0" y="15238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.  1 010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原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 10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2895480" y="1447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黑体"/>
              </a:rPr>
              <a:t>补码表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1219320" y="35053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 001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0 11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3124080" y="19051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200400" y="3429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黑体"/>
              </a:rPr>
              <a:t>变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3048120" y="38862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0" y="15238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.  </a:t>
            </a:r>
            <a:r>
              <a:rPr b="1" lang="zh-CN" sz="3600" spc="-1" strike="noStrike">
                <a:solidFill>
                  <a:srgbClr val="66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010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原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66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10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0" y="21337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0 010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原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0 01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895480" y="2057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黑体"/>
              </a:rPr>
              <a:t>补码表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3124080" y="2514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6172200" y="1447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符号位不变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0" y="21337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600" spc="-1" strike="noStrike">
                <a:solidFill>
                  <a:srgbClr val="6600ff"/>
                </a:solidFill>
                <a:latin typeface="宋体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010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原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6600ff"/>
                </a:solidFill>
                <a:latin typeface="宋体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01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0" y="1523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600" spc="-1" strike="noStrike">
                <a:solidFill>
                  <a:srgbClr val="6600ff"/>
                </a:solidFill>
                <a:latin typeface="宋体"/>
              </a:rPr>
              <a:t>1 010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原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66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cc00ff"/>
                </a:solidFill>
                <a:latin typeface="宋体"/>
              </a:rPr>
              <a:t>10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0" y="21337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600" spc="-1" strike="noStrike">
                <a:solidFill>
                  <a:srgbClr val="6600ff"/>
                </a:solidFill>
                <a:latin typeface="宋体"/>
              </a:rPr>
              <a:t>0 010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原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6600ff"/>
                </a:solidFill>
                <a:latin typeface="宋体"/>
              </a:rPr>
              <a:t>0 01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6172200" y="198108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负数尾数改变，正数尾数不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6019920" y="1828800"/>
            <a:ext cx="152280" cy="99072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219320" y="41148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0 001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 11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219320" y="35053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001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cc00ff"/>
                </a:solidFill>
                <a:latin typeface="宋体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11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219320" y="4114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宋体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001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cc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11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219320" y="350532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宋体"/>
              </a:rPr>
              <a:t>1 001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cc00ff"/>
                </a:solidFill>
                <a:latin typeface="宋体"/>
              </a:rPr>
              <a:t>0 11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219320" y="41148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宋体"/>
              </a:rPr>
              <a:t>0 001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cc00ff"/>
                </a:solidFill>
                <a:latin typeface="宋体"/>
              </a:rPr>
              <a:t>1 11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048120" y="44956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200400" y="4038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黑体"/>
              </a:rPr>
              <a:t>变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6095880" y="3733920"/>
            <a:ext cx="152640" cy="761760"/>
          </a:xfrm>
          <a:custGeom>
            <a:avLst/>
            <a:gdLst>
              <a:gd name="textAreaLeft" fmla="*/ 97560 w 152640"/>
              <a:gd name="textAreaRight" fmla="*/ 153000 w 15264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324480" y="35053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符号位改变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6324480" y="41148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尾数改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5791320" y="3886200"/>
            <a:ext cx="457200" cy="129528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5715000" y="4495680"/>
            <a:ext cx="533520" cy="68580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5791320" y="510552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补码的机器负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1823" dur="indefinite" restart="never" nodeType="tmRoot">
          <p:childTnLst>
            <p:seq>
              <p:cTn id="1824" dur="indefinite" nodeType="mainSeq">
                <p:childTnLst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1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1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5" dur="500"/>
                                        <p:tgtEl>
                                          <p:spTgt spid="1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500"/>
                            </p:stCondLst>
                            <p:childTnLst>
                              <p:par>
                                <p:cTn id="18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9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3" dur="5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5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9" dur="500"/>
                                        <p:tgtEl>
                                          <p:spTgt spid="1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0" fill="hold">
                            <p:stCondLst>
                              <p:cond delay="500"/>
                            </p:stCondLst>
                            <p:childTnLst>
                              <p:par>
                                <p:cTn id="18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3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7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fill="hold">
                      <p:stCondLst>
                        <p:cond delay="indefinite"/>
                      </p:stCondLst>
                      <p:childTnLst>
                        <p:par>
                          <p:cTn id="1860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3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4" fill="hold">
                      <p:stCondLst>
                        <p:cond delay="indefinite"/>
                      </p:stCondLst>
                      <p:childTnLst>
                        <p:par>
                          <p:cTn id="1865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8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9" fill="hold">
                      <p:stCondLst>
                        <p:cond delay="indefinite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3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4" fill="hold">
                            <p:stCondLst>
                              <p:cond delay="500"/>
                            </p:stCondLst>
                            <p:childTnLst>
                              <p:par>
                                <p:cTn id="18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7" dur="500"/>
                                        <p:tgtEl>
                                          <p:spTgt spid="1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fill="hold">
                      <p:stCondLst>
                        <p:cond delay="indefinite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2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fill="hold">
                      <p:stCondLst>
                        <p:cond delay="indefinite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7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fill="hold">
                      <p:stCondLst>
                        <p:cond delay="indefinite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2" dur="500"/>
                                        <p:tgtEl>
                                          <p:spTgt spid="1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7" dur="500"/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1" dur="5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5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1" dur="500"/>
                                        <p:tgtEl>
                                          <p:spTgt spid="1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fill="hold">
                            <p:stCondLst>
                              <p:cond delay="500"/>
                            </p:stCondLst>
                            <p:childTnLst>
                              <p:par>
                                <p:cTn id="19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5" dur="5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9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5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0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5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6" fill="hold">
                            <p:stCondLst>
                              <p:cond delay="500"/>
                            </p:stCondLst>
                            <p:childTnLst>
                              <p:par>
                                <p:cTn id="19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9" dur="500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4" dur="5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9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4" dur="500"/>
                                        <p:tgtEl>
                                          <p:spTgt spid="1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9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0" fill="hold">
                            <p:stCondLst>
                              <p:cond delay="500"/>
                            </p:stCondLst>
                            <p:childTnLst>
                              <p:par>
                                <p:cTn id="19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3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7" dur="500"/>
                                        <p:tgtEl>
                                          <p:spTgt spid="1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/>
          <p:nvPr/>
        </p:nvSpPr>
        <p:spPr>
          <a:xfrm>
            <a:off x="0" y="60948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算法流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9" name=""/>
          <p:cNvGrpSpPr/>
          <p:nvPr/>
        </p:nvGrpSpPr>
        <p:grpSpPr>
          <a:xfrm>
            <a:off x="1447920" y="1523880"/>
            <a:ext cx="6476760" cy="4696560"/>
            <a:chOff x="1447920" y="1523880"/>
            <a:chExt cx="6476760" cy="4696560"/>
          </a:xfrm>
        </p:grpSpPr>
        <p:sp>
          <p:nvSpPr>
            <p:cNvPr id="1490" name=""/>
            <p:cNvSpPr/>
            <p:nvPr/>
          </p:nvSpPr>
          <p:spPr>
            <a:xfrm>
              <a:off x="2438280" y="1523880"/>
              <a:ext cx="4343400" cy="1191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操作数用补码表示，符号位参加运算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2286000" y="5029200"/>
              <a:ext cx="4572000" cy="1191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结果为补码表示，符号位指示结果正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1600200" y="3581280"/>
              <a:ext cx="2286000" cy="642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补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+Y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5029200" y="3581280"/>
              <a:ext cx="2514600" cy="642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补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+(-Y)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2743200" y="3124080"/>
              <a:ext cx="342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2743200" y="4648320"/>
              <a:ext cx="342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495680" y="27432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2743200" y="31240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172200" y="31240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2743200" y="42670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172200" y="42670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495680" y="4648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1447920" y="3048120"/>
              <a:ext cx="1523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AD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477120" y="3048120"/>
              <a:ext cx="144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SU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ld"/>
  </p:transition>
  <p:timing>
    <p:tnLst>
      <p:par>
        <p:cTn id="1968" dur="indefinite" restart="never" nodeType="tmRoot">
          <p:childTnLst>
            <p:seq>
              <p:cTn id="1969" dur="indefinite" nodeType="mainSeq">
                <p:childTnLst>
                  <p:par>
                    <p:cTn id="1970" fill="hold">
                      <p:stCondLst>
                        <p:cond delay="indefinite"/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4" dur="500"/>
                                        <p:tgtEl>
                                          <p:spTgt spid="1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9" dur="10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10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10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2" dur="10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"/>
          <p:cNvSpPr/>
          <p:nvPr/>
        </p:nvSpPr>
        <p:spPr>
          <a:xfrm>
            <a:off x="0" y="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逻辑实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 flipV="1">
            <a:off x="7010280" y="3352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6" name=""/>
          <p:cNvGrpSpPr/>
          <p:nvPr/>
        </p:nvGrpSpPr>
        <p:grpSpPr>
          <a:xfrm>
            <a:off x="5715000" y="2743200"/>
            <a:ext cx="1600200" cy="609480"/>
            <a:chOff x="5715000" y="2743200"/>
            <a:chExt cx="1600200" cy="609480"/>
          </a:xfrm>
        </p:grpSpPr>
        <p:sp>
          <p:nvSpPr>
            <p:cNvPr id="1507" name=""/>
            <p:cNvSpPr/>
            <p:nvPr/>
          </p:nvSpPr>
          <p:spPr>
            <a:xfrm>
              <a:off x="5715000" y="2743200"/>
              <a:ext cx="1600200" cy="60948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8" name=""/>
            <p:cNvGrpSpPr/>
            <p:nvPr/>
          </p:nvGrpSpPr>
          <p:grpSpPr>
            <a:xfrm>
              <a:off x="6324120" y="2895480"/>
              <a:ext cx="305280" cy="304560"/>
              <a:chOff x="6324120" y="2895480"/>
              <a:chExt cx="305280" cy="304560"/>
            </a:xfrm>
          </p:grpSpPr>
          <p:sp>
            <p:nvSpPr>
              <p:cNvPr id="1509" name=""/>
              <p:cNvSpPr/>
              <p:nvPr/>
            </p:nvSpPr>
            <p:spPr>
              <a:xfrm>
                <a:off x="6324480" y="289548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6324480" y="2895480"/>
                <a:ext cx="2286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flipH="1">
                <a:off x="6324120" y="3047760"/>
                <a:ext cx="2286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6324480" y="320004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13" name=""/>
          <p:cNvGrpSpPr/>
          <p:nvPr/>
        </p:nvGrpSpPr>
        <p:grpSpPr>
          <a:xfrm>
            <a:off x="4724280" y="5029200"/>
            <a:ext cx="3810240" cy="533520"/>
            <a:chOff x="4724280" y="5029200"/>
            <a:chExt cx="3810240" cy="533520"/>
          </a:xfrm>
        </p:grpSpPr>
        <p:sp>
          <p:nvSpPr>
            <p:cNvPr id="1514" name=""/>
            <p:cNvSpPr/>
            <p:nvPr/>
          </p:nvSpPr>
          <p:spPr>
            <a:xfrm>
              <a:off x="4724280" y="5105520"/>
              <a:ext cx="1600200" cy="45720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705720" y="5105520"/>
              <a:ext cx="1600200" cy="45720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4952880" y="5029200"/>
              <a:ext cx="152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A(X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补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858000" y="502920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B(Y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补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8" name=""/>
          <p:cNvSpPr/>
          <p:nvPr/>
        </p:nvSpPr>
        <p:spPr>
          <a:xfrm>
            <a:off x="5791320" y="5562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5181480" y="5562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7315200" y="30481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1" name=""/>
          <p:cNvGrpSpPr/>
          <p:nvPr/>
        </p:nvGrpSpPr>
        <p:grpSpPr>
          <a:xfrm>
            <a:off x="4572000" y="3352320"/>
            <a:ext cx="2057400" cy="1831680"/>
            <a:chOff x="4572000" y="3352320"/>
            <a:chExt cx="2057400" cy="1831680"/>
          </a:xfrm>
        </p:grpSpPr>
        <p:sp>
          <p:nvSpPr>
            <p:cNvPr id="1522" name=""/>
            <p:cNvSpPr/>
            <p:nvPr/>
          </p:nvSpPr>
          <p:spPr>
            <a:xfrm>
              <a:off x="5029200" y="3809880"/>
              <a:ext cx="1219320" cy="38124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5638680" y="35812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5638680" y="35812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 flipV="1">
              <a:off x="6095880" y="33523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5257800" y="41911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5257800" y="45720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5257800" y="45720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029200" y="45720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791320" y="419112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572000" y="4495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5867280" y="4724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6705720" y="3581280"/>
            <a:ext cx="2590560" cy="1602720"/>
            <a:chOff x="6705720" y="3581280"/>
            <a:chExt cx="2590560" cy="1602720"/>
          </a:xfrm>
        </p:grpSpPr>
        <p:sp>
          <p:nvSpPr>
            <p:cNvPr id="1534" name=""/>
            <p:cNvSpPr/>
            <p:nvPr/>
          </p:nvSpPr>
          <p:spPr>
            <a:xfrm>
              <a:off x="6705720" y="3809880"/>
              <a:ext cx="1600200" cy="60984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705720" y="411480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315200" y="39625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7467480" y="38098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7467480" y="41148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7467480" y="35812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7010280" y="35812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8001000" y="4419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7162920" y="4419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7162920" y="4724280"/>
              <a:ext cx="137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8001000" y="457200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7620120" y="441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858000" y="441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7620120" y="4724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858000" y="4724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8534520" y="4191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8534520" y="45720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93432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8763120" y="46483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3" name=""/>
          <p:cNvSpPr/>
          <p:nvPr/>
        </p:nvSpPr>
        <p:spPr>
          <a:xfrm>
            <a:off x="861048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4" name=""/>
          <p:cNvGrpSpPr/>
          <p:nvPr/>
        </p:nvGrpSpPr>
        <p:grpSpPr>
          <a:xfrm>
            <a:off x="5791320" y="5791320"/>
            <a:ext cx="1523880" cy="459720"/>
            <a:chOff x="5791320" y="5791320"/>
            <a:chExt cx="1523880" cy="459720"/>
          </a:xfrm>
        </p:grpSpPr>
        <p:sp>
          <p:nvSpPr>
            <p:cNvPr id="1555" name=""/>
            <p:cNvSpPr/>
            <p:nvPr/>
          </p:nvSpPr>
          <p:spPr>
            <a:xfrm>
              <a:off x="5791320" y="60199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248520" y="5791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P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7" name=""/>
          <p:cNvSpPr/>
          <p:nvPr/>
        </p:nvSpPr>
        <p:spPr>
          <a:xfrm>
            <a:off x="4495680" y="152388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4495680" y="6019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4495680" y="1523880"/>
            <a:ext cx="0" cy="449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0" name=""/>
          <p:cNvGrpSpPr/>
          <p:nvPr/>
        </p:nvGrpSpPr>
        <p:grpSpPr>
          <a:xfrm>
            <a:off x="6019920" y="1523880"/>
            <a:ext cx="3352680" cy="1221840"/>
            <a:chOff x="6019920" y="1523880"/>
            <a:chExt cx="3352680" cy="1221840"/>
          </a:xfrm>
        </p:grpSpPr>
        <p:sp>
          <p:nvSpPr>
            <p:cNvPr id="1561" name=""/>
            <p:cNvSpPr/>
            <p:nvPr/>
          </p:nvSpPr>
          <p:spPr>
            <a:xfrm>
              <a:off x="6019920" y="1981080"/>
              <a:ext cx="1218960" cy="38124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40080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934320" y="2362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934320" y="2514600"/>
              <a:ext cx="137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629400" y="15238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6" name=""/>
            <p:cNvGrpSpPr/>
            <p:nvPr/>
          </p:nvGrpSpPr>
          <p:grpSpPr>
            <a:xfrm>
              <a:off x="8153280" y="2286000"/>
              <a:ext cx="1219320" cy="459720"/>
              <a:chOff x="8153280" y="2286000"/>
              <a:chExt cx="1219320" cy="459720"/>
            </a:xfrm>
          </p:grpSpPr>
          <p:sp>
            <p:nvSpPr>
              <p:cNvPr id="1567" name=""/>
              <p:cNvSpPr/>
              <p:nvPr/>
            </p:nvSpPr>
            <p:spPr>
              <a:xfrm>
                <a:off x="8153280" y="2286000"/>
                <a:ext cx="121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      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8610480" y="2514600"/>
                <a:ext cx="2286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569" name=""/>
              <p:cNvGraphicFramePr/>
              <p:nvPr/>
            </p:nvGraphicFramePr>
            <p:xfrm>
              <a:off x="8381880" y="2362320"/>
              <a:ext cx="304920" cy="295200"/>
            </p:xfrm>
            <a:graphic>
              <a:graphicData uri="http://schemas.openxmlformats.org/presentationml/2006/ole">
                <p:oleObj progId="Word.Document.12" r:id="rId2" spid="">
                  <p:embed/>
                  <p:pic>
                    <p:nvPicPr>
                      <p:cNvPr id="1570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8381880" y="2362320"/>
                        <a:ext cx="304920" cy="29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1571" name=""/>
          <p:cNvSpPr/>
          <p:nvPr/>
        </p:nvSpPr>
        <p:spPr>
          <a:xfrm>
            <a:off x="-228600" y="6094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控制信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0" y="12193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加法器输入端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3" name=""/>
          <p:cNvGrpSpPr/>
          <p:nvPr/>
        </p:nvGrpSpPr>
        <p:grpSpPr>
          <a:xfrm>
            <a:off x="0" y="1752480"/>
            <a:ext cx="4876920" cy="520560"/>
            <a:chOff x="0" y="1752480"/>
            <a:chExt cx="4876920" cy="520560"/>
          </a:xfrm>
        </p:grpSpPr>
        <p:graphicFrame>
          <p:nvGraphicFramePr>
            <p:cNvPr id="1574" name=""/>
            <p:cNvGraphicFramePr/>
            <p:nvPr/>
          </p:nvGraphicFramePr>
          <p:xfrm rot="10800000">
            <a:off x="3886200" y="1828440"/>
            <a:ext cx="533520" cy="42876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157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 rot="10800000">
                      <a:off x="3886200" y="1828440"/>
                      <a:ext cx="533520" cy="42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76" name=""/>
            <p:cNvSpPr/>
            <p:nvPr/>
          </p:nvSpPr>
          <p:spPr>
            <a:xfrm>
              <a:off x="0" y="1752480"/>
              <a:ext cx="487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+A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：打开控制门，将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送  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7" name=""/>
          <p:cNvGrpSpPr/>
          <p:nvPr/>
        </p:nvGrpSpPr>
        <p:grpSpPr>
          <a:xfrm>
            <a:off x="0" y="2286000"/>
            <a:ext cx="4876920" cy="520560"/>
            <a:chOff x="0" y="2286000"/>
            <a:chExt cx="4876920" cy="520560"/>
          </a:xfrm>
        </p:grpSpPr>
        <p:graphicFrame>
          <p:nvGraphicFramePr>
            <p:cNvPr id="1578" name=""/>
            <p:cNvGraphicFramePr/>
            <p:nvPr/>
          </p:nvGraphicFramePr>
          <p:xfrm rot="10800000">
            <a:off x="3886200" y="2362320"/>
            <a:ext cx="533520" cy="428400"/>
          </p:xfrm>
          <a:graphic>
            <a:graphicData uri="http://schemas.openxmlformats.org/presentationml/2006/ole">
              <p:oleObj progId="Word.Document.12" r:id="rId6" spid="">
                <p:embed/>
                <p:pic>
                  <p:nvPicPr>
                    <p:cNvPr id="157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 rot="10800000">
                      <a:off x="3886200" y="2362320"/>
                      <a:ext cx="533520" cy="42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80" name=""/>
            <p:cNvSpPr/>
            <p:nvPr/>
          </p:nvSpPr>
          <p:spPr>
            <a:xfrm>
              <a:off x="0" y="2286000"/>
              <a:ext cx="487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+B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：打开控制门，将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B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送  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1" name=""/>
          <p:cNvSpPr/>
          <p:nvPr/>
        </p:nvSpPr>
        <p:spPr>
          <a:xfrm>
            <a:off x="0" y="3352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+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控制末位加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2" name=""/>
          <p:cNvGrpSpPr/>
          <p:nvPr/>
        </p:nvGrpSpPr>
        <p:grpSpPr>
          <a:xfrm>
            <a:off x="0" y="2819520"/>
            <a:ext cx="4876920" cy="520560"/>
            <a:chOff x="0" y="2819520"/>
            <a:chExt cx="4876920" cy="520560"/>
          </a:xfrm>
        </p:grpSpPr>
        <p:graphicFrame>
          <p:nvGraphicFramePr>
            <p:cNvPr id="1583" name=""/>
            <p:cNvGraphicFramePr/>
            <p:nvPr/>
          </p:nvGraphicFramePr>
          <p:xfrm rot="10800000">
            <a:off x="3886200" y="2895120"/>
            <a:ext cx="533520" cy="428760"/>
          </p:xfrm>
          <a:graphic>
            <a:graphicData uri="http://schemas.openxmlformats.org/presentationml/2006/ole">
              <p:oleObj progId="Word.Document.12" r:id="rId8" spid="">
                <p:embed/>
                <p:pic>
                  <p:nvPicPr>
                    <p:cNvPr id="1584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 rot="10800000">
                      <a:off x="3886200" y="2895120"/>
                      <a:ext cx="533520" cy="42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85" name=""/>
            <p:cNvSpPr/>
            <p:nvPr/>
          </p:nvSpPr>
          <p:spPr>
            <a:xfrm>
              <a:off x="0" y="2819520"/>
              <a:ext cx="487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+B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：打开控制门，将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B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送  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28600" y="289548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3276720" y="2895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8" name=""/>
          <p:cNvSpPr/>
          <p:nvPr/>
        </p:nvSpPr>
        <p:spPr>
          <a:xfrm>
            <a:off x="0" y="4038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加法器输出端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9" name=""/>
          <p:cNvGrpSpPr/>
          <p:nvPr/>
        </p:nvGrpSpPr>
        <p:grpSpPr>
          <a:xfrm>
            <a:off x="-228600" y="4724280"/>
            <a:ext cx="4952880" cy="912960"/>
            <a:chOff x="-228600" y="4724280"/>
            <a:chExt cx="4952880" cy="912960"/>
          </a:xfrm>
        </p:grpSpPr>
        <p:sp>
          <p:nvSpPr>
            <p:cNvPr id="1590" name=""/>
            <p:cNvSpPr/>
            <p:nvPr/>
          </p:nvSpPr>
          <p:spPr>
            <a:xfrm>
              <a:off x="990720" y="51814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-228600" y="4724280"/>
              <a:ext cx="4952880" cy="9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       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：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打开控制门，将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果送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输入端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304920" y="4876920"/>
              <a:ext cx="3045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93" name=""/>
            <p:cNvGraphicFramePr/>
            <p:nvPr/>
          </p:nvGraphicFramePr>
          <p:xfrm>
            <a:off x="0" y="4724280"/>
            <a:ext cx="380880" cy="370080"/>
          </p:xfrm>
          <a:graphic>
            <a:graphicData uri="http://schemas.openxmlformats.org/presentationml/2006/ole">
              <p:oleObj progId="Word.Document.12" r:id="rId10" spid="">
                <p:embed/>
                <p:pic>
                  <p:nvPicPr>
                    <p:cNvPr id="1594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0" y="4724280"/>
                      <a:ext cx="380880" cy="37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95" name=""/>
          <p:cNvSpPr/>
          <p:nvPr/>
        </p:nvSpPr>
        <p:spPr>
          <a:xfrm>
            <a:off x="0" y="57150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CP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将结果打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114800" y="6094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补码加减运算器粗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1983" dur="indefinite" restart="never" nodeType="tmRoot">
          <p:childTnLst>
            <p:seq>
              <p:cTn id="1984" dur="indefinite" nodeType="mainSeq">
                <p:childTnLst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9" dur="500"/>
                                        <p:tgtEl>
                                          <p:spTgt spid="1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0" fill="hold">
                      <p:stCondLst>
                        <p:cond delay="indefinite"/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4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fill="hold">
                      <p:stCondLst>
                        <p:cond delay="indefinite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9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4" dur="500"/>
                                        <p:tgtEl>
                                          <p:spTgt spid="1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9" dur="500"/>
                                        <p:tgtEl>
                                          <p:spTgt spid="1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fill="hold">
                      <p:stCondLst>
                        <p:cond delay="indefinite"/>
                      </p:stCondLst>
                      <p:childTnLst>
                        <p:par>
                          <p:cTn id="2011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4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5" fill="hold">
                      <p:stCondLst>
                        <p:cond delay="indefinite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9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fill="hold">
                      <p:stCondLst>
                        <p:cond delay="indefinite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4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9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4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5" fill="hold">
                            <p:stCondLst>
                              <p:cond delay="500"/>
                            </p:stCondLst>
                            <p:childTnLst>
                              <p:par>
                                <p:cTn id="20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8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fill="hold">
                      <p:stCondLst>
                        <p:cond delay="indefinite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3" dur="500"/>
                                        <p:tgtEl>
                                          <p:spTgt spid="1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fill="hold">
                      <p:stCondLst>
                        <p:cond delay="indefinite"/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8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9" fill="hold">
                            <p:stCondLst>
                              <p:cond delay="500"/>
                            </p:stCondLst>
                            <p:childTnLst>
                              <p:par>
                                <p:cTn id="20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2" dur="500"/>
                                        <p:tgtEl>
                                          <p:spTgt spid="1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7" dur="500"/>
                                        <p:tgtEl>
                                          <p:spTgt spid="1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fill="hold">
                      <p:stCondLst>
                        <p:cond delay="indefinite"/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2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fill="hold">
                      <p:stCondLst>
                        <p:cond delay="indefinite"/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7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8" fill="hold">
                            <p:stCondLst>
                              <p:cond delay="500"/>
                            </p:stCondLst>
                            <p:childTnLst>
                              <p:par>
                                <p:cTn id="20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1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5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9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3" dur="5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4" fill="hold">
                      <p:stCondLst>
                        <p:cond delay="indefinite"/>
                      </p:stCondLst>
                      <p:childTnLst>
                        <p:par>
                          <p:cTn id="2085" fill="hold">
                            <p:stCondLst>
                              <p:cond delay="0"/>
                            </p:stCondLst>
                            <p:childTnLst>
                              <p:par>
                                <p:cTn id="20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8" dur="500"/>
                                        <p:tgtEl>
                                          <p:spTgt spid="1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9" fill="hold">
                      <p:stCondLst>
                        <p:cond delay="indefinite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3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4" fill="hold">
                            <p:stCondLst>
                              <p:cond delay="500"/>
                            </p:stCondLst>
                            <p:childTnLst>
                              <p:par>
                                <p:cTn id="20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7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8" fill="hold">
                      <p:stCondLst>
                        <p:cond delay="indefinite"/>
                      </p:stCondLst>
                      <p:childTnLst>
                        <p:par>
                          <p:cTn id="2099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2" dur="500"/>
                                        <p:tgtEl>
                                          <p:spTgt spid="1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"/>
          <p:cNvSpPr/>
          <p:nvPr/>
        </p:nvSpPr>
        <p:spPr>
          <a:xfrm>
            <a:off x="0" y="22860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.3.2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溢出判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762120" y="10666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Times New Roman"/>
                <a:ea typeface="黑体"/>
              </a:rPr>
              <a:t>在什么情况下可能产生溢出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0" y="2057400"/>
            <a:ext cx="6248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数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有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位尾数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位符号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S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数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有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位尾数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位符号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S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6781680" y="220968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符号位参加运算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609480" y="3657600"/>
            <a:ext cx="3886200" cy="22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结果符号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S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符号位进位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尾数最高位进位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2" name=""/>
          <p:cNvGrpSpPr/>
          <p:nvPr/>
        </p:nvGrpSpPr>
        <p:grpSpPr>
          <a:xfrm>
            <a:off x="6172200" y="2514600"/>
            <a:ext cx="609480" cy="609120"/>
            <a:chOff x="6172200" y="2514600"/>
            <a:chExt cx="609480" cy="609120"/>
          </a:xfrm>
        </p:grpSpPr>
        <p:sp>
          <p:nvSpPr>
            <p:cNvPr id="1603" name=""/>
            <p:cNvSpPr/>
            <p:nvPr/>
          </p:nvSpPr>
          <p:spPr>
            <a:xfrm>
              <a:off x="6172200" y="2514600"/>
              <a:ext cx="6094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 flipV="1">
              <a:off x="6172200" y="2818800"/>
              <a:ext cx="6094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ld"/>
  </p:transition>
  <p:timing>
    <p:tnLst>
      <p:par>
        <p:cTn id="2103" dur="indefinite" restart="never" nodeType="tmRoot">
          <p:childTnLst>
            <p:seq>
              <p:cTn id="2104" dur="indefinite" nodeType="mainSeq">
                <p:childTnLst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9" dur="500"/>
                                        <p:tgtEl>
                                          <p:spTgt spid="1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0" fill="hold">
                      <p:stCondLst>
                        <p:cond delay="indefinite"/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4" dur="5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5" dur="5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6" fill="hold">
                      <p:stCondLst>
                        <p:cond delay="indefinite"/>
                      </p:stCondLst>
                      <p:childTnLst>
                        <p:par>
                          <p:cTn id="2117" fill="hold">
                            <p:stCondLst>
                              <p:cond delay="0"/>
                            </p:stCondLst>
                            <p:childTnLst>
                              <p:par>
                                <p:cTn id="2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0" dur="500"/>
                                        <p:tgtEl>
                                          <p:spTgt spid="1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5" dur="500"/>
                                        <p:tgtEl>
                                          <p:spTgt spid="1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6" fill="hold">
                      <p:stCondLst>
                        <p:cond delay="indefinite"/>
                      </p:stCondLst>
                      <p:childTnLst>
                        <p:par>
                          <p:cTn id="2127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0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1" fill="hold">
                            <p:stCondLst>
                              <p:cond delay="500"/>
                            </p:stCondLst>
                            <p:childTnLst>
                              <p:par>
                                <p:cTn id="2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4" dur="500"/>
                                        <p:tgtEl>
                                          <p:spTgt spid="1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9" dur="500"/>
                                        <p:tgtEl>
                                          <p:spTgt spid="1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fill="hold">
                      <p:stCondLst>
                        <p:cond delay="indefinite"/>
                      </p:stCondLst>
                      <p:childTnLst>
                        <p:par>
                          <p:cTn id="2141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4" dur="500"/>
                                        <p:tgtEl>
                                          <p:spTgt spid="1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9" dur="500"/>
                                        <p:tgtEl>
                                          <p:spTgt spid="1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09480" y="228600"/>
            <a:ext cx="8001000" cy="12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全加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逻辑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828800" y="1508040"/>
            <a:ext cx="6019920" cy="1259280"/>
            <a:chOff x="1828800" y="1508040"/>
            <a:chExt cx="6019920" cy="1259280"/>
          </a:xfrm>
        </p:grpSpPr>
        <p:sp>
          <p:nvSpPr>
            <p:cNvPr id="137" name=""/>
            <p:cNvSpPr/>
            <p:nvPr/>
          </p:nvSpPr>
          <p:spPr>
            <a:xfrm>
              <a:off x="1828800" y="1508040"/>
              <a:ext cx="6019920" cy="12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∑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=  (Ai +  Bi)  +  Ci-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Ci  =  AiBi + (Ai +  Bi)Ci-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33920" y="1660680"/>
              <a:ext cx="304560" cy="304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76920" y="1660680"/>
              <a:ext cx="304560" cy="304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52880" y="2422440"/>
              <a:ext cx="304920" cy="304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1676520" y="1889280"/>
            <a:ext cx="152280" cy="609480"/>
          </a:xfrm>
          <a:custGeom>
            <a:avLst/>
            <a:gdLst>
              <a:gd name="textAreaLeft" fmla="*/ 97200 w 152280"/>
              <a:gd name="textAreaRight" fmla="*/ 152640 w 1522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828800" y="2743200"/>
            <a:ext cx="6629400" cy="3858120"/>
            <a:chOff x="1828800" y="2743200"/>
            <a:chExt cx="6629400" cy="3858120"/>
          </a:xfrm>
        </p:grpSpPr>
        <p:sp>
          <p:nvSpPr>
            <p:cNvPr id="143" name=""/>
            <p:cNvSpPr/>
            <p:nvPr/>
          </p:nvSpPr>
          <p:spPr>
            <a:xfrm>
              <a:off x="1828800" y="3352680"/>
              <a:ext cx="1447920" cy="83844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43400" y="4495680"/>
              <a:ext cx="1447920" cy="83844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0800" y="4495680"/>
              <a:ext cx="1447920" cy="83844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828800" y="3733920"/>
              <a:ext cx="1447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62320" y="35053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4600" y="33526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14600" y="37339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76920" y="48769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010280" y="48769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29200" y="4724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62920" y="4724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76920" y="4724280"/>
              <a:ext cx="380880" cy="381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10280" y="4724280"/>
              <a:ext cx="381240" cy="381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14600" y="28954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057400" y="419112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4191120"/>
              <a:ext cx="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819520" y="419112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48120" y="4191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29200" y="43434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162920" y="40384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858000" y="53341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0600" y="53341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53341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458200" y="434340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48120" y="4343400"/>
              <a:ext cx="5410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19520" y="5486400"/>
              <a:ext cx="4038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6000" y="5638680"/>
              <a:ext cx="3124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057400" y="579132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467480" y="548640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4674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90920" y="2743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C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86600" y="358128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∑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72000" y="6019920"/>
              <a:ext cx="388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Ai   Bi          Ci-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952880" y="4267080"/>
              <a:ext cx="15264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7" name=""/>
            <p:cNvGraphicFramePr/>
            <p:nvPr/>
          </p:nvGraphicFramePr>
          <p:xfrm>
            <a:off x="6629400" y="5181480"/>
            <a:ext cx="455760" cy="68580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17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629400" y="5181480"/>
                      <a:ext cx="45576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9" name=""/>
            <p:cNvSpPr/>
            <p:nvPr/>
          </p:nvSpPr>
          <p:spPr>
            <a:xfrm>
              <a:off x="6781680" y="5410080"/>
              <a:ext cx="15264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34120" y="5562720"/>
              <a:ext cx="15228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24280" y="5715000"/>
              <a:ext cx="15264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ld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"/>
          <p:cNvSpPr/>
          <p:nvPr/>
        </p:nvSpPr>
        <p:spPr>
          <a:xfrm>
            <a:off x="3200400" y="1676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正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6" name=""/>
          <p:cNvGrpSpPr/>
          <p:nvPr/>
        </p:nvGrpSpPr>
        <p:grpSpPr>
          <a:xfrm>
            <a:off x="304920" y="0"/>
            <a:ext cx="3124080" cy="2257920"/>
            <a:chOff x="304920" y="0"/>
            <a:chExt cx="3124080" cy="2257920"/>
          </a:xfrm>
        </p:grpSpPr>
        <p:sp>
          <p:nvSpPr>
            <p:cNvPr id="1607" name=""/>
            <p:cNvSpPr/>
            <p:nvPr/>
          </p:nvSpPr>
          <p:spPr>
            <a:xfrm>
              <a:off x="1676520" y="762120"/>
              <a:ext cx="1676160" cy="93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0 001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0 0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04920" y="0"/>
              <a:ext cx="3124080" cy="11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=3  B=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+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676520" y="1676520"/>
              <a:ext cx="175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0 0101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048120" y="1447920"/>
              <a:ext cx="3045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200400" y="1295280"/>
              <a:ext cx="1440" cy="28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1752480" y="1676520"/>
              <a:ext cx="16002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3" name=""/>
          <p:cNvGrpSpPr/>
          <p:nvPr/>
        </p:nvGrpSpPr>
        <p:grpSpPr>
          <a:xfrm>
            <a:off x="4648320" y="0"/>
            <a:ext cx="3581280" cy="2257920"/>
            <a:chOff x="4648320" y="0"/>
            <a:chExt cx="3581280" cy="2257920"/>
          </a:xfrm>
        </p:grpSpPr>
        <p:sp>
          <p:nvSpPr>
            <p:cNvPr id="1614" name=""/>
            <p:cNvSpPr/>
            <p:nvPr/>
          </p:nvSpPr>
          <p:spPr>
            <a:xfrm>
              <a:off x="4648320" y="0"/>
              <a:ext cx="3504960" cy="11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=10  B=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0+7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400800" y="762120"/>
              <a:ext cx="1828800" cy="93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0 1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0 011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772400" y="14479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92468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553080" y="167652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400800" y="1676520"/>
              <a:ext cx="175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 0001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0" name=""/>
          <p:cNvSpPr/>
          <p:nvPr/>
        </p:nvSpPr>
        <p:spPr>
          <a:xfrm>
            <a:off x="8001000" y="1676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正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124080" y="3840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正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8001000" y="3886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负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3200400" y="6095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正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8001000" y="60498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正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5" name=""/>
          <p:cNvGrpSpPr/>
          <p:nvPr/>
        </p:nvGrpSpPr>
        <p:grpSpPr>
          <a:xfrm>
            <a:off x="304920" y="2209680"/>
            <a:ext cx="3352680" cy="2257920"/>
            <a:chOff x="304920" y="2209680"/>
            <a:chExt cx="3352680" cy="2257920"/>
          </a:xfrm>
        </p:grpSpPr>
        <p:sp>
          <p:nvSpPr>
            <p:cNvPr id="1626" name=""/>
            <p:cNvSpPr/>
            <p:nvPr/>
          </p:nvSpPr>
          <p:spPr>
            <a:xfrm>
              <a:off x="304920" y="2209680"/>
              <a:ext cx="3352680" cy="11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= -3  B= -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3+(-2)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3048120" y="365760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3200400" y="35053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1752480" y="388620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676520" y="3886200"/>
              <a:ext cx="175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 1011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676520" y="2971800"/>
              <a:ext cx="1904760" cy="93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 11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 11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2" name=""/>
          <p:cNvGrpSpPr/>
          <p:nvPr/>
        </p:nvGrpSpPr>
        <p:grpSpPr>
          <a:xfrm>
            <a:off x="4648320" y="2209680"/>
            <a:ext cx="3733560" cy="2257920"/>
            <a:chOff x="4648320" y="2209680"/>
            <a:chExt cx="3733560" cy="2257920"/>
          </a:xfrm>
        </p:grpSpPr>
        <p:sp>
          <p:nvSpPr>
            <p:cNvPr id="1633" name=""/>
            <p:cNvSpPr/>
            <p:nvPr/>
          </p:nvSpPr>
          <p:spPr>
            <a:xfrm>
              <a:off x="4648320" y="2209680"/>
              <a:ext cx="3733560" cy="11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= -10  B= -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10+(-7)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848720" y="365760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8001000" y="35053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6629400" y="388620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477120" y="3886200"/>
              <a:ext cx="175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0 1111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477120" y="2971800"/>
              <a:ext cx="1676160" cy="93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 01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 10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9" name=""/>
          <p:cNvGrpSpPr/>
          <p:nvPr/>
        </p:nvGrpSpPr>
        <p:grpSpPr>
          <a:xfrm>
            <a:off x="304920" y="4495680"/>
            <a:ext cx="3352680" cy="2181600"/>
            <a:chOff x="304920" y="4495680"/>
            <a:chExt cx="3352680" cy="2181600"/>
          </a:xfrm>
        </p:grpSpPr>
        <p:sp>
          <p:nvSpPr>
            <p:cNvPr id="1640" name=""/>
            <p:cNvSpPr/>
            <p:nvPr/>
          </p:nvSpPr>
          <p:spPr>
            <a:xfrm>
              <a:off x="304920" y="4495680"/>
              <a:ext cx="3124080" cy="11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=6  B= 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6+(-4)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124080" y="59436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276720" y="57913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1905120" y="617220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1752480" y="6095880"/>
              <a:ext cx="1752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0 0010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1752480" y="5257800"/>
              <a:ext cx="1905120" cy="93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0 01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 11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6" name=""/>
          <p:cNvGrpSpPr/>
          <p:nvPr/>
        </p:nvGrpSpPr>
        <p:grpSpPr>
          <a:xfrm>
            <a:off x="4724280" y="4495680"/>
            <a:ext cx="3581640" cy="2181600"/>
            <a:chOff x="4724280" y="4495680"/>
            <a:chExt cx="3581640" cy="2181600"/>
          </a:xfrm>
        </p:grpSpPr>
        <p:sp>
          <p:nvSpPr>
            <p:cNvPr id="1647" name=""/>
            <p:cNvSpPr/>
            <p:nvPr/>
          </p:nvSpPr>
          <p:spPr>
            <a:xfrm>
              <a:off x="4724280" y="4495680"/>
              <a:ext cx="3276720" cy="11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6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= -6  B=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6+4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848720" y="594360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8001000" y="57913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553080" y="617220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6477120" y="6095880"/>
              <a:ext cx="175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 1110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477120" y="5257800"/>
              <a:ext cx="1828800" cy="93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 1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0 01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ld"/>
  </p:transition>
  <p:timing>
    <p:tnLst>
      <p:par>
        <p:cTn id="2150" dur="indefinite" restart="never" nodeType="tmRoot">
          <p:childTnLst>
            <p:seq>
              <p:cTn id="2151" dur="indefinite" nodeType="mainSeq">
                <p:childTnLst>
                  <p:par>
                    <p:cTn id="2152" fill="hold">
                      <p:stCondLst>
                        <p:cond delay="indefinite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6" dur="5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1" dur="500"/>
                                        <p:tgtEl>
                                          <p:spTgt spid="1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fill="hold">
                      <p:stCondLst>
                        <p:cond delay="indefinite"/>
                      </p:stCondLst>
                      <p:childTnLst>
                        <p:par>
                          <p:cTn id="2163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6" dur="5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1" dur="500"/>
                                        <p:tgtEl>
                                          <p:spTgt spid="1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2" fill="hold">
                      <p:stCondLst>
                        <p:cond delay="indefinite"/>
                      </p:stCondLst>
                      <p:childTnLst>
                        <p:par>
                          <p:cTn id="2173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6" dur="5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7" fill="hold">
                      <p:stCondLst>
                        <p:cond delay="indefinite"/>
                      </p:stCondLst>
                      <p:childTnLst>
                        <p:par>
                          <p:cTn id="2178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1" dur="500"/>
                                        <p:tgtEl>
                                          <p:spTgt spid="1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2" fill="hold">
                      <p:stCondLst>
                        <p:cond delay="indefinite"/>
                      </p:stCondLst>
                      <p:childTnLst>
                        <p:par>
                          <p:cTn id="2183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6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1" dur="500"/>
                                        <p:tgtEl>
                                          <p:spTgt spid="1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2" fill="hold">
                      <p:stCondLst>
                        <p:cond delay="indefinite"/>
                      </p:stCondLst>
                      <p:childTnLst>
                        <p:par>
                          <p:cTn id="2193" fill="hold">
                            <p:stCondLst>
                              <p:cond delay="0"/>
                            </p:stCondLst>
                            <p:childTnLst>
                              <p:par>
                                <p:cTn id="2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6" dur="500"/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7" fill="hold">
                      <p:stCondLst>
                        <p:cond delay="indefinite"/>
                      </p:stCondLst>
                      <p:childTnLst>
                        <p:par>
                          <p:cTn id="2198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1" dur="500"/>
                                        <p:tgtEl>
                                          <p:spTgt spid="1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2" fill="hold">
                      <p:stCondLst>
                        <p:cond delay="indefinite"/>
                      </p:stCondLst>
                      <p:childTnLst>
                        <p:par>
                          <p:cTn id="2203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6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7" fill="hold">
                      <p:stCondLst>
                        <p:cond delay="indefinite"/>
                      </p:stCondLst>
                      <p:childTnLst>
                        <p:par>
                          <p:cTn id="2208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1" dur="500"/>
                                        <p:tgtEl>
                                          <p:spTgt spid="1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3" name=""/>
          <p:cNvGrpSpPr/>
          <p:nvPr/>
        </p:nvGrpSpPr>
        <p:grpSpPr>
          <a:xfrm>
            <a:off x="0" y="1066680"/>
            <a:ext cx="3581280" cy="2867760"/>
            <a:chOff x="0" y="1066680"/>
            <a:chExt cx="3581280" cy="2867760"/>
          </a:xfrm>
        </p:grpSpPr>
        <p:sp>
          <p:nvSpPr>
            <p:cNvPr id="1654" name=""/>
            <p:cNvSpPr/>
            <p:nvPr/>
          </p:nvSpPr>
          <p:spPr>
            <a:xfrm>
              <a:off x="0" y="1066680"/>
              <a:ext cx="350532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=10  B=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0+7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：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 1010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752480" y="1828800"/>
              <a:ext cx="1828800" cy="12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 011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3200400" y="25909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3352680" y="2438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905120" y="281952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752480" y="2743200"/>
              <a:ext cx="1752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0001   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0" name=""/>
          <p:cNvGrpSpPr/>
          <p:nvPr/>
        </p:nvGrpSpPr>
        <p:grpSpPr>
          <a:xfrm>
            <a:off x="4876920" y="1066680"/>
            <a:ext cx="4267080" cy="2944080"/>
            <a:chOff x="4876920" y="1066680"/>
            <a:chExt cx="4267080" cy="2944080"/>
          </a:xfrm>
        </p:grpSpPr>
        <p:sp>
          <p:nvSpPr>
            <p:cNvPr id="1661" name=""/>
            <p:cNvSpPr/>
            <p:nvPr/>
          </p:nvSpPr>
          <p:spPr>
            <a:xfrm>
              <a:off x="4876920" y="1066680"/>
              <a:ext cx="426708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= -10  B= -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10+(-7)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：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8381880" y="266688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8534520" y="25146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086600" y="289548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934320" y="2819520"/>
              <a:ext cx="1752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1111   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6934320" y="1905120"/>
              <a:ext cx="1676160" cy="10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 011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 100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7" name=""/>
          <p:cNvSpPr/>
          <p:nvPr/>
        </p:nvSpPr>
        <p:spPr>
          <a:xfrm>
            <a:off x="304920" y="3049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硬件判断逻辑一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关系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457200" y="35053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溢出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1752480" y="3505320"/>
            <a:ext cx="609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黑体"/>
                <a:ea typeface="黑体"/>
              </a:rPr>
              <a:t>S</a:t>
            </a: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828800" y="3657600"/>
            <a:ext cx="304920" cy="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2286000" y="3657600"/>
            <a:ext cx="304920" cy="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276720" y="3886200"/>
            <a:ext cx="304560" cy="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2209680" y="35053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黑体"/>
                <a:ea typeface="黑体"/>
              </a:rPr>
              <a:t>S</a:t>
            </a: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2666880" y="35053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S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657600" y="3505320"/>
            <a:ext cx="6094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黑体"/>
                <a:ea typeface="黑体"/>
              </a:rPr>
              <a:t>S</a:t>
            </a: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4648320" y="35053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S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4114800" y="35053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黑体"/>
                <a:ea typeface="黑体"/>
              </a:rPr>
              <a:t>S</a:t>
            </a: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4724280" y="3657600"/>
            <a:ext cx="304920" cy="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3429000" y="3733920"/>
            <a:ext cx="0" cy="30456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304920" y="44197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硬件判断逻辑二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关系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2212" dur="indefinite" restart="never" nodeType="tmRoot">
          <p:childTnLst>
            <p:seq>
              <p:cTn id="2213" dur="indefinite" nodeType="mainSeq">
                <p:childTnLst>
                  <p:par>
                    <p:cTn id="2214" fill="hold">
                      <p:stCondLst>
                        <p:cond delay="indefinite"/>
                      </p:stCondLst>
                      <p:childTnLst>
                        <p:par>
                          <p:cTn id="2215" fill="hold">
                            <p:stCondLst>
                              <p:cond delay="0"/>
                            </p:stCondLst>
                            <p:childTnLst>
                              <p:par>
                                <p:cTn id="2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8" dur="500"/>
                                        <p:tgtEl>
                                          <p:spTgt spid="1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9" fill="hold">
                      <p:stCondLst>
                        <p:cond delay="indefinite"/>
                      </p:stCondLst>
                      <p:childTnLst>
                        <p:par>
                          <p:cTn id="2220" fill="hold">
                            <p:stCondLst>
                              <p:cond delay="0"/>
                            </p:stCondLst>
                            <p:childTnLst>
                              <p:par>
                                <p:cTn id="2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3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7" dur="5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8" fill="hold">
                      <p:stCondLst>
                        <p:cond delay="indefinite"/>
                      </p:stCondLst>
                      <p:childTnLst>
                        <p:par>
                          <p:cTn id="2229" fill="hold">
                            <p:stCondLst>
                              <p:cond delay="0"/>
                            </p:stCondLst>
                            <p:childTnLst>
                              <p:par>
                                <p:cTn id="2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2" dur="500"/>
                                        <p:tgtEl>
                                          <p:spTgt spid="1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fill="hold">
                      <p:stCondLst>
                        <p:cond delay="indefinite"/>
                      </p:stCondLst>
                      <p:childTnLst>
                        <p:par>
                          <p:cTn id="2234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7" dur="500"/>
                                        <p:tgtEl>
                                          <p:spTgt spid="1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1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2" fill="hold">
                      <p:stCondLst>
                        <p:cond delay="indefinite"/>
                      </p:stCondLst>
                      <p:childTnLst>
                        <p:par>
                          <p:cTn id="2243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6" dur="500"/>
                                        <p:tgtEl>
                                          <p:spTgt spid="1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0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1" fill="hold">
                      <p:stCondLst>
                        <p:cond delay="indefinite"/>
                      </p:stCondLst>
                      <p:childTnLst>
                        <p:par>
                          <p:cTn id="2252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5" dur="500"/>
                                        <p:tgtEl>
                                          <p:spTgt spid="1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6" fill="hold">
                      <p:stCondLst>
                        <p:cond delay="indefinite"/>
                      </p:stCondLst>
                      <p:childTnLst>
                        <p:par>
                          <p:cTn id="2257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0" dur="5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4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5" fill="hold">
                      <p:stCondLst>
                        <p:cond delay="indefinite"/>
                      </p:stCondLst>
                      <p:childTnLst>
                        <p:par>
                          <p:cTn id="2266" fill="hold">
                            <p:stCondLst>
                              <p:cond delay="0"/>
                            </p:stCondLst>
                            <p:childTnLst>
                              <p:par>
                                <p:cTn id="2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9" dur="500"/>
                                        <p:tgtEl>
                                          <p:spTgt spid="1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0" fill="hold">
                      <p:stCondLst>
                        <p:cond delay="indefinite"/>
                      </p:stCondLst>
                      <p:childTnLst>
                        <p:par>
                          <p:cTn id="2271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4" dur="500"/>
                                        <p:tgtEl>
                                          <p:spTgt spid="1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5" fill="hold">
                      <p:stCondLst>
                        <p:cond delay="indefinite"/>
                      </p:stCondLst>
                      <p:childTnLst>
                        <p:par>
                          <p:cTn id="2276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9" dur="500"/>
                                        <p:tgtEl>
                                          <p:spTgt spid="1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3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4" fill="hold">
                      <p:stCondLst>
                        <p:cond delay="indefinite"/>
                      </p:stCondLst>
                      <p:childTnLst>
                        <p:par>
                          <p:cTn id="2285" fill="hold">
                            <p:stCondLst>
                              <p:cond delay="0"/>
                            </p:stCondLst>
                            <p:childTnLst>
                              <p:par>
                                <p:cTn id="2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8" dur="500"/>
                                        <p:tgtEl>
                                          <p:spTgt spid="1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"/>
          <p:cNvSpPr/>
          <p:nvPr/>
        </p:nvSpPr>
        <p:spPr>
          <a:xfrm>
            <a:off x="3124080" y="1676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正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2" name=""/>
          <p:cNvGrpSpPr/>
          <p:nvPr/>
        </p:nvGrpSpPr>
        <p:grpSpPr>
          <a:xfrm>
            <a:off x="304920" y="0"/>
            <a:ext cx="3124080" cy="2257920"/>
            <a:chOff x="304920" y="0"/>
            <a:chExt cx="3124080" cy="2257920"/>
          </a:xfrm>
        </p:grpSpPr>
        <p:sp>
          <p:nvSpPr>
            <p:cNvPr id="1683" name=""/>
            <p:cNvSpPr/>
            <p:nvPr/>
          </p:nvSpPr>
          <p:spPr>
            <a:xfrm>
              <a:off x="1676520" y="762120"/>
              <a:ext cx="1676160" cy="93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0 001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0 0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304920" y="0"/>
              <a:ext cx="3124080" cy="11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=3  B=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+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676520" y="1676520"/>
              <a:ext cx="175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0 0101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048120" y="1447920"/>
              <a:ext cx="3045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200400" y="1295280"/>
              <a:ext cx="1440" cy="28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752480" y="1676520"/>
              <a:ext cx="16002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9" name=""/>
          <p:cNvGrpSpPr/>
          <p:nvPr/>
        </p:nvGrpSpPr>
        <p:grpSpPr>
          <a:xfrm>
            <a:off x="4648320" y="0"/>
            <a:ext cx="3581280" cy="2257920"/>
            <a:chOff x="4648320" y="0"/>
            <a:chExt cx="3581280" cy="2257920"/>
          </a:xfrm>
        </p:grpSpPr>
        <p:sp>
          <p:nvSpPr>
            <p:cNvPr id="1690" name=""/>
            <p:cNvSpPr/>
            <p:nvPr/>
          </p:nvSpPr>
          <p:spPr>
            <a:xfrm>
              <a:off x="4648320" y="0"/>
              <a:ext cx="3504960" cy="11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=10  B=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0+7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6400800" y="762120"/>
              <a:ext cx="1828800" cy="93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0 1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0 011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772400" y="14479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792468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553080" y="167652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400800" y="1676520"/>
              <a:ext cx="175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 0001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6" name=""/>
          <p:cNvSpPr/>
          <p:nvPr/>
        </p:nvSpPr>
        <p:spPr>
          <a:xfrm>
            <a:off x="8001000" y="1676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正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3124080" y="3886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正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8001000" y="3886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负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3200400" y="6095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正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8001000" y="6095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正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1" name=""/>
          <p:cNvGrpSpPr/>
          <p:nvPr/>
        </p:nvGrpSpPr>
        <p:grpSpPr>
          <a:xfrm>
            <a:off x="304920" y="2209680"/>
            <a:ext cx="3352680" cy="2257920"/>
            <a:chOff x="304920" y="2209680"/>
            <a:chExt cx="3352680" cy="2257920"/>
          </a:xfrm>
        </p:grpSpPr>
        <p:sp>
          <p:nvSpPr>
            <p:cNvPr id="1702" name=""/>
            <p:cNvSpPr/>
            <p:nvPr/>
          </p:nvSpPr>
          <p:spPr>
            <a:xfrm>
              <a:off x="304920" y="2209680"/>
              <a:ext cx="3352680" cy="11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= -3  B= -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3+(-2)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3048120" y="365760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3200400" y="35053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752480" y="388620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1676520" y="3886200"/>
              <a:ext cx="175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 1011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1676520" y="2971800"/>
              <a:ext cx="1904760" cy="93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 11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 11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8" name=""/>
          <p:cNvGrpSpPr/>
          <p:nvPr/>
        </p:nvGrpSpPr>
        <p:grpSpPr>
          <a:xfrm>
            <a:off x="4648320" y="2209680"/>
            <a:ext cx="3733560" cy="2257920"/>
            <a:chOff x="4648320" y="2209680"/>
            <a:chExt cx="3733560" cy="2257920"/>
          </a:xfrm>
        </p:grpSpPr>
        <p:sp>
          <p:nvSpPr>
            <p:cNvPr id="1709" name=""/>
            <p:cNvSpPr/>
            <p:nvPr/>
          </p:nvSpPr>
          <p:spPr>
            <a:xfrm>
              <a:off x="4648320" y="2209680"/>
              <a:ext cx="3733560" cy="11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= -10  B= -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10+(-7)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7848720" y="365760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8001000" y="35053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629400" y="388620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477120" y="3886200"/>
              <a:ext cx="175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0 1111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477120" y="2971800"/>
              <a:ext cx="1676160" cy="93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 01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 10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5" name=""/>
          <p:cNvGrpSpPr/>
          <p:nvPr/>
        </p:nvGrpSpPr>
        <p:grpSpPr>
          <a:xfrm>
            <a:off x="304920" y="4495680"/>
            <a:ext cx="3352680" cy="2181600"/>
            <a:chOff x="304920" y="4495680"/>
            <a:chExt cx="3352680" cy="2181600"/>
          </a:xfrm>
        </p:grpSpPr>
        <p:sp>
          <p:nvSpPr>
            <p:cNvPr id="1716" name=""/>
            <p:cNvSpPr/>
            <p:nvPr/>
          </p:nvSpPr>
          <p:spPr>
            <a:xfrm>
              <a:off x="304920" y="4495680"/>
              <a:ext cx="3124080" cy="11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=6  B= 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6+(-4)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124080" y="59436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3276720" y="57913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905120" y="617220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752480" y="6095880"/>
              <a:ext cx="1752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0 0010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752480" y="5257800"/>
              <a:ext cx="1905120" cy="93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0 01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 11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2" name=""/>
          <p:cNvGrpSpPr/>
          <p:nvPr/>
        </p:nvGrpSpPr>
        <p:grpSpPr>
          <a:xfrm>
            <a:off x="4724280" y="4495680"/>
            <a:ext cx="3581640" cy="2181600"/>
            <a:chOff x="4724280" y="4495680"/>
            <a:chExt cx="3581640" cy="2181600"/>
          </a:xfrm>
        </p:grpSpPr>
        <p:sp>
          <p:nvSpPr>
            <p:cNvPr id="1723" name=""/>
            <p:cNvSpPr/>
            <p:nvPr/>
          </p:nvSpPr>
          <p:spPr>
            <a:xfrm>
              <a:off x="4724280" y="4495680"/>
              <a:ext cx="3276720" cy="11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6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= -6  B=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6+4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7848720" y="594360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8001000" y="57913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6553080" y="617220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6477120" y="6095880"/>
              <a:ext cx="175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 1110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477120" y="5257800"/>
              <a:ext cx="1828800" cy="93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 1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0 01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9" name=""/>
          <p:cNvSpPr/>
          <p:nvPr/>
        </p:nvSpPr>
        <p:spPr>
          <a:xfrm>
            <a:off x="457200" y="1371600"/>
            <a:ext cx="121932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Cf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C 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4952880" y="1371600"/>
            <a:ext cx="121932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Cf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C 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457200" y="3581280"/>
            <a:ext cx="121932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Cf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C 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5105520" y="3581280"/>
            <a:ext cx="121896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Cf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C 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533520" y="5791320"/>
            <a:ext cx="121896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Cf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C 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5105520" y="5791320"/>
            <a:ext cx="121896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Cf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C 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6629400" y="1295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1981080" y="5791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1523880" y="3505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63244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190512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1600200" y="5791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2289" dur="indefinite" restart="never" nodeType="tmRoot">
          <p:childTnLst>
            <p:seq>
              <p:cTn id="2290" dur="indefinite" nodeType="mainSeq">
                <p:childTnLst>
                  <p:par>
                    <p:cTn id="2291" fill="hold">
                      <p:stCondLst>
                        <p:cond delay="indefinite"/>
                      </p:stCondLst>
                      <p:childTnLst>
                        <p:par>
                          <p:cTn id="2292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5" dur="500"/>
                                        <p:tgtEl>
                                          <p:spTgt spid="1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fill="hold">
                      <p:stCondLst>
                        <p:cond delay="indefinite"/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0" dur="500"/>
                                        <p:tgtEl>
                                          <p:spTgt spid="1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1" fill="hold">
                      <p:stCondLst>
                        <p:cond delay="indefinite"/>
                      </p:stCondLst>
                      <p:childTnLst>
                        <p:par>
                          <p:cTn id="2302" fill="hold">
                            <p:stCondLst>
                              <p:cond delay="0"/>
                            </p:stCondLst>
                            <p:childTnLst>
                              <p:par>
                                <p:cTn id="2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5" dur="500" fill="hold"/>
                                        <p:tgtEl>
                                          <p:spTgt spid="1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1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7" fill="hold">
                      <p:stCondLst>
                        <p:cond delay="indefinite"/>
                      </p:stCondLst>
                      <p:childTnLst>
                        <p:par>
                          <p:cTn id="2308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1" dur="500"/>
                                        <p:tgtEl>
                                          <p:spTgt spid="1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2" fill="hold">
                      <p:stCondLst>
                        <p:cond delay="indefinite"/>
                      </p:stCondLst>
                      <p:childTnLst>
                        <p:par>
                          <p:cTn id="2313" fill="hold">
                            <p:stCondLst>
                              <p:cond delay="0"/>
                            </p:stCondLst>
                            <p:childTnLst>
                              <p:par>
                                <p:cTn id="2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6" dur="500"/>
                                        <p:tgtEl>
                                          <p:spTgt spid="1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7" fill="hold">
                      <p:stCondLst>
                        <p:cond delay="indefinite"/>
                      </p:stCondLst>
                      <p:childTnLst>
                        <p:par>
                          <p:cTn id="2318" fill="hold">
                            <p:stCondLst>
                              <p:cond delay="0"/>
                            </p:stCondLst>
                            <p:childTnLst>
                              <p:par>
                                <p:cTn id="2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1" dur="500" fill="hold"/>
                                        <p:tgtEl>
                                          <p:spTgt spid="1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2" dur="500" fill="hold"/>
                                        <p:tgtEl>
                                          <p:spTgt spid="1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3" fill="hold">
                      <p:stCondLst>
                        <p:cond delay="indefinite"/>
                      </p:stCondLst>
                      <p:childTnLst>
                        <p:par>
                          <p:cTn id="2324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7" dur="500" fill="hold"/>
                                        <p:tgtEl>
                                          <p:spTgt spid="1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8" dur="500" fill="hold"/>
                                        <p:tgtEl>
                                          <p:spTgt spid="1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9" fill="hold">
                      <p:stCondLst>
                        <p:cond delay="indefinite"/>
                      </p:stCondLst>
                      <p:childTnLst>
                        <p:par>
                          <p:cTn id="2330" fill="hold">
                            <p:stCondLst>
                              <p:cond delay="0"/>
                            </p:stCondLst>
                            <p:childTnLst>
                              <p:par>
                                <p:cTn id="2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3" dur="500"/>
                                        <p:tgtEl>
                                          <p:spTgt spid="1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4" fill="hold">
                      <p:stCondLst>
                        <p:cond delay="indefinite"/>
                      </p:stCondLst>
                      <p:childTnLst>
                        <p:par>
                          <p:cTn id="2335" fill="hold">
                            <p:stCondLst>
                              <p:cond delay="0"/>
                            </p:stCondLst>
                            <p:childTnLst>
                              <p:par>
                                <p:cTn id="2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8" dur="500"/>
                                        <p:tgtEl>
                                          <p:spTgt spid="1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9" fill="hold">
                      <p:stCondLst>
                        <p:cond delay="indefinite"/>
                      </p:stCondLst>
                      <p:childTnLst>
                        <p:par>
                          <p:cTn id="2340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3" dur="500" fill="hold"/>
                                        <p:tgtEl>
                                          <p:spTgt spid="1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4" dur="500" fill="hold"/>
                                        <p:tgtEl>
                                          <p:spTgt spid="1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fill="hold">
                      <p:stCondLst>
                        <p:cond delay="indefinite"/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9" dur="500"/>
                                        <p:tgtEl>
                                          <p:spTgt spid="1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0" fill="hold">
                      <p:stCondLst>
                        <p:cond delay="indefinite"/>
                      </p:stCondLst>
                      <p:childTnLst>
                        <p:par>
                          <p:cTn id="2351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4" dur="500"/>
                                        <p:tgtEl>
                                          <p:spTgt spid="1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5" fill="hold">
                      <p:stCondLst>
                        <p:cond delay="indefinite"/>
                      </p:stCondLst>
                      <p:childTnLst>
                        <p:par>
                          <p:cTn id="2356" fill="hold">
                            <p:stCondLst>
                              <p:cond delay="0"/>
                            </p:stCondLst>
                            <p:childTnLst>
                              <p:par>
                                <p:cTn id="2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9" dur="500" fill="hold"/>
                                        <p:tgtEl>
                                          <p:spTgt spid="1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0" dur="500" fill="hold"/>
                                        <p:tgtEl>
                                          <p:spTgt spid="1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1" fill="hold">
                      <p:stCondLst>
                        <p:cond delay="indefinite"/>
                      </p:stCondLst>
                      <p:childTnLst>
                        <p:par>
                          <p:cTn id="2362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5" dur="500" fill="hold"/>
                                        <p:tgtEl>
                                          <p:spTgt spid="1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6" dur="500" fill="hold"/>
                                        <p:tgtEl>
                                          <p:spTgt spid="1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7" fill="hold">
                      <p:stCondLst>
                        <p:cond delay="indefinite"/>
                      </p:stCondLst>
                      <p:childTnLst>
                        <p:par>
                          <p:cTn id="2368" fill="hold">
                            <p:stCondLst>
                              <p:cond delay="0"/>
                            </p:stCondLst>
                            <p:childTnLst>
                              <p:par>
                                <p:cTn id="2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1" dur="500"/>
                                        <p:tgtEl>
                                          <p:spTgt spid="1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2" fill="hold">
                      <p:stCondLst>
                        <p:cond delay="indefinite"/>
                      </p:stCondLst>
                      <p:childTnLst>
                        <p:par>
                          <p:cTn id="2373" fill="hold">
                            <p:stCondLst>
                              <p:cond delay="0"/>
                            </p:stCondLst>
                            <p:childTnLst>
                              <p:par>
                                <p:cTn id="2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6" dur="500"/>
                                        <p:tgtEl>
                                          <p:spTgt spid="1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7" fill="hold">
                      <p:stCondLst>
                        <p:cond delay="indefinite"/>
                      </p:stCondLst>
                      <p:childTnLst>
                        <p:par>
                          <p:cTn id="2378" fill="hold">
                            <p:stCondLst>
                              <p:cond delay="0"/>
                            </p:stCondLst>
                            <p:childTnLst>
                              <p:par>
                                <p:cTn id="2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1" dur="500"/>
                                        <p:tgtEl>
                                          <p:spTgt spid="1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2" fill="hold">
                      <p:stCondLst>
                        <p:cond delay="indefinite"/>
                      </p:stCondLst>
                      <p:childTnLst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6" dur="500"/>
                                        <p:tgtEl>
                                          <p:spTgt spid="1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1" name=""/>
          <p:cNvGrpSpPr/>
          <p:nvPr/>
        </p:nvGrpSpPr>
        <p:grpSpPr>
          <a:xfrm>
            <a:off x="0" y="762120"/>
            <a:ext cx="3581280" cy="2257920"/>
            <a:chOff x="0" y="762120"/>
            <a:chExt cx="3581280" cy="2257920"/>
          </a:xfrm>
        </p:grpSpPr>
        <p:sp>
          <p:nvSpPr>
            <p:cNvPr id="1742" name=""/>
            <p:cNvSpPr/>
            <p:nvPr/>
          </p:nvSpPr>
          <p:spPr>
            <a:xfrm>
              <a:off x="0" y="762120"/>
              <a:ext cx="3504960" cy="11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=10  B=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0+7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：  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1010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752480" y="1524240"/>
              <a:ext cx="1828800" cy="11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011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3124080" y="221004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276360" y="20574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904760" y="243864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752480" y="2438640"/>
              <a:ext cx="175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0001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8" name=""/>
          <p:cNvGrpSpPr/>
          <p:nvPr/>
        </p:nvGrpSpPr>
        <p:grpSpPr>
          <a:xfrm>
            <a:off x="4876920" y="762120"/>
            <a:ext cx="3733560" cy="2257560"/>
            <a:chOff x="4876920" y="762120"/>
            <a:chExt cx="3733560" cy="2257560"/>
          </a:xfrm>
        </p:grpSpPr>
        <p:sp>
          <p:nvSpPr>
            <p:cNvPr id="1749" name=""/>
            <p:cNvSpPr/>
            <p:nvPr/>
          </p:nvSpPr>
          <p:spPr>
            <a:xfrm>
              <a:off x="4876920" y="762120"/>
              <a:ext cx="3733560" cy="11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= -10  B= -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10+(-7)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8077320" y="220968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8229600" y="2057400"/>
              <a:ext cx="0" cy="30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6858000" y="243828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6705720" y="2438280"/>
              <a:ext cx="175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1111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6705720" y="1523880"/>
              <a:ext cx="1676160" cy="93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01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10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5" name=""/>
          <p:cNvSpPr/>
          <p:nvPr/>
        </p:nvSpPr>
        <p:spPr>
          <a:xfrm>
            <a:off x="304920" y="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硬件判断逻辑一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关系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6" name=""/>
          <p:cNvGrpSpPr/>
          <p:nvPr/>
        </p:nvGrpSpPr>
        <p:grpSpPr>
          <a:xfrm>
            <a:off x="457200" y="3048120"/>
            <a:ext cx="4952880" cy="1069200"/>
            <a:chOff x="457200" y="3048120"/>
            <a:chExt cx="4952880" cy="1069200"/>
          </a:xfrm>
        </p:grpSpPr>
        <p:sp>
          <p:nvSpPr>
            <p:cNvPr id="1757" name=""/>
            <p:cNvSpPr/>
            <p:nvPr/>
          </p:nvSpPr>
          <p:spPr>
            <a:xfrm>
              <a:off x="457200" y="304812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溢出</a:t>
              </a:r>
              <a:r>
                <a:rPr b="1" lang="zh-CN" sz="36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752480" y="3048120"/>
              <a:ext cx="60984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S</a:t>
              </a:r>
              <a:r>
                <a:rPr b="1" lang="en-US" sz="28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1828800" y="3200400"/>
              <a:ext cx="30492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2286000" y="3200400"/>
              <a:ext cx="30492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3276720" y="3429000"/>
              <a:ext cx="30456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2209680" y="304812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S</a:t>
              </a:r>
              <a:r>
                <a:rPr b="1" lang="en-US" sz="28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2666880" y="304812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S</a:t>
              </a:r>
              <a:r>
                <a:rPr b="1" lang="zh-CN" sz="28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3657600" y="3048120"/>
              <a:ext cx="60948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S</a:t>
              </a:r>
              <a:r>
                <a:rPr b="1" lang="en-US" sz="28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648320" y="3048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S</a:t>
              </a:r>
              <a:r>
                <a:rPr b="1" lang="zh-CN" sz="28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114800" y="304812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S</a:t>
              </a:r>
              <a:r>
                <a:rPr b="1" lang="en-US" sz="28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724280" y="3200400"/>
              <a:ext cx="30492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3429000" y="3276720"/>
              <a:ext cx="0" cy="30456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9" name=""/>
          <p:cNvSpPr/>
          <p:nvPr/>
        </p:nvSpPr>
        <p:spPr>
          <a:xfrm>
            <a:off x="304920" y="38862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硬件判断逻辑二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关系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0" name=""/>
          <p:cNvGrpSpPr/>
          <p:nvPr/>
        </p:nvGrpSpPr>
        <p:grpSpPr>
          <a:xfrm>
            <a:off x="533520" y="4495680"/>
            <a:ext cx="3429000" cy="642600"/>
            <a:chOff x="533520" y="4495680"/>
            <a:chExt cx="3429000" cy="642600"/>
          </a:xfrm>
        </p:grpSpPr>
        <p:sp>
          <p:nvSpPr>
            <p:cNvPr id="1771" name=""/>
            <p:cNvSpPr/>
            <p:nvPr/>
          </p:nvSpPr>
          <p:spPr>
            <a:xfrm>
              <a:off x="533520" y="449568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溢出</a:t>
              </a:r>
              <a:r>
                <a:rPr b="1" lang="zh-CN" sz="36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= C</a:t>
              </a:r>
              <a:r>
                <a:rPr b="1" lang="zh-CN" sz="28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f</a:t>
              </a:r>
              <a:r>
                <a:rPr b="1" lang="zh-CN" sz="36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   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2" name=""/>
            <p:cNvGrpSpPr/>
            <p:nvPr/>
          </p:nvGrpSpPr>
          <p:grpSpPr>
            <a:xfrm>
              <a:off x="2590920" y="4724280"/>
              <a:ext cx="304560" cy="304920"/>
              <a:chOff x="2590920" y="4724280"/>
              <a:chExt cx="304560" cy="304920"/>
            </a:xfrm>
          </p:grpSpPr>
          <p:sp>
            <p:nvSpPr>
              <p:cNvPr id="1773" name=""/>
              <p:cNvSpPr/>
              <p:nvPr/>
            </p:nvSpPr>
            <p:spPr>
              <a:xfrm>
                <a:off x="2590920" y="4876920"/>
                <a:ext cx="304560" cy="0"/>
              </a:xfrm>
              <a:prstGeom prst="line">
                <a:avLst/>
              </a:prstGeom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2742840" y="4724280"/>
                <a:ext cx="0" cy="304920"/>
              </a:xfrm>
              <a:prstGeom prst="line">
                <a:avLst/>
              </a:prstGeom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2590920" y="4724280"/>
                <a:ext cx="304560" cy="30492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76" name=""/>
          <p:cNvSpPr/>
          <p:nvPr/>
        </p:nvSpPr>
        <p:spPr>
          <a:xfrm>
            <a:off x="304920" y="52578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硬件判断逻辑三（双符号位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2387" dur="indefinite" restart="never" nodeType="tmRoot">
          <p:childTnLst>
            <p:seq>
              <p:cTn id="2388" dur="indefinite" nodeType="mainSeq">
                <p:childTnLst>
                  <p:par>
                    <p:cTn id="2389" fill="hold">
                      <p:stCondLst>
                        <p:cond delay="indefinite"/>
                      </p:stCondLst>
                      <p:childTnLst>
                        <p:par>
                          <p:cTn id="2390" fill="hold">
                            <p:stCondLst>
                              <p:cond delay="0"/>
                            </p:stCondLst>
                            <p:childTnLst>
                              <p:par>
                                <p:cTn id="23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3" dur="5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4" dur="5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5" fill="hold">
                      <p:stCondLst>
                        <p:cond delay="indefinite"/>
                      </p:stCondLst>
                      <p:childTnLst>
                        <p:par>
                          <p:cTn id="2396" fill="hold">
                            <p:stCondLst>
                              <p:cond delay="0"/>
                            </p:stCondLst>
                            <p:childTnLst>
                              <p:par>
                                <p:cTn id="2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9" dur="500"/>
                                        <p:tgtEl>
                                          <p:spTgt spid="1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7" name=""/>
          <p:cNvGrpSpPr/>
          <p:nvPr/>
        </p:nvGrpSpPr>
        <p:grpSpPr>
          <a:xfrm>
            <a:off x="304920" y="-46080"/>
            <a:ext cx="8839080" cy="7164720"/>
            <a:chOff x="304920" y="-46080"/>
            <a:chExt cx="8839080" cy="7164720"/>
          </a:xfrm>
        </p:grpSpPr>
        <p:sp>
          <p:nvSpPr>
            <p:cNvPr id="1778" name=""/>
            <p:cNvSpPr/>
            <p:nvPr/>
          </p:nvSpPr>
          <p:spPr>
            <a:xfrm>
              <a:off x="304920" y="-46080"/>
              <a:ext cx="20574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+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3124080" y="170640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ff"/>
                  </a:solidFill>
                  <a:latin typeface="Times New Roman"/>
                </a:rPr>
                <a:t>正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447920" y="716040"/>
              <a:ext cx="1828800" cy="93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00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001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00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0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1447920" y="1630440"/>
              <a:ext cx="1752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0101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3048120" y="1401840"/>
              <a:ext cx="3045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3200400" y="1249200"/>
              <a:ext cx="1440" cy="28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1523880" y="1630440"/>
              <a:ext cx="18288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4648320" y="-46080"/>
              <a:ext cx="3504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0+7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6172200" y="716040"/>
              <a:ext cx="1828800" cy="93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00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1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00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011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7772400" y="140184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7924680" y="12492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6324480" y="163044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6172200" y="1630440"/>
              <a:ext cx="1752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ff"/>
                  </a:solidFill>
                  <a:latin typeface="Times New Roman"/>
                </a:rPr>
                <a:t>01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0001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8001000" y="170640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ff"/>
                  </a:solidFill>
                  <a:latin typeface="Times New Roman"/>
                </a:rPr>
                <a:t>正溢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3124080" y="391644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ff"/>
                  </a:solidFill>
                  <a:latin typeface="Times New Roman"/>
                </a:rPr>
                <a:t>正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8001000" y="391644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ff"/>
                  </a:solidFill>
                  <a:latin typeface="Times New Roman"/>
                </a:rPr>
                <a:t>负溢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3200400" y="612612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ff"/>
                  </a:solidFill>
                  <a:latin typeface="Times New Roman"/>
                </a:rPr>
                <a:t>正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8001000" y="612612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ff"/>
                  </a:solidFill>
                  <a:latin typeface="Times New Roman"/>
                </a:rPr>
                <a:t>正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304920" y="216360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3+(-2)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3048120" y="36115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200400" y="345924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447920" y="3840120"/>
              <a:ext cx="1904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447920" y="3840120"/>
              <a:ext cx="1752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11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0111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1447920" y="2925720"/>
              <a:ext cx="1904760" cy="93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1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11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1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11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4648320" y="2163600"/>
              <a:ext cx="3733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10+(-7)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7848720" y="36115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8001000" y="345924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6400800" y="384012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6248520" y="3840120"/>
              <a:ext cx="1752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ff"/>
                  </a:solidFill>
                  <a:latin typeface="Times New Roman"/>
                </a:rPr>
                <a:t>10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1111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248520" y="2925720"/>
              <a:ext cx="1676160" cy="93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1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01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1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10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304920" y="4449600"/>
              <a:ext cx="3124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6+(-4)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3124080" y="58975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3276720" y="574524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1905120" y="612612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523880" y="6049800"/>
              <a:ext cx="1752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0010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1523880" y="5211720"/>
              <a:ext cx="1905120" cy="93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00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01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1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11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4724280" y="4449600"/>
              <a:ext cx="32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6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6+4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848720" y="58975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8001000" y="574524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6400800" y="6126120"/>
              <a:ext cx="1752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6248520" y="6049800"/>
              <a:ext cx="1752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11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110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6248520" y="5211720"/>
              <a:ext cx="1828800" cy="93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11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00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01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0" name=""/>
          <p:cNvSpPr/>
          <p:nvPr/>
        </p:nvSpPr>
        <p:spPr>
          <a:xfrm>
            <a:off x="5334120" y="1143000"/>
            <a:ext cx="914400" cy="68580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3352680" y="63972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第一符号位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f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5638680" y="3352680"/>
            <a:ext cx="914400" cy="68580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3352680" y="289548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黑体"/>
              </a:rPr>
              <a:t>第二符号位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f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2400" dur="indefinite" restart="never" nodeType="tmRoot">
          <p:childTnLst>
            <p:seq>
              <p:cTn id="2401" dur="indefinite" nodeType="mainSeq">
                <p:childTnLst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6" dur="5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7" fill="hold">
                            <p:stCondLst>
                              <p:cond delay="500"/>
                            </p:stCondLst>
                            <p:childTnLst>
                              <p:par>
                                <p:cTn id="24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0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1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2" fill="hold">
                      <p:stCondLst>
                        <p:cond delay="indefinite"/>
                      </p:stCondLst>
                      <p:childTnLst>
                        <p:par>
                          <p:cTn id="2413" fill="hold">
                            <p:stCondLst>
                              <p:cond delay="0"/>
                            </p:stCondLst>
                            <p:childTnLst>
                              <p:par>
                                <p:cTn id="24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6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7" fill="hold">
                            <p:stCondLst>
                              <p:cond delay="500"/>
                            </p:stCondLst>
                            <p:childTnLst>
                              <p:par>
                                <p:cTn id="24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0" dur="500" fill="hold"/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1" dur="500" fill="hold"/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4" name=""/>
          <p:cNvGrpSpPr/>
          <p:nvPr/>
        </p:nvGrpSpPr>
        <p:grpSpPr>
          <a:xfrm>
            <a:off x="0" y="762120"/>
            <a:ext cx="3581280" cy="2257920"/>
            <a:chOff x="0" y="762120"/>
            <a:chExt cx="3581280" cy="2257920"/>
          </a:xfrm>
        </p:grpSpPr>
        <p:sp>
          <p:nvSpPr>
            <p:cNvPr id="1825" name=""/>
            <p:cNvSpPr/>
            <p:nvPr/>
          </p:nvSpPr>
          <p:spPr>
            <a:xfrm>
              <a:off x="0" y="762120"/>
              <a:ext cx="3504960" cy="11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=10  B=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0+7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：  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1010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752480" y="1524240"/>
              <a:ext cx="1828800" cy="11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011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3124080" y="221004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3276360" y="20574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1904760" y="243864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1752480" y="2438640"/>
              <a:ext cx="175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0001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1" name=""/>
          <p:cNvGrpSpPr/>
          <p:nvPr/>
        </p:nvGrpSpPr>
        <p:grpSpPr>
          <a:xfrm>
            <a:off x="4876920" y="762120"/>
            <a:ext cx="3733560" cy="2257560"/>
            <a:chOff x="4876920" y="762120"/>
            <a:chExt cx="3733560" cy="2257560"/>
          </a:xfrm>
        </p:grpSpPr>
        <p:sp>
          <p:nvSpPr>
            <p:cNvPr id="1832" name=""/>
            <p:cNvSpPr/>
            <p:nvPr/>
          </p:nvSpPr>
          <p:spPr>
            <a:xfrm>
              <a:off x="4876920" y="762120"/>
              <a:ext cx="3733560" cy="11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= -10  B= -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10+(-7)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8077320" y="220968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8229600" y="2057400"/>
              <a:ext cx="0" cy="30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6858000" y="243828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705720" y="2438280"/>
              <a:ext cx="175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1111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705720" y="1523880"/>
              <a:ext cx="1676160" cy="93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01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10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8" name=""/>
          <p:cNvSpPr/>
          <p:nvPr/>
        </p:nvSpPr>
        <p:spPr>
          <a:xfrm>
            <a:off x="304920" y="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硬件判断逻辑一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关系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9" name=""/>
          <p:cNvGrpSpPr/>
          <p:nvPr/>
        </p:nvGrpSpPr>
        <p:grpSpPr>
          <a:xfrm>
            <a:off x="457200" y="3048120"/>
            <a:ext cx="4952880" cy="1069200"/>
            <a:chOff x="457200" y="3048120"/>
            <a:chExt cx="4952880" cy="1069200"/>
          </a:xfrm>
        </p:grpSpPr>
        <p:sp>
          <p:nvSpPr>
            <p:cNvPr id="1840" name=""/>
            <p:cNvSpPr/>
            <p:nvPr/>
          </p:nvSpPr>
          <p:spPr>
            <a:xfrm>
              <a:off x="457200" y="304812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溢出</a:t>
              </a:r>
              <a:r>
                <a:rPr b="1" lang="zh-CN" sz="36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752480" y="3048120"/>
              <a:ext cx="60984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S</a:t>
              </a:r>
              <a:r>
                <a:rPr b="1" lang="en-US" sz="28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1828800" y="3200400"/>
              <a:ext cx="30492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2286000" y="3200400"/>
              <a:ext cx="30492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3276720" y="3429000"/>
              <a:ext cx="30456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2209680" y="304812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S</a:t>
              </a:r>
              <a:r>
                <a:rPr b="1" lang="en-US" sz="28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2666880" y="304812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S</a:t>
              </a:r>
              <a:r>
                <a:rPr b="1" lang="zh-CN" sz="28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3657600" y="3048120"/>
              <a:ext cx="60948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S</a:t>
              </a:r>
              <a:r>
                <a:rPr b="1" lang="en-US" sz="28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4648320" y="3048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S</a:t>
              </a:r>
              <a:r>
                <a:rPr b="1" lang="zh-CN" sz="28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4114800" y="304812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S</a:t>
              </a:r>
              <a:r>
                <a:rPr b="1" lang="en-US" sz="28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4724280" y="3200400"/>
              <a:ext cx="30492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3429000" y="3276720"/>
              <a:ext cx="0" cy="30456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2" name=""/>
          <p:cNvSpPr/>
          <p:nvPr/>
        </p:nvSpPr>
        <p:spPr>
          <a:xfrm>
            <a:off x="304920" y="380988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硬件判断逻辑二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关系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3" name=""/>
          <p:cNvGrpSpPr/>
          <p:nvPr/>
        </p:nvGrpSpPr>
        <p:grpSpPr>
          <a:xfrm>
            <a:off x="533520" y="5867280"/>
            <a:ext cx="4114800" cy="642600"/>
            <a:chOff x="533520" y="5867280"/>
            <a:chExt cx="4114800" cy="642600"/>
          </a:xfrm>
        </p:grpSpPr>
        <p:sp>
          <p:nvSpPr>
            <p:cNvPr id="1854" name=""/>
            <p:cNvSpPr/>
            <p:nvPr/>
          </p:nvSpPr>
          <p:spPr>
            <a:xfrm>
              <a:off x="533520" y="5867280"/>
              <a:ext cx="411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溢出</a:t>
              </a:r>
              <a:r>
                <a:rPr b="1" lang="zh-CN" sz="36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= S</a:t>
              </a:r>
              <a:r>
                <a:rPr b="1" lang="zh-CN" sz="28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f1</a:t>
              </a:r>
              <a:r>
                <a:rPr b="1" lang="zh-CN" sz="36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   S</a:t>
              </a:r>
              <a:r>
                <a:rPr b="1" lang="zh-CN" sz="28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f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5" name=""/>
            <p:cNvGrpSpPr/>
            <p:nvPr/>
          </p:nvGrpSpPr>
          <p:grpSpPr>
            <a:xfrm>
              <a:off x="2743200" y="6095880"/>
              <a:ext cx="366480" cy="304920"/>
              <a:chOff x="2743200" y="6095880"/>
              <a:chExt cx="366480" cy="304920"/>
            </a:xfrm>
          </p:grpSpPr>
          <p:sp>
            <p:nvSpPr>
              <p:cNvPr id="1856" name=""/>
              <p:cNvSpPr/>
              <p:nvPr/>
            </p:nvSpPr>
            <p:spPr>
              <a:xfrm>
                <a:off x="2743200" y="6248520"/>
                <a:ext cx="366480" cy="0"/>
              </a:xfrm>
              <a:prstGeom prst="line">
                <a:avLst/>
              </a:prstGeom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2926080" y="6095880"/>
                <a:ext cx="0" cy="304920"/>
              </a:xfrm>
              <a:prstGeom prst="line">
                <a:avLst/>
              </a:prstGeom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2743200" y="6095880"/>
                <a:ext cx="366480" cy="30492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9" name=""/>
          <p:cNvSpPr/>
          <p:nvPr/>
        </p:nvSpPr>
        <p:spPr>
          <a:xfrm>
            <a:off x="304920" y="52578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硬件判断逻辑三（双符号位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0" name=""/>
          <p:cNvGrpSpPr/>
          <p:nvPr/>
        </p:nvGrpSpPr>
        <p:grpSpPr>
          <a:xfrm>
            <a:off x="533520" y="4495680"/>
            <a:ext cx="3429000" cy="642600"/>
            <a:chOff x="533520" y="4495680"/>
            <a:chExt cx="3429000" cy="642600"/>
          </a:xfrm>
        </p:grpSpPr>
        <p:sp>
          <p:nvSpPr>
            <p:cNvPr id="1861" name=""/>
            <p:cNvSpPr/>
            <p:nvPr/>
          </p:nvSpPr>
          <p:spPr>
            <a:xfrm>
              <a:off x="533520" y="449568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溢出</a:t>
              </a:r>
              <a:r>
                <a:rPr b="1" lang="zh-CN" sz="36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= C</a:t>
              </a:r>
              <a:r>
                <a:rPr b="1" lang="zh-CN" sz="28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f</a:t>
              </a:r>
              <a:r>
                <a:rPr b="1" lang="zh-CN" sz="36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   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2" name=""/>
            <p:cNvGrpSpPr/>
            <p:nvPr/>
          </p:nvGrpSpPr>
          <p:grpSpPr>
            <a:xfrm>
              <a:off x="2590920" y="4724280"/>
              <a:ext cx="304560" cy="304920"/>
              <a:chOff x="2590920" y="4724280"/>
              <a:chExt cx="304560" cy="304920"/>
            </a:xfrm>
          </p:grpSpPr>
          <p:sp>
            <p:nvSpPr>
              <p:cNvPr id="1863" name=""/>
              <p:cNvSpPr/>
              <p:nvPr/>
            </p:nvSpPr>
            <p:spPr>
              <a:xfrm>
                <a:off x="2590920" y="4876920"/>
                <a:ext cx="304560" cy="0"/>
              </a:xfrm>
              <a:prstGeom prst="line">
                <a:avLst/>
              </a:prstGeom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2742840" y="4724280"/>
                <a:ext cx="0" cy="304920"/>
              </a:xfrm>
              <a:prstGeom prst="line">
                <a:avLst/>
              </a:prstGeom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2590920" y="4724280"/>
                <a:ext cx="304560" cy="30492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slow">
    <p:cover dir="ld"/>
  </p:transition>
  <p:timing>
    <p:tnLst>
      <p:par>
        <p:cTn id="2422" dur="indefinite" restart="never" nodeType="tmRoot">
          <p:childTnLst>
            <p:seq>
              <p:cTn id="2423" dur="indefinite" nodeType="mainSeq">
                <p:childTnLst>
                  <p:par>
                    <p:cTn id="2424" fill="hold">
                      <p:stCondLst>
                        <p:cond delay="indefinite"/>
                      </p:stCondLst>
                      <p:childTnLst>
                        <p:par>
                          <p:cTn id="2425" fill="hold">
                            <p:stCondLst>
                              <p:cond delay="0"/>
                            </p:stCondLst>
                            <p:childTnLst>
                              <p:par>
                                <p:cTn id="24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8" dur="500" fill="hold"/>
                                        <p:tgtEl>
                                          <p:spTgt spid="1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9" dur="500" fill="hold"/>
                                        <p:tgtEl>
                                          <p:spTgt spid="1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"/>
          <p:cNvSpPr/>
          <p:nvPr/>
        </p:nvSpPr>
        <p:spPr>
          <a:xfrm>
            <a:off x="0" y="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.3.3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移位操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228600" y="16002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逻辑移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2438280" y="143208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：数码位置变化，数值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不变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0" y="68580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移位类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228600" y="40384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算术移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3200400" y="228600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 0 0 0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1 1 1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838080" y="281952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循环左移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3200400" y="281952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4" name=""/>
          <p:cNvGrpSpPr/>
          <p:nvPr/>
        </p:nvGrpSpPr>
        <p:grpSpPr>
          <a:xfrm>
            <a:off x="2438280" y="3886200"/>
            <a:ext cx="6705720" cy="1312920"/>
            <a:chOff x="2438280" y="3886200"/>
            <a:chExt cx="6705720" cy="1312920"/>
          </a:xfrm>
        </p:grpSpPr>
        <p:sp>
          <p:nvSpPr>
            <p:cNvPr id="1875" name=""/>
            <p:cNvSpPr/>
            <p:nvPr/>
          </p:nvSpPr>
          <p:spPr>
            <a:xfrm>
              <a:off x="2438280" y="3886200"/>
              <a:ext cx="6705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：数码位置变化，数值</a:t>
              </a: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变化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,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2971800" y="4495680"/>
              <a:ext cx="6172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符号位不变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7" name=""/>
          <p:cNvSpPr/>
          <p:nvPr/>
        </p:nvSpPr>
        <p:spPr>
          <a:xfrm>
            <a:off x="3200400" y="53341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0 0 1 1 1 1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914400" y="58356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算术左移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3200400" y="586728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3581280" y="281952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3962520" y="281952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4343400" y="281952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1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4572000" y="28195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1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5105520" y="28195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1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5486400" y="28195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1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5867280" y="28195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3581280" y="5867280"/>
            <a:ext cx="533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0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3962520" y="58672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4343400" y="5867280"/>
            <a:ext cx="533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4724280" y="58672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5105520" y="586728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5486400" y="5867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6629400" y="5334120"/>
            <a:ext cx="15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(-1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6629400" y="5867280"/>
            <a:ext cx="15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(-3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2430" dur="indefinite" restart="never" nodeType="tmRoot">
          <p:childTnLst>
            <p:seq>
              <p:cTn id="2431" dur="indefinite" nodeType="mainSeq">
                <p:childTnLst>
                  <p:par>
                    <p:cTn id="2432" fill="hold">
                      <p:stCondLst>
                        <p:cond delay="indefinite"/>
                      </p:stCondLst>
                      <p:childTnLst>
                        <p:par>
                          <p:cTn id="2433" fill="hold">
                            <p:stCondLst>
                              <p:cond delay="0"/>
                            </p:stCondLst>
                            <p:childTnLst>
                              <p:par>
                                <p:cTn id="2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6" dur="500"/>
                                        <p:tgtEl>
                                          <p:spTgt spid="1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7" fill="hold">
                      <p:stCondLst>
                        <p:cond delay="indefinite"/>
                      </p:stCondLst>
                      <p:childTnLst>
                        <p:par>
                          <p:cTn id="2438" fill="hold">
                            <p:stCondLst>
                              <p:cond delay="0"/>
                            </p:stCondLst>
                            <p:childTnLst>
                              <p:par>
                                <p:cTn id="24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1" dur="5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2" dur="5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3" dur="5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4" dur="5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5" fill="hold">
                      <p:stCondLst>
                        <p:cond delay="indefinite"/>
                      </p:stCondLst>
                      <p:childTnLst>
                        <p:par>
                          <p:cTn id="2446" fill="hold">
                            <p:stCondLst>
                              <p:cond delay="0"/>
                            </p:stCondLst>
                            <p:childTnLst>
                              <p:par>
                                <p:cTn id="2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9" dur="500"/>
                                        <p:tgtEl>
                                          <p:spTgt spid="1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0" fill="hold">
                      <p:stCondLst>
                        <p:cond delay="indefinite"/>
                      </p:stCondLst>
                      <p:childTnLst>
                        <p:par>
                          <p:cTn id="2451" fill="hold">
                            <p:stCondLst>
                              <p:cond delay="0"/>
                            </p:stCondLst>
                            <p:childTnLst>
                              <p:par>
                                <p:cTn id="2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4" dur="500"/>
                                        <p:tgtEl>
                                          <p:spTgt spid="1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5" fill="hold">
                      <p:stCondLst>
                        <p:cond delay="indefinite"/>
                      </p:stCondLst>
                      <p:childTnLst>
                        <p:par>
                          <p:cTn id="2456" fill="hold">
                            <p:stCondLst>
                              <p:cond delay="0"/>
                            </p:stCondLst>
                            <p:childTnLst>
                              <p:par>
                                <p:cTn id="2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9" dur="500"/>
                                        <p:tgtEl>
                                          <p:spTgt spid="1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0" fill="hold">
                      <p:stCondLst>
                        <p:cond delay="indefinite"/>
                      </p:stCondLst>
                      <p:childTnLst>
                        <p:par>
                          <p:cTn id="2461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4" dur="5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5" dur="5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6" fill="hold">
                      <p:stCondLst>
                        <p:cond delay="indefinite"/>
                      </p:stCondLst>
                      <p:childTnLst>
                        <p:par>
                          <p:cTn id="2467" fill="hold">
                            <p:stCondLst>
                              <p:cond delay="0"/>
                            </p:stCondLst>
                            <p:childTnLst>
                              <p:par>
                                <p:cTn id="2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0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1" fill="hold">
                      <p:stCondLst>
                        <p:cond delay="indefinite"/>
                      </p:stCondLst>
                      <p:childTnLst>
                        <p:par>
                          <p:cTn id="2472" fill="hold">
                            <p:stCondLst>
                              <p:cond delay="0"/>
                            </p:stCondLst>
                            <p:childTnLst>
                              <p:par>
                                <p:cTn id="24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75" dur="5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79" dur="500"/>
                                        <p:tgtEl>
                                          <p:spTgt spid="1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3" dur="500"/>
                                        <p:tgtEl>
                                          <p:spTgt spid="1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7" dur="5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1" dur="500"/>
                                        <p:tgtEl>
                                          <p:spTgt spid="1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2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5" dur="5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6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9" dur="5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0" fill="hold">
                            <p:stCondLst>
                              <p:cond delay="3500"/>
                            </p:stCondLst>
                            <p:childTnLst>
                              <p:par>
                                <p:cTn id="25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3" dur="500"/>
                                        <p:tgtEl>
                                          <p:spTgt spid="1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4" fill="hold">
                      <p:stCondLst>
                        <p:cond delay="indefinite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8" dur="5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9" fill="hold">
                      <p:stCondLst>
                        <p:cond delay="indefinite"/>
                      </p:stCondLst>
                      <p:childTnLst>
                        <p:par>
                          <p:cTn id="2510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3" dur="500" fill="hold"/>
                                        <p:tgtEl>
                                          <p:spTgt spid="1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4" dur="500" fill="hold"/>
                                        <p:tgtEl>
                                          <p:spTgt spid="1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fill="hold">
                      <p:stCondLst>
                        <p:cond delay="indefinite"/>
                      </p:stCondLst>
                      <p:childTnLst>
                        <p:par>
                          <p:cTn id="2516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9" dur="500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0" fill="hold">
                      <p:stCondLst>
                        <p:cond delay="indefinite"/>
                      </p:stCondLst>
                      <p:childTnLst>
                        <p:par>
                          <p:cTn id="2521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4" dur="5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5" fill="hold">
                      <p:stCondLst>
                        <p:cond delay="indefinite"/>
                      </p:stCondLst>
                      <p:childTnLst>
                        <p:par>
                          <p:cTn id="2526" fill="hold">
                            <p:stCondLst>
                              <p:cond delay="0"/>
                            </p:stCondLst>
                            <p:childTnLst>
                              <p:par>
                                <p:cTn id="2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9" dur="5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fill="hold">
                      <p:stCondLst>
                        <p:cond delay="indefinite"/>
                      </p:stCondLst>
                      <p:childTnLst>
                        <p:par>
                          <p:cTn id="2531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34" dur="5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5" fill="hold">
                            <p:stCondLst>
                              <p:cond delay="500"/>
                            </p:stCondLst>
                            <p:childTnLst>
                              <p:par>
                                <p:cTn id="25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38" dur="5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42" dur="5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46" dur="5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50" dur="5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1" fill="hold">
                            <p:stCondLst>
                              <p:cond delay="2500"/>
                            </p:stCondLst>
                            <p:childTnLst>
                              <p:par>
                                <p:cTn id="25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54" dur="5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5" fill="hold">
                      <p:stCondLst>
                        <p:cond delay="indefinite"/>
                      </p:stCondLst>
                      <p:childTnLst>
                        <p:par>
                          <p:cTn id="2556" fill="hold">
                            <p:stCondLst>
                              <p:cond delay="0"/>
                            </p:stCondLst>
                            <p:childTnLst>
                              <p:par>
                                <p:cTn id="2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9" dur="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"/>
          <p:cNvSpPr/>
          <p:nvPr/>
        </p:nvSpPr>
        <p:spPr>
          <a:xfrm>
            <a:off x="380880" y="60948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移位寄存器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0" y="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移位逻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3505320" y="60948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在寄存器中移位（串行接口中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8" name=""/>
          <p:cNvGrpSpPr/>
          <p:nvPr/>
        </p:nvGrpSpPr>
        <p:grpSpPr>
          <a:xfrm>
            <a:off x="2590920" y="1981080"/>
            <a:ext cx="5638680" cy="1953000"/>
            <a:chOff x="2590920" y="1981080"/>
            <a:chExt cx="5638680" cy="1953000"/>
          </a:xfrm>
        </p:grpSpPr>
        <p:sp>
          <p:nvSpPr>
            <p:cNvPr id="1899" name=""/>
            <p:cNvSpPr/>
            <p:nvPr/>
          </p:nvSpPr>
          <p:spPr>
            <a:xfrm>
              <a:off x="4876920" y="19810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5791320" y="19810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886200" y="19810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781680" y="19810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429000" y="2362320"/>
              <a:ext cx="3886200" cy="45720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5334120" y="2362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343400" y="2362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324480" y="2362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3505320" y="2286000"/>
              <a:ext cx="388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D4     D3    D2     D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553080" y="2819520"/>
              <a:ext cx="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4038480" y="2819520"/>
              <a:ext cx="0" cy="60948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4572000" y="2819520"/>
              <a:ext cx="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5105520" y="2819520"/>
              <a:ext cx="0" cy="60948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5562720" y="2819520"/>
              <a:ext cx="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019920" y="2819520"/>
              <a:ext cx="0" cy="60948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4191120" y="3048120"/>
              <a:ext cx="4038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D4     D3     D2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右移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2590920" y="3352680"/>
              <a:ext cx="548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ff"/>
                  </a:solidFill>
                  <a:latin typeface="Times New Roman"/>
                </a:rPr>
                <a:t>左移   </a:t>
              </a:r>
              <a:r>
                <a:rPr b="1" lang="zh-CN" sz="3200" spc="-1" strike="noStrike">
                  <a:solidFill>
                    <a:srgbClr val="6600ff"/>
                  </a:solidFill>
                  <a:latin typeface="Times New Roman"/>
                </a:rPr>
                <a:t>D3     D2     D1   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6" name=""/>
          <p:cNvSpPr/>
          <p:nvPr/>
        </p:nvSpPr>
        <p:spPr>
          <a:xfrm>
            <a:off x="380880" y="403848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移位门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2362320" y="403848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斜位传送（运算器中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8" name=""/>
          <p:cNvGrpSpPr/>
          <p:nvPr/>
        </p:nvGrpSpPr>
        <p:grpSpPr>
          <a:xfrm>
            <a:off x="1676520" y="4876920"/>
            <a:ext cx="7467480" cy="1752120"/>
            <a:chOff x="1676520" y="4876920"/>
            <a:chExt cx="7467480" cy="1752120"/>
          </a:xfrm>
        </p:grpSpPr>
        <p:grpSp>
          <p:nvGrpSpPr>
            <p:cNvPr id="1919" name=""/>
            <p:cNvGrpSpPr/>
            <p:nvPr/>
          </p:nvGrpSpPr>
          <p:grpSpPr>
            <a:xfrm>
              <a:off x="3276720" y="4876920"/>
              <a:ext cx="4038480" cy="609120"/>
              <a:chOff x="3276720" y="4876920"/>
              <a:chExt cx="4038480" cy="609120"/>
            </a:xfrm>
          </p:grpSpPr>
          <p:sp>
            <p:nvSpPr>
              <p:cNvPr id="1920" name=""/>
              <p:cNvSpPr/>
              <p:nvPr/>
            </p:nvSpPr>
            <p:spPr>
              <a:xfrm>
                <a:off x="3276720" y="4876920"/>
                <a:ext cx="4038480" cy="609120"/>
              </a:xfrm>
              <a:prstGeom prst="rect">
                <a:avLst/>
              </a:prstGeom>
              <a:solidFill>
                <a:srgbClr val="00cc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5334120" y="487692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4343400" y="487692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6324480" y="487692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4" name=""/>
            <p:cNvGrpSpPr/>
            <p:nvPr/>
          </p:nvGrpSpPr>
          <p:grpSpPr>
            <a:xfrm>
              <a:off x="3276720" y="6019920"/>
              <a:ext cx="4038480" cy="609120"/>
              <a:chOff x="3276720" y="6019920"/>
              <a:chExt cx="4038480" cy="609120"/>
            </a:xfrm>
          </p:grpSpPr>
          <p:sp>
            <p:nvSpPr>
              <p:cNvPr id="1925" name=""/>
              <p:cNvSpPr/>
              <p:nvPr/>
            </p:nvSpPr>
            <p:spPr>
              <a:xfrm>
                <a:off x="3276720" y="6019920"/>
                <a:ext cx="4038480" cy="609120"/>
              </a:xfrm>
              <a:prstGeom prst="rect">
                <a:avLst/>
              </a:prstGeom>
              <a:solidFill>
                <a:srgbClr val="00cc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5334120" y="601992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4343400" y="601992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6324480" y="601992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9" name=""/>
            <p:cNvSpPr/>
            <p:nvPr/>
          </p:nvSpPr>
          <p:spPr>
            <a:xfrm flipV="1">
              <a:off x="3886200" y="5486400"/>
              <a:ext cx="83808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 flipV="1">
              <a:off x="2895480" y="5486400"/>
              <a:ext cx="91440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 flipV="1">
              <a:off x="5029200" y="5486400"/>
              <a:ext cx="83808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V="1">
              <a:off x="5943600" y="5486400"/>
              <a:ext cx="83808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 flipV="1">
              <a:off x="6934320" y="5486400"/>
              <a:ext cx="83808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3886200" y="5486400"/>
              <a:ext cx="914400" cy="53352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2819520" y="5486400"/>
              <a:ext cx="914400" cy="53352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6934320" y="5486400"/>
              <a:ext cx="838080" cy="53352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4876920" y="5486400"/>
              <a:ext cx="914400" cy="53352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5943600" y="5486400"/>
              <a:ext cx="838080" cy="53352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676520" y="5257800"/>
              <a:ext cx="137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ff"/>
                  </a:solidFill>
                  <a:latin typeface="Times New Roman"/>
                </a:rPr>
                <a:t>左斜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7772400" y="5257800"/>
              <a:ext cx="137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右斜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41" name=""/>
            <p:cNvGraphicFramePr/>
            <p:nvPr/>
          </p:nvGraphicFramePr>
          <p:xfrm>
            <a:off x="3505320" y="6019920"/>
            <a:ext cx="609480" cy="43488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194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505320" y="6019920"/>
                      <a:ext cx="609480" cy="43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43" name=""/>
            <p:cNvSpPr/>
            <p:nvPr/>
          </p:nvSpPr>
          <p:spPr>
            <a:xfrm>
              <a:off x="3505320" y="60199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4" name=""/>
            <p:cNvGrpSpPr/>
            <p:nvPr/>
          </p:nvGrpSpPr>
          <p:grpSpPr>
            <a:xfrm>
              <a:off x="4495680" y="6019920"/>
              <a:ext cx="838080" cy="581400"/>
              <a:chOff x="4495680" y="6019920"/>
              <a:chExt cx="838080" cy="581400"/>
            </a:xfrm>
          </p:grpSpPr>
          <p:graphicFrame>
            <p:nvGraphicFramePr>
              <p:cNvPr id="1945" name=""/>
              <p:cNvGraphicFramePr/>
              <p:nvPr/>
            </p:nvGraphicFramePr>
            <p:xfrm>
              <a:off x="4495680" y="6019920"/>
              <a:ext cx="609480" cy="434520"/>
            </p:xfrm>
            <a:graphic>
              <a:graphicData uri="http://schemas.openxmlformats.org/presentationml/2006/ole">
                <p:oleObj progId="Word.Document.12" r:id="rId4" spid="">
                  <p:embed/>
                  <p:pic>
                    <p:nvPicPr>
                      <p:cNvPr id="1946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4495680" y="6019920"/>
                        <a:ext cx="609480" cy="434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47" name=""/>
              <p:cNvSpPr/>
              <p:nvPr/>
            </p:nvSpPr>
            <p:spPr>
              <a:xfrm>
                <a:off x="4495680" y="6019920"/>
                <a:ext cx="838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8" name=""/>
            <p:cNvGrpSpPr/>
            <p:nvPr/>
          </p:nvGrpSpPr>
          <p:grpSpPr>
            <a:xfrm>
              <a:off x="6477120" y="6019920"/>
              <a:ext cx="838080" cy="581400"/>
              <a:chOff x="6477120" y="6019920"/>
              <a:chExt cx="838080" cy="581400"/>
            </a:xfrm>
          </p:grpSpPr>
          <p:graphicFrame>
            <p:nvGraphicFramePr>
              <p:cNvPr id="1949" name=""/>
              <p:cNvGraphicFramePr/>
              <p:nvPr/>
            </p:nvGraphicFramePr>
            <p:xfrm>
              <a:off x="6477120" y="6019920"/>
              <a:ext cx="609480" cy="434520"/>
            </p:xfrm>
            <a:graphic>
              <a:graphicData uri="http://schemas.openxmlformats.org/presentationml/2006/ole">
                <p:oleObj progId="Word.Document.12" r:id="rId6" spid="">
                  <p:embed/>
                  <p:pic>
                    <p:nvPicPr>
                      <p:cNvPr id="1950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6477120" y="6019920"/>
                        <a:ext cx="609480" cy="434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51" name=""/>
              <p:cNvSpPr/>
              <p:nvPr/>
            </p:nvSpPr>
            <p:spPr>
              <a:xfrm>
                <a:off x="6477120" y="6019920"/>
                <a:ext cx="838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2" name=""/>
            <p:cNvGrpSpPr/>
            <p:nvPr/>
          </p:nvGrpSpPr>
          <p:grpSpPr>
            <a:xfrm>
              <a:off x="5486400" y="6019920"/>
              <a:ext cx="838080" cy="581400"/>
              <a:chOff x="5486400" y="6019920"/>
              <a:chExt cx="838080" cy="581400"/>
            </a:xfrm>
          </p:grpSpPr>
          <p:graphicFrame>
            <p:nvGraphicFramePr>
              <p:cNvPr id="1953" name=""/>
              <p:cNvGraphicFramePr/>
              <p:nvPr/>
            </p:nvGraphicFramePr>
            <p:xfrm>
              <a:off x="5486400" y="6019920"/>
              <a:ext cx="609480" cy="434520"/>
            </p:xfrm>
            <a:graphic>
              <a:graphicData uri="http://schemas.openxmlformats.org/presentationml/2006/ole">
                <p:oleObj progId="Word.Document.12" r:id="rId8" spid="">
                  <p:embed/>
                  <p:pic>
                    <p:nvPicPr>
                      <p:cNvPr id="1954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5486400" y="6019920"/>
                        <a:ext cx="609480" cy="434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55" name=""/>
              <p:cNvSpPr/>
              <p:nvPr/>
            </p:nvSpPr>
            <p:spPr>
              <a:xfrm>
                <a:off x="5486400" y="6019920"/>
                <a:ext cx="838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6" name=""/>
            <p:cNvSpPr/>
            <p:nvPr/>
          </p:nvSpPr>
          <p:spPr>
            <a:xfrm>
              <a:off x="3352680" y="4876920"/>
              <a:ext cx="434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门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4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门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3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门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2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门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7" name=""/>
          <p:cNvSpPr/>
          <p:nvPr/>
        </p:nvSpPr>
        <p:spPr>
          <a:xfrm>
            <a:off x="990720" y="22860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移位寄存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1752480" y="4724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移位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1752480" y="60958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加法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2560" dur="indefinite" restart="never" nodeType="tmRoot">
          <p:childTnLst>
            <p:seq>
              <p:cTn id="2561" dur="indefinite" nodeType="mainSeq">
                <p:childTnLst>
                  <p:par>
                    <p:cTn id="2562" fill="hold">
                      <p:stCondLst>
                        <p:cond delay="indefinite"/>
                      </p:stCondLst>
                      <p:childTnLst>
                        <p:par>
                          <p:cTn id="2563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6" dur="500" fill="hold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7" dur="500" fill="hold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8" dur="500" fill="hold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9" dur="500" fill="hold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0" fill="hold">
                      <p:stCondLst>
                        <p:cond delay="indefinite"/>
                      </p:stCondLst>
                      <p:childTnLst>
                        <p:par>
                          <p:cTn id="2571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4" dur="500"/>
                                        <p:tgtEl>
                                          <p:spTgt spid="1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5" fill="hold">
                      <p:stCondLst>
                        <p:cond delay="indefinite"/>
                      </p:stCondLst>
                      <p:childTnLst>
                        <p:par>
                          <p:cTn id="2576" fill="hold">
                            <p:stCondLst>
                              <p:cond delay="0"/>
                            </p:stCondLst>
                            <p:childTnLst>
                              <p:par>
                                <p:cTn id="2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9" dur="500"/>
                                        <p:tgtEl>
                                          <p:spTgt spid="1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0" fill="hold">
                      <p:stCondLst>
                        <p:cond delay="indefinite"/>
                      </p:stCondLst>
                      <p:childTnLst>
                        <p:par>
                          <p:cTn id="2581" fill="hold">
                            <p:stCondLst>
                              <p:cond delay="0"/>
                            </p:stCondLst>
                            <p:childTnLst>
                              <p:par>
                                <p:cTn id="2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4" dur="500"/>
                                        <p:tgtEl>
                                          <p:spTgt spid="1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5" fill="hold">
                      <p:stCondLst>
                        <p:cond delay="indefinite"/>
                      </p:stCondLst>
                      <p:childTnLst>
                        <p:par>
                          <p:cTn id="2586" fill="hold">
                            <p:stCondLst>
                              <p:cond delay="0"/>
                            </p:stCondLst>
                            <p:childTnLst>
                              <p:par>
                                <p:cTn id="25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9" dur="5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4" dur="500"/>
                                        <p:tgtEl>
                                          <p:spTgt spid="1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9" dur="500"/>
                                        <p:tgtEl>
                                          <p:spTgt spid="1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0" fill="hold">
                      <p:stCondLst>
                        <p:cond delay="indefinite"/>
                      </p:stCondLst>
                      <p:childTnLst>
                        <p:par>
                          <p:cTn id="2601" fill="hold">
                            <p:stCondLst>
                              <p:cond delay="0"/>
                            </p:stCondLst>
                            <p:childTnLst>
                              <p:par>
                                <p:cTn id="26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4" dur="500"/>
                                        <p:tgtEl>
                                          <p:spTgt spid="1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5" fill="hold">
                      <p:stCondLst>
                        <p:cond delay="indefinite"/>
                      </p:stCondLst>
                      <p:childTnLst>
                        <p:par>
                          <p:cTn id="2606" fill="hold">
                            <p:stCondLst>
                              <p:cond delay="0"/>
                            </p:stCondLst>
                            <p:childTnLst>
                              <p:par>
                                <p:cTn id="2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9" dur="500"/>
                                        <p:tgtEl>
                                          <p:spTgt spid="1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0" fill="hold">
                      <p:stCondLst>
                        <p:cond delay="indefinite"/>
                      </p:stCondLst>
                      <p:childTnLst>
                        <p:par>
                          <p:cTn id="2611" fill="hold">
                            <p:stCondLst>
                              <p:cond delay="0"/>
                            </p:stCondLst>
                            <p:childTnLst>
                              <p:par>
                                <p:cTn id="2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4" dur="500"/>
                                        <p:tgtEl>
                                          <p:spTgt spid="1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"/>
          <p:cNvSpPr/>
          <p:nvPr/>
        </p:nvSpPr>
        <p:spPr>
          <a:xfrm>
            <a:off x="0" y="6858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）单符号位 ：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1523880" y="1447920"/>
            <a:ext cx="1828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01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1523880" y="18288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111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4876920" y="6858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）双符号位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6400800" y="182880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111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6400800" y="1447920"/>
            <a:ext cx="1676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01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304920" y="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正数补码移位规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0" y="37339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移位规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8" name=""/>
          <p:cNvGrpSpPr/>
          <p:nvPr/>
        </p:nvGrpSpPr>
        <p:grpSpPr>
          <a:xfrm>
            <a:off x="380880" y="1676520"/>
            <a:ext cx="1067040" cy="581400"/>
            <a:chOff x="380880" y="1676520"/>
            <a:chExt cx="1067040" cy="581400"/>
          </a:xfrm>
        </p:grpSpPr>
        <p:sp>
          <p:nvSpPr>
            <p:cNvPr id="1969" name=""/>
            <p:cNvSpPr/>
            <p:nvPr/>
          </p:nvSpPr>
          <p:spPr>
            <a:xfrm>
              <a:off x="380880" y="2209680"/>
              <a:ext cx="99072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380880" y="1676520"/>
              <a:ext cx="10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左移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1" name=""/>
          <p:cNvGrpSpPr/>
          <p:nvPr/>
        </p:nvGrpSpPr>
        <p:grpSpPr>
          <a:xfrm>
            <a:off x="304920" y="2209680"/>
            <a:ext cx="1143000" cy="581400"/>
            <a:chOff x="304920" y="2209680"/>
            <a:chExt cx="1143000" cy="581400"/>
          </a:xfrm>
        </p:grpSpPr>
        <p:sp>
          <p:nvSpPr>
            <p:cNvPr id="1972" name=""/>
            <p:cNvSpPr/>
            <p:nvPr/>
          </p:nvSpPr>
          <p:spPr>
            <a:xfrm>
              <a:off x="304920" y="220968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右移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380880" y="2743200"/>
              <a:ext cx="10670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4" name=""/>
          <p:cNvGrpSpPr/>
          <p:nvPr/>
        </p:nvGrpSpPr>
        <p:grpSpPr>
          <a:xfrm>
            <a:off x="380880" y="2743200"/>
            <a:ext cx="1067040" cy="581400"/>
            <a:chOff x="380880" y="2743200"/>
            <a:chExt cx="1067040" cy="581400"/>
          </a:xfrm>
        </p:grpSpPr>
        <p:sp>
          <p:nvSpPr>
            <p:cNvPr id="1975" name=""/>
            <p:cNvSpPr/>
            <p:nvPr/>
          </p:nvSpPr>
          <p:spPr>
            <a:xfrm>
              <a:off x="380880" y="3276720"/>
              <a:ext cx="10670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380880" y="2743200"/>
              <a:ext cx="10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右移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7" name=""/>
          <p:cNvSpPr/>
          <p:nvPr/>
        </p:nvSpPr>
        <p:spPr>
          <a:xfrm>
            <a:off x="1523880" y="23623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11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1523880" y="289548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11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9" name=""/>
          <p:cNvGrpSpPr/>
          <p:nvPr/>
        </p:nvGrpSpPr>
        <p:grpSpPr>
          <a:xfrm>
            <a:off x="5334120" y="1676520"/>
            <a:ext cx="1143000" cy="581400"/>
            <a:chOff x="5334120" y="1676520"/>
            <a:chExt cx="1143000" cy="581400"/>
          </a:xfrm>
        </p:grpSpPr>
        <p:sp>
          <p:nvSpPr>
            <p:cNvPr id="1980" name=""/>
            <p:cNvSpPr/>
            <p:nvPr/>
          </p:nvSpPr>
          <p:spPr>
            <a:xfrm>
              <a:off x="5334120" y="2209680"/>
              <a:ext cx="99036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5410080" y="1676520"/>
              <a:ext cx="10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左移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2" name=""/>
          <p:cNvGrpSpPr/>
          <p:nvPr/>
        </p:nvGrpSpPr>
        <p:grpSpPr>
          <a:xfrm>
            <a:off x="5334120" y="2209680"/>
            <a:ext cx="1143000" cy="581400"/>
            <a:chOff x="5334120" y="2209680"/>
            <a:chExt cx="1143000" cy="581400"/>
          </a:xfrm>
        </p:grpSpPr>
        <p:sp>
          <p:nvSpPr>
            <p:cNvPr id="1983" name=""/>
            <p:cNvSpPr/>
            <p:nvPr/>
          </p:nvSpPr>
          <p:spPr>
            <a:xfrm>
              <a:off x="5334120" y="2743200"/>
              <a:ext cx="99036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5410080" y="2209680"/>
              <a:ext cx="10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左移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5" name=""/>
          <p:cNvGrpSpPr/>
          <p:nvPr/>
        </p:nvGrpSpPr>
        <p:grpSpPr>
          <a:xfrm>
            <a:off x="5410080" y="2743200"/>
            <a:ext cx="1067040" cy="581400"/>
            <a:chOff x="5410080" y="2743200"/>
            <a:chExt cx="1067040" cy="581400"/>
          </a:xfrm>
        </p:grpSpPr>
        <p:sp>
          <p:nvSpPr>
            <p:cNvPr id="1986" name=""/>
            <p:cNvSpPr/>
            <p:nvPr/>
          </p:nvSpPr>
          <p:spPr>
            <a:xfrm>
              <a:off x="5410080" y="3276720"/>
              <a:ext cx="990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5410080" y="2743200"/>
              <a:ext cx="10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右移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8" name=""/>
          <p:cNvGrpSpPr/>
          <p:nvPr/>
        </p:nvGrpSpPr>
        <p:grpSpPr>
          <a:xfrm>
            <a:off x="5410080" y="3276720"/>
            <a:ext cx="1067040" cy="581400"/>
            <a:chOff x="5410080" y="3276720"/>
            <a:chExt cx="1067040" cy="581400"/>
          </a:xfrm>
        </p:grpSpPr>
        <p:sp>
          <p:nvSpPr>
            <p:cNvPr id="1989" name=""/>
            <p:cNvSpPr/>
            <p:nvPr/>
          </p:nvSpPr>
          <p:spPr>
            <a:xfrm>
              <a:off x="5410080" y="3809880"/>
              <a:ext cx="990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5410080" y="3276720"/>
              <a:ext cx="10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右移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1" name=""/>
          <p:cNvSpPr/>
          <p:nvPr/>
        </p:nvSpPr>
        <p:spPr>
          <a:xfrm>
            <a:off x="6400800" y="236232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110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6400800" y="289548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10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6400800" y="342900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11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228600" y="44197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数符不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1981080" y="44956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（单：符号位不变；双：第一符号位不变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228600" y="56386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空位补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1828800" y="57150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（右移时第二符号位移至尾数最高位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2615" dur="indefinite" restart="never" nodeType="tmRoot">
          <p:childTnLst>
            <p:seq>
              <p:cTn id="2616" dur="indefinite" nodeType="mainSeq">
                <p:childTnLst>
                  <p:par>
                    <p:cTn id="2617" fill="hold">
                      <p:stCondLst>
                        <p:cond delay="indefinite"/>
                      </p:stCondLst>
                      <p:childTnLst>
                        <p:par>
                          <p:cTn id="2618" fill="hold">
                            <p:stCondLst>
                              <p:cond delay="0"/>
                            </p:stCondLst>
                            <p:childTnLst>
                              <p:par>
                                <p:cTn id="26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1" dur="500" fill="hold"/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2" dur="500" fill="hold"/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3" dur="500" fill="hold"/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4" dur="500" fill="hold"/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5" fill="hold">
                      <p:stCondLst>
                        <p:cond delay="indefinite"/>
                      </p:stCondLst>
                      <p:childTnLst>
                        <p:par>
                          <p:cTn id="2626" fill="hold">
                            <p:stCondLst>
                              <p:cond delay="0"/>
                            </p:stCondLst>
                            <p:childTnLst>
                              <p:par>
                                <p:cTn id="2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9" dur="500"/>
                                        <p:tgtEl>
                                          <p:spTgt spid="1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0" fill="hold">
                      <p:stCondLst>
                        <p:cond delay="indefinite"/>
                      </p:stCondLst>
                      <p:childTnLst>
                        <p:par>
                          <p:cTn id="2631" fill="hold">
                            <p:stCondLst>
                              <p:cond delay="0"/>
                            </p:stCondLst>
                            <p:childTnLst>
                              <p:par>
                                <p:cTn id="263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4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5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6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7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8" fill="hold">
                      <p:stCondLst>
                        <p:cond delay="indefinite"/>
                      </p:stCondLst>
                      <p:childTnLst>
                        <p:par>
                          <p:cTn id="2639" fill="hold">
                            <p:stCondLst>
                              <p:cond delay="0"/>
                            </p:stCondLst>
                            <p:childTnLst>
                              <p:par>
                                <p:cTn id="26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42" dur="500"/>
                                        <p:tgtEl>
                                          <p:spTgt spid="1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46" dur="500"/>
                                        <p:tgtEl>
                                          <p:spTgt spid="1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7" fill="hold">
                      <p:stCondLst>
                        <p:cond delay="indefinite"/>
                      </p:stCondLst>
                      <p:childTnLst>
                        <p:par>
                          <p:cTn id="2648" fill="hold">
                            <p:stCondLst>
                              <p:cond delay="0"/>
                            </p:stCondLst>
                            <p:childTnLst>
                              <p:par>
                                <p:cTn id="2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1" dur="5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2" fill="hold">
                            <p:stCondLst>
                              <p:cond delay="500"/>
                            </p:stCondLst>
                            <p:childTnLst>
                              <p:par>
                                <p:cTn id="2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5" dur="500"/>
                                        <p:tgtEl>
                                          <p:spTgt spid="1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6" fill="hold">
                      <p:stCondLst>
                        <p:cond delay="indefinite"/>
                      </p:stCondLst>
                      <p:childTnLst>
                        <p:par>
                          <p:cTn id="2657" fill="hold">
                            <p:stCondLst>
                              <p:cond delay="0"/>
                            </p:stCondLst>
                            <p:childTnLst>
                              <p:par>
                                <p:cTn id="2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0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4" dur="5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5" fill="hold">
                      <p:stCondLst>
                        <p:cond delay="indefinite"/>
                      </p:stCondLst>
                      <p:childTnLst>
                        <p:par>
                          <p:cTn id="2666" fill="hold">
                            <p:stCondLst>
                              <p:cond delay="0"/>
                            </p:stCondLst>
                            <p:childTnLst>
                              <p:par>
                                <p:cTn id="2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9" dur="500"/>
                                        <p:tgtEl>
                                          <p:spTgt spid="1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0" fill="hold">
                      <p:stCondLst>
                        <p:cond delay="indefinite"/>
                      </p:stCondLst>
                      <p:childTnLst>
                        <p:par>
                          <p:cTn id="2671" fill="hold">
                            <p:stCondLst>
                              <p:cond delay="0"/>
                            </p:stCondLst>
                            <p:childTnLst>
                              <p:par>
                                <p:cTn id="267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4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5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6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7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8" fill="hold">
                      <p:stCondLst>
                        <p:cond delay="indefinite"/>
                      </p:stCondLst>
                      <p:childTnLst>
                        <p:par>
                          <p:cTn id="2679" fill="hold">
                            <p:stCondLst>
                              <p:cond delay="0"/>
                            </p:stCondLst>
                            <p:childTnLst>
                              <p:par>
                                <p:cTn id="26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82" dur="5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3" fill="hold">
                            <p:stCondLst>
                              <p:cond delay="500"/>
                            </p:stCondLst>
                            <p:childTnLst>
                              <p:par>
                                <p:cTn id="26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86" dur="500"/>
                                        <p:tgtEl>
                                          <p:spTgt spid="1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7" fill="hold">
                      <p:stCondLst>
                        <p:cond delay="indefinite"/>
                      </p:stCondLst>
                      <p:childTnLst>
                        <p:par>
                          <p:cTn id="2688" fill="hold">
                            <p:stCondLst>
                              <p:cond delay="0"/>
                            </p:stCondLst>
                            <p:childTnLst>
                              <p:par>
                                <p:cTn id="26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1" dur="5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2" fill="hold">
                            <p:stCondLst>
                              <p:cond delay="500"/>
                            </p:stCondLst>
                            <p:childTnLst>
                              <p:par>
                                <p:cTn id="269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5" dur="500"/>
                                        <p:tgtEl>
                                          <p:spTgt spid="1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6" fill="hold">
                      <p:stCondLst>
                        <p:cond delay="indefinite"/>
                      </p:stCondLst>
                      <p:childTnLst>
                        <p:par>
                          <p:cTn id="2697" fill="hold">
                            <p:stCondLst>
                              <p:cond delay="0"/>
                            </p:stCondLst>
                            <p:childTnLst>
                              <p:par>
                                <p:cTn id="2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0" dur="500"/>
                                        <p:tgtEl>
                                          <p:spTgt spid="1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1" fill="hold">
                            <p:stCondLst>
                              <p:cond delay="500"/>
                            </p:stCondLst>
                            <p:childTnLst>
                              <p:par>
                                <p:cTn id="27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4" dur="500"/>
                                        <p:tgtEl>
                                          <p:spTgt spid="1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5" fill="hold">
                      <p:stCondLst>
                        <p:cond delay="indefinite"/>
                      </p:stCondLst>
                      <p:childTnLst>
                        <p:par>
                          <p:cTn id="2706" fill="hold">
                            <p:stCondLst>
                              <p:cond delay="0"/>
                            </p:stCondLst>
                            <p:childTnLst>
                              <p:par>
                                <p:cTn id="2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9" dur="500"/>
                                        <p:tgtEl>
                                          <p:spTgt spid="1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3" dur="500"/>
                                        <p:tgtEl>
                                          <p:spTgt spid="1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4" fill="hold">
                      <p:stCondLst>
                        <p:cond delay="indefinite"/>
                      </p:stCondLst>
                      <p:childTnLst>
                        <p:par>
                          <p:cTn id="2715" fill="hold">
                            <p:stCondLst>
                              <p:cond delay="0"/>
                            </p:stCondLst>
                            <p:childTnLst>
                              <p:par>
                                <p:cTn id="2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8" dur="500"/>
                                        <p:tgtEl>
                                          <p:spTgt spid="1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9" fill="hold">
                      <p:stCondLst>
                        <p:cond delay="indefinite"/>
                      </p:stCondLst>
                      <p:childTnLst>
                        <p:par>
                          <p:cTn id="2720" fill="hold">
                            <p:stCondLst>
                              <p:cond delay="0"/>
                            </p:stCondLst>
                            <p:childTnLst>
                              <p:par>
                                <p:cTn id="27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3" dur="500" fill="hold"/>
                                        <p:tgtEl>
                                          <p:spTgt spid="19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4" dur="500" fill="hold"/>
                                        <p:tgtEl>
                                          <p:spTgt spid="19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5" fill="hold">
                      <p:stCondLst>
                        <p:cond delay="indefinite"/>
                      </p:stCondLst>
                      <p:childTnLst>
                        <p:par>
                          <p:cTn id="2726" fill="hold">
                            <p:stCondLst>
                              <p:cond delay="0"/>
                            </p:stCondLst>
                            <p:childTnLst>
                              <p:par>
                                <p:cTn id="2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9" dur="5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0" fill="hold">
                      <p:stCondLst>
                        <p:cond delay="indefinite"/>
                      </p:stCondLst>
                      <p:childTnLst>
                        <p:par>
                          <p:cTn id="2731" fill="hold">
                            <p:stCondLst>
                              <p:cond delay="0"/>
                            </p:stCondLst>
                            <p:childTnLst>
                              <p:par>
                                <p:cTn id="27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4" dur="5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5" dur="5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6" fill="hold">
                      <p:stCondLst>
                        <p:cond delay="indefinite"/>
                      </p:stCondLst>
                      <p:childTnLst>
                        <p:par>
                          <p:cTn id="2737" fill="hold">
                            <p:stCondLst>
                              <p:cond delay="0"/>
                            </p:stCondLst>
                            <p:childTnLst>
                              <p:par>
                                <p:cTn id="2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0" dur="500"/>
                                        <p:tgtEl>
                                          <p:spTgt spid="1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"/>
          <p:cNvSpPr/>
          <p:nvPr/>
        </p:nvSpPr>
        <p:spPr>
          <a:xfrm>
            <a:off x="0" y="7621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）单符号位 ：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1676520" y="1600200"/>
            <a:ext cx="1828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1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1676520" y="19810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011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4724280" y="6858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）双符号位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6095880" y="1981080"/>
            <a:ext cx="1752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110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6095880" y="1600200"/>
            <a:ext cx="1676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01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228600" y="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负数补码移位规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0" y="37339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移位规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6" name=""/>
          <p:cNvGrpSpPr/>
          <p:nvPr/>
        </p:nvGrpSpPr>
        <p:grpSpPr>
          <a:xfrm>
            <a:off x="533520" y="1828800"/>
            <a:ext cx="1143000" cy="581400"/>
            <a:chOff x="533520" y="1828800"/>
            <a:chExt cx="1143000" cy="581400"/>
          </a:xfrm>
        </p:grpSpPr>
        <p:sp>
          <p:nvSpPr>
            <p:cNvPr id="2007" name=""/>
            <p:cNvSpPr/>
            <p:nvPr/>
          </p:nvSpPr>
          <p:spPr>
            <a:xfrm>
              <a:off x="533520" y="2362320"/>
              <a:ext cx="106668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09480" y="1828800"/>
              <a:ext cx="10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左移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9" name=""/>
          <p:cNvGrpSpPr/>
          <p:nvPr/>
        </p:nvGrpSpPr>
        <p:grpSpPr>
          <a:xfrm>
            <a:off x="533520" y="2362320"/>
            <a:ext cx="1143000" cy="581400"/>
            <a:chOff x="533520" y="2362320"/>
            <a:chExt cx="1143000" cy="581400"/>
          </a:xfrm>
        </p:grpSpPr>
        <p:sp>
          <p:nvSpPr>
            <p:cNvPr id="2010" name=""/>
            <p:cNvSpPr/>
            <p:nvPr/>
          </p:nvSpPr>
          <p:spPr>
            <a:xfrm>
              <a:off x="609480" y="2362320"/>
              <a:ext cx="10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右移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533520" y="2895480"/>
              <a:ext cx="10666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2" name=""/>
          <p:cNvGrpSpPr/>
          <p:nvPr/>
        </p:nvGrpSpPr>
        <p:grpSpPr>
          <a:xfrm>
            <a:off x="533520" y="2895480"/>
            <a:ext cx="1143000" cy="581400"/>
            <a:chOff x="533520" y="2895480"/>
            <a:chExt cx="1143000" cy="581400"/>
          </a:xfrm>
        </p:grpSpPr>
        <p:sp>
          <p:nvSpPr>
            <p:cNvPr id="2013" name=""/>
            <p:cNvSpPr/>
            <p:nvPr/>
          </p:nvSpPr>
          <p:spPr>
            <a:xfrm>
              <a:off x="533520" y="3429000"/>
              <a:ext cx="10666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609480" y="2895480"/>
              <a:ext cx="10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右移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5" name=""/>
          <p:cNvSpPr/>
          <p:nvPr/>
        </p:nvSpPr>
        <p:spPr>
          <a:xfrm>
            <a:off x="1676520" y="25146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11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1676520" y="30481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1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7" name=""/>
          <p:cNvGrpSpPr/>
          <p:nvPr/>
        </p:nvGrpSpPr>
        <p:grpSpPr>
          <a:xfrm>
            <a:off x="5029200" y="1828800"/>
            <a:ext cx="1143000" cy="581400"/>
            <a:chOff x="5029200" y="1828800"/>
            <a:chExt cx="1143000" cy="581400"/>
          </a:xfrm>
        </p:grpSpPr>
        <p:sp>
          <p:nvSpPr>
            <p:cNvPr id="2018" name=""/>
            <p:cNvSpPr/>
            <p:nvPr/>
          </p:nvSpPr>
          <p:spPr>
            <a:xfrm>
              <a:off x="5029200" y="2362320"/>
              <a:ext cx="99072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5105520" y="182880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左移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0" name=""/>
          <p:cNvGrpSpPr/>
          <p:nvPr/>
        </p:nvGrpSpPr>
        <p:grpSpPr>
          <a:xfrm>
            <a:off x="5105520" y="2362320"/>
            <a:ext cx="1066680" cy="581400"/>
            <a:chOff x="5105520" y="2362320"/>
            <a:chExt cx="1066680" cy="581400"/>
          </a:xfrm>
        </p:grpSpPr>
        <p:sp>
          <p:nvSpPr>
            <p:cNvPr id="2021" name=""/>
            <p:cNvSpPr/>
            <p:nvPr/>
          </p:nvSpPr>
          <p:spPr>
            <a:xfrm>
              <a:off x="5105520" y="2895480"/>
              <a:ext cx="990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5105520" y="236232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右移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3" name=""/>
          <p:cNvGrpSpPr/>
          <p:nvPr/>
        </p:nvGrpSpPr>
        <p:grpSpPr>
          <a:xfrm>
            <a:off x="5105520" y="2895480"/>
            <a:ext cx="1066680" cy="581400"/>
            <a:chOff x="5105520" y="2895480"/>
            <a:chExt cx="1066680" cy="581400"/>
          </a:xfrm>
        </p:grpSpPr>
        <p:sp>
          <p:nvSpPr>
            <p:cNvPr id="2024" name=""/>
            <p:cNvSpPr/>
            <p:nvPr/>
          </p:nvSpPr>
          <p:spPr>
            <a:xfrm>
              <a:off x="5105520" y="3429000"/>
              <a:ext cx="990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5105520" y="289548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右移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6" name=""/>
          <p:cNvSpPr/>
          <p:nvPr/>
        </p:nvSpPr>
        <p:spPr>
          <a:xfrm>
            <a:off x="6095880" y="2514600"/>
            <a:ext cx="1752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10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6095880" y="3048120"/>
            <a:ext cx="1752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11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457200" y="44197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数符不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2286000" y="44197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（单：符号位不变；双：第一符号位不变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457200" y="54100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左移空位补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2895480" y="60498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（第二符号位移至尾数最高位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457200" y="60199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右移空位补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2741" dur="indefinite" restart="never" nodeType="tmRoot">
          <p:childTnLst>
            <p:seq>
              <p:cTn id="2742" dur="indefinite" nodeType="mainSeq">
                <p:childTnLst>
                  <p:par>
                    <p:cTn id="2743" fill="hold">
                      <p:stCondLst>
                        <p:cond delay="indefinite"/>
                      </p:stCondLst>
                      <p:childTnLst>
                        <p:par>
                          <p:cTn id="2744" fill="hold">
                            <p:stCondLst>
                              <p:cond delay="0"/>
                            </p:stCondLst>
                            <p:childTnLst>
                              <p:par>
                                <p:cTn id="27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7" dur="5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8" dur="5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9" dur="5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0" dur="5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1" fill="hold">
                      <p:stCondLst>
                        <p:cond delay="indefinite"/>
                      </p:stCondLst>
                      <p:childTnLst>
                        <p:par>
                          <p:cTn id="2752" fill="hold">
                            <p:stCondLst>
                              <p:cond delay="0"/>
                            </p:stCondLst>
                            <p:childTnLst>
                              <p:par>
                                <p:cTn id="27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5" dur="500"/>
                                        <p:tgtEl>
                                          <p:spTgt spid="1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6" fill="hold">
                      <p:stCondLst>
                        <p:cond delay="indefinite"/>
                      </p:stCondLst>
                      <p:childTnLst>
                        <p:par>
                          <p:cTn id="2757" fill="hold">
                            <p:stCondLst>
                              <p:cond delay="0"/>
                            </p:stCondLst>
                            <p:childTnLst>
                              <p:par>
                                <p:cTn id="275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0" dur="500" fill="hold"/>
                                        <p:tgtEl>
                                          <p:spTgt spid="1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1" dur="500" fill="hold"/>
                                        <p:tgtEl>
                                          <p:spTgt spid="1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2" dur="500" fill="hold"/>
                                        <p:tgtEl>
                                          <p:spTgt spid="1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3" dur="500" fill="hold"/>
                                        <p:tgtEl>
                                          <p:spTgt spid="1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4" fill="hold">
                      <p:stCondLst>
                        <p:cond delay="indefinite"/>
                      </p:stCondLst>
                      <p:childTnLst>
                        <p:par>
                          <p:cTn id="2765" fill="hold">
                            <p:stCondLst>
                              <p:cond delay="0"/>
                            </p:stCondLst>
                            <p:childTnLst>
                              <p:par>
                                <p:cTn id="27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68" dur="500"/>
                                        <p:tgtEl>
                                          <p:spTgt spid="2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72" dur="5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3" fill="hold">
                      <p:stCondLst>
                        <p:cond delay="indefinite"/>
                      </p:stCondLst>
                      <p:childTnLst>
                        <p:par>
                          <p:cTn id="2774" fill="hold">
                            <p:stCondLst>
                              <p:cond delay="0"/>
                            </p:stCondLst>
                            <p:childTnLst>
                              <p:par>
                                <p:cTn id="2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7" dur="5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1" dur="500"/>
                                        <p:tgtEl>
                                          <p:spTgt spid="2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2" fill="hold">
                      <p:stCondLst>
                        <p:cond delay="indefinite"/>
                      </p:stCondLst>
                      <p:childTnLst>
                        <p:par>
                          <p:cTn id="2783" fill="hold">
                            <p:stCondLst>
                              <p:cond delay="0"/>
                            </p:stCondLst>
                            <p:childTnLst>
                              <p:par>
                                <p:cTn id="27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6" dur="500"/>
                                        <p:tgtEl>
                                          <p:spTgt spid="2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1" fill="hold">
                      <p:stCondLst>
                        <p:cond delay="indefinite"/>
                      </p:stCondLst>
                      <p:childTnLst>
                        <p:par>
                          <p:cTn id="2792" fill="hold">
                            <p:stCondLst>
                              <p:cond delay="0"/>
                            </p:stCondLst>
                            <p:childTnLst>
                              <p:par>
                                <p:cTn id="2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5" dur="500"/>
                                        <p:tgtEl>
                                          <p:spTgt spid="20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6" fill="hold">
                      <p:stCondLst>
                        <p:cond delay="indefinite"/>
                      </p:stCondLst>
                      <p:childTnLst>
                        <p:par>
                          <p:cTn id="2797" fill="hold">
                            <p:stCondLst>
                              <p:cond delay="0"/>
                            </p:stCondLst>
                            <p:childTnLst>
                              <p:par>
                                <p:cTn id="279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0" dur="5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1" dur="5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2" dur="5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3" dur="5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4" fill="hold">
                      <p:stCondLst>
                        <p:cond delay="indefinite"/>
                      </p:stCondLst>
                      <p:childTnLst>
                        <p:par>
                          <p:cTn id="2805" fill="hold">
                            <p:stCondLst>
                              <p:cond delay="0"/>
                            </p:stCondLst>
                            <p:childTnLst>
                              <p:par>
                                <p:cTn id="28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08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9" fill="hold">
                            <p:stCondLst>
                              <p:cond delay="500"/>
                            </p:stCondLst>
                            <p:childTnLst>
                              <p:par>
                                <p:cTn id="28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12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3" fill="hold">
                      <p:stCondLst>
                        <p:cond delay="indefinite"/>
                      </p:stCondLst>
                      <p:childTnLst>
                        <p:par>
                          <p:cTn id="2814" fill="hold">
                            <p:stCondLst>
                              <p:cond delay="0"/>
                            </p:stCondLst>
                            <p:childTnLst>
                              <p:par>
                                <p:cTn id="2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7" dur="500"/>
                                        <p:tgtEl>
                                          <p:spTgt spid="2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8" fill="hold">
                            <p:stCondLst>
                              <p:cond delay="500"/>
                            </p:stCondLst>
                            <p:childTnLst>
                              <p:par>
                                <p:cTn id="28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1" dur="500"/>
                                        <p:tgtEl>
                                          <p:spTgt spid="2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2" fill="hold">
                      <p:stCondLst>
                        <p:cond delay="indefinite"/>
                      </p:stCondLst>
                      <p:childTnLst>
                        <p:par>
                          <p:cTn id="2823" fill="hold">
                            <p:stCondLst>
                              <p:cond delay="0"/>
                            </p:stCondLst>
                            <p:childTnLst>
                              <p:par>
                                <p:cTn id="2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6" dur="500"/>
                                        <p:tgtEl>
                                          <p:spTgt spid="2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0" dur="500"/>
                                        <p:tgtEl>
                                          <p:spTgt spid="2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1" fill="hold">
                      <p:stCondLst>
                        <p:cond delay="indefinite"/>
                      </p:stCondLst>
                      <p:childTnLst>
                        <p:par>
                          <p:cTn id="2832" fill="hold">
                            <p:stCondLst>
                              <p:cond delay="0"/>
                            </p:stCondLst>
                            <p:childTnLst>
                              <p:par>
                                <p:cTn id="2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5" dur="500"/>
                                        <p:tgtEl>
                                          <p:spTgt spid="2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6" fill="hold">
                      <p:stCondLst>
                        <p:cond delay="indefinite"/>
                      </p:stCondLst>
                      <p:childTnLst>
                        <p:par>
                          <p:cTn id="2837" fill="hold">
                            <p:stCondLst>
                              <p:cond delay="0"/>
                            </p:stCondLst>
                            <p:childTnLst>
                              <p:par>
                                <p:cTn id="28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0" dur="500" fill="hold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1" dur="500" fill="hold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2" fill="hold">
                      <p:stCondLst>
                        <p:cond delay="indefinite"/>
                      </p:stCondLst>
                      <p:childTnLst>
                        <p:par>
                          <p:cTn id="2843" fill="hold">
                            <p:stCondLst>
                              <p:cond delay="0"/>
                            </p:stCondLst>
                            <p:childTnLst>
                              <p:par>
                                <p:cTn id="2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6" dur="500"/>
                                        <p:tgtEl>
                                          <p:spTgt spid="2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7" fill="hold">
                      <p:stCondLst>
                        <p:cond delay="indefinite"/>
                      </p:stCondLst>
                      <p:childTnLst>
                        <p:par>
                          <p:cTn id="2848" fill="hold">
                            <p:stCondLst>
                              <p:cond delay="0"/>
                            </p:stCondLst>
                            <p:childTnLst>
                              <p:par>
                                <p:cTn id="28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1" dur="5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2" dur="5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3" fill="hold">
                      <p:stCondLst>
                        <p:cond delay="indefinite"/>
                      </p:stCondLst>
                      <p:childTnLst>
                        <p:par>
                          <p:cTn id="2854" fill="hold">
                            <p:stCondLst>
                              <p:cond delay="0"/>
                            </p:stCondLst>
                            <p:childTnLst>
                              <p:par>
                                <p:cTn id="28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7" dur="500" fill="hold"/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8" dur="500" fill="hold"/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9" fill="hold">
                      <p:stCondLst>
                        <p:cond delay="indefinite"/>
                      </p:stCondLst>
                      <p:childTnLst>
                        <p:par>
                          <p:cTn id="2860" fill="hold">
                            <p:stCondLst>
                              <p:cond delay="0"/>
                            </p:stCondLst>
                            <p:childTnLst>
                              <p:par>
                                <p:cTn id="2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3" dur="500"/>
                                        <p:tgtEl>
                                          <p:spTgt spid="2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57200" y="2286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逻辑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600200" y="1143000"/>
            <a:ext cx="6248520" cy="1259280"/>
            <a:chOff x="1600200" y="1143000"/>
            <a:chExt cx="6248520" cy="1259280"/>
          </a:xfrm>
        </p:grpSpPr>
        <p:sp>
          <p:nvSpPr>
            <p:cNvPr id="184" name=""/>
            <p:cNvSpPr/>
            <p:nvPr/>
          </p:nvSpPr>
          <p:spPr>
            <a:xfrm>
              <a:off x="1828800" y="1143000"/>
              <a:ext cx="6019920" cy="12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∑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=  (Ai +  Bi)  +  Ci-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Ci  =  Ai + Bi + (Ai +  Bi)Ci-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33920" y="1295280"/>
              <a:ext cx="304560" cy="304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876920" y="1295280"/>
              <a:ext cx="304560" cy="304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34120" y="2057400"/>
              <a:ext cx="304560" cy="304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00200" y="1523880"/>
              <a:ext cx="152280" cy="60984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76720" y="12193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91120" y="12193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124080" y="198108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962520" y="198108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76920" y="198108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67280" y="198108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24080" y="1905120"/>
              <a:ext cx="121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04920" y="2590920"/>
            <a:ext cx="8153280" cy="3934080"/>
            <a:chOff x="304920" y="2590920"/>
            <a:chExt cx="8153280" cy="3934080"/>
          </a:xfrm>
        </p:grpSpPr>
        <p:sp>
          <p:nvSpPr>
            <p:cNvPr id="197" name=""/>
            <p:cNvSpPr/>
            <p:nvPr/>
          </p:nvSpPr>
          <p:spPr>
            <a:xfrm>
              <a:off x="1828800" y="3276720"/>
              <a:ext cx="1447920" cy="83808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343400" y="4419720"/>
              <a:ext cx="1447920" cy="83808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77120" y="4419720"/>
              <a:ext cx="1447560" cy="83808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28800" y="3657600"/>
              <a:ext cx="1447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362320" y="342900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514600" y="3276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514600" y="365760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76920" y="480060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010280" y="48006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29200" y="46483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62920" y="46483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76920" y="4648320"/>
              <a:ext cx="380880" cy="380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010280" y="4648320"/>
              <a:ext cx="381240" cy="380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514600" y="28195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98108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19320" y="53341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19520" y="411480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48120" y="4114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029200" y="4267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162920" y="39625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858000" y="52578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00600" y="52578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2578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458200" y="426708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48120" y="4267080"/>
              <a:ext cx="5410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19520" y="5410080"/>
              <a:ext cx="4038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981080" y="5562720"/>
              <a:ext cx="342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219320" y="5715000"/>
              <a:ext cx="3581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67480" y="541008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46748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66880" y="25909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C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086600" y="35053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∑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572000" y="5943600"/>
              <a:ext cx="388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Ai  Bi           Ci-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914400" y="4495680"/>
              <a:ext cx="1447920" cy="83844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14400" y="4876920"/>
              <a:ext cx="1447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600200" y="48769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600200" y="44956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47920" y="46483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523880" y="43434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133720" y="4114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600200" y="42670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600200" y="42670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600200" y="4267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24280" y="6019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6019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4920" y="3962520"/>
              <a:ext cx="144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i B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952880" y="4191120"/>
              <a:ext cx="15264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724280" y="5638680"/>
              <a:ext cx="15264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334120" y="5486400"/>
              <a:ext cx="15228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781680" y="5334120"/>
              <a:ext cx="15264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ld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"/>
          <p:cNvSpPr/>
          <p:nvPr/>
        </p:nvSpPr>
        <p:spPr>
          <a:xfrm>
            <a:off x="0" y="22860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易出错处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1752480" y="106668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00 1110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5" name=""/>
          <p:cNvGrpSpPr/>
          <p:nvPr/>
        </p:nvGrpSpPr>
        <p:grpSpPr>
          <a:xfrm>
            <a:off x="685800" y="1523880"/>
            <a:ext cx="838080" cy="581400"/>
            <a:chOff x="685800" y="1523880"/>
            <a:chExt cx="838080" cy="581400"/>
          </a:xfrm>
        </p:grpSpPr>
        <p:sp>
          <p:nvSpPr>
            <p:cNvPr id="2036" name=""/>
            <p:cNvSpPr/>
            <p:nvPr/>
          </p:nvSpPr>
          <p:spPr>
            <a:xfrm flipH="1">
              <a:off x="685800" y="205740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838080" y="15238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8" name=""/>
          <p:cNvGrpSpPr/>
          <p:nvPr/>
        </p:nvGrpSpPr>
        <p:grpSpPr>
          <a:xfrm>
            <a:off x="4648320" y="1523880"/>
            <a:ext cx="838080" cy="581400"/>
            <a:chOff x="4648320" y="1523880"/>
            <a:chExt cx="838080" cy="581400"/>
          </a:xfrm>
        </p:grpSpPr>
        <p:sp>
          <p:nvSpPr>
            <p:cNvPr id="2039" name=""/>
            <p:cNvSpPr/>
            <p:nvPr/>
          </p:nvSpPr>
          <p:spPr>
            <a:xfrm>
              <a:off x="4800600" y="15238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右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H="1">
              <a:off x="4648320" y="205740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1" name=""/>
          <p:cNvSpPr/>
          <p:nvPr/>
        </p:nvSpPr>
        <p:spPr>
          <a:xfrm>
            <a:off x="5715000" y="10666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01 1100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 flipH="1">
            <a:off x="1980720" y="1676520"/>
            <a:ext cx="30492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 flipH="1">
            <a:off x="6324120" y="1676520"/>
            <a:ext cx="30492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2057400" y="1676520"/>
            <a:ext cx="30492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6400800" y="1676520"/>
            <a:ext cx="2286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609480" y="25448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正确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1752480" y="350532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1 0110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5715000" y="35053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0 1100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 flipH="1">
            <a:off x="1980720" y="4114800"/>
            <a:ext cx="30492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 flipH="1">
            <a:off x="6324120" y="4114800"/>
            <a:ext cx="30492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2057400" y="4114800"/>
            <a:ext cx="2286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6400800" y="4114800"/>
            <a:ext cx="2286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1752480" y="167652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00 1100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1752480" y="25146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1100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5715000" y="16765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00 0110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4572000" y="25146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正确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5715000" y="25146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00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10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1752480" y="40831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1 1100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9" name=""/>
          <p:cNvGrpSpPr/>
          <p:nvPr/>
        </p:nvGrpSpPr>
        <p:grpSpPr>
          <a:xfrm>
            <a:off x="609480" y="3992400"/>
            <a:ext cx="838080" cy="581400"/>
            <a:chOff x="609480" y="3992400"/>
            <a:chExt cx="838080" cy="581400"/>
          </a:xfrm>
        </p:grpSpPr>
        <p:sp>
          <p:nvSpPr>
            <p:cNvPr id="2060" name=""/>
            <p:cNvSpPr/>
            <p:nvPr/>
          </p:nvSpPr>
          <p:spPr>
            <a:xfrm flipH="1">
              <a:off x="609480" y="45259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761760" y="39924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2" name=""/>
          <p:cNvSpPr/>
          <p:nvPr/>
        </p:nvSpPr>
        <p:spPr>
          <a:xfrm>
            <a:off x="609480" y="50292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正确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1752480" y="49975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1100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5715000" y="41148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1 1110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5" name=""/>
          <p:cNvGrpSpPr/>
          <p:nvPr/>
        </p:nvGrpSpPr>
        <p:grpSpPr>
          <a:xfrm>
            <a:off x="4648320" y="3962520"/>
            <a:ext cx="838080" cy="581400"/>
            <a:chOff x="4648320" y="3962520"/>
            <a:chExt cx="838080" cy="581400"/>
          </a:xfrm>
        </p:grpSpPr>
        <p:sp>
          <p:nvSpPr>
            <p:cNvPr id="2066" name=""/>
            <p:cNvSpPr/>
            <p:nvPr/>
          </p:nvSpPr>
          <p:spPr>
            <a:xfrm>
              <a:off x="480060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右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 flipH="1">
              <a:off x="4648320" y="44956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8" name=""/>
          <p:cNvSpPr/>
          <p:nvPr/>
        </p:nvSpPr>
        <p:spPr>
          <a:xfrm>
            <a:off x="5715000" y="49975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1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10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4572000" y="50292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正确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2864" dur="indefinite" restart="never" nodeType="tmRoot">
          <p:childTnLst>
            <p:seq>
              <p:cTn id="2865" dur="indefinite" nodeType="mainSeq">
                <p:childTnLst>
                  <p:par>
                    <p:cTn id="2866" fill="hold">
                      <p:stCondLst>
                        <p:cond delay="indefinite"/>
                      </p:stCondLst>
                      <p:childTnLst>
                        <p:par>
                          <p:cTn id="2867" fill="hold">
                            <p:stCondLst>
                              <p:cond delay="0"/>
                            </p:stCondLst>
                            <p:childTnLst>
                              <p:par>
                                <p:cTn id="28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0" dur="500"/>
                                        <p:tgtEl>
                                          <p:spTgt spid="2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1" fill="hold">
                      <p:stCondLst>
                        <p:cond delay="indefinite"/>
                      </p:stCondLst>
                      <p:childTnLst>
                        <p:par>
                          <p:cTn id="2872" fill="hold">
                            <p:stCondLst>
                              <p:cond delay="0"/>
                            </p:stCondLst>
                            <p:childTnLst>
                              <p:par>
                                <p:cTn id="28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5" dur="500"/>
                                        <p:tgtEl>
                                          <p:spTgt spid="2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6" fill="hold">
                      <p:stCondLst>
                        <p:cond delay="indefinite"/>
                      </p:stCondLst>
                      <p:childTnLst>
                        <p:par>
                          <p:cTn id="2877" fill="hold">
                            <p:stCondLst>
                              <p:cond delay="0"/>
                            </p:stCondLst>
                            <p:childTnLst>
                              <p:par>
                                <p:cTn id="28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80" dur="500"/>
                                        <p:tgtEl>
                                          <p:spTgt spid="2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84" dur="500"/>
                                        <p:tgtEl>
                                          <p:spTgt spid="2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5" fill="hold">
                      <p:stCondLst>
                        <p:cond delay="indefinite"/>
                      </p:stCondLst>
                      <p:childTnLst>
                        <p:par>
                          <p:cTn id="2886" fill="hold">
                            <p:stCondLst>
                              <p:cond delay="0"/>
                            </p:stCondLst>
                            <p:childTnLst>
                              <p:par>
                                <p:cTn id="28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9" dur="5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0" fill="hold">
                            <p:stCondLst>
                              <p:cond delay="500"/>
                            </p:stCondLst>
                            <p:childTnLst>
                              <p:par>
                                <p:cTn id="28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3" dur="500"/>
                                        <p:tgtEl>
                                          <p:spTgt spid="2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4" fill="hold">
                      <p:stCondLst>
                        <p:cond delay="indefinite"/>
                      </p:stCondLst>
                      <p:childTnLst>
                        <p:par>
                          <p:cTn id="2895" fill="hold">
                            <p:stCondLst>
                              <p:cond delay="0"/>
                            </p:stCondLst>
                            <p:childTnLst>
                              <p:par>
                                <p:cTn id="28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8" dur="500"/>
                                        <p:tgtEl>
                                          <p:spTgt spid="20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2" dur="500"/>
                                        <p:tgtEl>
                                          <p:spTgt spid="2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3" fill="hold">
                      <p:stCondLst>
                        <p:cond delay="indefinite"/>
                      </p:stCondLst>
                      <p:childTnLst>
                        <p:par>
                          <p:cTn id="2904" fill="hold">
                            <p:stCondLst>
                              <p:cond delay="0"/>
                            </p:stCondLst>
                            <p:childTnLst>
                              <p:par>
                                <p:cTn id="2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7" dur="500"/>
                                        <p:tgtEl>
                                          <p:spTgt spid="2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8" fill="hold">
                      <p:stCondLst>
                        <p:cond delay="indefinite"/>
                      </p:stCondLst>
                      <p:childTnLst>
                        <p:par>
                          <p:cTn id="2909" fill="hold">
                            <p:stCondLst>
                              <p:cond delay="0"/>
                            </p:stCondLst>
                            <p:childTnLst>
                              <p:par>
                                <p:cTn id="29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2" dur="500"/>
                                        <p:tgtEl>
                                          <p:spTgt spid="2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3" fill="hold">
                            <p:stCondLst>
                              <p:cond delay="500"/>
                            </p:stCondLst>
                            <p:childTnLst>
                              <p:par>
                                <p:cTn id="29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6" dur="500"/>
                                        <p:tgtEl>
                                          <p:spTgt spid="20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7" fill="hold">
                      <p:stCondLst>
                        <p:cond delay="indefinite"/>
                      </p:stCondLst>
                      <p:childTnLst>
                        <p:par>
                          <p:cTn id="2918" fill="hold">
                            <p:stCondLst>
                              <p:cond delay="0"/>
                            </p:stCondLst>
                            <p:childTnLst>
                              <p:par>
                                <p:cTn id="29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1" dur="500"/>
                                        <p:tgtEl>
                                          <p:spTgt spid="2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2" fill="hold">
                            <p:stCondLst>
                              <p:cond delay="500"/>
                            </p:stCondLst>
                            <p:childTnLst>
                              <p:par>
                                <p:cTn id="29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5" dur="500"/>
                                        <p:tgtEl>
                                          <p:spTgt spid="2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6" fill="hold">
                      <p:stCondLst>
                        <p:cond delay="indefinite"/>
                      </p:stCondLst>
                      <p:childTnLst>
                        <p:par>
                          <p:cTn id="2927" fill="hold">
                            <p:stCondLst>
                              <p:cond delay="0"/>
                            </p:stCondLst>
                            <p:childTnLst>
                              <p:par>
                                <p:cTn id="29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0" dur="500"/>
                                        <p:tgtEl>
                                          <p:spTgt spid="2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1" fill="hold">
                            <p:stCondLst>
                              <p:cond delay="500"/>
                            </p:stCondLst>
                            <p:childTnLst>
                              <p:par>
                                <p:cTn id="29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4" dur="500"/>
                                        <p:tgtEl>
                                          <p:spTgt spid="2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5" fill="hold">
                      <p:stCondLst>
                        <p:cond delay="indefinite"/>
                      </p:stCondLst>
                      <p:childTnLst>
                        <p:par>
                          <p:cTn id="2936" fill="hold">
                            <p:stCondLst>
                              <p:cond delay="0"/>
                            </p:stCondLst>
                            <p:childTnLst>
                              <p:par>
                                <p:cTn id="2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9" dur="500"/>
                                        <p:tgtEl>
                                          <p:spTgt spid="2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0" fill="hold">
                      <p:stCondLst>
                        <p:cond delay="indefinite"/>
                      </p:stCondLst>
                      <p:childTnLst>
                        <p:par>
                          <p:cTn id="2941" fill="hold">
                            <p:stCondLst>
                              <p:cond delay="0"/>
                            </p:stCondLst>
                            <p:childTnLst>
                              <p:par>
                                <p:cTn id="29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44" dur="500"/>
                                        <p:tgtEl>
                                          <p:spTgt spid="2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5" fill="hold">
                            <p:stCondLst>
                              <p:cond delay="500"/>
                            </p:stCondLst>
                            <p:childTnLst>
                              <p:par>
                                <p:cTn id="29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48" dur="500"/>
                                        <p:tgtEl>
                                          <p:spTgt spid="2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9" fill="hold">
                      <p:stCondLst>
                        <p:cond delay="indefinite"/>
                      </p:stCondLst>
                      <p:childTnLst>
                        <p:par>
                          <p:cTn id="2950" fill="hold">
                            <p:stCondLst>
                              <p:cond delay="0"/>
                            </p:stCondLst>
                            <p:childTnLst>
                              <p:par>
                                <p:cTn id="29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3" dur="500"/>
                                        <p:tgtEl>
                                          <p:spTgt spid="2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7" dur="500"/>
                                        <p:tgtEl>
                                          <p:spTgt spid="2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8" fill="hold">
                      <p:stCondLst>
                        <p:cond delay="indefinite"/>
                      </p:stCondLst>
                      <p:childTnLst>
                        <p:par>
                          <p:cTn id="2959" fill="hold">
                            <p:stCondLst>
                              <p:cond delay="0"/>
                            </p:stCondLst>
                            <p:childTnLst>
                              <p:par>
                                <p:cTn id="29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2" dur="500"/>
                                        <p:tgtEl>
                                          <p:spTgt spid="2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3" fill="hold">
                            <p:stCondLst>
                              <p:cond delay="500"/>
                            </p:stCondLst>
                            <p:childTnLst>
                              <p:par>
                                <p:cTn id="29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6" dur="500"/>
                                        <p:tgtEl>
                                          <p:spTgt spid="2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7" fill="hold">
                      <p:stCondLst>
                        <p:cond delay="indefinite"/>
                      </p:stCondLst>
                      <p:childTnLst>
                        <p:par>
                          <p:cTn id="2968" fill="hold">
                            <p:stCondLst>
                              <p:cond delay="0"/>
                            </p:stCondLst>
                            <p:childTnLst>
                              <p:par>
                                <p:cTn id="29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1" dur="500"/>
                                        <p:tgtEl>
                                          <p:spTgt spid="2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2" fill="hold">
                      <p:stCondLst>
                        <p:cond delay="indefinite"/>
                      </p:stCondLst>
                      <p:childTnLst>
                        <p:par>
                          <p:cTn id="2973" fill="hold">
                            <p:stCondLst>
                              <p:cond delay="0"/>
                            </p:stCondLst>
                            <p:childTnLst>
                              <p:par>
                                <p:cTn id="29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6" dur="500"/>
                                        <p:tgtEl>
                                          <p:spTgt spid="2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7" fill="hold">
                            <p:stCondLst>
                              <p:cond delay="500"/>
                            </p:stCondLst>
                            <p:childTnLst>
                              <p:par>
                                <p:cTn id="29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0" dur="500"/>
                                        <p:tgtEl>
                                          <p:spTgt spid="2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1" fill="hold">
                      <p:stCondLst>
                        <p:cond delay="indefinite"/>
                      </p:stCondLst>
                      <p:childTnLst>
                        <p:par>
                          <p:cTn id="2982" fill="hold">
                            <p:stCondLst>
                              <p:cond delay="0"/>
                            </p:stCondLst>
                            <p:childTnLst>
                              <p:par>
                                <p:cTn id="29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5" dur="500"/>
                                        <p:tgtEl>
                                          <p:spTgt spid="2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6" fill="hold">
                            <p:stCondLst>
                              <p:cond delay="500"/>
                            </p:stCondLst>
                            <p:childTnLst>
                              <p:par>
                                <p:cTn id="29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9" dur="500"/>
                                        <p:tgtEl>
                                          <p:spTgt spid="2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0" fill="hold">
                      <p:stCondLst>
                        <p:cond delay="indefinite"/>
                      </p:stCondLst>
                      <p:childTnLst>
                        <p:par>
                          <p:cTn id="2991" fill="hold">
                            <p:stCondLst>
                              <p:cond delay="0"/>
                            </p:stCondLst>
                            <p:childTnLst>
                              <p:par>
                                <p:cTn id="29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4" dur="500"/>
                                        <p:tgtEl>
                                          <p:spTgt spid="2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8" dur="500"/>
                                        <p:tgtEl>
                                          <p:spTgt spid="2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"/>
          <p:cNvSpPr/>
          <p:nvPr/>
        </p:nvSpPr>
        <p:spPr>
          <a:xfrm>
            <a:off x="0" y="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.3.4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舍入方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0" y="76212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 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入（原码、补码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3352680" y="152388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0 0010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5486400" y="19051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3352680" y="220968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 0010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5486400" y="25146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2666880" y="2895480"/>
            <a:ext cx="35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 1101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5486400" y="32767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0" y="373392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末位恒置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原码、补码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3429000" y="449568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0 0010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原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5562720" y="4876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3276720" y="57913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 1101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429000" y="51498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 0010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6248520" y="15238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0 00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6248520" y="22096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 00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6019920" y="28954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 11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6400800" y="44956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0 001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6400800" y="51814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 001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5562720" y="54864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6400800" y="579132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 11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5562720" y="61722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6400800" y="51814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001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6400800" y="579132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11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0" y="15238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位尾数：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0" y="44956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位尾数：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2999" dur="indefinite" restart="never" nodeType="tmRoot">
          <p:childTnLst>
            <p:seq>
              <p:cTn id="3000" dur="indefinite" nodeType="mainSeq">
                <p:childTnLst>
                  <p:par>
                    <p:cTn id="3001" fill="hold">
                      <p:stCondLst>
                        <p:cond delay="indefinite"/>
                      </p:stCondLst>
                      <p:childTnLst>
                        <p:par>
                          <p:cTn id="3002" fill="hold">
                            <p:stCondLst>
                              <p:cond delay="0"/>
                            </p:stCondLst>
                            <p:childTnLst>
                              <p:par>
                                <p:cTn id="30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5" dur="500"/>
                                        <p:tgtEl>
                                          <p:spTgt spid="20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6" fill="hold">
                      <p:stCondLst>
                        <p:cond delay="indefinite"/>
                      </p:stCondLst>
                      <p:childTnLst>
                        <p:par>
                          <p:cTn id="3007" fill="hold">
                            <p:stCondLst>
                              <p:cond delay="0"/>
                            </p:stCondLst>
                            <p:childTnLst>
                              <p:par>
                                <p:cTn id="30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0" dur="500" fill="hold"/>
                                        <p:tgtEl>
                                          <p:spTgt spid="20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1" dur="500" fill="hold"/>
                                        <p:tgtEl>
                                          <p:spTgt spid="20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2" fill="hold">
                      <p:stCondLst>
                        <p:cond delay="indefinite"/>
                      </p:stCondLst>
                      <p:childTnLst>
                        <p:par>
                          <p:cTn id="3013" fill="hold">
                            <p:stCondLst>
                              <p:cond delay="0"/>
                            </p:stCondLst>
                            <p:childTnLst>
                              <p:par>
                                <p:cTn id="30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6" dur="500"/>
                                        <p:tgtEl>
                                          <p:spTgt spid="20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7" fill="hold">
                      <p:stCondLst>
                        <p:cond delay="indefinite"/>
                      </p:stCondLst>
                      <p:childTnLst>
                        <p:par>
                          <p:cTn id="3018" fill="hold">
                            <p:stCondLst>
                              <p:cond delay="0"/>
                            </p:stCondLst>
                            <p:childTnLst>
                              <p:par>
                                <p:cTn id="30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1" dur="500"/>
                                        <p:tgtEl>
                                          <p:spTgt spid="2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2" fill="hold">
                      <p:stCondLst>
                        <p:cond delay="indefinite"/>
                      </p:stCondLst>
                      <p:childTnLst>
                        <p:par>
                          <p:cTn id="3023" fill="hold">
                            <p:stCondLst>
                              <p:cond delay="0"/>
                            </p:stCondLst>
                            <p:childTnLst>
                              <p:par>
                                <p:cTn id="30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6" dur="500"/>
                                        <p:tgtEl>
                                          <p:spTgt spid="20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7" fill="hold">
                      <p:stCondLst>
                        <p:cond delay="indefinite"/>
                      </p:stCondLst>
                      <p:childTnLst>
                        <p:par>
                          <p:cTn id="3028" fill="hold">
                            <p:stCondLst>
                              <p:cond delay="0"/>
                            </p:stCondLst>
                            <p:childTnLst>
                              <p:par>
                                <p:cTn id="30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1" dur="500"/>
                                        <p:tgtEl>
                                          <p:spTgt spid="20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2" fill="hold">
                      <p:stCondLst>
                        <p:cond delay="indefinite"/>
                      </p:stCondLst>
                      <p:childTnLst>
                        <p:par>
                          <p:cTn id="3033" fill="hold">
                            <p:stCondLst>
                              <p:cond delay="0"/>
                            </p:stCondLst>
                            <p:childTnLst>
                              <p:par>
                                <p:cTn id="30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6" dur="500"/>
                                        <p:tgtEl>
                                          <p:spTgt spid="2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7" fill="hold">
                            <p:stCondLst>
                              <p:cond delay="500"/>
                            </p:stCondLst>
                            <p:childTnLst>
                              <p:par>
                                <p:cTn id="30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0" dur="500"/>
                                        <p:tgtEl>
                                          <p:spTgt spid="2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1" fill="hold">
                      <p:stCondLst>
                        <p:cond delay="indefinite"/>
                      </p:stCondLst>
                      <p:childTnLst>
                        <p:par>
                          <p:cTn id="3042" fill="hold">
                            <p:stCondLst>
                              <p:cond delay="0"/>
                            </p:stCondLst>
                            <p:childTnLst>
                              <p:par>
                                <p:cTn id="30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5" dur="500"/>
                                        <p:tgtEl>
                                          <p:spTgt spid="2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6" fill="hold">
                            <p:stCondLst>
                              <p:cond delay="500"/>
                            </p:stCondLst>
                            <p:childTnLst>
                              <p:par>
                                <p:cTn id="30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9" dur="500"/>
                                        <p:tgtEl>
                                          <p:spTgt spid="2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0" fill="hold">
                      <p:stCondLst>
                        <p:cond delay="indefinite"/>
                      </p:stCondLst>
                      <p:childTnLst>
                        <p:par>
                          <p:cTn id="3051" fill="hold">
                            <p:stCondLst>
                              <p:cond delay="0"/>
                            </p:stCondLst>
                            <p:childTnLst>
                              <p:par>
                                <p:cTn id="30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4" dur="500"/>
                                        <p:tgtEl>
                                          <p:spTgt spid="2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5" fill="hold">
                            <p:stCondLst>
                              <p:cond delay="500"/>
                            </p:stCondLst>
                            <p:childTnLst>
                              <p:par>
                                <p:cTn id="30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8" dur="500"/>
                                        <p:tgtEl>
                                          <p:spTgt spid="20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9" fill="hold">
                      <p:stCondLst>
                        <p:cond delay="indefinite"/>
                      </p:stCondLst>
                      <p:childTnLst>
                        <p:par>
                          <p:cTn id="3060" fill="hold">
                            <p:stCondLst>
                              <p:cond delay="0"/>
                            </p:stCondLst>
                            <p:childTnLst>
                              <p:par>
                                <p:cTn id="30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3" dur="500" fill="hold"/>
                                        <p:tgtEl>
                                          <p:spTgt spid="20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4" dur="500" fill="hold"/>
                                        <p:tgtEl>
                                          <p:spTgt spid="20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5" fill="hold">
                      <p:stCondLst>
                        <p:cond delay="indefinite"/>
                      </p:stCondLst>
                      <p:childTnLst>
                        <p:par>
                          <p:cTn id="3066" fill="hold">
                            <p:stCondLst>
                              <p:cond delay="0"/>
                            </p:stCondLst>
                            <p:childTnLst>
                              <p:par>
                                <p:cTn id="30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9" dur="500"/>
                                        <p:tgtEl>
                                          <p:spTgt spid="20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0" fill="hold">
                      <p:stCondLst>
                        <p:cond delay="indefinite"/>
                      </p:stCondLst>
                      <p:childTnLst>
                        <p:par>
                          <p:cTn id="3071" fill="hold">
                            <p:stCondLst>
                              <p:cond delay="0"/>
                            </p:stCondLst>
                            <p:childTnLst>
                              <p:par>
                                <p:cTn id="30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4" dur="500"/>
                                        <p:tgtEl>
                                          <p:spTgt spid="20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5" fill="hold">
                      <p:stCondLst>
                        <p:cond delay="indefinite"/>
                      </p:stCondLst>
                      <p:childTnLst>
                        <p:par>
                          <p:cTn id="3076" fill="hold">
                            <p:stCondLst>
                              <p:cond delay="0"/>
                            </p:stCondLst>
                            <p:childTnLst>
                              <p:par>
                                <p:cTn id="30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9" dur="500"/>
                                        <p:tgtEl>
                                          <p:spTgt spid="2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0" fill="hold">
                      <p:stCondLst>
                        <p:cond delay="indefinite"/>
                      </p:stCondLst>
                      <p:childTnLst>
                        <p:par>
                          <p:cTn id="3081" fill="hold">
                            <p:stCondLst>
                              <p:cond delay="0"/>
                            </p:stCondLst>
                            <p:childTnLst>
                              <p:par>
                                <p:cTn id="30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4" dur="500"/>
                                        <p:tgtEl>
                                          <p:spTgt spid="2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5" fill="hold">
                      <p:stCondLst>
                        <p:cond delay="indefinite"/>
                      </p:stCondLst>
                      <p:childTnLst>
                        <p:par>
                          <p:cTn id="3086" fill="hold">
                            <p:stCondLst>
                              <p:cond delay="0"/>
                            </p:stCondLst>
                            <p:childTnLst>
                              <p:par>
                                <p:cTn id="30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9" dur="500"/>
                                        <p:tgtEl>
                                          <p:spTgt spid="2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0" fill="hold">
                            <p:stCondLst>
                              <p:cond delay="500"/>
                            </p:stCondLst>
                            <p:childTnLst>
                              <p:par>
                                <p:cTn id="30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3" dur="500"/>
                                        <p:tgtEl>
                                          <p:spTgt spid="20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4" fill="hold">
                      <p:stCondLst>
                        <p:cond delay="indefinite"/>
                      </p:stCondLst>
                      <p:childTnLst>
                        <p:par>
                          <p:cTn id="3095" fill="hold">
                            <p:stCondLst>
                              <p:cond delay="0"/>
                            </p:stCondLst>
                            <p:childTnLst>
                              <p:par>
                                <p:cTn id="30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8" dur="500"/>
                                        <p:tgtEl>
                                          <p:spTgt spid="2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2" dur="500"/>
                                        <p:tgtEl>
                                          <p:spTgt spid="20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3" fill="hold">
                      <p:stCondLst>
                        <p:cond delay="indefinite"/>
                      </p:stCondLst>
                      <p:childTnLst>
                        <p:par>
                          <p:cTn id="3104" fill="hold">
                            <p:stCondLst>
                              <p:cond delay="0"/>
                            </p:stCondLst>
                            <p:childTnLst>
                              <p:par>
                                <p:cTn id="3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7" dur="500"/>
                                        <p:tgtEl>
                                          <p:spTgt spid="2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8" fill="hold">
                            <p:stCondLst>
                              <p:cond delay="500"/>
                            </p:stCondLst>
                            <p:childTnLst>
                              <p:par>
                                <p:cTn id="3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1" dur="500"/>
                                        <p:tgtEl>
                                          <p:spTgt spid="2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2" fill="hold">
                      <p:stCondLst>
                        <p:cond delay="indefinite"/>
                      </p:stCondLst>
                      <p:childTnLst>
                        <p:par>
                          <p:cTn id="3113" fill="hold">
                            <p:stCondLst>
                              <p:cond delay="0"/>
                            </p:stCondLst>
                            <p:childTnLst>
                              <p:par>
                                <p:cTn id="3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6" dur="500"/>
                                        <p:tgtEl>
                                          <p:spTgt spid="2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0" dur="500"/>
                                        <p:tgtEl>
                                          <p:spTgt spid="20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533520" y="228600"/>
            <a:ext cx="8001000" cy="27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.1.2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并行加法器与进位链逻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并行加法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特点：各位同时相加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. 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位数相加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761760" y="3048120"/>
            <a:ext cx="8534520" cy="1800360"/>
            <a:chOff x="761760" y="3048120"/>
            <a:chExt cx="8534520" cy="1800360"/>
          </a:xfrm>
        </p:grpSpPr>
        <p:sp>
          <p:nvSpPr>
            <p:cNvPr id="249" name=""/>
            <p:cNvSpPr/>
            <p:nvPr/>
          </p:nvSpPr>
          <p:spPr>
            <a:xfrm>
              <a:off x="1295280" y="3429000"/>
              <a:ext cx="990720" cy="53352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819520" y="3429000"/>
              <a:ext cx="990360" cy="53352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34120" y="3429000"/>
              <a:ext cx="990360" cy="53352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858000" y="3429000"/>
              <a:ext cx="990720" cy="53352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412640" y="3429000"/>
              <a:ext cx="91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∑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8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937240" y="3429000"/>
              <a:ext cx="70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∑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68040" y="3429000"/>
              <a:ext cx="67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∑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976080" y="3429000"/>
              <a:ext cx="70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∑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1752480" y="30481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1981080" y="3962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1523880" y="3962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3276720" y="30481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5867280" y="30481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7391520" y="30481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6019920" y="3962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5562720" y="3962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3505320" y="3962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3048120" y="3962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7543800" y="3962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7086600" y="3962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2286000" y="37339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3809880" y="37339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4800600" y="37339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6324480" y="37339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7848360" y="373392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761760" y="373392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19720" y="373392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219320" y="4267080"/>
              <a:ext cx="7619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   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7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             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   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381880" y="34290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533520" y="5607000"/>
            <a:ext cx="7238880" cy="12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影响速度的主要因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存在着进位信号的传递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295280" y="480060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1                1                          1              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828800" y="48006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0                0                          0              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001000" y="32004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00800" y="32004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876920" y="32004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32004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62320" y="32004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32004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467480" y="28954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43600" y="28954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28954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28800" y="28954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04920" y="304920"/>
            <a:ext cx="8839080" cy="12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并行加法器的进位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进位链的基本逻辑关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51814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所以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i  =  Gi + Pi Ci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133720" y="3733920"/>
            <a:ext cx="4419360" cy="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05720" y="34290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进位产生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705720" y="487692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进位传递函数（进位条件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362320" y="5105520"/>
            <a:ext cx="4343400" cy="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95480" y="5867280"/>
            <a:ext cx="609840" cy="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62520" y="5867280"/>
            <a:ext cx="1218960" cy="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2362320" y="5943600"/>
            <a:ext cx="761760" cy="30492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495680" y="5943600"/>
            <a:ext cx="762120" cy="30492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62485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本地进位、绝对进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0" y="626256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条件进位、传递进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1752120" y="3733920"/>
            <a:ext cx="381240" cy="15228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00200" y="4952880"/>
            <a:ext cx="762120" cy="15264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143000" y="4267080"/>
            <a:ext cx="609480" cy="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143000" y="4876920"/>
            <a:ext cx="609480" cy="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304920" y="990720"/>
            <a:ext cx="6019560" cy="2532600"/>
            <a:chOff x="304920" y="990720"/>
            <a:chExt cx="6019560" cy="2532600"/>
          </a:xfrm>
        </p:grpSpPr>
        <p:sp>
          <p:nvSpPr>
            <p:cNvPr id="308" name=""/>
            <p:cNvSpPr/>
            <p:nvPr/>
          </p:nvSpPr>
          <p:spPr>
            <a:xfrm>
              <a:off x="304920" y="990720"/>
              <a:ext cx="6019560" cy="253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Ci  =  AiBi + (Ai +  Bi)Ci-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=  AiBi + (Ai +  Bi)Ci-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或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Ci  =  AiBi + (Ai +  Bi)Ci-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581280" y="1828800"/>
              <a:ext cx="304920" cy="304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581280" y="2514600"/>
              <a:ext cx="304920" cy="304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038480" y="25146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24080" y="25146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304920" y="3809880"/>
            <a:ext cx="7696080" cy="1115640"/>
            <a:chOff x="304920" y="3809880"/>
            <a:chExt cx="7696080" cy="1115640"/>
          </a:xfrm>
        </p:grpSpPr>
        <p:sp>
          <p:nvSpPr>
            <p:cNvPr id="314" name=""/>
            <p:cNvSpPr/>
            <p:nvPr/>
          </p:nvSpPr>
          <p:spPr>
            <a:xfrm>
              <a:off x="304920" y="3809880"/>
              <a:ext cx="7696080" cy="11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令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Gi  =  AiB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Pi  = Ai +  Bi = Ai +  Bi = Ai + Bi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495680" y="4495680"/>
              <a:ext cx="304920" cy="304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743200" y="4495680"/>
              <a:ext cx="304920" cy="304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038480" y="44197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952880" y="44197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ld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228600"/>
            <a:ext cx="8839080" cy="27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串行进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特点：进位信号逐位形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位加法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逻辑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429000" y="2438280"/>
            <a:ext cx="502920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= 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+ 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= 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+ 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= 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+ 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33920" y="350532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" y="449568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结构举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828800" y="5486400"/>
            <a:ext cx="1219320" cy="60948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828800" y="57913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0" y="56386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438280" y="54864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962520" y="5486400"/>
            <a:ext cx="1218960" cy="60948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77120" y="5562720"/>
            <a:ext cx="838080" cy="53316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772400" y="5562720"/>
            <a:ext cx="838080" cy="53316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438280" y="5791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62520" y="57913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72000" y="5791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419720" y="56386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0" y="54864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95480" y="6095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29200" y="6095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267080" y="6095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133720" y="6095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590920" y="6095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24280" y="6095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001000" y="6095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381880" y="6095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705720" y="6095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086600" y="6095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7200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229600" y="52578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58000" y="52578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43828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895480" y="64008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581280" y="52578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81280" y="52578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447920" y="525780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47920" y="525780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57200" y="579132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219320" y="63244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2  G2  P2 C1      G1  P1 C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629400" y="4800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Gi              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001000" y="57913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153280" y="56386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001000" y="5638680"/>
            <a:ext cx="304920" cy="304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324480" y="63388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i  Bi      Ai  B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500"/>
                            </p:stCondLst>
                            <p:childTnLst>
                              <p:par>
                                <p:cTn id="4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3000"/>
                            </p:stCondLst>
                            <p:childTnLst>
                              <p:par>
                                <p:cTn id="4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3500"/>
                            </p:stCondLst>
                            <p:childTnLst>
                              <p:par>
                                <p:cTn id="4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6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65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7000"/>
                            </p:stCondLst>
                            <p:childTnLst>
                              <p:par>
                                <p:cTn id="4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7500"/>
                            </p:stCondLst>
                            <p:childTnLst>
                              <p:par>
                                <p:cTn id="4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8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8500"/>
                            </p:stCondLst>
                            <p:childTnLst>
                              <p:par>
                                <p:cTn id="4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9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9500"/>
                            </p:stCondLst>
                            <p:childTnLst>
                              <p:par>
                                <p:cTn id="4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500"/>
                            </p:stCondLst>
                            <p:childTnLst>
                              <p:par>
                                <p:cTn id="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1500"/>
                            </p:stCondLst>
                            <p:childTnLst>
                              <p:par>
                                <p:cTn id="5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3000"/>
                            </p:stCondLst>
                            <p:childTnLst>
                              <p:par>
                                <p:cTn id="5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3500"/>
                            </p:stCondLst>
                            <p:childTnLst>
                              <p:par>
                                <p:cTn id="5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4000"/>
                            </p:stCondLst>
                            <p:childTnLst>
                              <p:par>
                                <p:cTn id="5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4500"/>
                            </p:stCondLst>
                            <p:childTnLst>
                              <p:par>
                                <p:cTn id="5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0" y="228600"/>
            <a:ext cx="9144000" cy="51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学习要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能写出任一进位的串、并、分组逻辑式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已知操作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初始进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写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逻辑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串行进位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并行进位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分级同时进位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=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04920" y="5257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352680" y="2743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352680" y="3513240"/>
            <a:ext cx="579132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267080" y="472428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52578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352680" y="2743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cc00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2680" y="3505320"/>
            <a:ext cx="5791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cc00ff"/>
                </a:solidFill>
                <a:latin typeface="Times New Roman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352680" y="3505320"/>
            <a:ext cx="5791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cc00ff"/>
                </a:solidFill>
                <a:latin typeface="Times New Roman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7080" y="47242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571500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62784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71800" y="6216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           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0" y="228600"/>
            <a:ext cx="5410080" cy="12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.1.3  ALU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部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1295280" y="1066680"/>
            <a:ext cx="6477120" cy="3810240"/>
            <a:chOff x="1295280" y="1066680"/>
            <a:chExt cx="6477120" cy="3810240"/>
          </a:xfrm>
        </p:grpSpPr>
        <p:sp>
          <p:nvSpPr>
            <p:cNvPr id="376" name=""/>
            <p:cNvSpPr/>
            <p:nvPr/>
          </p:nvSpPr>
          <p:spPr>
            <a:xfrm>
              <a:off x="3276720" y="1447920"/>
              <a:ext cx="22860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加法器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2590920"/>
              <a:ext cx="22860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选择器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00600" y="2590920"/>
              <a:ext cx="22860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选择器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3733920" y="20574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5181480" y="20574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2362320" y="32004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3581280" y="32004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5257800" y="32004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6553080" y="32004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905120" y="3657600"/>
              <a:ext cx="129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ff"/>
                  </a:solidFill>
                  <a:latin typeface="Times New Roman"/>
                  <a:ea typeface="黑体"/>
                </a:rPr>
                <a:t>控制信号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24280" y="3657600"/>
              <a:ext cx="129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ff"/>
                  </a:solidFill>
                  <a:latin typeface="Times New Roman"/>
                  <a:ea typeface="黑体"/>
                </a:rPr>
                <a:t>控制信号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71800" y="3657600"/>
              <a:ext cx="1523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操作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019920" y="3657600"/>
              <a:ext cx="1523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操作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523880" y="198108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5050"/>
                  </a:solidFill>
                  <a:latin typeface="Times New Roman"/>
                  <a:ea typeface="黑体"/>
                </a:rPr>
                <a:t>输入组合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86400" y="198108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5050"/>
                  </a:solidFill>
                  <a:latin typeface="Times New Roman"/>
                  <a:ea typeface="黑体"/>
                </a:rPr>
                <a:t>输入组合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295280" y="1066680"/>
              <a:ext cx="6477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295280" y="4876920"/>
              <a:ext cx="6477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772400" y="1066680"/>
              <a:ext cx="0" cy="3810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295280" y="1066680"/>
              <a:ext cx="0" cy="3810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7848720" y="22860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1447920" y="4876560"/>
            <a:ext cx="6248160" cy="1752840"/>
            <a:chOff x="1447920" y="4876560"/>
            <a:chExt cx="6248160" cy="1752840"/>
          </a:xfrm>
        </p:grpSpPr>
        <p:sp>
          <p:nvSpPr>
            <p:cNvPr id="397" name=""/>
            <p:cNvSpPr/>
            <p:nvPr/>
          </p:nvSpPr>
          <p:spPr>
            <a:xfrm>
              <a:off x="1752480" y="5486400"/>
              <a:ext cx="22860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选择器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952880" y="5486400"/>
              <a:ext cx="22860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选择器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2819520" y="48765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6019920" y="48765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2057400" y="60958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3733920" y="60958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5257800" y="60958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6934320" y="60958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209680" y="6400800"/>
              <a:ext cx="1295640" cy="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410080" y="6400800"/>
              <a:ext cx="1295640" cy="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172200" y="487692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操作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447920" y="487692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操作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ld"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运算器 运算方法</cp:keywords>
  <dc:language>en-US</dc:language>
  <cp:lastModifiedBy/>
  <cp:revision>0</cp:revision>
  <dc:subject/>
  <dc:title/>
</cp:coreProperties>
</file>