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5E2-D3CD-420E-B14B-9DEF735F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24EB-6CDA-432B-82D6-5BB766DD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333-C3A2-4582-AD64-6A6AFD98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E13-6CF0-49AE-880A-3FFE42E8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0B3-F1D0-44AA-8AD6-E9BB498D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211-A3D1-498E-98BC-07AB20F0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F66C-D1E0-4BA1-A7F8-18836811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042-7E85-464C-A967-A42C0910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398-6F89-4FBC-BB42-51DBFE06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0D8-CB4A-40B7-A7BB-345EB985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28B-80E4-4476-8797-7828EBF2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3F6-8753-4CDE-93CC-5B4A58E3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6C03-8057-43A4-9FF2-4C479A8FFB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60948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中国剪纸挂串制作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24080" y="2171880"/>
            <a:ext cx="3048120" cy="2933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00400" y="557676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主讲：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××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3808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六、分析和评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3520" y="1066680"/>
          <a:ext cx="8305560" cy="5005440"/>
        </p:xfrm>
        <a:graphic>
          <a:graphicData uri="http://schemas.openxmlformats.org/drawingml/2006/table">
            <a:tbl>
              <a:tblPr/>
              <a:tblGrid>
                <a:gridCol w="1295280"/>
                <a:gridCol w="5334120"/>
                <a:gridCol w="16761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项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操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技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、在操作中是否先刻后剪、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细后粗、先里后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、整体效果是否协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劳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表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、带工具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、场景整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、注意安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52480" y="577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隶书"/>
              </a:rPr>
              <a:t>剪纸作品欣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2214720"/>
            <a:ext cx="2895480" cy="2738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69000" y="2629080"/>
            <a:ext cx="1636920" cy="2247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503520" y="2133720"/>
            <a:ext cx="28893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19520" y="914400"/>
            <a:ext cx="3475080" cy="2593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03320" cy="2819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10440" y="3733920"/>
            <a:ext cx="2071440" cy="2590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352680" y="4308480"/>
            <a:ext cx="2532240" cy="186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762120" y="1143000"/>
            <a:ext cx="132084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7048440" y="1143000"/>
            <a:ext cx="1714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50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3276720" cy="3087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05520" y="757080"/>
            <a:ext cx="3124080" cy="2979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3463920" cy="2400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456160" y="4114800"/>
            <a:ext cx="246852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3049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4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隶书"/>
              </a:rPr>
              <a:t>一、三种剪刻法：阴刻、阳刻、阴阳混合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1447920"/>
            <a:ext cx="5257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剪刻要决：先刻后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先里后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先细后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千剪万剪剪不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4246560"/>
            <a:ext cx="3048120" cy="229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72200" y="4343400"/>
            <a:ext cx="2286000" cy="2236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657600" y="4254480"/>
            <a:ext cx="25146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457200"/>
            <a:ext cx="8610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二、中国剪纸挂串：应用串挂方式将剪纸作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                        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连接在一起的装饰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80840" y="2438280"/>
            <a:ext cx="729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剪纸挂串部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8954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2482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39625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3505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5029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46022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5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3049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、步骤和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0666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、折纸：用各色彩纸按照图中所示折成四面对称剪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77624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、画图：在折叠好的纸上分别把图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1—7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中的五种图案画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不同的彩纸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924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、剪刻：在画好的纸样上进行剪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645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、粘贴：把线夹在剪纸中间，重叠粘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4365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、点缀：下面结穗，上面打结，即可制作完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425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四、注意事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1386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对称剪纸，重叠粘贴必须平整，线要粘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0718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细致、准确、切忌剪断或刻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20520" y="3429000"/>
            <a:ext cx="33732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321000" y="3352680"/>
            <a:ext cx="3003480" cy="3505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253200" y="3352680"/>
            <a:ext cx="2890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500"/>
                            </p:stCondLst>
                            <p:childTnLst>
                              <p:par>
                                <p:cTn id="20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380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五、课堂安全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人人遵守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在刻纸时，桌面上垫上一本废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2209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手指不要紧提捏刀口，控制用刀的力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31240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不准用刀对乱刻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40384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刻刀割伤手指时，及时报告教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剪纸 制作</cp:keywords>
  <dc:language>en-US</dc:language>
  <cp:lastModifiedBy/>
  <cp:revision>0</cp:revision>
  <dc:subject/>
  <dc:title/>
</cp:coreProperties>
</file>