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E8E-13E3-420C-BDF8-5240ECB7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558-232A-4425-BDE1-56104F9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07F-571C-49A9-9935-616AEC89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FBD-95F4-42FB-A944-2B3E147D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EC4-25C6-4376-BDE4-5184F5E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5FF-2946-4B5E-B255-B2DD97E1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5F0-A585-48A0-BAA4-D052B325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FF6-4B92-40BE-88A1-89E1EFA9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9A9-D4DE-4198-9806-F8FD8C0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22F-3EF7-4007-B348-5BDBF0E6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BCE-96CB-4C12-9397-7978B33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E59-CA19-460C-A51C-370444E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AF08-B591-4349-A114-F002D5288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667640" y="3860640"/>
            <a:ext cx="50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方正舒体"/>
              </a:rPr>
              <a:t>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方正舒体"/>
              <a:ea typeface="方正舒体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2920" y="220500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爱之链》公开课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11240" y="104760"/>
            <a:ext cx="89978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在一条乡间公路上，乔依开着那辆破汽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颠簸着往前走。已是黄昏了，伴随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寒风，雪花纷纷扬扬地飘落下来。飞舞的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花钻进破旧的汽车，他不禁打了几个寒战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这条路上几乎看不见汽车，更没有人影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乔依工作的工厂在前不久倒闭了，他的心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是凄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2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前面的路边上好像有什么，乔依定睛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一看，是一辆车。走近时，乔依才发现车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还有位身材矮小的老妇人，她满脸皱纹，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冷风中微微发抖。看见脸上带着微笑的乔依，她反倒紧张地闭上了眼睛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0.Wma" descr=""/>
          <p:cNvPicPr/>
          <p:nvPr/>
        </p:nvPicPr>
        <p:blipFill>
          <a:blip r:embed="rId1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710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9280" y="1849320"/>
            <a:ext cx="8785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楷体_GB2312"/>
              </a:rPr>
              <a:t>4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原来她的车胎瘪了，乔依让她坐进车里，自己爬进她的车底下找了一块地方放置千斤顶。他的脚腕被蹭破了，因为他没穿袜子。为了干活方便，他摘下了破手套，两只手冻得几乎没有知觉。他喘着粗气，清水鼻涕也流下来了，呼出的一点点热气才使脸没被冻僵。他的手蹭破了，也顾不上擦流出的血。当他干完活时，两只手上沾满了油污，衣服也更脏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42920" y="115920"/>
            <a:ext cx="88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3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乔依很理解她的感受，赶紧安慰她说：“请别害怕，夫人，您怎么不呆在车里？里面暖和些。对了，我叫乔依。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60400" y="453960"/>
            <a:ext cx="588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扣上那车的后备箱时，老妇人摇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窗，满脸感激地告诉他说，她在这个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烟的地方已经等了一个多小时了，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冷又怕，几乎完全绝望了。老妇人一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钱包一边问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该给你多少钱？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4000" y="3549600"/>
            <a:ext cx="835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愣住了，他从没想到他应该得到钱的回报。他以前在困难的时候也常常得到别人的帮助，所以他从来就认为帮助有困难的人是一件天经地义的事，他一直就是这么做的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7"/>
          <p:cNvSpPr/>
          <p:nvPr/>
        </p:nvSpPr>
        <p:spPr>
          <a:xfrm>
            <a:off x="3695760" y="4076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2133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看着老妇人的车开走以后，才启动了自己的破汽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33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笑着对老妇人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您遇上一个需要帮助的人，就请您给他一点帮助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11"/>
          <p:cNvPicPr/>
          <p:nvPr/>
        </p:nvPicPr>
        <p:blipFill>
          <a:blip r:embed="rId19"/>
          <a:stretch/>
        </p:blipFill>
        <p:spPr>
          <a:xfrm>
            <a:off x="2411280" y="344664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771560" y="1988640"/>
            <a:ext cx="5469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到了小餐馆，老妇人看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想起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291560" y="333360"/>
            <a:ext cx="40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33cc"/>
                </a:solidFill>
                <a:latin typeface="Arial"/>
                <a:ea typeface="幼圆"/>
              </a:rPr>
              <a:t>二、老妇人帮助女店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87280" y="1700280"/>
            <a:ext cx="85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餐馆里十分破旧，光线昏暗。店主是一位年轻的女人，她热情地送上一条雪白的毛巾，让老妇人擦干头发上的雪水。老妇人感到心里很舒服。她发现这位女店主的脸上虽然带着甜甜的微笑，可掩盖不住她极度的疲劳。更重要的是，她怀孕至少有</a:t>
            </a: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月了。尽管如此，她还是忙来忙去地为老妇人端茶送饭。老妇人突然想起了乔依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89080" y="333360"/>
            <a:ext cx="867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老妇人沿着山路开了几公里，来到了一个小餐馆，她打算先吃点东西，然后回家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22"/>
          <p:cNvPicPr/>
          <p:nvPr/>
        </p:nvPicPr>
        <p:blipFill>
          <a:blip r:embed="rId1"/>
          <a:stretch/>
        </p:blipFill>
        <p:spPr>
          <a:xfrm>
            <a:off x="6732720" y="2924280"/>
            <a:ext cx="2185920" cy="374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50920" y="611280"/>
            <a:ext cx="7489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老妇人用完餐，付了钱。当女店主把找回的钱叫给她时，发现她已经不在了。只件餐桌上有一个小纸包，打开纸包，里面装着一些钱。餐桌上还留有一张纸条，上面写着：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我困难的时候，有人帮助了我。现在我也想帮帮你。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女店主不禁潸然泪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9640" y="765000"/>
            <a:ext cx="81360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2  </a:t>
            </a: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她关上店门，走进里屋，发现丈夫不知什么时候已经倒在床上睡着了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她不忍心叫醒他。为了找工作，已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快急疯了。她轻轻地亲吻着丈夫那粗糙的脸颊，喃喃地说：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切都会好起来的，亲爱的，乔依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  <a:ea typeface="楷体_GB2312"/>
              </a:rPr>
              <a:t>……”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320200" y="49417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从女店主的话中你读懂了什么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468360" y="404640"/>
            <a:ext cx="57636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拓展阅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007000" y="2349360"/>
            <a:ext cx="515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当第二天乔依醒来时，又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发生什么呢？请以“乔依醒来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新魏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为开头，展开想象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684360" y="112536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说话练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65280" y="475560"/>
            <a:ext cx="478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因为爱，冰雪会消融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因为爱，枯木会逢春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希望绽放华彩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能拨云见日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未来永远值得期待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所有的生命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收获了圆满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奇迹正在赶过来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之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4c3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读准课文的字音，语句读通顺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Arial"/>
                <a:ea typeface="楷体_GB2312"/>
              </a:rPr>
              <a:t>思考：课文主要讲了几件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4c3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解题：这是一种怎样的爱？</a:t>
            </a:r>
            <a:br>
              <a:rPr sz="4500"/>
            </a:b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这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“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爱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”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发生在谁与谁之间？</a:t>
            </a:r>
            <a:br>
              <a:rPr sz="4500"/>
            </a:b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这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“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爱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”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是怎样被链接起来的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68E-66E9-4229-866A-9F7B388BD4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332160" y="1195560"/>
            <a:ext cx="2847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心的呼唤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爱的奉献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人间的春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生命的源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在没有心的沙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在没有爱的荒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死神也望而却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幸福之花处处开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只要人人都献出一点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世界将变成美好的人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3203640" y="404640"/>
            <a:ext cx="23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爱的奉献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music.mp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311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39680" y="549360"/>
            <a:ext cx="146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6600ff"/>
                </a:solidFill>
                <a:latin typeface="Arial"/>
                <a:ea typeface="华文彩云"/>
              </a:rPr>
              <a:t>小练笔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039400" y="1557360"/>
            <a:ext cx="517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请以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乔依醒来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为开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展开想象续编课文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自己身边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爱之链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xiaolianbi"/>
          <p:cNvPicPr/>
          <p:nvPr/>
        </p:nvPicPr>
        <p:blipFill>
          <a:blip r:embed="rId1"/>
          <a:stretch/>
        </p:blipFill>
        <p:spPr>
          <a:xfrm>
            <a:off x="0" y="4365720"/>
            <a:ext cx="2384280" cy="249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368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2720" y="4762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　颠簸　凄凉　矮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脚腕　蹭破　车胎　瘪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袜子　油污　绝望　餐馆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亲吻　粗糙　脸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荒无人烟　天经地义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潸然泪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6300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8172360" y="609300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向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734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33640" y="2587680"/>
            <a:ext cx="51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荒无人烟：指没有人居住的地方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3739320"/>
            <a:ext cx="846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天经地义：指非常正确不容质疑的道理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073400" y="484092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潸然泪下：形容眼泪往外流的样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923760" cy="486000"/>
          </a:xfrm>
          <a:prstGeom prst="leftArrow">
            <a:avLst>
              <a:gd name="adj1" fmla="val 50000"/>
              <a:gd name="adj2" fmla="val 47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词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31200" y="39852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瘪：表面下陷，不饱满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656440" y="150804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蹭：用力的磨或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32720" y="5554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c36f2"/>
                </a:solidFill>
                <a:latin typeface="Arial"/>
              </a:rPr>
              <a:t>思考：课文主要讲了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465640" y="1983600"/>
            <a:ext cx="3200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乔依帮助老妇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36920" y="3487680"/>
            <a:ext cx="3542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老妇人帮助女店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39640" y="113940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一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1—8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乔依热情地无偿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老妇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二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9—11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老妇人帮助了女店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三段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乔依的妻子发现老妇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留下的钱和字条以后非常感动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630520" y="1588680"/>
            <a:ext cx="3944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一盏灯，黑暗中照亮前行的路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一首诗，冰冷中温暖渴求的心房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夏日的风，是冬日的阳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是春日的雨，是秋日的果。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更是一根心链，栓紧你我彼此的心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串起了一个个爱的故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55640" y="1700280"/>
            <a:ext cx="770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、认真阅读第</a:t>
            </a: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1—8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自然段</a:t>
            </a: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说说第一件事的主要内容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、找找给你留下深刻印象的词句，谈谈自己的理解和感受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146040" y="425520"/>
            <a:ext cx="27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一、乔依帮助老妇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84680" y="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完成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692280"/>
          <a:ext cx="7991280" cy="5689440"/>
        </p:xfrm>
        <a:graphic>
          <a:graphicData uri="http://schemas.openxmlformats.org/drawingml/2006/table">
            <a:tbl>
              <a:tblPr/>
              <a:tblGrid>
                <a:gridCol w="2631600"/>
                <a:gridCol w="2698920"/>
                <a:gridCol w="2660760"/>
              </a:tblGrid>
              <a:tr h="142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乔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妇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抓住什么细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关键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达什么情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作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39:01Z</dcterms:created>
  <dc:creator/>
  <dc:description/>
  <cp:keywords>幻灯片之家 http:/www.eeppt.com</cp:keywords>
  <dc:language>en-US</dc:language>
  <cp:lastModifiedBy/>
  <dcterms:modified xsi:type="dcterms:W3CDTF">2015-07-03T10:18:20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