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BE8-0CF6-4673-A6F6-A65ADCA0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94F-A0E6-458A-9EBE-3179B67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09E-9E56-41C7-9B55-2611840A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460-F356-4009-AE06-9EAD9834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B89-B306-4EDB-960B-097DBBCE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2218-CDA6-42AA-AB26-D5A77A17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7D9-E956-4985-AB02-1F40726B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14E-0753-427F-B49B-3615EC24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EAEC-C195-42DE-A883-FEE1275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19E-F22C-4751-BF36-ABE0BDF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940D-09C6-42BB-A3E7-53AA47AA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E9E-3B49-4A84-B983-20257FA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373E-72F2-4FAF-9639-D1BF57A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21F2-41C4-424E-9724-C515319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026-281E-40D1-A866-4E3E778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FDED-6E82-4782-8B2C-3378590E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D55-2134-4D5C-B781-AE7F63F4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45D-404F-4394-B25E-9A6F5314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190-A737-4C54-8F06-DF7D2E8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64B-89AE-4872-A42E-3ECDDA8C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9FC-B6EC-4C11-990E-807D63D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3AF-D0CF-42DF-AE40-B421B83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F6E-4B48-49F4-B8D3-8130C0A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EC4-9F1B-4DCB-B8CE-6512280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E95-638E-4901-860A-6771E2FC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32D-50A3-4931-B2EF-126D4E6AE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900080" y="1773360"/>
            <a:ext cx="52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8a"/>
                </a:solidFill>
                <a:latin typeface="黑体"/>
                <a:ea typeface="黑体"/>
              </a:rPr>
              <a:t>西师大版 三年级语文 下册 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2960" y="31417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扁鹊治病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“站了一会儿”说明扁鹊作了仔细观察后才下的结论，而并非信口开河，而蔡桓公“毫不在意”，说明了他盲目自信。他后来对扁鹊的评价，又说明了他的无知和偏见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60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扁鹊第二、三次见蔡桓公，均隔十天左右。他又说了些什么话劝蔡桓公，结果又如何？短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，蔡桓公的病情有何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（由肌肤到肠胃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扁鹊第四次见到蔡桓公时，为什么掉头就跑？从这个动作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这个动作，间接看出蔡桓公病情已到了无可救药的程度，联系上下文又可见扁鹊医术高明、诊断准确、机警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7C5-208A-4235-991F-6060E99CEE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684360" y="54936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蔡桓公讳疾忌医，最终是什么下场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四次相见之隔为十来天，而这次只用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天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说明蔡桓公病情急骤恶化，扁鹊诊断准确，说明上文扁鹊见蔡桓公掉头就跑，实在是事出有因。最后，蔡桓公病死了，是故事发展的结果，也是蔡桓公讳疾忌医的必然恶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  <a:ea typeface="华文行楷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这篇课文，你有什么想对蔡桓公说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这篇寓言，你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要善于倾听别人的意见，要正视自己的缺点错误，不能拒绝别人的批评和帮助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1280" y="2997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本课生字、新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流利，有感情的朗读课文，读出人物的语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课文内容，体会扁鹊劝告蔡桓公治病的过程；教育同学们要学会善于倾听别人的意见，要相信医学，有病一定要及时医治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268360" y="2133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3492360" y="2563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92240" y="486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扁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2124000" y="1052640"/>
            <a:ext cx="4105440" cy="352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2599920" y="620856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5734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844360" y="393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扁鹊劝告蔡桓公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bianque2"/>
          <p:cNvPicPr/>
          <p:nvPr/>
        </p:nvPicPr>
        <p:blipFill>
          <a:blip r:embed="rId2"/>
          <a:stretch/>
        </p:blipFill>
        <p:spPr>
          <a:xfrm>
            <a:off x="1979640" y="476280"/>
            <a:ext cx="42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学习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释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 肉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ròu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睬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ǎi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髓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uǐ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烫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ng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毫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邀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āo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 剂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理解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拜见   毫不在意  邀功请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理睬   深入骨髓  无能为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讳疾忌医</a:t>
            </a:r>
            <a:r>
              <a:rPr b="0" lang="en-US" sz="3600" spc="-1" strike="noStrike">
                <a:solidFill>
                  <a:srgbClr val="ff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971640" y="1557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扁鹊是谁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扁鹊给谁治病？扁鹊治病的结果是怎么样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11600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初读课文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49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华文行楷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99ff"/>
                </a:solidFill>
                <a:latin typeface="华文行楷"/>
                <a:ea typeface="华文行楷"/>
              </a:rPr>
              <a:t>这篇课文写的是春秋时期，名医扁鹊三番两次劝说蔡桓公要治病，但是由于蔡桓公不相信他的话，最终病入骨髓，无药可救的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560" y="260280"/>
            <a:ext cx="838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隶书"/>
              </a:rPr>
              <a:t>学习课文第一，二自然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扁鹊第一次见蔡桓公说了哪些话劝他应及时治疗？对于扁鹊的忠告，蔡桓公是怎么回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扁鹊是以怎样的语气对蔡桓公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必恭必敬的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角色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9:31:59Z</dcterms:created>
  <dc:creator/>
  <dc:description/>
  <cp:keywords>幻灯片之家 http:/www.eeppt.com</cp:keywords>
  <dc:language>en-US</dc:language>
  <cp:lastModifiedBy/>
  <dcterms:modified xsi:type="dcterms:W3CDTF">2015-07-20T01:27:4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