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0B4-53D9-4FA7-BEF1-05D0AAF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4A3-DB3E-487C-AA2D-81D07F73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C05-FEAD-433F-A607-056682B3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AE5-E5E0-4432-80D9-A18BA987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A96-908E-43FF-A2AF-53664337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19D0-1AF6-4710-87BE-D193D735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5FF8-CAAA-4EFA-AB06-9497B05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BFE1-5104-42CF-AA21-DA289C9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4734-BC26-45BB-9BBB-9B416B24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FD9F-BA11-4992-9CAF-3885AEC8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4ECB-C0A9-46C1-BB45-11B05F55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79A-5E6C-4977-B8E5-43B22E0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FD2-B0D5-4949-ADBF-957FE76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310-0CD8-4989-9CDC-7BEABBC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389E-1B79-4FA5-A11B-0CD3F7A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7FDC-A7EA-4522-9DB0-BC26CDBF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BFD8-CB60-48B1-BC5E-0D1978CD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C2B-0FE7-415B-8D00-CF59936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57D-60E6-49A3-8843-C3479903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2AF-1F2D-45B2-B3FB-A5A12BE1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199-D263-43DA-965A-2DD4F50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71C-215F-44F6-A4DD-67E3906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F41-885C-4AF0-9FEE-5182A5C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44B-5177-461D-9B2D-F9CBE0E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AB53-EAE9-4E53-9F02-C29D5219EF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8335-BA62-4452-A227-16EFE15E5D3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财经管理专业建设研讨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X.XX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设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981080"/>
            <a:ext cx="754380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设置原则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满足社会对专业人才的需求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现“宽口径”的教育理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符合专科层次教育与就业现实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备相应的师资条件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990720"/>
            <a:ext cx="75438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撤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财经管理专业及下设专业方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拟设置新专业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电算化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册会计师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税务会计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财务管理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市场营销专业；（单独剥离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会计人才供求情况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981080"/>
            <a:ext cx="838188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9360" indent="-3519360">
              <a:spcBef>
                <a:spcPts val="10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会计人员需求量预测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年平均需要各类会计人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人。（郭冀唐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世纪我国会计人才市场的需求情况及对会计教育的影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9360" indent="-3519360">
              <a:spcBef>
                <a:spcPts val="10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会计人员供给量预测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年平均培养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具有各层次学历的会计专业人才。（阎达五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9360" indent="-3519360">
              <a:spcBef>
                <a:spcPts val="10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总体评价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供需基本平衡，甚至供大于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19320"/>
            <a:ext cx="457200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数量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89880" y="38088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学历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3880" y="213372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百分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学本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4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硕士以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其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8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362320" y="14479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财会审人员学历分布情况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89880" y="38088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学历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133720"/>
          <a:ext cx="7543800" cy="40924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受欢迎学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单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百分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本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大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硕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中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填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5909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毕业生学历需求情况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89880" y="38088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学历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1800" indent="-180180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总体评价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供求结构不平衡，低学历会计人才供大于求，高学历人才供不应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29718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1.8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单位领导认为会计本科以上学历的毕业生最受欢迎，但实际工作中只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83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财会审在职人员为会计类本科以上学历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1.43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单位会计类本科以上学历的财会审人员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以下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1.27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单位没有本科以上学历的财会审人员；会计中专学历人员在财会审岗位的比例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09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而受欢迎率仅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13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（荆新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73520" y="22860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职业去向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1752480"/>
          <a:ext cx="7543800" cy="47116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意向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希望的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实际分配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商企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9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金融机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8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政府及事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2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师事务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学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科类研究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其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填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7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362320" y="1066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配意向与实际分配情况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26880" y="228600"/>
            <a:ext cx="31676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毕业生能力需求与现状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1143000"/>
          <a:ext cx="8153280" cy="5073480"/>
        </p:xfrm>
        <a:graphic>
          <a:graphicData uri="http://schemas.openxmlformats.org/drawingml/2006/table">
            <a:tbl>
              <a:tblPr/>
              <a:tblGrid>
                <a:gridCol w="2095560"/>
                <a:gridCol w="1942920"/>
                <a:gridCol w="1600200"/>
                <a:gridCol w="2514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素质或技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应具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缺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招聘时最看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常会计操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8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①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判断应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3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组织管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3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所学专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⑧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电脑操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语言文字表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⑦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⑦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经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5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5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际沟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⑨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外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⑥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⑧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填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838080" y="6461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资料来源：荆新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1066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会计类人才供求趋势对本专业建设的影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43828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筹建会计本科专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缩减会计专科各专业的招生人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教育应主要面向工商企业及会计事务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搞好工科会计专科的特色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8d43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素质教育为目标，但技术培训不应被全面否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1460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有专业师资情况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90512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Times New Roman"/>
              </a:rPr>
              <a:t>专业教师人数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职称构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讲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助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见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.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学历构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读硕士研究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大学本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3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专业构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专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专 业 建 设 历 史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5029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99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开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曾下设专业方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财务会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市场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财务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建设效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657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9ce157"/>
          </a:solidFill>
          <a:ln cap="sq" w="1260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培养目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905120"/>
            <a:ext cx="7010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本专业培养适应社会主义市场经济运作，德、智、体全面发展，具有较扎实的会计理论知识、会计操作技能，同时具有较为宽广的经济理论基础以及相关学科的原理性知识，能够在企事业单位、会计师事务所等部门独立从事财会审及相关专业工作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型</a:t>
            </a: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专门人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9480" y="6094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会计人才的基本特征：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素质高，能力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60020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素质高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会计人才必须具备能够适应工作需要的健全的基本素质体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包括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全面的专业知识和技能；政治与道德素质；责任感；人文素质；学技术素质；法律意识；国际意识；身体与心理素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能力强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会计人才必须具备与工作相关的健全的基本能力体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包括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专业动手能力；终身学习的能力；交流与表达的能力；创新能力；竞争能力；组织、协调和协作能力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结构分析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572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67160" indent="-256716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＊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会计专业知识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初级会计学、中级会计学、高级会计学、财务管理、审计、计算机会计、国际会计、财务分析、财会职业道德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8080" indent="-2008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＊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一般知识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文化历史、社会政治、数理经济、自然科学、美学艺术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2743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9360" indent="-351936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＊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组织和企业方面知识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经济学、管理学、市场营销、人力资源管理、组织行为学、税法、货币银行学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体系设计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447920"/>
            <a:ext cx="8305560" cy="49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一般基础课  （约占总学时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45%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政治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邓论、毛泽东思想、大学生思想品德修养、法律基础、哲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应用基础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外语、数学、</a:t>
            </a:r>
            <a:r>
              <a:rPr b="0" lang="zh-CN" sz="2000" spc="-1" strike="noStrike">
                <a:solidFill>
                  <a:srgbClr val="f98d43"/>
                </a:solidFill>
                <a:latin typeface="Times New Roman"/>
              </a:rPr>
              <a:t>计算机基础、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网络技术学（必修）、写作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社交礼仪、逻辑学、演讲与辩论、公共关系学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人文素质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中国哲学名著选读、西方哲学名著选读、中国文学名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赏析、外国文学名著赏析、中华文明史、世界文明史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中国传统文化概论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理工素质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物理、化学、生物、生态学、环境科学、工程技术概论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当代科技概论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艺术教育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声乐训练基础及赏析、中外名曲赏析、音乐艺术概论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舞蹈艺术概论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体育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体系设计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447920"/>
            <a:ext cx="83055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学科基础课  （约占总学时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30%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管理类专业基础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经济学、管理学、市场营销、统计学、经济法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税法、人力资源管理、货币银行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财会类专业基础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初级会计学、中级会计学、财务管理概论、审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概论、常用会计软件应用、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Excel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财务分析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专业英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267080"/>
            <a:ext cx="830592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三）专业课——区分专业方向（约占总学时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20%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专业必修课：  （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12%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专业选修课：  （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8%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838080"/>
            <a:ext cx="3733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能力培养方案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049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2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强化实践教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调整课程设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革教学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209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改革教学方式的思路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8195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堂讲授启发为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加强课堂讨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加强案例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改变作业形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建立考察与考试相结合的评价环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充分利用现代信息技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167652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校会计教学的目的不在于训练学生在毕业时即成为一个专业人员，而是在于培养他们未来成为一个专业人员应有的素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摘自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公报《会计教育的目标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89720"/>
            <a:ext cx="7772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专 业 建 设 现 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                              ——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问题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514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名称过于笼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73392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财经管理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财政、金融、税收、价格、财务、会计、经济、管理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方向过于单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5146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九江财经高等专科学校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电算化、税务专业（注册税务师方向）、注册会计师（专门化）专业、资产评估专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立信会计高等专科学校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、审计、房地产会计、工商管理专业（投资经济方向） 、涉外会计专业、财务管理（资产管理评估）专业 、电算化会计、注册会计师、财政学（税务代理）、金融（财务金融） 、国际金融 、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广州金融高等专科学校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财务管理专业 、注册会计师专业 、国际会计专业 、会计电算化专业、金融专业、保险专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河南商业高专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电算化专业、财务会计（注册会计师方向）、财务管理专业 、金融与评判专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财经管理专业（财务会计方向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培养目标不明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本专业培养适应社会主义市场经济运作，德、智、体全面发展，掌握企业、事业经济活动基础知识，获得会计师或经济师初步训练的常规管理专门人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8954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税务专业（注册税务师方向）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本专业培养能在企事业单位和政府职能部门从事税务、审计、会计、税务代理等工作的专门人才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财务管理专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本专业培养系统掌握国家有关经济和会计的政策法规，掌握财会基础理论、基本知识和基本技能，具有应用计算机熟练地进行会计核算、财务分析及财务管理工作能力，适应金融机构、企事业单位财务会计及相关的经营管理工作的高级应用专业人才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具体培养要求与培养目标及专业方向不一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438280"/>
            <a:ext cx="7543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本专业毕业生主要在企业或事业从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融机构财务管理工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商、金融企业财务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责任财务会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财经常规管理及专项研究工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体系安排不尽合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67652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基础教育课（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47. 9%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政治课、哲学、数学、英语、体育、计算机基础及应用、写作、书法、计算技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专业基础课（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31. 3%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法律基础及经济法、基础会计、财务会计、成本会计、管理会计、财务管理、审计、统计、电算化会计、市场营销、管理经济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专业必修课（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20.7%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）：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营管理、公共经济学、资产评估、会计制度设计、税法、西方财务会计（英文版）、经济预测与决策、办公自动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学方法单一、教学手段落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98108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教学方法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填鸭式” 课堂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缺乏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案例教学、讨论教学、实践教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教学手段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粉笔” 的原始手工劳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缺乏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现代化教学手段的利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学软件的开发与使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样化教学资料的收集与利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81800"/>
            <a:ext cx="81532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专 业 建 设 思 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                              ——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解决方案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514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整体思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429000"/>
            <a:ext cx="3352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适应经济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强调素质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突出能力培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体现工科特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研讨</cp:keywords>
  <dc:language>en-US</dc:language>
  <cp:lastModifiedBy/>
  <cp:revision>0</cp:revision>
  <dc:subject/>
  <dc:title/>
</cp:coreProperties>
</file>