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B6F-6462-45F0-84EE-2BA1730E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E65-B2B7-417B-8E00-104EC86C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D37-2217-4C18-A9ED-52FE0C74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310-784F-4CD9-AF15-80D9D562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63F-DAEF-41D5-9B51-600494B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EB8-ADAE-430E-BE89-36755F0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306-26E5-4820-8754-7BF3766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FD4-1C34-4309-A611-B73238C9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93A-083D-4E10-9CC7-94E6F95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6BC-2036-4D2F-ACBD-86D05C1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B54-C656-4F8D-9CC1-C715D21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B94-71E1-47CB-9681-B5D011A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AE42-9A09-4867-8DA9-9292FC327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cai.dabaoku.com/zhiwu/hehua/web/038bl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kpic.com/html/60/Show_2766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556000" y="2133720"/>
            <a:ext cx="3096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4880" y="2997360"/>
            <a:ext cx="277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8000"/>
                </a:solidFill>
                <a:latin typeface="Arial"/>
              </a:rPr>
              <a:t>《池上》</a:t>
            </a:r>
            <a:r>
              <a:rPr b="0" lang="en-US" sz="45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8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116000" y="1665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038b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035000"/>
            <a:ext cx="9753480" cy="78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abb7afcbbd321eff7a0ca9f7711d1207_m">
            <a:hlinkClick r:id="rId2"/>
          </p:cNvPr>
          <p:cNvPicPr/>
          <p:nvPr/>
        </p:nvPicPr>
        <p:blipFill>
          <a:blip r:embed="rId3"/>
          <a:srcRect l="0" t="0" r="0" b="87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自学提示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3772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自由朗读古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借助拼音读准字音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把诗句读通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认读生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学记生字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借助课前准备的资料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整体了解古诗大意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想一想池塘上发生了一件什么事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377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chēng    tǐng      fú       píng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cc0099"/>
                </a:solidFill>
                <a:latin typeface="Arial"/>
              </a:rPr>
              <a:t>撑         艇        浮       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撑腰       支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潜水艇       快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浮力         沉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萍水相逢          浮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134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C47-A0CE-4E16-975B-78D03D09A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2519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Arial Black"/>
              </a:rPr>
              <a:t>我会解词语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377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比较轻便的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解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懂得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隐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指浮萍被小船分开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时难以合拢而留下的踪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浮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种漂浮在水面上的草本植物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08280"/>
            <a:ext cx="18716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b7"/>
                </a:solidFill>
                <a:latin typeface="Arial Black"/>
              </a:rPr>
              <a:t>诗意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3933360"/>
            <a:ext cx="8594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一个小孩子撑着小船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偷偷地采了白莲回来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他不懂得隐藏踪迹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浮萍被他的小船荡开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留下一条长长的水路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ff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1:48:06Z</dcterms:created>
  <dc:creator/>
  <dc:description/>
  <cp:keywords>幻灯片之家 http:/www.eeppt.com</cp:keywords>
  <dc:language>en-US</dc:language>
  <cp:lastModifiedBy/>
  <dcterms:modified xsi:type="dcterms:W3CDTF">2015-07-20T01:31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6</vt:r8>
  </property>
</Properties>
</file>