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6B3-3383-4B63-85E5-42931ECD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CDC-34A4-44E6-8633-4C43520A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CB6-BFCB-49B0-8BD2-EED37208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D29-1186-4C83-A8ED-2382D54B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89E3-4B6F-4F38-B499-5A8BD5DC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4892-EE98-4A19-8B73-E0DD9C4B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BD03-B12F-4E7F-9FBD-D4BB940E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51A0-1151-47F7-BDBF-4E2BB85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467B-BC19-4373-AF60-433A24A0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69BF-6332-47CA-9CF6-031E2B04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4981-4B82-4772-9FAF-C16ED8E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F1E-5BD7-44BF-BAC2-C2E1CDF8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DE1E-93E0-4B5B-B988-BAE0FE7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6F0A-4D86-473A-85E2-BDFF661C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4F9D-7C88-499D-A15B-3B92554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793F-E468-4848-A81E-FCD09369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EA0E-CCA1-4E86-B5BB-B1E45FFF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404-5BE4-4EB2-83C6-22122B27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453-E143-4A5E-AEAB-A29B5888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7B0-3646-4D2C-87BC-E6299A8E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F5E-E4C7-4E71-A80C-AE95EFF6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8F4-A55A-425E-B785-694D38B4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338-AF9D-4641-BDD0-2D3FB9DE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669-C3F8-491E-8296-A7CC2FF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Administrator\Desktop\psd3575.png"/>
          <p:cNvPicPr/>
          <p:nvPr/>
        </p:nvPicPr>
        <p:blipFill>
          <a:blip r:embed="rId2"/>
          <a:stretch/>
        </p:blipFill>
        <p:spPr>
          <a:xfrm>
            <a:off x="-3240" y="0"/>
            <a:ext cx="9147240" cy="571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C:\Users\Administrator\Desktop\psd357522.png"/>
          <p:cNvPicPr/>
          <p:nvPr/>
        </p:nvPicPr>
        <p:blipFill>
          <a:blip r:embed="rId3"/>
          <a:srcRect l="0" t="72894" r="0" b="0"/>
          <a:stretch/>
        </p:blipFill>
        <p:spPr>
          <a:xfrm>
            <a:off x="0" y="4152240"/>
            <a:ext cx="9144000" cy="15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BB8-A43D-482D-A4A0-FF1EC0419C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-7920" y="0"/>
            <a:ext cx="91519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0" y="0"/>
            <a:ext cx="9144000" cy="5718240"/>
            <a:chOff x="0" y="0"/>
            <a:chExt cx="9144000" cy="571824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7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0" y="0"/>
              <a:ext cx="91440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5" descr="C:\Users\Administrator\Desktop\psd357522.png"/>
          <p:cNvPicPr/>
          <p:nvPr/>
        </p:nvPicPr>
        <p:blipFill>
          <a:blip r:embed="rId4"/>
          <a:srcRect l="0" t="0" r="0" b="71762"/>
          <a:stretch/>
        </p:blipFill>
        <p:spPr>
          <a:xfrm>
            <a:off x="-7920" y="0"/>
            <a:ext cx="915192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Administrator\Desktop\psd3575222.png"/>
          <p:cNvPicPr/>
          <p:nvPr/>
        </p:nvPicPr>
        <p:blipFill>
          <a:blip r:embed="rId5"/>
          <a:srcRect l="0" t="31469" r="0" b="0"/>
          <a:stretch/>
        </p:blipFill>
        <p:spPr>
          <a:xfrm>
            <a:off x="6732720" y="0"/>
            <a:ext cx="2160360" cy="833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C268-72AF-41F7-BB9F-7FE751464B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360" y="122400"/>
            <a:ext cx="482436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</a:rPr>
              <a:t>餐饮美食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530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3CB-B95E-4500-9D99-DD99E14A2A0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标题 1"/>
          <p:cNvSpPr/>
          <p:nvPr/>
        </p:nvSpPr>
        <p:spPr>
          <a:xfrm>
            <a:off x="2411280" y="49320"/>
            <a:ext cx="20894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隶书"/>
                <a:ea typeface="华文隶书"/>
              </a:rPr>
              <a:t>目   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C:\Users\Administrator\Desktop\psd3575222.png"/>
          <p:cNvPicPr/>
          <p:nvPr/>
        </p:nvPicPr>
        <p:blipFill>
          <a:blip r:embed="rId1"/>
          <a:stretch/>
        </p:blipFill>
        <p:spPr>
          <a:xfrm>
            <a:off x="6732720" y="-380880"/>
            <a:ext cx="2160360" cy="1214280"/>
          </a:xfrm>
          <a:prstGeom prst="rect">
            <a:avLst/>
          </a:prstGeom>
          <a:ln w="0">
            <a:noFill/>
          </a:ln>
        </p:spPr>
      </p:pic>
      <p:pic>
        <p:nvPicPr>
          <p:cNvPr id="94" name="组合 12" descr=""/>
          <p:cNvPicPr/>
          <p:nvPr/>
        </p:nvPicPr>
        <p:blipFill>
          <a:blip r:embed="rId2"/>
          <a:stretch/>
        </p:blipFill>
        <p:spPr>
          <a:xfrm>
            <a:off x="2475000" y="210348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5"/>
          <p:cNvSpPr/>
          <p:nvPr/>
        </p:nvSpPr>
        <p:spPr>
          <a:xfrm>
            <a:off x="3691080" y="2160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组合 16" descr=""/>
          <p:cNvPicPr/>
          <p:nvPr/>
        </p:nvPicPr>
        <p:blipFill>
          <a:blip r:embed="rId3"/>
          <a:stretch/>
        </p:blipFill>
        <p:spPr>
          <a:xfrm>
            <a:off x="2475000" y="274320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9"/>
          <p:cNvSpPr/>
          <p:nvPr/>
        </p:nvSpPr>
        <p:spPr>
          <a:xfrm>
            <a:off x="3691080" y="279864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组合 20" descr=""/>
          <p:cNvPicPr/>
          <p:nvPr/>
        </p:nvPicPr>
        <p:blipFill>
          <a:blip r:embed="rId4"/>
          <a:stretch/>
        </p:blipFill>
        <p:spPr>
          <a:xfrm>
            <a:off x="2475000" y="3382920"/>
            <a:ext cx="4632120" cy="450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3"/>
          <p:cNvSpPr/>
          <p:nvPr/>
        </p:nvSpPr>
        <p:spPr>
          <a:xfrm>
            <a:off x="3691080" y="343836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组合 24" descr=""/>
          <p:cNvPicPr/>
          <p:nvPr/>
        </p:nvPicPr>
        <p:blipFill>
          <a:blip r:embed="rId5"/>
          <a:stretch/>
        </p:blipFill>
        <p:spPr>
          <a:xfrm>
            <a:off x="2475000" y="4017960"/>
            <a:ext cx="463212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7"/>
          <p:cNvSpPr/>
          <p:nvPr/>
        </p:nvSpPr>
        <p:spPr>
          <a:xfrm>
            <a:off x="3691080" y="4076640"/>
            <a:ext cx="2376360" cy="3373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、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标题 1"/>
          <p:cNvSpPr/>
          <p:nvPr/>
        </p:nvSpPr>
        <p:spPr>
          <a:xfrm>
            <a:off x="1835280" y="49320"/>
            <a:ext cx="302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示 6" descr=""/>
          <p:cNvPicPr/>
          <p:nvPr/>
        </p:nvPicPr>
        <p:blipFill>
          <a:blip r:embed="rId1"/>
          <a:stretch/>
        </p:blipFill>
        <p:spPr>
          <a:xfrm>
            <a:off x="1835280" y="1487520"/>
            <a:ext cx="4967280" cy="3322440"/>
          </a:xfrm>
          <a:prstGeom prst="rect">
            <a:avLst/>
          </a:prstGeom>
          <a:ln w="0">
            <a:noFill/>
          </a:ln>
        </p:spPr>
      </p:pic>
      <p:sp>
        <p:nvSpPr>
          <p:cNvPr id="104" name="直接连接符 7"/>
          <p:cNvSpPr/>
          <p:nvPr/>
        </p:nvSpPr>
        <p:spPr>
          <a:xfrm>
            <a:off x="5219640" y="228132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8"/>
          <p:cNvSpPr/>
          <p:nvPr/>
        </p:nvSpPr>
        <p:spPr>
          <a:xfrm>
            <a:off x="1116000" y="321804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9"/>
          <p:cNvSpPr/>
          <p:nvPr/>
        </p:nvSpPr>
        <p:spPr>
          <a:xfrm>
            <a:off x="5219640" y="4081320"/>
            <a:ext cx="223200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364000" y="18493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5508720" y="228132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7"/>
          <p:cNvSpPr/>
          <p:nvPr/>
        </p:nvSpPr>
        <p:spPr>
          <a:xfrm>
            <a:off x="1368360" y="27957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8"/>
          <p:cNvSpPr/>
          <p:nvPr/>
        </p:nvSpPr>
        <p:spPr>
          <a:xfrm>
            <a:off x="1116000" y="321804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9"/>
          <p:cNvSpPr/>
          <p:nvPr/>
        </p:nvSpPr>
        <p:spPr>
          <a:xfrm>
            <a:off x="5508720" y="4081320"/>
            <a:ext cx="2376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5364000" y="36957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小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C:\Users\Administrator\Desktop\psd3575222.png"/>
          <p:cNvPicPr/>
          <p:nvPr/>
        </p:nvPicPr>
        <p:blipFill>
          <a:blip r:embed="rId1"/>
          <a:stretch/>
        </p:blipFill>
        <p:spPr>
          <a:xfrm>
            <a:off x="6732720" y="-380880"/>
            <a:ext cx="216036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1116000" y="2104920"/>
            <a:ext cx="2349360" cy="2873520"/>
            <a:chOff x="1116000" y="2104920"/>
            <a:chExt cx="2349360" cy="2873520"/>
          </a:xfrm>
        </p:grpSpPr>
        <p:sp>
          <p:nvSpPr>
            <p:cNvPr id="115" name="Rectangle 3"/>
            <p:cNvSpPr/>
            <p:nvPr/>
          </p:nvSpPr>
          <p:spPr>
            <a:xfrm>
              <a:off x="1116000" y="2370600"/>
              <a:ext cx="2349360" cy="260784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186920" y="2104920"/>
              <a:ext cx="2205360" cy="53676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6"/>
          <p:cNvGrpSpPr/>
          <p:nvPr/>
        </p:nvGrpSpPr>
        <p:grpSpPr>
          <a:xfrm>
            <a:off x="3562200" y="2104920"/>
            <a:ext cx="2387880" cy="2873520"/>
            <a:chOff x="3562200" y="2104920"/>
            <a:chExt cx="2387880" cy="2873520"/>
          </a:xfrm>
        </p:grpSpPr>
        <p:sp>
          <p:nvSpPr>
            <p:cNvPr id="118" name="Rectangle 6"/>
            <p:cNvSpPr/>
            <p:nvPr/>
          </p:nvSpPr>
          <p:spPr>
            <a:xfrm>
              <a:off x="3562200" y="2370600"/>
              <a:ext cx="2387880" cy="260784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3654720" y="2104920"/>
              <a:ext cx="2198520" cy="53676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9"/>
          <p:cNvGrpSpPr/>
          <p:nvPr/>
        </p:nvGrpSpPr>
        <p:grpSpPr>
          <a:xfrm>
            <a:off x="6046920" y="2098800"/>
            <a:ext cx="2369880" cy="2879280"/>
            <a:chOff x="6046920" y="2098800"/>
            <a:chExt cx="2369880" cy="2879280"/>
          </a:xfrm>
        </p:grpSpPr>
        <p:sp>
          <p:nvSpPr>
            <p:cNvPr id="121" name="Rectangle 9"/>
            <p:cNvSpPr/>
            <p:nvPr/>
          </p:nvSpPr>
          <p:spPr>
            <a:xfrm>
              <a:off x="6046920" y="2369880"/>
              <a:ext cx="2369880" cy="2608200"/>
            </a:xfrm>
            <a:prstGeom prst="rect">
              <a:avLst/>
            </a:prstGeom>
            <a:noFill/>
            <a:ln w="9360">
              <a:solidFill>
                <a:srgbClr val="98480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rmAutofit/>
            </a:bodyPr>
            <a:p>
              <a:pPr marL="111240" indent="-111240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6116400" y="2098800"/>
              <a:ext cx="2203560" cy="542160"/>
            </a:xfrm>
            <a:prstGeom prst="rect">
              <a:avLst/>
            </a:pr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112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utura Bk"/>
                  <a:ea typeface="微软雅黑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900000" y="1849320"/>
            <a:ext cx="7669440" cy="338472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/>
          </a:bodyPr>
          <a:p>
            <a:pPr marL="111240" indent="-111240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9"/>
          <p:cNvSpPr/>
          <p:nvPr/>
        </p:nvSpPr>
        <p:spPr>
          <a:xfrm>
            <a:off x="1403280" y="2795760"/>
            <a:ext cx="1873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0"/>
          <p:cNvSpPr/>
          <p:nvPr/>
        </p:nvSpPr>
        <p:spPr>
          <a:xfrm>
            <a:off x="3798720" y="2819520"/>
            <a:ext cx="1872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1"/>
          <p:cNvSpPr/>
          <p:nvPr/>
        </p:nvSpPr>
        <p:spPr>
          <a:xfrm>
            <a:off x="6296040" y="2819520"/>
            <a:ext cx="1871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2"/>
          <p:cNvSpPr/>
          <p:nvPr/>
        </p:nvSpPr>
        <p:spPr>
          <a:xfrm>
            <a:off x="1692360" y="220968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3"/>
          <p:cNvSpPr/>
          <p:nvPr/>
        </p:nvSpPr>
        <p:spPr>
          <a:xfrm>
            <a:off x="4070520" y="220968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4"/>
          <p:cNvSpPr/>
          <p:nvPr/>
        </p:nvSpPr>
        <p:spPr>
          <a:xfrm>
            <a:off x="6548400" y="21747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并列关系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三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866520" y="1635480"/>
            <a:ext cx="4820400" cy="3467880"/>
            <a:chOff x="866520" y="1635480"/>
            <a:chExt cx="4820400" cy="3467880"/>
          </a:xfrm>
        </p:grpSpPr>
        <p:grpSp>
          <p:nvGrpSpPr>
            <p:cNvPr id="133" name="Group 4"/>
            <p:cNvGrpSpPr/>
            <p:nvPr/>
          </p:nvGrpSpPr>
          <p:grpSpPr>
            <a:xfrm>
              <a:off x="2339640" y="1635480"/>
              <a:ext cx="1851480" cy="1855440"/>
              <a:chOff x="2339640" y="1635480"/>
              <a:chExt cx="1851480" cy="1855440"/>
            </a:xfrm>
          </p:grpSpPr>
          <p:sp>
            <p:nvSpPr>
              <p:cNvPr id="134" name="Freeform 3"/>
              <p:cNvSpPr/>
              <p:nvPr/>
            </p:nvSpPr>
            <p:spPr>
              <a:xfrm rot="900000">
                <a:off x="2522160" y="1712520"/>
                <a:ext cx="797760" cy="151668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984807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4"/>
              <p:cNvSpPr/>
              <p:nvPr/>
            </p:nvSpPr>
            <p:spPr>
              <a:xfrm rot="900000">
                <a:off x="3202560" y="1898280"/>
                <a:ext cx="806040" cy="151416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6" name="Group 7"/>
            <p:cNvGrpSpPr/>
            <p:nvPr/>
          </p:nvGrpSpPr>
          <p:grpSpPr>
            <a:xfrm>
              <a:off x="2242800" y="3056400"/>
              <a:ext cx="2044080" cy="2046960"/>
              <a:chOff x="2242800" y="3056400"/>
              <a:chExt cx="2044080" cy="2046960"/>
            </a:xfrm>
          </p:grpSpPr>
          <p:sp>
            <p:nvSpPr>
              <p:cNvPr id="137" name="Freeform 18"/>
              <p:cNvSpPr/>
              <p:nvPr/>
            </p:nvSpPr>
            <p:spPr>
              <a:xfrm rot="1675200">
                <a:off x="2550960" y="315468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19"/>
              <p:cNvSpPr/>
              <p:nvPr/>
            </p:nvSpPr>
            <p:spPr>
              <a:xfrm rot="1675200">
                <a:off x="3173400" y="348876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" name="Group 10"/>
            <p:cNvGrpSpPr/>
            <p:nvPr/>
          </p:nvGrpSpPr>
          <p:grpSpPr>
            <a:xfrm>
              <a:off x="3835800" y="3152160"/>
              <a:ext cx="1851120" cy="1855440"/>
              <a:chOff x="3835800" y="3152160"/>
              <a:chExt cx="1851120" cy="1855440"/>
            </a:xfrm>
          </p:grpSpPr>
          <p:sp>
            <p:nvSpPr>
              <p:cNvPr id="140" name="Freeform 21"/>
              <p:cNvSpPr/>
              <p:nvPr/>
            </p:nvSpPr>
            <p:spPr>
              <a:xfrm rot="900000">
                <a:off x="4018320" y="322956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22"/>
              <p:cNvSpPr/>
              <p:nvPr/>
            </p:nvSpPr>
            <p:spPr>
              <a:xfrm rot="900000">
                <a:off x="4698360" y="341532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" name="Group 13"/>
            <p:cNvGrpSpPr/>
            <p:nvPr/>
          </p:nvGrpSpPr>
          <p:grpSpPr>
            <a:xfrm>
              <a:off x="866520" y="3152160"/>
              <a:ext cx="1851120" cy="1855440"/>
              <a:chOff x="866520" y="3152160"/>
              <a:chExt cx="1851120" cy="1855440"/>
            </a:xfrm>
          </p:grpSpPr>
          <p:sp>
            <p:nvSpPr>
              <p:cNvPr id="143" name="Freeform 24"/>
              <p:cNvSpPr/>
              <p:nvPr/>
            </p:nvSpPr>
            <p:spPr>
              <a:xfrm rot="900000">
                <a:off x="1049040" y="3229560"/>
                <a:ext cx="797760" cy="1516320"/>
              </a:xfrm>
              <a:custGeom>
                <a:avLst/>
                <a:gdLst/>
                <a:ahLst/>
                <a:rect l="l" t="t" r="r" b="b"/>
                <a:pathLst>
                  <a:path w="620" h="1178">
                    <a:moveTo>
                      <a:pt x="593" y="165"/>
                    </a:moveTo>
                    <a:lnTo>
                      <a:pt x="589" y="0"/>
                    </a:lnTo>
                    <a:lnTo>
                      <a:pt x="536" y="1"/>
                    </a:lnTo>
                    <a:lnTo>
                      <a:pt x="515" y="75"/>
                    </a:lnTo>
                    <a:lnTo>
                      <a:pt x="404" y="105"/>
                    </a:lnTo>
                    <a:lnTo>
                      <a:pt x="333" y="57"/>
                    </a:lnTo>
                    <a:lnTo>
                      <a:pt x="253" y="102"/>
                    </a:lnTo>
                    <a:lnTo>
                      <a:pt x="257" y="187"/>
                    </a:lnTo>
                    <a:lnTo>
                      <a:pt x="197" y="251"/>
                    </a:lnTo>
                    <a:lnTo>
                      <a:pt x="114" y="238"/>
                    </a:lnTo>
                    <a:lnTo>
                      <a:pt x="58" y="328"/>
                    </a:lnTo>
                    <a:lnTo>
                      <a:pt x="108" y="398"/>
                    </a:lnTo>
                    <a:lnTo>
                      <a:pt x="75" y="503"/>
                    </a:lnTo>
                    <a:lnTo>
                      <a:pt x="3" y="523"/>
                    </a:lnTo>
                    <a:lnTo>
                      <a:pt x="2" y="528"/>
                    </a:lnTo>
                    <a:lnTo>
                      <a:pt x="2" y="534"/>
                    </a:lnTo>
                    <a:lnTo>
                      <a:pt x="0" y="541"/>
                    </a:lnTo>
                    <a:lnTo>
                      <a:pt x="0" y="548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0" y="567"/>
                    </a:lnTo>
                    <a:lnTo>
                      <a:pt x="0" y="571"/>
                    </a:lnTo>
                    <a:lnTo>
                      <a:pt x="0" y="574"/>
                    </a:lnTo>
                    <a:lnTo>
                      <a:pt x="0" y="578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89"/>
                    </a:lnTo>
                    <a:lnTo>
                      <a:pt x="0" y="594"/>
                    </a:lnTo>
                    <a:lnTo>
                      <a:pt x="0" y="598"/>
                    </a:lnTo>
                    <a:lnTo>
                      <a:pt x="0" y="602"/>
                    </a:lnTo>
                    <a:lnTo>
                      <a:pt x="0" y="607"/>
                    </a:lnTo>
                    <a:lnTo>
                      <a:pt x="0" y="611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0" y="622"/>
                    </a:lnTo>
                    <a:lnTo>
                      <a:pt x="2" y="626"/>
                    </a:lnTo>
                    <a:lnTo>
                      <a:pt x="2" y="631"/>
                    </a:lnTo>
                    <a:lnTo>
                      <a:pt x="2" y="635"/>
                    </a:lnTo>
                    <a:lnTo>
                      <a:pt x="3" y="639"/>
                    </a:lnTo>
                    <a:lnTo>
                      <a:pt x="3" y="643"/>
                    </a:lnTo>
                    <a:lnTo>
                      <a:pt x="75" y="663"/>
                    </a:lnTo>
                    <a:lnTo>
                      <a:pt x="105" y="774"/>
                    </a:lnTo>
                    <a:lnTo>
                      <a:pt x="57" y="844"/>
                    </a:lnTo>
                    <a:lnTo>
                      <a:pt x="102" y="926"/>
                    </a:lnTo>
                    <a:lnTo>
                      <a:pt x="187" y="922"/>
                    </a:lnTo>
                    <a:lnTo>
                      <a:pt x="251" y="980"/>
                    </a:lnTo>
                    <a:lnTo>
                      <a:pt x="238" y="1066"/>
                    </a:lnTo>
                    <a:lnTo>
                      <a:pt x="329" y="1121"/>
                    </a:lnTo>
                    <a:lnTo>
                      <a:pt x="396" y="1073"/>
                    </a:lnTo>
                    <a:lnTo>
                      <a:pt x="511" y="1105"/>
                    </a:lnTo>
                    <a:lnTo>
                      <a:pt x="524" y="1174"/>
                    </a:lnTo>
                    <a:lnTo>
                      <a:pt x="589" y="1178"/>
                    </a:lnTo>
                    <a:lnTo>
                      <a:pt x="620" y="1110"/>
                    </a:lnTo>
                    <a:lnTo>
                      <a:pt x="587" y="1013"/>
                    </a:lnTo>
                    <a:lnTo>
                      <a:pt x="586" y="1013"/>
                    </a:lnTo>
                    <a:lnTo>
                      <a:pt x="585" y="1013"/>
                    </a:lnTo>
                    <a:lnTo>
                      <a:pt x="582" y="1013"/>
                    </a:lnTo>
                    <a:lnTo>
                      <a:pt x="579" y="1013"/>
                    </a:lnTo>
                    <a:lnTo>
                      <a:pt x="573" y="1012"/>
                    </a:lnTo>
                    <a:lnTo>
                      <a:pt x="568" y="1012"/>
                    </a:lnTo>
                    <a:lnTo>
                      <a:pt x="562" y="1012"/>
                    </a:lnTo>
                    <a:lnTo>
                      <a:pt x="556" y="1012"/>
                    </a:lnTo>
                    <a:lnTo>
                      <a:pt x="552" y="1010"/>
                    </a:lnTo>
                    <a:lnTo>
                      <a:pt x="548" y="1010"/>
                    </a:lnTo>
                    <a:lnTo>
                      <a:pt x="543" y="1010"/>
                    </a:lnTo>
                    <a:lnTo>
                      <a:pt x="539" y="1009"/>
                    </a:lnTo>
                    <a:lnTo>
                      <a:pt x="535" y="1009"/>
                    </a:lnTo>
                    <a:lnTo>
                      <a:pt x="531" y="1007"/>
                    </a:lnTo>
                    <a:lnTo>
                      <a:pt x="526" y="1007"/>
                    </a:lnTo>
                    <a:lnTo>
                      <a:pt x="522" y="1007"/>
                    </a:lnTo>
                    <a:lnTo>
                      <a:pt x="517" y="1006"/>
                    </a:lnTo>
                    <a:lnTo>
                      <a:pt x="512" y="1004"/>
                    </a:lnTo>
                    <a:lnTo>
                      <a:pt x="507" y="1003"/>
                    </a:lnTo>
                    <a:lnTo>
                      <a:pt x="502" y="1002"/>
                    </a:lnTo>
                    <a:lnTo>
                      <a:pt x="497" y="1000"/>
                    </a:lnTo>
                    <a:lnTo>
                      <a:pt x="491" y="1000"/>
                    </a:lnTo>
                    <a:lnTo>
                      <a:pt x="485" y="999"/>
                    </a:lnTo>
                    <a:lnTo>
                      <a:pt x="480" y="997"/>
                    </a:lnTo>
                    <a:lnTo>
                      <a:pt x="474" y="996"/>
                    </a:lnTo>
                    <a:lnTo>
                      <a:pt x="468" y="994"/>
                    </a:lnTo>
                    <a:lnTo>
                      <a:pt x="463" y="993"/>
                    </a:lnTo>
                    <a:lnTo>
                      <a:pt x="455" y="992"/>
                    </a:lnTo>
                    <a:lnTo>
                      <a:pt x="450" y="989"/>
                    </a:lnTo>
                    <a:lnTo>
                      <a:pt x="444" y="987"/>
                    </a:lnTo>
                    <a:lnTo>
                      <a:pt x="437" y="985"/>
                    </a:lnTo>
                    <a:lnTo>
                      <a:pt x="433" y="983"/>
                    </a:lnTo>
                    <a:lnTo>
                      <a:pt x="426" y="980"/>
                    </a:lnTo>
                    <a:lnTo>
                      <a:pt x="420" y="977"/>
                    </a:lnTo>
                    <a:lnTo>
                      <a:pt x="413" y="975"/>
                    </a:lnTo>
                    <a:lnTo>
                      <a:pt x="407" y="973"/>
                    </a:lnTo>
                    <a:lnTo>
                      <a:pt x="402" y="969"/>
                    </a:lnTo>
                    <a:lnTo>
                      <a:pt x="396" y="966"/>
                    </a:lnTo>
                    <a:lnTo>
                      <a:pt x="389" y="965"/>
                    </a:lnTo>
                    <a:lnTo>
                      <a:pt x="383" y="962"/>
                    </a:lnTo>
                    <a:lnTo>
                      <a:pt x="376" y="958"/>
                    </a:lnTo>
                    <a:lnTo>
                      <a:pt x="370" y="953"/>
                    </a:lnTo>
                    <a:lnTo>
                      <a:pt x="365" y="950"/>
                    </a:lnTo>
                    <a:lnTo>
                      <a:pt x="358" y="946"/>
                    </a:lnTo>
                    <a:lnTo>
                      <a:pt x="352" y="942"/>
                    </a:lnTo>
                    <a:lnTo>
                      <a:pt x="346" y="938"/>
                    </a:lnTo>
                    <a:lnTo>
                      <a:pt x="339" y="935"/>
                    </a:lnTo>
                    <a:lnTo>
                      <a:pt x="335" y="931"/>
                    </a:lnTo>
                    <a:lnTo>
                      <a:pt x="328" y="925"/>
                    </a:lnTo>
                    <a:lnTo>
                      <a:pt x="322" y="921"/>
                    </a:lnTo>
                    <a:lnTo>
                      <a:pt x="316" y="916"/>
                    </a:lnTo>
                    <a:lnTo>
                      <a:pt x="311" y="911"/>
                    </a:lnTo>
                    <a:lnTo>
                      <a:pt x="305" y="906"/>
                    </a:lnTo>
                    <a:lnTo>
                      <a:pt x="301" y="901"/>
                    </a:lnTo>
                    <a:lnTo>
                      <a:pt x="295" y="895"/>
                    </a:lnTo>
                    <a:lnTo>
                      <a:pt x="291" y="889"/>
                    </a:lnTo>
                    <a:lnTo>
                      <a:pt x="288" y="888"/>
                    </a:lnTo>
                    <a:lnTo>
                      <a:pt x="284" y="884"/>
                    </a:lnTo>
                    <a:lnTo>
                      <a:pt x="281" y="881"/>
                    </a:lnTo>
                    <a:lnTo>
                      <a:pt x="278" y="878"/>
                    </a:lnTo>
                    <a:lnTo>
                      <a:pt x="274" y="874"/>
                    </a:lnTo>
                    <a:lnTo>
                      <a:pt x="271" y="871"/>
                    </a:lnTo>
                    <a:lnTo>
                      <a:pt x="265" y="865"/>
                    </a:lnTo>
                    <a:lnTo>
                      <a:pt x="261" y="859"/>
                    </a:lnTo>
                    <a:lnTo>
                      <a:pt x="255" y="852"/>
                    </a:lnTo>
                    <a:lnTo>
                      <a:pt x="251" y="847"/>
                    </a:lnTo>
                    <a:lnTo>
                      <a:pt x="248" y="842"/>
                    </a:lnTo>
                    <a:lnTo>
                      <a:pt x="246" y="838"/>
                    </a:lnTo>
                    <a:lnTo>
                      <a:pt x="243" y="835"/>
                    </a:lnTo>
                    <a:lnTo>
                      <a:pt x="240" y="831"/>
                    </a:lnTo>
                    <a:lnTo>
                      <a:pt x="237" y="827"/>
                    </a:lnTo>
                    <a:lnTo>
                      <a:pt x="234" y="823"/>
                    </a:lnTo>
                    <a:lnTo>
                      <a:pt x="231" y="818"/>
                    </a:lnTo>
                    <a:lnTo>
                      <a:pt x="229" y="814"/>
                    </a:lnTo>
                    <a:lnTo>
                      <a:pt x="226" y="808"/>
                    </a:lnTo>
                    <a:lnTo>
                      <a:pt x="223" y="804"/>
                    </a:lnTo>
                    <a:lnTo>
                      <a:pt x="220" y="798"/>
                    </a:lnTo>
                    <a:lnTo>
                      <a:pt x="217" y="793"/>
                    </a:lnTo>
                    <a:lnTo>
                      <a:pt x="213" y="788"/>
                    </a:lnTo>
                    <a:lnTo>
                      <a:pt x="211" y="783"/>
                    </a:lnTo>
                    <a:lnTo>
                      <a:pt x="209" y="776"/>
                    </a:lnTo>
                    <a:lnTo>
                      <a:pt x="206" y="771"/>
                    </a:lnTo>
                    <a:lnTo>
                      <a:pt x="203" y="764"/>
                    </a:lnTo>
                    <a:lnTo>
                      <a:pt x="200" y="759"/>
                    </a:lnTo>
                    <a:lnTo>
                      <a:pt x="197" y="751"/>
                    </a:lnTo>
                    <a:lnTo>
                      <a:pt x="196" y="746"/>
                    </a:lnTo>
                    <a:lnTo>
                      <a:pt x="193" y="739"/>
                    </a:lnTo>
                    <a:lnTo>
                      <a:pt x="190" y="733"/>
                    </a:lnTo>
                    <a:lnTo>
                      <a:pt x="187" y="726"/>
                    </a:lnTo>
                    <a:lnTo>
                      <a:pt x="186" y="719"/>
                    </a:lnTo>
                    <a:lnTo>
                      <a:pt x="183" y="712"/>
                    </a:lnTo>
                    <a:lnTo>
                      <a:pt x="182" y="705"/>
                    </a:lnTo>
                    <a:lnTo>
                      <a:pt x="179" y="697"/>
                    </a:lnTo>
                    <a:lnTo>
                      <a:pt x="177" y="689"/>
                    </a:lnTo>
                    <a:lnTo>
                      <a:pt x="175" y="682"/>
                    </a:lnTo>
                    <a:lnTo>
                      <a:pt x="173" y="673"/>
                    </a:lnTo>
                    <a:lnTo>
                      <a:pt x="172" y="665"/>
                    </a:lnTo>
                    <a:lnTo>
                      <a:pt x="170" y="658"/>
                    </a:lnTo>
                    <a:lnTo>
                      <a:pt x="169" y="649"/>
                    </a:lnTo>
                    <a:lnTo>
                      <a:pt x="167" y="641"/>
                    </a:lnTo>
                    <a:lnTo>
                      <a:pt x="166" y="631"/>
                    </a:lnTo>
                    <a:lnTo>
                      <a:pt x="166" y="624"/>
                    </a:lnTo>
                    <a:lnTo>
                      <a:pt x="165" y="614"/>
                    </a:lnTo>
                    <a:lnTo>
                      <a:pt x="163" y="605"/>
                    </a:lnTo>
                    <a:lnTo>
                      <a:pt x="163" y="595"/>
                    </a:lnTo>
                    <a:lnTo>
                      <a:pt x="163" y="587"/>
                    </a:lnTo>
                    <a:lnTo>
                      <a:pt x="163" y="584"/>
                    </a:lnTo>
                    <a:lnTo>
                      <a:pt x="163" y="581"/>
                    </a:lnTo>
                    <a:lnTo>
                      <a:pt x="163" y="575"/>
                    </a:lnTo>
                    <a:lnTo>
                      <a:pt x="163" y="572"/>
                    </a:lnTo>
                    <a:lnTo>
                      <a:pt x="163" y="565"/>
                    </a:lnTo>
                    <a:lnTo>
                      <a:pt x="165" y="560"/>
                    </a:lnTo>
                    <a:lnTo>
                      <a:pt x="165" y="553"/>
                    </a:lnTo>
                    <a:lnTo>
                      <a:pt x="166" y="545"/>
                    </a:lnTo>
                    <a:lnTo>
                      <a:pt x="166" y="541"/>
                    </a:lnTo>
                    <a:lnTo>
                      <a:pt x="167" y="537"/>
                    </a:lnTo>
                    <a:lnTo>
                      <a:pt x="167" y="533"/>
                    </a:lnTo>
                    <a:lnTo>
                      <a:pt x="169" y="528"/>
                    </a:lnTo>
                    <a:lnTo>
                      <a:pt x="169" y="524"/>
                    </a:lnTo>
                    <a:lnTo>
                      <a:pt x="170" y="518"/>
                    </a:lnTo>
                    <a:lnTo>
                      <a:pt x="170" y="514"/>
                    </a:lnTo>
                    <a:lnTo>
                      <a:pt x="172" y="510"/>
                    </a:lnTo>
                    <a:lnTo>
                      <a:pt x="172" y="504"/>
                    </a:lnTo>
                    <a:lnTo>
                      <a:pt x="173" y="500"/>
                    </a:lnTo>
                    <a:lnTo>
                      <a:pt x="175" y="494"/>
                    </a:lnTo>
                    <a:lnTo>
                      <a:pt x="176" y="490"/>
                    </a:lnTo>
                    <a:lnTo>
                      <a:pt x="177" y="484"/>
                    </a:lnTo>
                    <a:lnTo>
                      <a:pt x="179" y="479"/>
                    </a:lnTo>
                    <a:lnTo>
                      <a:pt x="180" y="473"/>
                    </a:lnTo>
                    <a:lnTo>
                      <a:pt x="182" y="469"/>
                    </a:lnTo>
                    <a:lnTo>
                      <a:pt x="183" y="463"/>
                    </a:lnTo>
                    <a:lnTo>
                      <a:pt x="185" y="457"/>
                    </a:lnTo>
                    <a:lnTo>
                      <a:pt x="186" y="452"/>
                    </a:lnTo>
                    <a:lnTo>
                      <a:pt x="187" y="446"/>
                    </a:lnTo>
                    <a:lnTo>
                      <a:pt x="190" y="440"/>
                    </a:lnTo>
                    <a:lnTo>
                      <a:pt x="192" y="435"/>
                    </a:lnTo>
                    <a:lnTo>
                      <a:pt x="194" y="429"/>
                    </a:lnTo>
                    <a:lnTo>
                      <a:pt x="197" y="423"/>
                    </a:lnTo>
                    <a:lnTo>
                      <a:pt x="199" y="418"/>
                    </a:lnTo>
                    <a:lnTo>
                      <a:pt x="202" y="412"/>
                    </a:lnTo>
                    <a:lnTo>
                      <a:pt x="204" y="405"/>
                    </a:lnTo>
                    <a:lnTo>
                      <a:pt x="207" y="399"/>
                    </a:lnTo>
                    <a:lnTo>
                      <a:pt x="210" y="393"/>
                    </a:lnTo>
                    <a:lnTo>
                      <a:pt x="213" y="388"/>
                    </a:lnTo>
                    <a:lnTo>
                      <a:pt x="216" y="382"/>
                    </a:lnTo>
                    <a:lnTo>
                      <a:pt x="220" y="376"/>
                    </a:lnTo>
                    <a:lnTo>
                      <a:pt x="223" y="371"/>
                    </a:lnTo>
                    <a:lnTo>
                      <a:pt x="226" y="365"/>
                    </a:lnTo>
                    <a:lnTo>
                      <a:pt x="229" y="358"/>
                    </a:lnTo>
                    <a:lnTo>
                      <a:pt x="233" y="354"/>
                    </a:lnTo>
                    <a:lnTo>
                      <a:pt x="237" y="346"/>
                    </a:lnTo>
                    <a:lnTo>
                      <a:pt x="240" y="341"/>
                    </a:lnTo>
                    <a:lnTo>
                      <a:pt x="244" y="337"/>
                    </a:lnTo>
                    <a:lnTo>
                      <a:pt x="250" y="331"/>
                    </a:lnTo>
                    <a:lnTo>
                      <a:pt x="254" y="325"/>
                    </a:lnTo>
                    <a:lnTo>
                      <a:pt x="257" y="319"/>
                    </a:lnTo>
                    <a:lnTo>
                      <a:pt x="263" y="314"/>
                    </a:lnTo>
                    <a:lnTo>
                      <a:pt x="268" y="310"/>
                    </a:lnTo>
                    <a:lnTo>
                      <a:pt x="272" y="304"/>
                    </a:lnTo>
                    <a:lnTo>
                      <a:pt x="278" y="298"/>
                    </a:lnTo>
                    <a:lnTo>
                      <a:pt x="282" y="294"/>
                    </a:lnTo>
                    <a:lnTo>
                      <a:pt x="290" y="290"/>
                    </a:lnTo>
                    <a:lnTo>
                      <a:pt x="290" y="287"/>
                    </a:lnTo>
                    <a:lnTo>
                      <a:pt x="294" y="284"/>
                    </a:lnTo>
                    <a:lnTo>
                      <a:pt x="295" y="281"/>
                    </a:lnTo>
                    <a:lnTo>
                      <a:pt x="299" y="278"/>
                    </a:lnTo>
                    <a:lnTo>
                      <a:pt x="302" y="274"/>
                    </a:lnTo>
                    <a:lnTo>
                      <a:pt x="308" y="270"/>
                    </a:lnTo>
                    <a:lnTo>
                      <a:pt x="311" y="265"/>
                    </a:lnTo>
                    <a:lnTo>
                      <a:pt x="318" y="260"/>
                    </a:lnTo>
                    <a:lnTo>
                      <a:pt x="324" y="256"/>
                    </a:lnTo>
                    <a:lnTo>
                      <a:pt x="331" y="251"/>
                    </a:lnTo>
                    <a:lnTo>
                      <a:pt x="333" y="247"/>
                    </a:lnTo>
                    <a:lnTo>
                      <a:pt x="338" y="244"/>
                    </a:lnTo>
                    <a:lnTo>
                      <a:pt x="341" y="241"/>
                    </a:lnTo>
                    <a:lnTo>
                      <a:pt x="346" y="238"/>
                    </a:lnTo>
                    <a:lnTo>
                      <a:pt x="351" y="236"/>
                    </a:lnTo>
                    <a:lnTo>
                      <a:pt x="353" y="234"/>
                    </a:lnTo>
                    <a:lnTo>
                      <a:pt x="359" y="230"/>
                    </a:lnTo>
                    <a:lnTo>
                      <a:pt x="365" y="229"/>
                    </a:lnTo>
                    <a:lnTo>
                      <a:pt x="368" y="224"/>
                    </a:lnTo>
                    <a:lnTo>
                      <a:pt x="373" y="223"/>
                    </a:lnTo>
                    <a:lnTo>
                      <a:pt x="377" y="219"/>
                    </a:lnTo>
                    <a:lnTo>
                      <a:pt x="383" y="216"/>
                    </a:lnTo>
                    <a:lnTo>
                      <a:pt x="389" y="213"/>
                    </a:lnTo>
                    <a:lnTo>
                      <a:pt x="394" y="210"/>
                    </a:lnTo>
                    <a:lnTo>
                      <a:pt x="400" y="207"/>
                    </a:lnTo>
                    <a:lnTo>
                      <a:pt x="406" y="206"/>
                    </a:lnTo>
                    <a:lnTo>
                      <a:pt x="412" y="202"/>
                    </a:lnTo>
                    <a:lnTo>
                      <a:pt x="417" y="199"/>
                    </a:lnTo>
                    <a:lnTo>
                      <a:pt x="424" y="196"/>
                    </a:lnTo>
                    <a:lnTo>
                      <a:pt x="430" y="194"/>
                    </a:lnTo>
                    <a:lnTo>
                      <a:pt x="437" y="192"/>
                    </a:lnTo>
                    <a:lnTo>
                      <a:pt x="444" y="190"/>
                    </a:lnTo>
                    <a:lnTo>
                      <a:pt x="451" y="187"/>
                    </a:lnTo>
                    <a:lnTo>
                      <a:pt x="458" y="186"/>
                    </a:lnTo>
                    <a:lnTo>
                      <a:pt x="465" y="183"/>
                    </a:lnTo>
                    <a:lnTo>
                      <a:pt x="473" y="180"/>
                    </a:lnTo>
                    <a:lnTo>
                      <a:pt x="480" y="179"/>
                    </a:lnTo>
                    <a:lnTo>
                      <a:pt x="488" y="177"/>
                    </a:lnTo>
                    <a:lnTo>
                      <a:pt x="495" y="175"/>
                    </a:lnTo>
                    <a:lnTo>
                      <a:pt x="504" y="173"/>
                    </a:lnTo>
                    <a:lnTo>
                      <a:pt x="511" y="172"/>
                    </a:lnTo>
                    <a:lnTo>
                      <a:pt x="521" y="170"/>
                    </a:lnTo>
                    <a:lnTo>
                      <a:pt x="528" y="169"/>
                    </a:lnTo>
                    <a:lnTo>
                      <a:pt x="536" y="167"/>
                    </a:lnTo>
                    <a:lnTo>
                      <a:pt x="545" y="166"/>
                    </a:lnTo>
                    <a:lnTo>
                      <a:pt x="555" y="166"/>
                    </a:lnTo>
                    <a:lnTo>
                      <a:pt x="563" y="165"/>
                    </a:lnTo>
                    <a:lnTo>
                      <a:pt x="573" y="165"/>
                    </a:lnTo>
                    <a:lnTo>
                      <a:pt x="582" y="165"/>
                    </a:lnTo>
                    <a:lnTo>
                      <a:pt x="593" y="165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25"/>
              <p:cNvSpPr/>
              <p:nvPr/>
            </p:nvSpPr>
            <p:spPr>
              <a:xfrm rot="900000">
                <a:off x="1729080" y="3415320"/>
                <a:ext cx="806040" cy="1513800"/>
              </a:xfrm>
              <a:custGeom>
                <a:avLst/>
                <a:gdLst/>
                <a:ahLst/>
                <a:rect l="l" t="t" r="r" b="b"/>
                <a:pathLst>
                  <a:path w="625" h="1177">
                    <a:moveTo>
                      <a:pt x="38" y="1012"/>
                    </a:moveTo>
                    <a:lnTo>
                      <a:pt x="41" y="1177"/>
                    </a:lnTo>
                    <a:lnTo>
                      <a:pt x="93" y="1175"/>
                    </a:lnTo>
                    <a:lnTo>
                      <a:pt x="115" y="1103"/>
                    </a:lnTo>
                    <a:lnTo>
                      <a:pt x="224" y="1072"/>
                    </a:lnTo>
                    <a:lnTo>
                      <a:pt x="296" y="1121"/>
                    </a:lnTo>
                    <a:lnTo>
                      <a:pt x="376" y="1073"/>
                    </a:lnTo>
                    <a:lnTo>
                      <a:pt x="373" y="989"/>
                    </a:lnTo>
                    <a:lnTo>
                      <a:pt x="432" y="927"/>
                    </a:lnTo>
                    <a:lnTo>
                      <a:pt x="513" y="938"/>
                    </a:lnTo>
                    <a:lnTo>
                      <a:pt x="570" y="849"/>
                    </a:lnTo>
                    <a:lnTo>
                      <a:pt x="522" y="779"/>
                    </a:lnTo>
                    <a:lnTo>
                      <a:pt x="554" y="665"/>
                    </a:lnTo>
                    <a:lnTo>
                      <a:pt x="625" y="654"/>
                    </a:lnTo>
                    <a:lnTo>
                      <a:pt x="625" y="650"/>
                    </a:lnTo>
                    <a:lnTo>
                      <a:pt x="625" y="645"/>
                    </a:lnTo>
                    <a:lnTo>
                      <a:pt x="625" y="642"/>
                    </a:lnTo>
                    <a:lnTo>
                      <a:pt x="625" y="638"/>
                    </a:lnTo>
                    <a:lnTo>
                      <a:pt x="625" y="634"/>
                    </a:lnTo>
                    <a:lnTo>
                      <a:pt x="625" y="630"/>
                    </a:lnTo>
                    <a:lnTo>
                      <a:pt x="625" y="627"/>
                    </a:lnTo>
                    <a:lnTo>
                      <a:pt x="625" y="624"/>
                    </a:lnTo>
                    <a:lnTo>
                      <a:pt x="625" y="620"/>
                    </a:lnTo>
                    <a:lnTo>
                      <a:pt x="625" y="615"/>
                    </a:lnTo>
                    <a:lnTo>
                      <a:pt x="625" y="613"/>
                    </a:lnTo>
                    <a:lnTo>
                      <a:pt x="625" y="608"/>
                    </a:lnTo>
                    <a:lnTo>
                      <a:pt x="625" y="601"/>
                    </a:lnTo>
                    <a:lnTo>
                      <a:pt x="625" y="594"/>
                    </a:lnTo>
                    <a:lnTo>
                      <a:pt x="625" y="590"/>
                    </a:lnTo>
                    <a:lnTo>
                      <a:pt x="625" y="586"/>
                    </a:lnTo>
                    <a:lnTo>
                      <a:pt x="625" y="583"/>
                    </a:lnTo>
                    <a:lnTo>
                      <a:pt x="625" y="580"/>
                    </a:lnTo>
                    <a:lnTo>
                      <a:pt x="625" y="576"/>
                    </a:lnTo>
                    <a:lnTo>
                      <a:pt x="625" y="571"/>
                    </a:lnTo>
                    <a:lnTo>
                      <a:pt x="625" y="569"/>
                    </a:lnTo>
                    <a:lnTo>
                      <a:pt x="625" y="564"/>
                    </a:lnTo>
                    <a:lnTo>
                      <a:pt x="625" y="557"/>
                    </a:lnTo>
                    <a:lnTo>
                      <a:pt x="625" y="550"/>
                    </a:lnTo>
                    <a:lnTo>
                      <a:pt x="625" y="543"/>
                    </a:lnTo>
                    <a:lnTo>
                      <a:pt x="625" y="536"/>
                    </a:lnTo>
                    <a:lnTo>
                      <a:pt x="553" y="515"/>
                    </a:lnTo>
                    <a:lnTo>
                      <a:pt x="522" y="405"/>
                    </a:lnTo>
                    <a:lnTo>
                      <a:pt x="571" y="333"/>
                    </a:lnTo>
                    <a:lnTo>
                      <a:pt x="525" y="252"/>
                    </a:lnTo>
                    <a:lnTo>
                      <a:pt x="441" y="256"/>
                    </a:lnTo>
                    <a:lnTo>
                      <a:pt x="379" y="196"/>
                    </a:lnTo>
                    <a:lnTo>
                      <a:pt x="388" y="114"/>
                    </a:lnTo>
                    <a:lnTo>
                      <a:pt x="299" y="57"/>
                    </a:lnTo>
                    <a:lnTo>
                      <a:pt x="231" y="107"/>
                    </a:lnTo>
                    <a:lnTo>
                      <a:pt x="116" y="74"/>
                    </a:lnTo>
                    <a:lnTo>
                      <a:pt x="105" y="3"/>
                    </a:lnTo>
                    <a:lnTo>
                      <a:pt x="37" y="0"/>
                    </a:lnTo>
                    <a:lnTo>
                      <a:pt x="0" y="75"/>
                    </a:lnTo>
                    <a:lnTo>
                      <a:pt x="39" y="164"/>
                    </a:lnTo>
                    <a:lnTo>
                      <a:pt x="41" y="164"/>
                    </a:lnTo>
                    <a:lnTo>
                      <a:pt x="44" y="164"/>
                    </a:lnTo>
                    <a:lnTo>
                      <a:pt x="47" y="164"/>
                    </a:lnTo>
                    <a:lnTo>
                      <a:pt x="51" y="164"/>
                    </a:lnTo>
                    <a:lnTo>
                      <a:pt x="56" y="164"/>
                    </a:lnTo>
                    <a:lnTo>
                      <a:pt x="62" y="164"/>
                    </a:lnTo>
                    <a:lnTo>
                      <a:pt x="69" y="165"/>
                    </a:lnTo>
                    <a:lnTo>
                      <a:pt x="73" y="165"/>
                    </a:lnTo>
                    <a:lnTo>
                      <a:pt x="76" y="165"/>
                    </a:lnTo>
                    <a:lnTo>
                      <a:pt x="81" y="165"/>
                    </a:lnTo>
                    <a:lnTo>
                      <a:pt x="85" y="166"/>
                    </a:lnTo>
                    <a:lnTo>
                      <a:pt x="89" y="166"/>
                    </a:lnTo>
                    <a:lnTo>
                      <a:pt x="93" y="168"/>
                    </a:lnTo>
                    <a:lnTo>
                      <a:pt x="99" y="168"/>
                    </a:lnTo>
                    <a:lnTo>
                      <a:pt x="103" y="169"/>
                    </a:lnTo>
                    <a:lnTo>
                      <a:pt x="108" y="169"/>
                    </a:lnTo>
                    <a:lnTo>
                      <a:pt x="113" y="171"/>
                    </a:lnTo>
                    <a:lnTo>
                      <a:pt x="117" y="172"/>
                    </a:lnTo>
                    <a:lnTo>
                      <a:pt x="125" y="174"/>
                    </a:lnTo>
                    <a:lnTo>
                      <a:pt x="129" y="175"/>
                    </a:lnTo>
                    <a:lnTo>
                      <a:pt x="134" y="176"/>
                    </a:lnTo>
                    <a:lnTo>
                      <a:pt x="140" y="178"/>
                    </a:lnTo>
                    <a:lnTo>
                      <a:pt x="146" y="179"/>
                    </a:lnTo>
                    <a:lnTo>
                      <a:pt x="152" y="179"/>
                    </a:lnTo>
                    <a:lnTo>
                      <a:pt x="157" y="181"/>
                    </a:lnTo>
                    <a:lnTo>
                      <a:pt x="163" y="183"/>
                    </a:lnTo>
                    <a:lnTo>
                      <a:pt x="170" y="185"/>
                    </a:lnTo>
                    <a:lnTo>
                      <a:pt x="176" y="186"/>
                    </a:lnTo>
                    <a:lnTo>
                      <a:pt x="181" y="189"/>
                    </a:lnTo>
                    <a:lnTo>
                      <a:pt x="187" y="191"/>
                    </a:lnTo>
                    <a:lnTo>
                      <a:pt x="194" y="193"/>
                    </a:lnTo>
                    <a:lnTo>
                      <a:pt x="200" y="195"/>
                    </a:lnTo>
                    <a:lnTo>
                      <a:pt x="205" y="198"/>
                    </a:lnTo>
                    <a:lnTo>
                      <a:pt x="213" y="201"/>
                    </a:lnTo>
                    <a:lnTo>
                      <a:pt x="218" y="203"/>
                    </a:lnTo>
                    <a:lnTo>
                      <a:pt x="224" y="206"/>
                    </a:lnTo>
                    <a:lnTo>
                      <a:pt x="231" y="209"/>
                    </a:lnTo>
                    <a:lnTo>
                      <a:pt x="237" y="212"/>
                    </a:lnTo>
                    <a:lnTo>
                      <a:pt x="244" y="216"/>
                    </a:lnTo>
                    <a:lnTo>
                      <a:pt x="249" y="219"/>
                    </a:lnTo>
                    <a:lnTo>
                      <a:pt x="257" y="223"/>
                    </a:lnTo>
                    <a:lnTo>
                      <a:pt x="262" y="226"/>
                    </a:lnTo>
                    <a:lnTo>
                      <a:pt x="268" y="230"/>
                    </a:lnTo>
                    <a:lnTo>
                      <a:pt x="274" y="235"/>
                    </a:lnTo>
                    <a:lnTo>
                      <a:pt x="281" y="237"/>
                    </a:lnTo>
                    <a:lnTo>
                      <a:pt x="286" y="243"/>
                    </a:lnTo>
                    <a:lnTo>
                      <a:pt x="292" y="247"/>
                    </a:lnTo>
                    <a:lnTo>
                      <a:pt x="298" y="252"/>
                    </a:lnTo>
                    <a:lnTo>
                      <a:pt x="303" y="256"/>
                    </a:lnTo>
                    <a:lnTo>
                      <a:pt x="309" y="262"/>
                    </a:lnTo>
                    <a:lnTo>
                      <a:pt x="315" y="267"/>
                    </a:lnTo>
                    <a:lnTo>
                      <a:pt x="320" y="272"/>
                    </a:lnTo>
                    <a:lnTo>
                      <a:pt x="326" y="277"/>
                    </a:lnTo>
                    <a:lnTo>
                      <a:pt x="332" y="283"/>
                    </a:lnTo>
                    <a:lnTo>
                      <a:pt x="337" y="290"/>
                    </a:lnTo>
                    <a:lnTo>
                      <a:pt x="342" y="294"/>
                    </a:lnTo>
                    <a:lnTo>
                      <a:pt x="346" y="297"/>
                    </a:lnTo>
                    <a:lnTo>
                      <a:pt x="352" y="301"/>
                    </a:lnTo>
                    <a:lnTo>
                      <a:pt x="356" y="307"/>
                    </a:lnTo>
                    <a:lnTo>
                      <a:pt x="360" y="310"/>
                    </a:lnTo>
                    <a:lnTo>
                      <a:pt x="364" y="316"/>
                    </a:lnTo>
                    <a:lnTo>
                      <a:pt x="369" y="320"/>
                    </a:lnTo>
                    <a:lnTo>
                      <a:pt x="373" y="324"/>
                    </a:lnTo>
                    <a:lnTo>
                      <a:pt x="376" y="328"/>
                    </a:lnTo>
                    <a:lnTo>
                      <a:pt x="379" y="334"/>
                    </a:lnTo>
                    <a:lnTo>
                      <a:pt x="383" y="338"/>
                    </a:lnTo>
                    <a:lnTo>
                      <a:pt x="387" y="343"/>
                    </a:lnTo>
                    <a:lnTo>
                      <a:pt x="390" y="348"/>
                    </a:lnTo>
                    <a:lnTo>
                      <a:pt x="393" y="353"/>
                    </a:lnTo>
                    <a:lnTo>
                      <a:pt x="397" y="357"/>
                    </a:lnTo>
                    <a:lnTo>
                      <a:pt x="400" y="363"/>
                    </a:lnTo>
                    <a:lnTo>
                      <a:pt x="403" y="367"/>
                    </a:lnTo>
                    <a:lnTo>
                      <a:pt x="405" y="372"/>
                    </a:lnTo>
                    <a:lnTo>
                      <a:pt x="408" y="377"/>
                    </a:lnTo>
                    <a:lnTo>
                      <a:pt x="411" y="382"/>
                    </a:lnTo>
                    <a:lnTo>
                      <a:pt x="413" y="387"/>
                    </a:lnTo>
                    <a:lnTo>
                      <a:pt x="415" y="392"/>
                    </a:lnTo>
                    <a:lnTo>
                      <a:pt x="418" y="397"/>
                    </a:lnTo>
                    <a:lnTo>
                      <a:pt x="421" y="402"/>
                    </a:lnTo>
                    <a:lnTo>
                      <a:pt x="424" y="408"/>
                    </a:lnTo>
                    <a:lnTo>
                      <a:pt x="425" y="412"/>
                    </a:lnTo>
                    <a:lnTo>
                      <a:pt x="428" y="418"/>
                    </a:lnTo>
                    <a:lnTo>
                      <a:pt x="430" y="424"/>
                    </a:lnTo>
                    <a:lnTo>
                      <a:pt x="432" y="428"/>
                    </a:lnTo>
                    <a:lnTo>
                      <a:pt x="434" y="434"/>
                    </a:lnTo>
                    <a:lnTo>
                      <a:pt x="437" y="439"/>
                    </a:lnTo>
                    <a:lnTo>
                      <a:pt x="438" y="444"/>
                    </a:lnTo>
                    <a:lnTo>
                      <a:pt x="440" y="449"/>
                    </a:lnTo>
                    <a:lnTo>
                      <a:pt x="441" y="453"/>
                    </a:lnTo>
                    <a:lnTo>
                      <a:pt x="442" y="458"/>
                    </a:lnTo>
                    <a:lnTo>
                      <a:pt x="444" y="463"/>
                    </a:lnTo>
                    <a:lnTo>
                      <a:pt x="445" y="469"/>
                    </a:lnTo>
                    <a:lnTo>
                      <a:pt x="447" y="473"/>
                    </a:lnTo>
                    <a:lnTo>
                      <a:pt x="448" y="479"/>
                    </a:lnTo>
                    <a:lnTo>
                      <a:pt x="449" y="485"/>
                    </a:lnTo>
                    <a:lnTo>
                      <a:pt x="451" y="489"/>
                    </a:lnTo>
                    <a:lnTo>
                      <a:pt x="452" y="493"/>
                    </a:lnTo>
                    <a:lnTo>
                      <a:pt x="452" y="499"/>
                    </a:lnTo>
                    <a:lnTo>
                      <a:pt x="454" y="503"/>
                    </a:lnTo>
                    <a:lnTo>
                      <a:pt x="455" y="509"/>
                    </a:lnTo>
                    <a:lnTo>
                      <a:pt x="457" y="513"/>
                    </a:lnTo>
                    <a:lnTo>
                      <a:pt x="457" y="517"/>
                    </a:lnTo>
                    <a:lnTo>
                      <a:pt x="458" y="523"/>
                    </a:lnTo>
                    <a:lnTo>
                      <a:pt x="458" y="527"/>
                    </a:lnTo>
                    <a:lnTo>
                      <a:pt x="458" y="532"/>
                    </a:lnTo>
                    <a:lnTo>
                      <a:pt x="459" y="536"/>
                    </a:lnTo>
                    <a:lnTo>
                      <a:pt x="459" y="542"/>
                    </a:lnTo>
                    <a:lnTo>
                      <a:pt x="461" y="544"/>
                    </a:lnTo>
                    <a:lnTo>
                      <a:pt x="461" y="550"/>
                    </a:lnTo>
                    <a:lnTo>
                      <a:pt x="462" y="554"/>
                    </a:lnTo>
                    <a:lnTo>
                      <a:pt x="462" y="559"/>
                    </a:lnTo>
                    <a:lnTo>
                      <a:pt x="462" y="563"/>
                    </a:lnTo>
                    <a:lnTo>
                      <a:pt x="464" y="567"/>
                    </a:lnTo>
                    <a:lnTo>
                      <a:pt x="464" y="571"/>
                    </a:lnTo>
                    <a:lnTo>
                      <a:pt x="464" y="576"/>
                    </a:lnTo>
                    <a:lnTo>
                      <a:pt x="464" y="580"/>
                    </a:lnTo>
                    <a:lnTo>
                      <a:pt x="465" y="584"/>
                    </a:lnTo>
                    <a:lnTo>
                      <a:pt x="465" y="588"/>
                    </a:lnTo>
                    <a:lnTo>
                      <a:pt x="466" y="593"/>
                    </a:lnTo>
                    <a:lnTo>
                      <a:pt x="465" y="594"/>
                    </a:lnTo>
                    <a:lnTo>
                      <a:pt x="465" y="598"/>
                    </a:lnTo>
                    <a:lnTo>
                      <a:pt x="465" y="603"/>
                    </a:lnTo>
                    <a:lnTo>
                      <a:pt x="465" y="608"/>
                    </a:lnTo>
                    <a:lnTo>
                      <a:pt x="464" y="614"/>
                    </a:lnTo>
                    <a:lnTo>
                      <a:pt x="462" y="621"/>
                    </a:lnTo>
                    <a:lnTo>
                      <a:pt x="462" y="624"/>
                    </a:lnTo>
                    <a:lnTo>
                      <a:pt x="462" y="628"/>
                    </a:lnTo>
                    <a:lnTo>
                      <a:pt x="461" y="631"/>
                    </a:lnTo>
                    <a:lnTo>
                      <a:pt x="461" y="635"/>
                    </a:lnTo>
                    <a:lnTo>
                      <a:pt x="459" y="640"/>
                    </a:lnTo>
                    <a:lnTo>
                      <a:pt x="459" y="644"/>
                    </a:lnTo>
                    <a:lnTo>
                      <a:pt x="458" y="647"/>
                    </a:lnTo>
                    <a:lnTo>
                      <a:pt x="458" y="652"/>
                    </a:lnTo>
                    <a:lnTo>
                      <a:pt x="457" y="657"/>
                    </a:lnTo>
                    <a:lnTo>
                      <a:pt x="457" y="661"/>
                    </a:lnTo>
                    <a:lnTo>
                      <a:pt x="455" y="665"/>
                    </a:lnTo>
                    <a:lnTo>
                      <a:pt x="455" y="671"/>
                    </a:lnTo>
                    <a:lnTo>
                      <a:pt x="454" y="675"/>
                    </a:lnTo>
                    <a:lnTo>
                      <a:pt x="452" y="681"/>
                    </a:lnTo>
                    <a:lnTo>
                      <a:pt x="451" y="685"/>
                    </a:lnTo>
                    <a:lnTo>
                      <a:pt x="449" y="691"/>
                    </a:lnTo>
                    <a:lnTo>
                      <a:pt x="448" y="695"/>
                    </a:lnTo>
                    <a:lnTo>
                      <a:pt x="447" y="701"/>
                    </a:lnTo>
                    <a:lnTo>
                      <a:pt x="445" y="706"/>
                    </a:lnTo>
                    <a:lnTo>
                      <a:pt x="444" y="712"/>
                    </a:lnTo>
                    <a:lnTo>
                      <a:pt x="442" y="716"/>
                    </a:lnTo>
                    <a:lnTo>
                      <a:pt x="441" y="722"/>
                    </a:lnTo>
                    <a:lnTo>
                      <a:pt x="438" y="728"/>
                    </a:lnTo>
                    <a:lnTo>
                      <a:pt x="437" y="733"/>
                    </a:lnTo>
                    <a:lnTo>
                      <a:pt x="434" y="739"/>
                    </a:lnTo>
                    <a:lnTo>
                      <a:pt x="432" y="745"/>
                    </a:lnTo>
                    <a:lnTo>
                      <a:pt x="430" y="749"/>
                    </a:lnTo>
                    <a:lnTo>
                      <a:pt x="428" y="756"/>
                    </a:lnTo>
                    <a:lnTo>
                      <a:pt x="425" y="762"/>
                    </a:lnTo>
                    <a:lnTo>
                      <a:pt x="422" y="766"/>
                    </a:lnTo>
                    <a:lnTo>
                      <a:pt x="420" y="772"/>
                    </a:lnTo>
                    <a:lnTo>
                      <a:pt x="418" y="777"/>
                    </a:lnTo>
                    <a:lnTo>
                      <a:pt x="415" y="783"/>
                    </a:lnTo>
                    <a:lnTo>
                      <a:pt x="413" y="789"/>
                    </a:lnTo>
                    <a:lnTo>
                      <a:pt x="410" y="795"/>
                    </a:lnTo>
                    <a:lnTo>
                      <a:pt x="407" y="802"/>
                    </a:lnTo>
                    <a:lnTo>
                      <a:pt x="403" y="806"/>
                    </a:lnTo>
                    <a:lnTo>
                      <a:pt x="400" y="812"/>
                    </a:lnTo>
                    <a:lnTo>
                      <a:pt x="396" y="817"/>
                    </a:lnTo>
                    <a:lnTo>
                      <a:pt x="393" y="823"/>
                    </a:lnTo>
                    <a:lnTo>
                      <a:pt x="388" y="829"/>
                    </a:lnTo>
                    <a:lnTo>
                      <a:pt x="384" y="834"/>
                    </a:lnTo>
                    <a:lnTo>
                      <a:pt x="380" y="839"/>
                    </a:lnTo>
                    <a:lnTo>
                      <a:pt x="377" y="846"/>
                    </a:lnTo>
                    <a:lnTo>
                      <a:pt x="373" y="850"/>
                    </a:lnTo>
                    <a:lnTo>
                      <a:pt x="369" y="856"/>
                    </a:lnTo>
                    <a:lnTo>
                      <a:pt x="363" y="861"/>
                    </a:lnTo>
                    <a:lnTo>
                      <a:pt x="359" y="866"/>
                    </a:lnTo>
                    <a:lnTo>
                      <a:pt x="354" y="871"/>
                    </a:lnTo>
                    <a:lnTo>
                      <a:pt x="349" y="877"/>
                    </a:lnTo>
                    <a:lnTo>
                      <a:pt x="344" y="881"/>
                    </a:lnTo>
                    <a:lnTo>
                      <a:pt x="340" y="887"/>
                    </a:lnTo>
                    <a:lnTo>
                      <a:pt x="337" y="887"/>
                    </a:lnTo>
                    <a:lnTo>
                      <a:pt x="335" y="891"/>
                    </a:lnTo>
                    <a:lnTo>
                      <a:pt x="332" y="893"/>
                    </a:lnTo>
                    <a:lnTo>
                      <a:pt x="329" y="897"/>
                    </a:lnTo>
                    <a:lnTo>
                      <a:pt x="325" y="901"/>
                    </a:lnTo>
                    <a:lnTo>
                      <a:pt x="320" y="905"/>
                    </a:lnTo>
                    <a:lnTo>
                      <a:pt x="315" y="908"/>
                    </a:lnTo>
                    <a:lnTo>
                      <a:pt x="309" y="914"/>
                    </a:lnTo>
                    <a:lnTo>
                      <a:pt x="302" y="918"/>
                    </a:lnTo>
                    <a:lnTo>
                      <a:pt x="296" y="924"/>
                    </a:lnTo>
                    <a:lnTo>
                      <a:pt x="292" y="927"/>
                    </a:lnTo>
                    <a:lnTo>
                      <a:pt x="288" y="930"/>
                    </a:lnTo>
                    <a:lnTo>
                      <a:pt x="285" y="932"/>
                    </a:lnTo>
                    <a:lnTo>
                      <a:pt x="281" y="935"/>
                    </a:lnTo>
                    <a:lnTo>
                      <a:pt x="276" y="938"/>
                    </a:lnTo>
                    <a:lnTo>
                      <a:pt x="272" y="941"/>
                    </a:lnTo>
                    <a:lnTo>
                      <a:pt x="268" y="944"/>
                    </a:lnTo>
                    <a:lnTo>
                      <a:pt x="264" y="948"/>
                    </a:lnTo>
                    <a:lnTo>
                      <a:pt x="258" y="949"/>
                    </a:lnTo>
                    <a:lnTo>
                      <a:pt x="254" y="952"/>
                    </a:lnTo>
                    <a:lnTo>
                      <a:pt x="248" y="955"/>
                    </a:lnTo>
                    <a:lnTo>
                      <a:pt x="244" y="958"/>
                    </a:lnTo>
                    <a:lnTo>
                      <a:pt x="238" y="961"/>
                    </a:lnTo>
                    <a:lnTo>
                      <a:pt x="232" y="964"/>
                    </a:lnTo>
                    <a:lnTo>
                      <a:pt x="227" y="966"/>
                    </a:lnTo>
                    <a:lnTo>
                      <a:pt x="221" y="969"/>
                    </a:lnTo>
                    <a:lnTo>
                      <a:pt x="215" y="972"/>
                    </a:lnTo>
                    <a:lnTo>
                      <a:pt x="208" y="975"/>
                    </a:lnTo>
                    <a:lnTo>
                      <a:pt x="203" y="978"/>
                    </a:lnTo>
                    <a:lnTo>
                      <a:pt x="197" y="979"/>
                    </a:lnTo>
                    <a:lnTo>
                      <a:pt x="190" y="982"/>
                    </a:lnTo>
                    <a:lnTo>
                      <a:pt x="183" y="985"/>
                    </a:lnTo>
                    <a:lnTo>
                      <a:pt x="176" y="988"/>
                    </a:lnTo>
                    <a:lnTo>
                      <a:pt x="170" y="991"/>
                    </a:lnTo>
                    <a:lnTo>
                      <a:pt x="161" y="992"/>
                    </a:lnTo>
                    <a:lnTo>
                      <a:pt x="154" y="995"/>
                    </a:lnTo>
                    <a:lnTo>
                      <a:pt x="147" y="996"/>
                    </a:lnTo>
                    <a:lnTo>
                      <a:pt x="140" y="998"/>
                    </a:lnTo>
                    <a:lnTo>
                      <a:pt x="132" y="999"/>
                    </a:lnTo>
                    <a:lnTo>
                      <a:pt x="123" y="1002"/>
                    </a:lnTo>
                    <a:lnTo>
                      <a:pt x="116" y="1003"/>
                    </a:lnTo>
                    <a:lnTo>
                      <a:pt x="108" y="1005"/>
                    </a:lnTo>
                    <a:lnTo>
                      <a:pt x="99" y="1006"/>
                    </a:lnTo>
                    <a:lnTo>
                      <a:pt x="91" y="1008"/>
                    </a:lnTo>
                    <a:lnTo>
                      <a:pt x="82" y="1009"/>
                    </a:lnTo>
                    <a:lnTo>
                      <a:pt x="73" y="1009"/>
                    </a:lnTo>
                    <a:lnTo>
                      <a:pt x="64" y="1011"/>
                    </a:lnTo>
                    <a:lnTo>
                      <a:pt x="55" y="1011"/>
                    </a:lnTo>
                    <a:lnTo>
                      <a:pt x="47" y="1012"/>
                    </a:lnTo>
                    <a:lnTo>
                      <a:pt x="38" y="1012"/>
                    </a:lnTo>
                    <a:close/>
                  </a:path>
                </a:pathLst>
              </a:custGeom>
              <a:solidFill>
                <a:srgbClr val="953735"/>
              </a:solidFill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4280" bIns="4428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5" name="TextBox 80"/>
          <p:cNvSpPr/>
          <p:nvPr/>
        </p:nvSpPr>
        <p:spPr>
          <a:xfrm>
            <a:off x="2867040" y="2347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81"/>
          <p:cNvSpPr/>
          <p:nvPr/>
        </p:nvSpPr>
        <p:spPr>
          <a:xfrm>
            <a:off x="1362240" y="3876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2"/>
          <p:cNvSpPr/>
          <p:nvPr/>
        </p:nvSpPr>
        <p:spPr>
          <a:xfrm>
            <a:off x="2867040" y="3886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3"/>
          <p:cNvSpPr/>
          <p:nvPr/>
        </p:nvSpPr>
        <p:spPr>
          <a:xfrm>
            <a:off x="4394160" y="38750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逻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4"/>
          <p:cNvSpPr/>
          <p:nvPr/>
        </p:nvSpPr>
        <p:spPr>
          <a:xfrm>
            <a:off x="6311880" y="2049480"/>
            <a:ext cx="2005200" cy="295920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组合 87" descr=""/>
          <p:cNvPicPr/>
          <p:nvPr/>
        </p:nvPicPr>
        <p:blipFill>
          <a:blip r:embed="rId1"/>
          <a:stretch/>
        </p:blipFill>
        <p:spPr>
          <a:xfrm>
            <a:off x="6053040" y="1785960"/>
            <a:ext cx="596880" cy="603360"/>
          </a:xfrm>
          <a:prstGeom prst="rect">
            <a:avLst/>
          </a:prstGeom>
          <a:ln w="0">
            <a:noFill/>
          </a:ln>
        </p:spPr>
      </p:pic>
      <p:sp>
        <p:nvSpPr>
          <p:cNvPr id="151" name="矩形 29"/>
          <p:cNvSpPr/>
          <p:nvPr/>
        </p:nvSpPr>
        <p:spPr>
          <a:xfrm>
            <a:off x="6194520" y="1854360"/>
            <a:ext cx="236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Broadway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四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3774600" y="1876320"/>
            <a:ext cx="4556160" cy="3051000"/>
            <a:chOff x="3774600" y="1876320"/>
            <a:chExt cx="4556160" cy="3051000"/>
          </a:xfrm>
        </p:grpSpPr>
        <p:cxnSp>
          <p:nvCxnSpPr>
            <p:cNvPr id="154" name="AutoShape 2"/>
            <p:cNvCxnSpPr/>
            <p:nvPr/>
          </p:nvCxnSpPr>
          <p:spPr>
            <a:xfrm flipV="1">
              <a:off x="6041880" y="2514960"/>
              <a:ext cx="1080" cy="175464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55" name="AutoShape 3"/>
            <p:cNvCxnSpPr/>
            <p:nvPr/>
          </p:nvCxnSpPr>
          <p:spPr>
            <a:xfrm>
              <a:off x="4509360" y="3708000"/>
              <a:ext cx="1215000" cy="56808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56" name="Line 4"/>
            <p:cNvSpPr/>
            <p:nvPr/>
          </p:nvSpPr>
          <p:spPr>
            <a:xfrm flipV="1">
              <a:off x="6362280" y="3718440"/>
              <a:ext cx="1188720" cy="556920"/>
            </a:xfrm>
            <a:prstGeom prst="line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7" name="AutoShape 5"/>
            <p:cNvCxnSpPr/>
            <p:nvPr/>
          </p:nvCxnSpPr>
          <p:spPr>
            <a:xfrm flipV="1">
              <a:off x="4509720" y="2482560"/>
              <a:ext cx="1204560" cy="58716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158" name="AutoShape 6"/>
            <p:cNvCxnSpPr/>
            <p:nvPr/>
          </p:nvCxnSpPr>
          <p:spPr>
            <a:xfrm flipH="1" flipV="1">
              <a:off x="6318000" y="2491560"/>
              <a:ext cx="1258920" cy="578880"/>
            </a:xfrm>
            <a:prstGeom prst="straightConnector1">
              <a:avLst/>
            </a:prstGeom>
            <a:ln w="9360">
              <a:solidFill>
                <a:srgbClr val="984807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159" name="AutoShape 7"/>
            <p:cNvSpPr/>
            <p:nvPr/>
          </p:nvSpPr>
          <p:spPr>
            <a:xfrm rot="5400000">
              <a:off x="7375680" y="2731680"/>
              <a:ext cx="584640" cy="132516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56565"/>
                </a:gs>
                <a:gs pos="100000">
                  <a:srgbClr val="b0b0b0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 rot="5400000">
              <a:off x="4154400" y="2741040"/>
              <a:ext cx="567360" cy="132732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AutoShape 9"/>
            <p:cNvSpPr/>
            <p:nvPr/>
          </p:nvSpPr>
          <p:spPr>
            <a:xfrm rot="5400000">
              <a:off x="5743440" y="1494360"/>
              <a:ext cx="561240" cy="132480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10"/>
            <p:cNvSpPr/>
            <p:nvPr/>
          </p:nvSpPr>
          <p:spPr>
            <a:xfrm rot="5400000">
              <a:off x="5699520" y="3934080"/>
              <a:ext cx="618480" cy="1367640"/>
            </a:xfrm>
            <a:prstGeom prst="cube">
              <a:avLst>
                <a:gd name="adj" fmla="val 11657"/>
              </a:avLst>
            </a:prstGeom>
            <a:gradFill rotWithShape="0">
              <a:gsLst>
                <a:gs pos="0">
                  <a:srgbClr val="606320"/>
                </a:gs>
                <a:gs pos="100000">
                  <a:srgbClr val="a7ad3f"/>
                </a:gs>
              </a:gsLst>
              <a:lin ang="0"/>
            </a:gradFill>
            <a:ln w="9360">
              <a:solidFill>
                <a:srgbClr val="a9a9a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1"/>
          <p:cNvSpPr/>
          <p:nvPr/>
        </p:nvSpPr>
        <p:spPr>
          <a:xfrm>
            <a:off x="5549760" y="19731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7180200" y="32068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3949560" y="320688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5521320" y="44355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3564000" y="1488960"/>
            <a:ext cx="5040360" cy="3889440"/>
          </a:xfrm>
          <a:prstGeom prst="rect">
            <a:avLst/>
          </a:prstGeom>
          <a:noFill/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7"/>
          <p:cNvSpPr/>
          <p:nvPr/>
        </p:nvSpPr>
        <p:spPr>
          <a:xfrm>
            <a:off x="826920" y="2378160"/>
            <a:ext cx="2227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还要提醒一点，屏幕色彩、亮度的好坏也应该作为参考，如果看上去发暗的屏幕感觉很不爽。购买本本要在付款前确认是否有亮点、暗点等，每个厂家的标准不同，坏点过多可以更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8"/>
          <p:cNvSpPr/>
          <p:nvPr/>
        </p:nvSpPr>
        <p:spPr>
          <a:xfrm>
            <a:off x="826920" y="1692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25"/>
          <p:cNvSpPr/>
          <p:nvPr/>
        </p:nvSpPr>
        <p:spPr>
          <a:xfrm>
            <a:off x="826920" y="2187720"/>
            <a:ext cx="2082960" cy="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五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2207520" y="1019160"/>
            <a:ext cx="4329720" cy="4330080"/>
            <a:chOff x="2207520" y="1019160"/>
            <a:chExt cx="4329720" cy="4330080"/>
          </a:xfrm>
        </p:grpSpPr>
        <p:sp>
          <p:nvSpPr>
            <p:cNvPr id="173" name="PubPieSlice"/>
            <p:cNvSpPr/>
            <p:nvPr/>
          </p:nvSpPr>
          <p:spPr>
            <a:xfrm rot="2710200">
              <a:off x="2839680" y="1654560"/>
              <a:ext cx="3065040" cy="3058560"/>
            </a:xfrm>
            <a:custGeom>
              <a:avLst/>
              <a:gdLst>
                <a:gd name="textAreaLeft" fmla="*/ 448200 w 3065040"/>
                <a:gd name="textAreaRight" fmla="*/ 2616840 w 3065040"/>
                <a:gd name="textAreaTop" fmla="*/ 447480 h 3058560"/>
                <a:gd name="textAreaBottom" fmla="*/ 2611080 h 3058560"/>
              </a:gdLst>
              <a:ahLst/>
              <a:rect l="textAreaLeft" t="textAreaTop" r="textAreaRight" b="textAreaBottom"/>
              <a:pathLst>
                <a:path w="10801" h="21415">
                  <a:moveTo>
                    <a:pt x="3029" y="3299"/>
                  </a:moveTo>
                  <a:cubicBezTo>
                    <a:pt x="1086" y="5312"/>
                    <a:pt x="0" y="8001"/>
                    <a:pt x="0" y="10799"/>
                  </a:cubicBezTo>
                  <a:cubicBezTo>
                    <a:pt x="-1" y="15997"/>
                    <a:pt x="3702" y="20458"/>
                    <a:pt x="8811" y="21415"/>
                  </a:cubicBezTo>
                  <a:lnTo>
                    <a:pt x="10800" y="10800"/>
                  </a:lnTo>
                  <a:lnTo>
                    <a:pt x="3029" y="3299"/>
                  </a:lnTo>
                  <a:close/>
                </a:path>
              </a:pathLst>
            </a:cu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80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PubPieSlice"/>
            <p:cNvSpPr/>
            <p:nvPr/>
          </p:nvSpPr>
          <p:spPr>
            <a:xfrm rot="10131000">
              <a:off x="2870280" y="1650600"/>
              <a:ext cx="3058560" cy="3063600"/>
            </a:xfrm>
            <a:custGeom>
              <a:avLst/>
              <a:gdLst>
                <a:gd name="textAreaLeft" fmla="*/ 447480 w 3058560"/>
                <a:gd name="textAreaRight" fmla="*/ 2611080 w 3058560"/>
                <a:gd name="textAreaTop" fmla="*/ 448200 h 3063600"/>
                <a:gd name="textAreaBottom" fmla="*/ 2615400 h 3063600"/>
              </a:gdLst>
              <a:ahLst/>
              <a:rect l="textAreaLeft" t="textAreaTop" r="textAreaRight" b="textAreaBottom"/>
              <a:pathLst>
                <a:path w="10801" h="21427">
                  <a:moveTo>
                    <a:pt x="3029" y="3299"/>
                  </a:moveTo>
                  <a:cubicBezTo>
                    <a:pt x="1086" y="5312"/>
                    <a:pt x="0" y="8001"/>
                    <a:pt x="0" y="10799"/>
                  </a:cubicBezTo>
                  <a:cubicBezTo>
                    <a:pt x="-1" y="16024"/>
                    <a:pt x="3739" y="20499"/>
                    <a:pt x="8880" y="21427"/>
                  </a:cubicBezTo>
                  <a:lnTo>
                    <a:pt x="10800" y="10800"/>
                  </a:lnTo>
                  <a:lnTo>
                    <a:pt x="3029" y="3299"/>
                  </a:lnTo>
                  <a:close/>
                </a:path>
              </a:pathLst>
            </a:custGeom>
            <a:gradFill rotWithShape="0">
              <a:gsLst>
                <a:gs pos="0">
                  <a:srgbClr val="e46c0a"/>
                </a:gs>
                <a:gs pos="100000">
                  <a:srgbClr val="984807"/>
                </a:gs>
              </a:gsLst>
              <a:lin ang="33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PubPieSlice"/>
            <p:cNvSpPr/>
            <p:nvPr/>
          </p:nvSpPr>
          <p:spPr>
            <a:xfrm rot="16971600">
              <a:off x="2854800" y="1675800"/>
              <a:ext cx="3063600" cy="3058560"/>
            </a:xfrm>
            <a:custGeom>
              <a:avLst/>
              <a:gdLst>
                <a:gd name="textAreaLeft" fmla="*/ 448200 w 3063600"/>
                <a:gd name="textAreaRight" fmla="*/ 2615400 w 3063600"/>
                <a:gd name="textAreaTop" fmla="*/ 447480 h 3058560"/>
                <a:gd name="textAreaBottom" fmla="*/ 2611080 h 3058560"/>
              </a:gdLst>
              <a:ahLst/>
              <a:rect l="textAreaLeft" t="textAreaTop" r="textAreaRight" b="textAreaBottom"/>
              <a:pathLst>
                <a:path w="10801" h="20942">
                  <a:moveTo>
                    <a:pt x="2869" y="3468"/>
                  </a:moveTo>
                  <a:cubicBezTo>
                    <a:pt x="1024" y="5464"/>
                    <a:pt x="0" y="8082"/>
                    <a:pt x="0" y="10799"/>
                  </a:cubicBezTo>
                  <a:cubicBezTo>
                    <a:pt x="-1" y="15333"/>
                    <a:pt x="2830" y="19383"/>
                    <a:pt x="7087" y="20942"/>
                  </a:cubicBezTo>
                  <a:lnTo>
                    <a:pt x="10800" y="10800"/>
                  </a:lnTo>
                  <a:lnTo>
                    <a:pt x="2869" y="3468"/>
                  </a:lnTo>
                  <a:close/>
                </a:path>
              </a:pathLst>
            </a:custGeom>
            <a:gradFill rotWithShape="0">
              <a:gsLst>
                <a:gs pos="0">
                  <a:srgbClr val="a4ba1f"/>
                </a:gs>
                <a:gs pos="100000">
                  <a:srgbClr val="5e6b0d"/>
                </a:gs>
              </a:gsLst>
              <a:lin ang="18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直接连接符 30"/>
          <p:cNvSpPr/>
          <p:nvPr/>
        </p:nvSpPr>
        <p:spPr>
          <a:xfrm flipV="1">
            <a:off x="5508720" y="2064960"/>
            <a:ext cx="576000" cy="36036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31"/>
          <p:cNvSpPr/>
          <p:nvPr/>
        </p:nvSpPr>
        <p:spPr>
          <a:xfrm>
            <a:off x="6084720" y="2065320"/>
            <a:ext cx="201636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32"/>
          <p:cNvSpPr/>
          <p:nvPr/>
        </p:nvSpPr>
        <p:spPr>
          <a:xfrm>
            <a:off x="2560680" y="2065320"/>
            <a:ext cx="619200" cy="53964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33"/>
          <p:cNvSpPr/>
          <p:nvPr/>
        </p:nvSpPr>
        <p:spPr>
          <a:xfrm flipH="1">
            <a:off x="1006560" y="4317840"/>
            <a:ext cx="284472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3338640" y="26049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4092480" y="37209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4716360" y="25988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37"/>
          <p:cNvSpPr/>
          <p:nvPr/>
        </p:nvSpPr>
        <p:spPr>
          <a:xfrm flipH="1">
            <a:off x="971640" y="2065320"/>
            <a:ext cx="1589040" cy="0"/>
          </a:xfrm>
          <a:prstGeom prst="line">
            <a:avLst/>
          </a:prstGeom>
          <a:ln w="93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896760" y="16956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6084720" y="16956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1006560" y="39369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984807"/>
                </a:solidFill>
                <a:latin typeface="Calibri"/>
                <a:ea typeface="微软雅黑"/>
              </a:rPr>
              <a:t>、在此插入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4"/>
          <p:cNvSpPr/>
          <p:nvPr/>
        </p:nvSpPr>
        <p:spPr>
          <a:xfrm>
            <a:off x="6227640" y="2325600"/>
            <a:ext cx="1873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1038240" y="218772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1047600" y="4335480"/>
            <a:ext cx="18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解释性文字段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52340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标题 1"/>
          <p:cNvSpPr/>
          <p:nvPr/>
        </p:nvSpPr>
        <p:spPr>
          <a:xfrm>
            <a:off x="2411280" y="49320"/>
            <a:ext cx="2376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c3300"/>
                </a:solidFill>
                <a:latin typeface="华文隶书"/>
                <a:ea typeface="华文隶书"/>
              </a:rPr>
              <a:t>内页设计六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1619280" y="1498680"/>
            <a:ext cx="6479640" cy="3630240"/>
            <a:chOff x="1619280" y="1498680"/>
            <a:chExt cx="6479640" cy="3630240"/>
          </a:xfrm>
        </p:grpSpPr>
        <p:sp>
          <p:nvSpPr>
            <p:cNvPr id="193" name="Rectangle 2"/>
            <p:cNvSpPr/>
            <p:nvPr/>
          </p:nvSpPr>
          <p:spPr>
            <a:xfrm>
              <a:off x="1619280" y="149868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一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Group 5"/>
            <p:cNvGrpSpPr/>
            <p:nvPr/>
          </p:nvGrpSpPr>
          <p:grpSpPr>
            <a:xfrm>
              <a:off x="1913400" y="1907640"/>
              <a:ext cx="1261800" cy="487800"/>
              <a:chOff x="1913400" y="1907640"/>
              <a:chExt cx="1261800" cy="487800"/>
            </a:xfrm>
          </p:grpSpPr>
          <p:pic>
            <p:nvPicPr>
              <p:cNvPr id="195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3400" y="190764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Text Box 7"/>
              <p:cNvSpPr/>
              <p:nvPr/>
            </p:nvSpPr>
            <p:spPr>
              <a:xfrm>
                <a:off x="2175840" y="200952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Rectangle 4"/>
            <p:cNvSpPr/>
            <p:nvPr/>
          </p:nvSpPr>
          <p:spPr>
            <a:xfrm>
              <a:off x="1619280" y="241452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二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Group 9"/>
            <p:cNvGrpSpPr/>
            <p:nvPr/>
          </p:nvGrpSpPr>
          <p:grpSpPr>
            <a:xfrm>
              <a:off x="1913400" y="2835360"/>
              <a:ext cx="1261800" cy="487800"/>
              <a:chOff x="1913400" y="2835360"/>
              <a:chExt cx="1261800" cy="487800"/>
            </a:xfrm>
          </p:grpSpPr>
          <p:pic>
            <p:nvPicPr>
              <p:cNvPr id="199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3400" y="283536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11"/>
              <p:cNvSpPr/>
              <p:nvPr/>
            </p:nvSpPr>
            <p:spPr>
              <a:xfrm>
                <a:off x="2175840" y="293616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Rectangle 6"/>
            <p:cNvSpPr/>
            <p:nvPr/>
          </p:nvSpPr>
          <p:spPr>
            <a:xfrm>
              <a:off x="1619280" y="333072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三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2" name="Group 13"/>
            <p:cNvGrpSpPr/>
            <p:nvPr/>
          </p:nvGrpSpPr>
          <p:grpSpPr>
            <a:xfrm>
              <a:off x="1913400" y="3738600"/>
              <a:ext cx="1261800" cy="487800"/>
              <a:chOff x="1913400" y="3738600"/>
              <a:chExt cx="1261800" cy="487800"/>
            </a:xfrm>
          </p:grpSpPr>
          <p:pic>
            <p:nvPicPr>
              <p:cNvPr id="203" name="AutoShap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13400" y="3738600"/>
                <a:ext cx="12618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15"/>
              <p:cNvSpPr/>
              <p:nvPr/>
            </p:nvSpPr>
            <p:spPr>
              <a:xfrm>
                <a:off x="2175840" y="384264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Rectangle 8"/>
            <p:cNvSpPr/>
            <p:nvPr/>
          </p:nvSpPr>
          <p:spPr>
            <a:xfrm>
              <a:off x="1619280" y="4235400"/>
              <a:ext cx="1911240" cy="415440"/>
            </a:xfrm>
            <a:prstGeom prst="rect">
              <a:avLst/>
            </a:prstGeom>
            <a:gradFill rotWithShape="0">
              <a:gsLst>
                <a:gs pos="0">
                  <a:srgbClr val="984807"/>
                </a:gs>
                <a:gs pos="100000">
                  <a:srgbClr val="e46c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第四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6" name="Group 17"/>
            <p:cNvGrpSpPr/>
            <p:nvPr/>
          </p:nvGrpSpPr>
          <p:grpSpPr>
            <a:xfrm>
              <a:off x="1913400" y="4647240"/>
              <a:ext cx="1261800" cy="481680"/>
              <a:chOff x="1913400" y="4647240"/>
              <a:chExt cx="1261800" cy="481680"/>
            </a:xfrm>
          </p:grpSpPr>
          <p:pic>
            <p:nvPicPr>
              <p:cNvPr id="207" name="AutoShap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913400" y="4647240"/>
                <a:ext cx="12618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 Box 19"/>
              <p:cNvSpPr/>
              <p:nvPr/>
            </p:nvSpPr>
            <p:spPr>
              <a:xfrm>
                <a:off x="2175840" y="4745880"/>
                <a:ext cx="7358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Line 10"/>
            <p:cNvSpPr/>
            <p:nvPr/>
          </p:nvSpPr>
          <p:spPr>
            <a:xfrm flipV="1">
              <a:off x="3568320" y="2395440"/>
              <a:ext cx="4530600" cy="2124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 flipV="1">
              <a:off x="3568320" y="3330360"/>
              <a:ext cx="4530600" cy="252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V="1">
              <a:off x="3568320" y="4228200"/>
              <a:ext cx="4530600" cy="22320"/>
            </a:xfrm>
            <a:prstGeom prst="line">
              <a:avLst/>
            </a:prstGeom>
            <a:ln cap="rnd" w="12600">
              <a:solidFill>
                <a:srgbClr val="98480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38"/>
          <p:cNvSpPr/>
          <p:nvPr/>
        </p:nvSpPr>
        <p:spPr>
          <a:xfrm>
            <a:off x="1403280" y="1344600"/>
            <a:ext cx="2305080" cy="3784680"/>
          </a:xfrm>
          <a:prstGeom prst="rect">
            <a:avLst/>
          </a:prstGeom>
          <a:noFill/>
          <a:ln w="1260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7"/>
          <p:cNvSpPr/>
          <p:nvPr/>
        </p:nvSpPr>
        <p:spPr>
          <a:xfrm>
            <a:off x="4768560" y="1690560"/>
            <a:ext cx="252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适合女孩子的笔记本选购适合女孩子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适合女孩子的笔记本选购适合女孩子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8"/>
          <p:cNvSpPr/>
          <p:nvPr/>
        </p:nvSpPr>
        <p:spPr>
          <a:xfrm>
            <a:off x="4768560" y="3544920"/>
            <a:ext cx="252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游戏发烧友的笔记本选购游戏发烧友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游戏发烧友的笔记本选购游戏发烧友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9"/>
          <p:cNvSpPr/>
          <p:nvPr/>
        </p:nvSpPr>
        <p:spPr>
          <a:xfrm>
            <a:off x="5763600" y="2625840"/>
            <a:ext cx="53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一般游戏用的笔记本选购一般游戏用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一般游戏用的笔记本选购一般游戏用的笔记本选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微软雅黑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C:\Users\Administrator\Desktop\psd3575.png"/>
          <p:cNvPicPr/>
          <p:nvPr/>
        </p:nvPicPr>
        <p:blipFill>
          <a:blip r:embed="rId15"/>
          <a:stretch/>
        </p:blipFill>
        <p:spPr>
          <a:xfrm>
            <a:off x="6480" y="0"/>
            <a:ext cx="9137520" cy="5708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40000" y="4495320"/>
            <a:ext cx="287964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隶书"/>
              </a:rPr>
              <a:t>谢谢观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标题 1"/>
          <p:cNvSpPr/>
          <p:nvPr/>
        </p:nvSpPr>
        <p:spPr>
          <a:xfrm>
            <a:off x="3995640" y="4927680"/>
            <a:ext cx="4824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3:01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10:14:13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