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716-F78C-4B3C-BD2F-71506F65C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6CA-D870-420B-9008-FCDF30AB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3C3D-A1B0-4A8B-B060-9ED6CF3DA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FA4-D4CD-428E-879C-52F93381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F2A6-6C16-4636-8D0E-EA536475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F64-3605-4CB2-A0E8-20449448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A98-079A-4D89-9D5B-0A44CDF8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1B65-7888-4FBA-95DE-D7D1ED89C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C03-E9FD-4B91-BE6F-6E0F3F24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04E-554F-4B66-8EAA-E2CCE8FD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97F-B282-48F0-93FD-DF43D96C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F3B2-7D01-4CD5-A33C-FFB9B12B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BB5C-5CE6-4B2A-A469-1734295E26D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95B9-E06D-4CBA-84E8-50BF4F3BF1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2" name="组合 1"/>
          <p:cNvGrpSpPr/>
          <p:nvPr/>
        </p:nvGrpSpPr>
        <p:grpSpPr>
          <a:xfrm>
            <a:off x="644400" y="782640"/>
            <a:ext cx="7809120" cy="5402160"/>
            <a:chOff x="644400" y="782640"/>
            <a:chExt cx="7809120" cy="5402160"/>
          </a:xfrm>
        </p:grpSpPr>
        <p:grpSp>
          <p:nvGrpSpPr>
            <p:cNvPr id="43" name="Gruppe 81"/>
            <p:cNvGrpSpPr/>
            <p:nvPr/>
          </p:nvGrpSpPr>
          <p:grpSpPr>
            <a:xfrm>
              <a:off x="832320" y="5134320"/>
              <a:ext cx="2012760" cy="636480"/>
              <a:chOff x="832320" y="5134320"/>
              <a:chExt cx="2012760" cy="636480"/>
            </a:xfrm>
          </p:grpSpPr>
          <p:sp>
            <p:nvSpPr>
              <p:cNvPr id="44" name="Rektangel 23"/>
              <p:cNvSpPr/>
              <p:nvPr/>
            </p:nvSpPr>
            <p:spPr>
              <a:xfrm flipH="1">
                <a:off x="831960" y="535680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Ligebenet trapez 25"/>
              <p:cNvSpPr/>
              <p:nvPr/>
            </p:nvSpPr>
            <p:spPr>
              <a:xfrm flipH="1" flipV="1">
                <a:off x="831960" y="513432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Rektangel 23"/>
            <p:cNvSpPr/>
            <p:nvPr/>
          </p:nvSpPr>
          <p:spPr>
            <a:xfrm flipH="1">
              <a:off x="1488600" y="4942800"/>
              <a:ext cx="2004480" cy="41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gebenet trapez 25"/>
            <p:cNvSpPr/>
            <p:nvPr/>
          </p:nvSpPr>
          <p:spPr>
            <a:xfrm flipH="1" flipV="1">
              <a:off x="1487880" y="4720320"/>
              <a:ext cx="2012760" cy="222480"/>
            </a:xfrm>
            <a:custGeom>
              <a:avLst/>
              <a:gdLst>
                <a:gd name="textAreaLeft" fmla="*/ 362160 w 2012760"/>
                <a:gd name="textAreaRight" fmla="*/ 1650600 w 2012760"/>
                <a:gd name="textAreaTop" fmla="*/ 39960 h 222480"/>
                <a:gd name="textAreaBottom" fmla="*/ 182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755" y="21600"/>
                  </a:lnTo>
                  <a:lnTo>
                    <a:pt x="3845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uppe 81"/>
            <p:cNvGrpSpPr/>
            <p:nvPr/>
          </p:nvGrpSpPr>
          <p:grpSpPr>
            <a:xfrm>
              <a:off x="2275560" y="4308840"/>
              <a:ext cx="2012760" cy="636480"/>
              <a:chOff x="2275560" y="4308840"/>
              <a:chExt cx="2012760" cy="636480"/>
            </a:xfrm>
          </p:grpSpPr>
          <p:sp>
            <p:nvSpPr>
              <p:cNvPr id="49" name="Rektangel 23"/>
              <p:cNvSpPr/>
              <p:nvPr/>
            </p:nvSpPr>
            <p:spPr>
              <a:xfrm flipH="1">
                <a:off x="2275200" y="453132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Ligebenet trapez 25"/>
              <p:cNvSpPr/>
              <p:nvPr/>
            </p:nvSpPr>
            <p:spPr>
              <a:xfrm flipH="1" flipV="1">
                <a:off x="2275200" y="430884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uppe 81"/>
            <p:cNvGrpSpPr/>
            <p:nvPr/>
          </p:nvGrpSpPr>
          <p:grpSpPr>
            <a:xfrm>
              <a:off x="3128040" y="3896280"/>
              <a:ext cx="2012760" cy="636480"/>
              <a:chOff x="3128040" y="3896280"/>
              <a:chExt cx="2012760" cy="636480"/>
            </a:xfrm>
          </p:grpSpPr>
          <p:sp>
            <p:nvSpPr>
              <p:cNvPr id="52" name="Rektangel 23"/>
              <p:cNvSpPr/>
              <p:nvPr/>
            </p:nvSpPr>
            <p:spPr>
              <a:xfrm flipH="1">
                <a:off x="3127680" y="411876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gebenet trapez 25"/>
              <p:cNvSpPr/>
              <p:nvPr/>
            </p:nvSpPr>
            <p:spPr>
              <a:xfrm flipH="1" flipV="1">
                <a:off x="3127680" y="389628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uppe 81"/>
            <p:cNvGrpSpPr/>
            <p:nvPr/>
          </p:nvGrpSpPr>
          <p:grpSpPr>
            <a:xfrm>
              <a:off x="3915360" y="3485160"/>
              <a:ext cx="2012760" cy="636480"/>
              <a:chOff x="3915360" y="3485160"/>
              <a:chExt cx="2012760" cy="636480"/>
            </a:xfrm>
          </p:grpSpPr>
          <p:sp>
            <p:nvSpPr>
              <p:cNvPr id="55" name="Rektangel 23"/>
              <p:cNvSpPr/>
              <p:nvPr/>
            </p:nvSpPr>
            <p:spPr>
              <a:xfrm flipH="1">
                <a:off x="3915000" y="370764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gebenet trapez 25"/>
              <p:cNvSpPr/>
              <p:nvPr/>
            </p:nvSpPr>
            <p:spPr>
              <a:xfrm flipH="1" flipV="1">
                <a:off x="3915000" y="348516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Gruppe 81"/>
            <p:cNvGrpSpPr/>
            <p:nvPr/>
          </p:nvGrpSpPr>
          <p:grpSpPr>
            <a:xfrm>
              <a:off x="4702320" y="3072600"/>
              <a:ext cx="2012760" cy="636480"/>
              <a:chOff x="4702320" y="3072600"/>
              <a:chExt cx="2012760" cy="636480"/>
            </a:xfrm>
          </p:grpSpPr>
          <p:sp>
            <p:nvSpPr>
              <p:cNvPr id="58" name="Rektangel 23"/>
              <p:cNvSpPr/>
              <p:nvPr/>
            </p:nvSpPr>
            <p:spPr>
              <a:xfrm flipH="1">
                <a:off x="4701960" y="329508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gebenet trapez 25"/>
              <p:cNvSpPr/>
              <p:nvPr/>
            </p:nvSpPr>
            <p:spPr>
              <a:xfrm flipH="1" flipV="1">
                <a:off x="4701960" y="307260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Gruppe 81"/>
            <p:cNvGrpSpPr/>
            <p:nvPr/>
          </p:nvGrpSpPr>
          <p:grpSpPr>
            <a:xfrm>
              <a:off x="5489280" y="2670840"/>
              <a:ext cx="2012760" cy="636480"/>
              <a:chOff x="5489280" y="2670840"/>
              <a:chExt cx="2012760" cy="636480"/>
            </a:xfrm>
          </p:grpSpPr>
          <p:sp>
            <p:nvSpPr>
              <p:cNvPr id="61" name="Rektangel 23"/>
              <p:cNvSpPr/>
              <p:nvPr/>
            </p:nvSpPr>
            <p:spPr>
              <a:xfrm flipH="1">
                <a:off x="5488920" y="289332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gebenet trapez 25"/>
              <p:cNvSpPr/>
              <p:nvPr/>
            </p:nvSpPr>
            <p:spPr>
              <a:xfrm flipH="1" flipV="1">
                <a:off x="5488920" y="267084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uppe 81"/>
            <p:cNvGrpSpPr/>
            <p:nvPr/>
          </p:nvGrpSpPr>
          <p:grpSpPr>
            <a:xfrm>
              <a:off x="6186240" y="2258280"/>
              <a:ext cx="2012760" cy="636480"/>
              <a:chOff x="6186240" y="2258280"/>
              <a:chExt cx="2012760" cy="636480"/>
            </a:xfrm>
          </p:grpSpPr>
          <p:sp>
            <p:nvSpPr>
              <p:cNvPr id="64" name="Rektangel 23"/>
              <p:cNvSpPr/>
              <p:nvPr/>
            </p:nvSpPr>
            <p:spPr>
              <a:xfrm flipH="1">
                <a:off x="6185880" y="2480760"/>
                <a:ext cx="2004840" cy="414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gebenet trapez 25"/>
              <p:cNvSpPr/>
              <p:nvPr/>
            </p:nvSpPr>
            <p:spPr>
              <a:xfrm flipH="1" flipV="1">
                <a:off x="6185880" y="2258280"/>
                <a:ext cx="2012760" cy="222480"/>
              </a:xfrm>
              <a:custGeom>
                <a:avLst/>
                <a:gdLst>
                  <a:gd name="textAreaLeft" fmla="*/ 199440 w 2012760"/>
                  <a:gd name="textAreaRight" fmla="*/ 1813320 w 2012760"/>
                  <a:gd name="textAreaTop" fmla="*/ 21960 h 222480"/>
                  <a:gd name="textAreaBottom" fmla="*/ 200520 h 222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892" y="21600"/>
                    </a:lnTo>
                    <a:lnTo>
                      <a:pt x="708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Box 31"/>
            <p:cNvSpPr/>
            <p:nvPr/>
          </p:nvSpPr>
          <p:spPr>
            <a:xfrm>
              <a:off x="1234440" y="54540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Box 32"/>
            <p:cNvSpPr/>
            <p:nvPr/>
          </p:nvSpPr>
          <p:spPr>
            <a:xfrm>
              <a:off x="1946520" y="504144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33"/>
            <p:cNvSpPr/>
            <p:nvPr/>
          </p:nvSpPr>
          <p:spPr>
            <a:xfrm>
              <a:off x="2743200" y="462996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34"/>
            <p:cNvSpPr/>
            <p:nvPr/>
          </p:nvSpPr>
          <p:spPr>
            <a:xfrm>
              <a:off x="3591720" y="421884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35"/>
            <p:cNvSpPr/>
            <p:nvPr/>
          </p:nvSpPr>
          <p:spPr>
            <a:xfrm>
              <a:off x="4347360" y="37980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36"/>
            <p:cNvSpPr/>
            <p:nvPr/>
          </p:nvSpPr>
          <p:spPr>
            <a:xfrm>
              <a:off x="5166000" y="33948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37"/>
            <p:cNvSpPr/>
            <p:nvPr/>
          </p:nvSpPr>
          <p:spPr>
            <a:xfrm>
              <a:off x="6039000" y="299196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8"/>
            <p:cNvSpPr/>
            <p:nvPr/>
          </p:nvSpPr>
          <p:spPr>
            <a:xfrm>
              <a:off x="6588360" y="2561400"/>
              <a:ext cx="1474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ktangel 23"/>
            <p:cNvSpPr/>
            <p:nvPr/>
          </p:nvSpPr>
          <p:spPr>
            <a:xfrm flipH="1">
              <a:off x="832680" y="5770800"/>
              <a:ext cx="2004480" cy="414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59"/>
            <p:cNvGrpSpPr/>
            <p:nvPr/>
          </p:nvGrpSpPr>
          <p:grpSpPr>
            <a:xfrm>
              <a:off x="6783840" y="1729440"/>
              <a:ext cx="848520" cy="733680"/>
              <a:chOff x="6783840" y="1729440"/>
              <a:chExt cx="848520" cy="733680"/>
            </a:xfrm>
          </p:grpSpPr>
          <p:sp>
            <p:nvSpPr>
              <p:cNvPr id="76" name="Ellipse 59"/>
              <p:cNvSpPr/>
              <p:nvPr/>
            </p:nvSpPr>
            <p:spPr>
              <a:xfrm>
                <a:off x="6783840" y="2292120"/>
                <a:ext cx="848520" cy="171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5-Point Star 49"/>
              <p:cNvSpPr/>
              <p:nvPr/>
            </p:nvSpPr>
            <p:spPr>
              <a:xfrm>
                <a:off x="6917040" y="1729440"/>
                <a:ext cx="605880" cy="605520"/>
              </a:xfrm>
              <a:prstGeom prst="star5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1201320" y="4513680"/>
              <a:ext cx="360" cy="681480"/>
              <a:chOff x="1201320" y="4513680"/>
              <a:chExt cx="360" cy="681480"/>
            </a:xfrm>
          </p:grpSpPr>
          <p:sp>
            <p:nvSpPr>
              <p:cNvPr id="79" name="Line 33"/>
              <p:cNvSpPr/>
              <p:nvPr/>
            </p:nvSpPr>
            <p:spPr>
              <a:xfrm flipV="1">
                <a:off x="1201680" y="45136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 rot="10800000">
                <a:off x="1201320" y="45136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Rektangel 64"/>
            <p:cNvSpPr/>
            <p:nvPr/>
          </p:nvSpPr>
          <p:spPr>
            <a:xfrm>
              <a:off x="644400" y="377352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321080" y="2934000"/>
              <a:ext cx="360" cy="681480"/>
              <a:chOff x="4321080" y="2934000"/>
              <a:chExt cx="360" cy="681480"/>
            </a:xfrm>
          </p:grpSpPr>
          <p:sp>
            <p:nvSpPr>
              <p:cNvPr id="83" name="Line 33"/>
              <p:cNvSpPr/>
              <p:nvPr/>
            </p:nvSpPr>
            <p:spPr>
              <a:xfrm flipV="1">
                <a:off x="4321440" y="293400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 txBox="1"/>
              <p:nvPr/>
            </p:nvSpPr>
            <p:spPr>
              <a:xfrm rot="10800000">
                <a:off x="4321080" y="293400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ktangel 64"/>
            <p:cNvSpPr/>
            <p:nvPr/>
          </p:nvSpPr>
          <p:spPr>
            <a:xfrm>
              <a:off x="3763800" y="21938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675880" y="3748320"/>
              <a:ext cx="360" cy="681480"/>
              <a:chOff x="2675880" y="3748320"/>
              <a:chExt cx="360" cy="681480"/>
            </a:xfrm>
          </p:grpSpPr>
          <p:sp>
            <p:nvSpPr>
              <p:cNvPr id="87" name="Line 33"/>
              <p:cNvSpPr/>
              <p:nvPr/>
            </p:nvSpPr>
            <p:spPr>
              <a:xfrm flipV="1">
                <a:off x="2676240" y="374832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 txBox="1"/>
              <p:nvPr/>
            </p:nvSpPr>
            <p:spPr>
              <a:xfrm rot="10800000">
                <a:off x="2675880" y="374832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Rektangel 64"/>
            <p:cNvSpPr/>
            <p:nvPr/>
          </p:nvSpPr>
          <p:spPr>
            <a:xfrm>
              <a:off x="2118600" y="300816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929120" y="4513680"/>
              <a:ext cx="360" cy="681480"/>
              <a:chOff x="4929120" y="4513680"/>
              <a:chExt cx="360" cy="681480"/>
            </a:xfrm>
          </p:grpSpPr>
          <p:sp>
            <p:nvSpPr>
              <p:cNvPr id="91" name="Line 33"/>
              <p:cNvSpPr/>
              <p:nvPr/>
            </p:nvSpPr>
            <p:spPr>
              <a:xfrm flipV="1">
                <a:off x="4929480" y="45136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 rot="10800000">
                <a:off x="4929120" y="45136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ktangel 64"/>
            <p:cNvSpPr/>
            <p:nvPr/>
          </p:nvSpPr>
          <p:spPr>
            <a:xfrm>
              <a:off x="4322880" y="51548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819200" y="2891880"/>
              <a:ext cx="360" cy="681480"/>
              <a:chOff x="7819200" y="2891880"/>
              <a:chExt cx="360" cy="681480"/>
            </a:xfrm>
          </p:grpSpPr>
          <p:sp>
            <p:nvSpPr>
              <p:cNvPr id="95" name="Line 33"/>
              <p:cNvSpPr/>
              <p:nvPr/>
            </p:nvSpPr>
            <p:spPr>
              <a:xfrm flipV="1">
                <a:off x="7819560" y="28918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 rot="10800000">
                <a:off x="7819200" y="28918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ktangel 64"/>
            <p:cNvSpPr/>
            <p:nvPr/>
          </p:nvSpPr>
          <p:spPr>
            <a:xfrm>
              <a:off x="7212960" y="35150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3128040" y="5356440"/>
              <a:ext cx="360" cy="681480"/>
              <a:chOff x="3128040" y="5356440"/>
              <a:chExt cx="360" cy="681480"/>
            </a:xfrm>
          </p:grpSpPr>
          <p:sp>
            <p:nvSpPr>
              <p:cNvPr id="99" name="Line 33"/>
              <p:cNvSpPr/>
              <p:nvPr/>
            </p:nvSpPr>
            <p:spPr>
              <a:xfrm flipV="1">
                <a:off x="3128400" y="535644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 rot="10800000">
                <a:off x="3128040" y="535644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Rektangel 64"/>
            <p:cNvSpPr/>
            <p:nvPr/>
          </p:nvSpPr>
          <p:spPr>
            <a:xfrm>
              <a:off x="3080520" y="569448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843520" y="2090880"/>
              <a:ext cx="360" cy="681480"/>
              <a:chOff x="5843520" y="2090880"/>
              <a:chExt cx="360" cy="681480"/>
            </a:xfrm>
          </p:grpSpPr>
          <p:sp>
            <p:nvSpPr>
              <p:cNvPr id="103" name="Line 33"/>
              <p:cNvSpPr/>
              <p:nvPr/>
            </p:nvSpPr>
            <p:spPr>
              <a:xfrm flipV="1">
                <a:off x="5843880" y="209088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 rot="10800000">
                <a:off x="5843520" y="209088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Rektangel 64"/>
            <p:cNvSpPr/>
            <p:nvPr/>
          </p:nvSpPr>
          <p:spPr>
            <a:xfrm>
              <a:off x="5286240" y="135072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6340680" y="3706200"/>
              <a:ext cx="360" cy="681480"/>
              <a:chOff x="6340680" y="3706200"/>
              <a:chExt cx="360" cy="681480"/>
            </a:xfrm>
          </p:grpSpPr>
          <p:sp>
            <p:nvSpPr>
              <p:cNvPr id="107" name="Line 33"/>
              <p:cNvSpPr/>
              <p:nvPr/>
            </p:nvSpPr>
            <p:spPr>
              <a:xfrm flipV="1">
                <a:off x="6341040" y="3706200"/>
                <a:ext cx="0" cy="68148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6340680" y="3706200"/>
                <a:ext cx="360" cy="6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ktangel 64"/>
            <p:cNvSpPr/>
            <p:nvPr/>
          </p:nvSpPr>
          <p:spPr>
            <a:xfrm>
              <a:off x="5734440" y="430200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194960" y="1482120"/>
              <a:ext cx="360" cy="196560"/>
              <a:chOff x="7194960" y="1482120"/>
              <a:chExt cx="360" cy="196560"/>
            </a:xfrm>
          </p:grpSpPr>
          <p:sp>
            <p:nvSpPr>
              <p:cNvPr id="111" name="Line 33"/>
              <p:cNvSpPr/>
              <p:nvPr/>
            </p:nvSpPr>
            <p:spPr>
              <a:xfrm flipV="1">
                <a:off x="7195320" y="1482120"/>
                <a:ext cx="0" cy="196560"/>
              </a:xfrm>
              <a:prstGeom prst="line">
                <a:avLst/>
              </a:prstGeom>
              <a:ln w="19080">
                <a:solidFill>
                  <a:srgbClr val="343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 rot="10800000">
                <a:off x="7194960" y="1482120"/>
                <a:ext cx="360" cy="196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ktangel 64"/>
            <p:cNvSpPr/>
            <p:nvPr/>
          </p:nvSpPr>
          <p:spPr>
            <a:xfrm>
              <a:off x="6656760" y="782640"/>
              <a:ext cx="1240560" cy="47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80808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360" y="6308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25160" y="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递进关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6516-3EB6-4A56-81A5-78EDF6AEF9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6:20:15Z</dcterms:modified>
  <cp:revision>11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