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5A9-D1A7-4A09-B33E-72BAC717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82A-48F3-4DDD-9E0A-46BA342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42A-5F47-42A6-99F8-6AF542B2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128-0A62-4EAC-B288-D23A285D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C0D-8FC5-4E60-8961-E04AFEF6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18B3-C9F7-449D-90FC-E66833D3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EA5A-0776-481C-A2D3-9D4A57B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305-FF97-4737-A87E-4DA3E23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950D-74AE-493D-90C7-EE64DDA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B07-79AF-4D0B-AAAE-57C44DCB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DB7-C75C-455C-A267-EB17CDD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2EE-74F6-41D2-A297-4898B4B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80A5-869B-4F4F-B526-A9B2553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5F5-4F01-40FA-B375-E7BC0BD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5EA0-473E-4274-8E85-CC42533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D1BE-141E-4669-A219-F81D49FE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67B1-F871-4BC5-85E9-1B9F4A45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0C4-2C38-4B0D-A526-DB8109B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2F7-18DE-4F41-95C1-B33331AA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A91-AE03-4F7F-B355-C569A210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F5C-1617-47E1-90A3-832A3ED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265-4239-497B-ABBF-7ED4F40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552-9E3B-4D9A-9DF3-728D671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5C4-BCA4-4BBA-A67D-4D982D0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8B29-284B-44F3-A2FD-7B8B21E03A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E1C-2DE1-4571-8867-4725248ED20F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6408720" cy="102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8e2"/>
                </a:solidFill>
                <a:latin typeface="Arial Narrow"/>
                <a:ea typeface="黑体"/>
              </a:rPr>
              <a:t> 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83" name="Picture 9" descr="tt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432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14.png"/>
          <p:cNvPicPr/>
          <p:nvPr/>
        </p:nvPicPr>
        <p:blipFill>
          <a:blip r:embed="rId3"/>
          <a:srcRect l="12584" t="38392" r="0" b="19540"/>
          <a:stretch/>
        </p:blipFill>
        <p:spPr>
          <a:xfrm>
            <a:off x="1150920" y="270828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9.png"/>
          <p:cNvPicPr/>
          <p:nvPr/>
        </p:nvPicPr>
        <p:blipFill>
          <a:blip r:embed="rId4"/>
          <a:srcRect l="28656" t="14526" r="30148" b="35521"/>
          <a:stretch/>
        </p:blipFill>
        <p:spPr>
          <a:xfrm>
            <a:off x="-252360" y="907920"/>
            <a:ext cx="2289240" cy="21290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4" descr="16.png"/>
          <p:cNvPicPr/>
          <p:nvPr/>
        </p:nvPicPr>
        <p:blipFill>
          <a:blip r:embed="rId5"/>
          <a:srcRect l="14828" t="42073" r="31554" b="28964"/>
          <a:stretch/>
        </p:blipFill>
        <p:spPr>
          <a:xfrm>
            <a:off x="-900000" y="2276640"/>
            <a:ext cx="490356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3" descr="15.png"/>
          <p:cNvPicPr/>
          <p:nvPr/>
        </p:nvPicPr>
        <p:blipFill>
          <a:blip r:embed="rId6"/>
          <a:srcRect l="0" t="54027" r="72073" b="22989"/>
          <a:stretch/>
        </p:blipFill>
        <p:spPr>
          <a:xfrm>
            <a:off x="0" y="3213000"/>
            <a:ext cx="2554200" cy="157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8e2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eae8e2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5120" y="189000"/>
            <a:ext cx="35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1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2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四、共青团章程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27" name="Picture 1028" descr="fa3407238e5034569922ed59"/>
          <p:cNvPicPr/>
          <p:nvPr/>
        </p:nvPicPr>
        <p:blipFill>
          <a:blip r:embed="rId2"/>
          <a:stretch/>
        </p:blipFill>
        <p:spPr>
          <a:xfrm>
            <a:off x="468360" y="1916280"/>
            <a:ext cx="271152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29"/>
          <p:cNvSpPr/>
          <p:nvPr/>
        </p:nvSpPr>
        <p:spPr>
          <a:xfrm>
            <a:off x="3995640" y="2708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共青团章程的对象是共青团成员。章程分为两部分，一是团歌，二是总则。总则分为九章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条，章程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页，红色封皮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bc03"/>
                </a:solidFill>
                <a:latin typeface="Impact"/>
              </a:rPr>
              <a:t>共青团章程具体内容：</a:t>
            </a:r>
            <a:endParaRPr b="0" lang="en-US" sz="2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团员必须履行下列义务：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一）努力学习马克思列宁主义、毛泽东思想、邓小平理论和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三个代表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重要思想，学习团的基本知识，学习科学、文化和业务知识，不断提高为人民服务的本领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二）宣传、执行党的基本路线和各项方针政策，积极参加改革开放和社会主义现代化建设，努力完成团组织交给的任务，在学习、劳动、工作及其他社会活动中起模范作用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三）自觉遵守国家的法律法规和团的纪律，执行团的决议，发扬社会主义新风尚，提倡共产主义道德，维护国家和人民的利益，为保护国家财产和人民群众的安全挺身而出，英勇斗争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四）接受国防教育，增强国防意识，积极履行保卫祖国的义务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五）虚心向人民群众学习，热心帮助青年进步，及时反映青年的意见和要求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六）开展批评和自我批评，勇于改正缺点和错误，自觉维护团结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bc03"/>
                </a:solidFill>
                <a:latin typeface="Impact"/>
              </a:rPr>
              <a:t>团员享有下列权利：</a:t>
            </a:r>
            <a:r>
              <a:rPr b="1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一）参加团的有关会议和团组织开展的各类活动，接受团组织的教育和培训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二）在团内有选举权、被选举权和表决权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三）在团的会议和团的报刊上，参加关于团的工作和青年关心的问题的讨论，对团的工作提出建议，监督、批评团的领导机关和团的工作人员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四）对团的决议如有不同意见，在坚决执行的前提下，可以保留，并且可以向团的上级组织提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五）参加团组织讨论对自己处分的会议，并且可以申辩，其他团员可以为其作证和辩护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六）向团的任何一级组织直至中央委员会提出请求、申诉和控告，并要求有关组织给以负责的答复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团的任何一级组织或个人都无权剥夺团员的权利。能集中全力抢救，常能化险为夷，转危为安。 二、要早报警，报警愈早，损失愈小。牢记</a:t>
            </a:r>
            <a:r>
              <a:rPr b="0" lang="zh-CN" sz="16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eae8e2"/>
                </a:solidFill>
                <a:latin typeface="Arial Narrow"/>
              </a:rPr>
              <a:t>119</a:t>
            </a:r>
            <a:r>
              <a:rPr b="0" lang="en-US" sz="16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火警电话。 三、要先救火，后搬运财物，片刻延误，易成巨灾。失火时，不宜先抢救财物，易被咽呛窒息而死或失去逃生的时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179280" y="5013360"/>
            <a:ext cx="2772000" cy="110484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相对论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五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团员民主评议与共青团员意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</a:t>
            </a:r>
            <a:r>
              <a:rPr b="1" lang="en-US" sz="2400" spc="-1" strike="noStrike">
                <a:solidFill>
                  <a:srgbClr val="eae8e2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是团组织借鉴民主评议党员的经验，结合共青团的特点和团员成长进步的内在规律要求，在实践中摸索形成的团员教育形式。其目的是要提高团员的思想素质素质，充分发挥团员的模范作用，增强团的战斗力和凝聚力。同时，为了严肃团的纪律，对极少数不合格团员做出必要的组织处理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的方法和步骤 ：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学习教育→个人总结→民主评议→团籍注册→表彰先进与组织处理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1.</a:t>
            </a:r>
            <a:r>
              <a:rPr b="1" lang="zh-CN" sz="2800" spc="-1" strike="noStrike">
                <a:solidFill>
                  <a:srgbClr val="fdbc03"/>
                </a:solidFill>
                <a:latin typeface="Arial Narrow"/>
              </a:rPr>
              <a:t>合格团员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坚持四项基本原则，拥护改革开放，积极贯彻党在新时期的基本路线、方针和政策；按时参加各项政治学习活动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热爱祖国，热爱党的教育事业，专业思想牢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遵守法规院规，爱护公物，无故意破坏公物行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发扬社会主义道德风尚，关心集体，尊敬师长，团结同学，乐于助人，努力完成党、团交给的各项任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学习目的明确，态度端正，按时完成作业，自觉遵守课堂纪律和考试纪律，无旷课和考试作弊现象，一年内补考次数不超过三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6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积极参加院、校、班组织的各类科技、学术、文艺、体育活动和社会实践活动，积极加强专业基本技能的训练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7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自觉增强团员意识，履行团员义务，按时交纳团费，积极参加组织生活和团内活动，没有无故缺席现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8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一年内无受过院、校或团内处分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55640" y="83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各类型团员标准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dbc03"/>
                </a:solidFill>
                <a:latin typeface="Arial Black"/>
              </a:rPr>
              <a:t>优秀团员：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优秀团员在符合合格团员标准的基础上，还应具备以下条件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         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上积极要求进步，努力向党组织靠拢，主动参加政治学习和党章学习小组、马列学习小组的学习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各种义务劳动与公益活动，能起模范带头作用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觉悟高，集体观念强，积极支持与帮助开展团的工作，在团员中享有较高威信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见义勇为，敢于与不良现象、行为作斗争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团组织的各类科技、学术、文艺、体育活动和社会实践，有出色表现，成绩优良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5013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eae8e2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六、重温团歌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43" name="Picture 4" descr="2009032319353533_conew1"/>
          <p:cNvPicPr/>
          <p:nvPr/>
        </p:nvPicPr>
        <p:blipFill>
          <a:blip r:embed="rId2"/>
          <a:stretch/>
        </p:blipFill>
        <p:spPr>
          <a:xfrm>
            <a:off x="468360" y="177336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564000" y="1916280"/>
            <a:ext cx="518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dbc03"/>
                </a:solidFill>
                <a:latin typeface="Times New Roman"/>
              </a:rPr>
              <a:t>光荣啊，中国共青团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》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胡宏伟 作词　雷雨声 作曲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五月的花海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青春拥抱时代；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初升的太阳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生命点燃未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“五四”的火炬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唤起了民族的觉醒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壮丽的事业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激励着我们继往开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母亲用共产主义为我们命名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开创新的世界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七、重温入党誓词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国共产党的入党誓词共分为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５个时期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——</a:t>
            </a:r>
            <a:r>
              <a:rPr b="0" lang="en-US" sz="1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红军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严守秘密，服从纪律，牺牲个人，阶级斗争，努力革命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抗日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坚持执行党的纪律，不怕困难，不怕牺牲，为共产主义事业奋斗到底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解放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作如下宣誓：一、终身为共产主义事业奋斗。二、党的利益高于一切。三、遵守党的纪律。四、不怕困难，永远为党工作。五、要做群众的模范。六、要保守党的秘密。七、对党有信心。八、百折不挠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建国初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承认党纲党章，执行党的决议，遵守党的纪律，保守党的秘密，随时准备牺牲个人的一切，为全人类彻底解放奋斗终身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十二大以后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拥护党的纲领，遵守党的章程，履行党员义务，执行党的决定，严守党的纪律，保守党的秘密，对党忠诚，积极工作，为共产主义奋斗终身，随时准备为党和人民牺牲一切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77724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c03"/>
                </a:solidFill>
                <a:latin typeface="Arial Narrow"/>
              </a:rPr>
              <a:t> 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dbc03"/>
                </a:solidFill>
                <a:latin typeface="Arial Narrow"/>
              </a:rPr>
              <a:t>谢谢观赏。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dbc03"/>
                </a:solidFill>
                <a:latin typeface="Arial Narrow"/>
              </a:rPr>
              <a:t>                                        大家都不容易。。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508428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  <a:ea typeface="隶书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050920" y="5084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宋体"/>
              </a:rPr>
              <a:t>2010.11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50" name="Picture 12" descr="162@(CDVF}~KCC4YIC6`KW7"/>
          <p:cNvPicPr/>
          <p:nvPr/>
        </p:nvPicPr>
        <p:blipFill>
          <a:blip r:embed="rId2"/>
          <a:stretch/>
        </p:blipFill>
        <p:spPr>
          <a:xfrm>
            <a:off x="3419640" y="213372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_$ZA4SXP8AS2H~8GJ7QA(~H"/>
          <p:cNvPicPr/>
          <p:nvPr/>
        </p:nvPicPr>
        <p:blipFill>
          <a:blip r:embed="rId3"/>
          <a:stretch/>
        </p:blipFill>
        <p:spPr>
          <a:xfrm>
            <a:off x="8172360" y="328464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站点介绍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Narrow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特别说明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Narrow"/>
              </a:rPr>
              <a:t>栏目推荐：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8e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7FB-CA54-4C46-B667-27FFFE02E0DC}" type="slidenum">
              <a:t>19</a:t>
            </a:fld>
          </a:p>
        </p:txBody>
      </p:sp>
    </p:spTree>
  </p:cSld>
  <p:transition spd="slow" advTm="9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前言：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亲爱的同学们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SzPct val="118171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 Narrow"/>
              </a:rPr>
              <a:t>       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为了响应院团委的号召，在全  院新生团员内广泛开   展新生团员教育，作为团支书，今天由我来给大家讲解一些关于团学教育的内容，希望大家保持安静，认真学习，觉得有需要的同学可以适当地做些笔记。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^-^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5013360"/>
            <a:ext cx="36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一节课很快过去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大家加油！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1699920"/>
            <a:ext cx="609444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一、共青团的创立过程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二、共青团组织几次更名活动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三、团的历次全国代表大会的基本情况</a:t>
            </a: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四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92360" y="620640"/>
            <a:ext cx="540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 Narrow"/>
                <a:ea typeface="黑体"/>
              </a:rPr>
              <a:t>学习团的历史</a:t>
            </a:r>
            <a:endParaRPr b="0" lang="en-US" sz="5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8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533080" cy="394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              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共青团的创立过程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  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8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俞秀松建立了上海社会主义共青团。</a:t>
            </a:r>
            <a:br>
              <a:rPr sz="2800"/>
            </a:b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  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至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中国社会主义青年团第一次全国代表大会在广州东园召开，此次会议标志着团的诞生。</a:t>
            </a:r>
            <a:br>
              <a:rPr sz="2800"/>
            </a:b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        </a:t>
            </a:r>
            <a:r>
              <a:rPr b="0" lang="zh-CN" sz="2400" spc="-1" strike="noStrike">
                <a:solidFill>
                  <a:srgbClr val="fdbc03"/>
                </a:solidFill>
                <a:latin typeface="Impact"/>
              </a:rPr>
              <a:t>从此，青年团作为中国共产党的助手和后备军在党的领导下，团结带领全国各 族青年，积极投身到振兴中华，实现中华民族伟大复兴的事业中。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1405440" y="551664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26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ae8e2"/>
                </a:solidFill>
                <a:latin typeface="Arial Black"/>
                <a:ea typeface="隶书"/>
              </a:rPr>
              <a:t>。</a:t>
            </a:r>
            <a:endParaRPr b="0" lang="en-US" sz="13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0880" y="907920"/>
            <a:ext cx="8132760" cy="9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共青团组织几次更名活动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团的历次全国代表大会基本情况</a:t>
            </a:r>
            <a:br>
              <a:rPr sz="3600"/>
            </a:b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党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党的直接领导下，中国社会主义青年团在广州召开第一次全国代表大会，成立了全国统一的组织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3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为团结一切抗日青年，反对日本帝国主义的侵略，党决定将共青团组织改造成为民族解放性质的抗日救国的青年团体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抗日战争胜利后，为适应新形势和新任务的需要，党中央在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提议建立民主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元旦，党中央又作出建立中国新民主主义青年团的决议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大会还决定把解放前后的中国社会主义青年团、共产主义青年团和新民主主义青年团的历次代表大会衔接起来。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文化大革命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，团的工作被迫处于停顿状态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7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主义青年团第十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一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二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三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四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200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五次全国代表大会召开，选举产生了现任团中央委员会 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1" name="Rectangle 10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Rectangle 10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Rectangle 10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Rectangle 10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Rectangle 10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Rectangle 10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Rectangle 10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Rectangle 10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Rectangle 10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Rectangle 10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Rectangle 10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Rectangle 10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Text Box 1041"/>
          <p:cNvSpPr/>
          <p:nvPr/>
        </p:nvSpPr>
        <p:spPr>
          <a:xfrm flipV="1">
            <a:off x="1095480" y="4749480"/>
            <a:ext cx="70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Rectangle 104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Rectangle 10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Rectangle 10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Rectangle 10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4</a:t>
            </a:r>
            <a:r>
              <a:rPr b="0" lang="zh-CN" sz="4400" spc="-1" strike="noStrike">
                <a:solidFill>
                  <a:srgbClr val="fdbc03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一）始终站在社会变革的前列，做革命和建设事业的突击队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二）代表和维护青年利益，适应青年特点开展工作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三）自觉接受党的领导，积极引导青年前进。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324480" y="4648320"/>
            <a:ext cx="2514600" cy="175248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光荣啊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二</a:t>
            </a:r>
            <a:r>
              <a:rPr b="1" lang="zh-CN" sz="4400" spc="-1" strike="noStrike">
                <a:solidFill>
                  <a:srgbClr val="fdbc03"/>
                </a:solidFill>
                <a:latin typeface="Arial Black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学习党的十七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台海政策：推进一国两制实践实现祖国统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民经济：要促进国民经济又好又快发展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民主政治：坚定不移发展社会主义民主政治 要深入贯彻落实科学发展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社会民生：改革分配制度增加居民收入 实现全面建设小康社会新要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防外交：提高应对安全威胁能力 中国将始终不渝走和平发展道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党的建设：加强执政能力建设 惩治和预防腐败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改革开放：改革开放决定中国命运 停顿倒退没有出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三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学习团的十六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团的十六大精神是：在全面贯彻党的十七大精神、全体青年团员深入学习胡锦涛同志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月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3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日在北大师生座谈会上的重要讲话、深入贯彻落实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科学发展观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新高潮的形势下召开的一次历史性盛会，对于更好地团结动员广大团员青年，深入学习贯彻落实科学发展观重要思想和党的十七大精神，为实现全面建设小康社会的宏伟目标而努力奋斗，具有十分重要的意义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6:43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10:0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1588072052</vt:lpwstr>
  </property>
</Properties>
</file>