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557DE-30F1-49A3-8025-7B1686F982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C7127-59C5-4B78-9BAE-235FAC0A9D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C7569-8885-4860-B059-76A9E7415D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F32FB-DBBF-4E73-97DF-6AF87E7A2D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000" y="333000"/>
            <a:ext cx="583236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39B36-C440-45B9-A401-460636728A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C6B4E-94CB-4312-BC0B-804AF6E29C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91756-A176-46D0-8BB4-5F1BF2FE88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D0DD3-1480-4EFA-B502-CA39894390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333000"/>
            <a:ext cx="583236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26C91-14B4-49BA-88FF-B01E3AEB07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FE981-8595-4933-9986-A41DF2651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C63FD-018D-43E1-8D35-F80C1C9C7B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9F617-9F09-431D-9049-B6779372A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8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7"/>
          <p:cNvSpPr/>
          <p:nvPr/>
        </p:nvSpPr>
        <p:spPr>
          <a:xfrm>
            <a:off x="7308720" y="6288120"/>
            <a:ext cx="13892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51068B4-5F13-449C-8110-B38FA11CF6A5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1" descr="bg1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68360" y="3240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bbs.ruideppt.com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4608000"/>
            <a:ext cx="5398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68360" y="568764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">
            <a:hlinkClick r:id="rId1"/>
          </p:cNvPr>
          <p:cNvSpPr/>
          <p:nvPr/>
        </p:nvSpPr>
        <p:spPr>
          <a:xfrm>
            <a:off x="2340000" y="6535800"/>
            <a:ext cx="50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i="1" lang="zh-CN" sz="1200" spc="-1" strike="noStrike">
                <a:solidFill>
                  <a:srgbClr val="ffffff"/>
                </a:solidFill>
                <a:latin typeface="Arial"/>
              </a:rPr>
              <a:t>模板网，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84160" y="1890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动态动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F1020776-F193-4ED9-BB45-E367B0AD7657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530208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2850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B18E0-86B6-4E4B-8EEA-32579E34A9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7:08:20Z</dcterms:modified>
  <cp:revision>2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