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type.wav" ContentType="audio/x-wav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E17D-9311-4676-97C8-A2192817AB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43000" y="68544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0AB2-82F7-4EC1-BA01-AF15AD39B4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43000" y="68544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A63A-B5AC-4C11-B35E-3FF8A86867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68544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5075-24BD-4968-B9EF-86F3AC1DFD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43000" y="68544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8DE7-51DF-4F30-B56C-2C5D425B6E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43000" y="68544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05C-F5F1-4864-B760-CA38C3E4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ABD-55A0-4DC1-AA12-772E4674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1F5-118E-4C97-BF86-29A26E2A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CDC-B0B7-49C1-89EC-C46268AC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452D-B20F-47BB-9152-F9E41BB1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E1FC-603A-40E7-B5F2-F450E031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AB2E-3402-49E5-94AF-C99A8041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F3C0-4A0F-4A1E-A3A6-0ED4D014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2C52-5AD1-437C-BF5F-AE156611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0876-F0B3-46FA-88E1-B87AD7BD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BD6C-CB46-445E-9C9F-BF2056F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A75-1AC1-461C-BFB9-E3B3302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61A5-4556-4B8B-A48D-9CF9393F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8FC1-A314-4B53-A11D-006CA1B0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D669-7EF4-45DE-897C-4206E1D3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0000-E88F-4A24-AE78-CF73630A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27C6-6C81-4803-822B-BCFB2538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A60-01CF-44CF-9B5B-3F22BFE4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D4B-8FAB-4D30-8D71-872FC844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3AB-D9C1-4B21-8C81-41769298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64E-B0DA-40F8-8367-FB571118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27F-EB4E-48C1-AB10-9314C9E8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EF0-124A-4F98-B2A3-6D00C11F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D2D-EA7F-4EF6-BC94-99F9737F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7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9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416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36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D841-7A59-4F76-B051-B15687596FA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228240" y="1371240"/>
            <a:ext cx="863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5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876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596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17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89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48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4C3C-5812-41E0-945F-412CE8E7EDF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4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幼圆"/>
              </a:rPr>
              <a:t>动 物 保 护 学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94920" y="3352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讲教师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××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时        间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××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676520"/>
            <a:ext cx="68580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华文行楷"/>
              </a:rPr>
              <a:t>动物与人类息息相关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华文行楷"/>
              </a:rPr>
              <a:t>爱护动物就是爱护我们自己。</a:t>
            </a:r>
            <a:r>
              <a:rPr b="0" lang="zh-CN" sz="2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AN02097_" descr=""/>
          <p:cNvPicPr/>
          <p:nvPr/>
        </p:nvPicPr>
        <p:blipFill>
          <a:blip r:embed="rId1"/>
          <a:stretch/>
        </p:blipFill>
        <p:spPr>
          <a:xfrm>
            <a:off x="0" y="4191120"/>
            <a:ext cx="2279520" cy="2666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81952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26708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791320" y="546732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7391520" y="5429160"/>
            <a:ext cx="14475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BEEE-F1A3-435B-B89F-5CC960F39234}" type="slidenum">
              <a:t>1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4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4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谢                谢！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B891-B76F-4DF2-A40A-7A4E0FB2E7F5}" type="slidenum">
              <a:t>10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一讲  动物保护的内容及意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63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们的社会对动物保护的关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CAF-1C3E-44D2-A2F6-2FEEE16AE587}" type="slidenum">
              <a:t>2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934320" cy="76212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、动物保护的概念及范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63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幼圆"/>
                <a:ea typeface="幼圆"/>
              </a:rPr>
              <a:t>“</a:t>
            </a:r>
            <a:r>
              <a:rPr b="1" lang="zh-CN" sz="2800" spc="-1" strike="noStrike">
                <a:solidFill>
                  <a:srgbClr val="ffccff"/>
                </a:solidFill>
                <a:latin typeface="幼圆"/>
                <a:ea typeface="幼圆"/>
              </a:rPr>
              <a:t>保护”（</a:t>
            </a:r>
            <a:r>
              <a:rPr b="1" lang="zh-CN" sz="2800" spc="-1" strike="noStrike">
                <a:solidFill>
                  <a:srgbClr val="ffccff"/>
                </a:solidFill>
                <a:latin typeface="幼圆"/>
                <a:ea typeface="幼圆"/>
              </a:rPr>
              <a:t>protection</a:t>
            </a:r>
            <a:r>
              <a:rPr b="1" lang="zh-CN" sz="2800" spc="-1" strike="noStrike">
                <a:solidFill>
                  <a:srgbClr val="ffccff"/>
                </a:solidFill>
                <a:latin typeface="幼圆"/>
                <a:ea typeface="幼圆"/>
              </a:rPr>
              <a:t>）的</a:t>
            </a: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实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保护的含义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2A3-381E-4D06-9905-9FF7F8A37289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、动物保护的对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63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包括</a:t>
            </a:r>
            <a:r>
              <a:rPr b="1" lang="zh-CN" sz="2800" spc="-1" strike="noStrike">
                <a:solidFill>
                  <a:srgbClr val="ffccff"/>
                </a:solidFill>
                <a:latin typeface="Times New Roman"/>
              </a:rPr>
              <a:t>野生动物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ff"/>
                </a:solidFill>
                <a:latin typeface="Times New Roman"/>
              </a:rPr>
              <a:t>家养动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2133720" cy="1898640"/>
          </a:xfrm>
          <a:prstGeom prst="rect">
            <a:avLst/>
          </a:prstGeom>
          <a:ln w="0">
            <a:noFill/>
          </a:ln>
        </p:spPr>
      </p:pic>
      <p:pic>
        <p:nvPicPr>
          <p:cNvPr id="168" name="A1_506" descr=""/>
          <p:cNvPicPr/>
          <p:nvPr/>
        </p:nvPicPr>
        <p:blipFill>
          <a:blip r:embed="rId2"/>
          <a:stretch/>
        </p:blipFill>
        <p:spPr>
          <a:xfrm>
            <a:off x="838080" y="4724280"/>
            <a:ext cx="1040040" cy="1839960"/>
          </a:xfrm>
          <a:prstGeom prst="rect">
            <a:avLst/>
          </a:prstGeom>
          <a:ln w="0">
            <a:noFill/>
          </a:ln>
        </p:spPr>
      </p:pic>
      <p:pic>
        <p:nvPicPr>
          <p:cNvPr id="169" name="A1_492" descr=""/>
          <p:cNvPicPr/>
          <p:nvPr/>
        </p:nvPicPr>
        <p:blipFill>
          <a:blip r:embed="rId3"/>
          <a:stretch/>
        </p:blipFill>
        <p:spPr>
          <a:xfrm>
            <a:off x="2514600" y="4724280"/>
            <a:ext cx="3532320" cy="16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78C-B691-4BCC-A75A-B5BD44834FAE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人类对动物益与害的认识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63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认识事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认识事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…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193-E696-43C3-ABEA-C29661D013CC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动物保护的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63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动物是维持生态平衡的主力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人类离不开家养动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家养动物与人类的密切关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野生动物给人们的生活带来的价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动物是人类生活的好帮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社会效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A1_489" descr=""/>
          <p:cNvPicPr/>
          <p:nvPr/>
        </p:nvPicPr>
        <p:blipFill>
          <a:blip r:embed="rId1"/>
          <a:stretch/>
        </p:blipFill>
        <p:spPr>
          <a:xfrm>
            <a:off x="5715000" y="4495680"/>
            <a:ext cx="2286000" cy="20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92F-179B-4C95-9FB9-56D1FCC7FB37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影响动物保护的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63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传统观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宗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文化习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心理因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FC9-7EB7-4FC3-BBC5-46E13E27FEAC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人与动物的关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63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物给我们的启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蜂鸟——无害化生存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B33-3AC4-429E-9A0E-57EDC8E00A55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思考题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63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物保护的含义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物保护的意义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请设计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条热爱动物的标语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计一份调查问卷，测试人们动物保护意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03C-832F-4962-B2DD-AC4753A11FDB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动物 保护</cp:keywords>
  <dc:language>en-US</dc:language>
  <cp:lastModifiedBy/>
  <cp:revision>0</cp:revision>
  <dc:subject/>
  <dc:title/>
</cp:coreProperties>
</file>