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0916-DF12-4F1E-A33E-77BF5A85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A5AC-2BF0-469A-B7EB-4DD396C5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2D55-34F3-4D44-820E-74F7389E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1AA9-3159-4366-A007-7F9A9A9C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E840-B5AF-4A30-BB71-A469FC3D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E7E2-3F01-416B-A65D-C6518A30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D269-CFB2-4D64-AA2D-D55F6FCC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F2F9-B34D-4ED8-8A68-39A24495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E01E-6BA3-49EA-A34B-E073ACA6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7C19-781B-4300-9860-33FAC5BB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2D83-B7EB-4E4E-8ACC-6188F711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08C7-31CB-4787-9F28-38E029CA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0C69-3675-481F-8DCE-03CD34E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59AE-4C53-4BA1-B716-D8F0F41C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FB69-9F8D-4978-BDFE-BEA5C483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E040-1DE1-49A1-A21E-F32CC83B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07E1-53CD-4C63-990A-D1DDFE3B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7CBD-B9E0-4351-A527-E542B299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EAA3-F209-4457-9646-ACBCA1E3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3963-EFD9-45DF-B686-065F3C68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FC4A-79CE-441F-962E-9240A878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C3EB-9DBE-4C5D-8842-CBBFAF70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E10A-EC21-4A2A-8AD6-386734AA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801B-68E8-4C72-8DF1-2E488CA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2960" y="1308240"/>
            <a:ext cx="9350280" cy="5632560"/>
            <a:chOff x="-102960" y="1308240"/>
            <a:chExt cx="935028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1960" y="164016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480"/>
              <a:ext cx="32274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16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724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960"/>
              <a:ext cx="4397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2960" y="2417400"/>
              <a:ext cx="48546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902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600" y="2958120"/>
              <a:ext cx="5951520" cy="972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360" y="326052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480" y="3634920"/>
              <a:ext cx="732132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620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632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50840"/>
              <a:ext cx="7321320" cy="1008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800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27080" y="5560200"/>
              <a:ext cx="3303000" cy="1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17600" y="661320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8320"/>
              <a:ext cx="959832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4240"/>
              <a:ext cx="6575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1720" y="575640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9440"/>
              <a:ext cx="222264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2720" y="5115960"/>
              <a:ext cx="8694720" cy="972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8148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90240"/>
              <a:ext cx="91375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2000"/>
              <a:ext cx="86918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400" y="2512080"/>
              <a:ext cx="78991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840" y="234396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628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880" y="2072160"/>
              <a:ext cx="68482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56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840" y="2674080"/>
              <a:ext cx="82612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7160"/>
              <a:ext cx="976284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85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556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80104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676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816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880" y="4509720"/>
              <a:ext cx="23940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840" y="421884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65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7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5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21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3120" y="366120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42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6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11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4320" y="2823840"/>
              <a:ext cx="203040" cy="98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48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304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592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760" y="32209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4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705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511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34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6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602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5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1000" y="2838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74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401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2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520" y="2854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640" y="3018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9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92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800" y="39261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840" y="320040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70000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9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880" y="2391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41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12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352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23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76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12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6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2160" y="2394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480" y="2696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96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94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80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9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148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26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3080" y="2701440"/>
              <a:ext cx="20304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3480"/>
              <a:ext cx="20340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440" y="5802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632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800" y="490788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400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792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652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89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7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42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800" y="2854080"/>
              <a:ext cx="2044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700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55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120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268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227088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760" y="227088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900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4000" y="20516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480" y="185796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22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71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6040" y="2038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960"/>
              <a:ext cx="17640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760" y="22615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0200" y="2038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64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4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4320" y="21675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72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31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316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5012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76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880" y="16592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13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8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7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30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716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6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5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920" y="1765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64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8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4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640" y="1747800"/>
              <a:ext cx="177840" cy="70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1280" y="18450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3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8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9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26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480" y="18356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4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6200" y="1765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920" y="18514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480" y="178020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10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9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680" y="1956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33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40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9040" y="160812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40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5040"/>
              <a:ext cx="16848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76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7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480" y="1924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96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560"/>
              <a:ext cx="131760" cy="53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560" y="152748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3080"/>
              <a:ext cx="1602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8200" y="639684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3092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4520"/>
              <a:ext cx="24912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2028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308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52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115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400" y="343368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20200" y="3049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2040" y="28699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3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3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5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668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62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528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31760"/>
              <a:ext cx="31140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760" y="5394240"/>
              <a:ext cx="266400" cy="1522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95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808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9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3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5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5172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90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52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6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9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6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0280" y="425664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2960" y="4550760"/>
              <a:ext cx="2379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408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040" y="22806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360" y="636984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201A-99F4-4F33-BC38-0FBD9FA8C4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4760" y="1311120"/>
            <a:ext cx="9350280" cy="5632560"/>
            <a:chOff x="-104760" y="1311120"/>
            <a:chExt cx="935028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3760" y="164304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360"/>
              <a:ext cx="32274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04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4012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840"/>
              <a:ext cx="4397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4760" y="2420280"/>
              <a:ext cx="48546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31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400" y="2961000"/>
              <a:ext cx="5951520" cy="972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160" y="326340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280" y="3637800"/>
              <a:ext cx="732132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908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920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3720"/>
              <a:ext cx="7321320" cy="1008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8088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25280" y="5563080"/>
              <a:ext cx="3303000" cy="1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5800" y="661608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51200"/>
              <a:ext cx="959832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7120"/>
              <a:ext cx="6575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520" y="575928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32320"/>
              <a:ext cx="222264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520" y="5118840"/>
              <a:ext cx="8694720" cy="972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436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3120"/>
              <a:ext cx="91375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4880"/>
              <a:ext cx="86918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600" y="2514960"/>
              <a:ext cx="78991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70040" y="234684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916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9080" y="2075040"/>
              <a:ext cx="68482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44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8040" y="2676960"/>
              <a:ext cx="82612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30040"/>
              <a:ext cx="976284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3144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844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5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392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964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8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4104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9080" y="4512600"/>
              <a:ext cx="23940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040" y="422172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94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9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8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3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1320" y="366408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71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9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39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520" y="2826720"/>
              <a:ext cx="203040" cy="98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76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332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880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960" y="32238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7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40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63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94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30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8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9200" y="284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302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30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56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720" y="2856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840" y="3021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25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2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1000" y="392904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7040" y="320328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288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2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7080" y="2394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70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4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640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52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805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4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9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360" y="2397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680" y="2699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8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22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3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2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43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55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1280" y="2704320"/>
              <a:ext cx="20304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6360"/>
              <a:ext cx="20340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640" y="58053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92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7000" y="4910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688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4080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9006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9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940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18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30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5000" y="2856960"/>
              <a:ext cx="2044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28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84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408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556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520" y="227376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960" y="227376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8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2200" y="20545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680" y="186084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51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400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4240" y="2041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840"/>
              <a:ext cx="17640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960" y="2264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400" y="2041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928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52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520" y="21704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96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60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604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30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64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7080" y="1662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42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7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6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70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8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7004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56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4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7120" y="1768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93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7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840" y="1750680"/>
              <a:ext cx="177840" cy="70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480" y="18478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6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7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8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55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680" y="18385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32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400" y="1768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6120" y="185436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680" y="178308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9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8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80" y="1959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620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228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7240" y="1611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228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920"/>
              <a:ext cx="16848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105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66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680" y="19274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616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440"/>
              <a:ext cx="131760" cy="53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760" y="153036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960"/>
              <a:ext cx="1602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400" y="63997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380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60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7400"/>
              <a:ext cx="24912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6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316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37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81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44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600" y="343656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0" y="3052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0240" y="28728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61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6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8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956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90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816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4640"/>
              <a:ext cx="31140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960" y="5397120"/>
              <a:ext cx="266400" cy="1522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921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324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4566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525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5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8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460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19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81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88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2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89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480" y="425952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4760" y="4553640"/>
              <a:ext cx="2379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69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5840" y="22834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560" y="637272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1405-55F2-4426-BFEF-9914D1F786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yinheedu.com/ad/mcse2003/image/12_5_1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bijiao.weisuo.cn/newsnet/newsdisplay.php?id=8590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bijiao.weisuo.cn/newsnet/newsdisplay.php?id=8590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bijiao.weisuo.cn/newsnet/newsdisplay.php?id=8590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hyperlink" Target="http://www.yinheedu.com/ad/mcse2003/image/12_5_1.JPG" TargetMode="External"/><Relationship Id="rId4" Type="http://schemas.openxmlformats.org/officeDocument/2006/relationships/hyperlink" Target="http://www.yinheedu.com/ad/mcse2003/image/12_5_1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yinheedu.com/ad/mcse2003/image/12_5_1.JPG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hyperlink" Target="http://www.yinheedu.com/ad/mcse2003/image/12_5_2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yinheedu.com/ad/mcse2003/image/12_5_2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hyperlink" Target="http://www.yinheedu.com/ad/mcse2003/image/12_5_2.JPG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900"/>
                </a:solidFill>
                <a:latin typeface="Arial"/>
                <a:ea typeface="华文行楷"/>
              </a:rPr>
              <a:t> </a:t>
            </a:r>
            <a:endParaRPr b="0" lang="en-US" sz="9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32000" y="4221000"/>
            <a:ext cx="6400800" cy="16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ction of Wri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333240" y="836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学英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50920" y="1484280"/>
            <a:ext cx="856908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7c80"/>
                </a:solidFill>
                <a:latin typeface="Arial"/>
              </a:rPr>
              <a:t>Directions: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Write a composition entitle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My View on Multi-media Teaching”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Y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should write at least 150 wo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based on the follow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outline given in Chine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多媒体教学的优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多媒体教学存在的不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我的看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0" y="5229360"/>
            <a:ext cx="5219280" cy="1152360"/>
            <a:chOff x="0" y="5229360"/>
            <a:chExt cx="5219280" cy="1152360"/>
          </a:xfrm>
        </p:grpSpPr>
        <p:pic>
          <p:nvPicPr>
            <p:cNvPr id="520" name="" descr=""/>
            <p:cNvPicPr/>
            <p:nvPr/>
          </p:nvPicPr>
          <p:blipFill>
            <a:blip r:embed="rId2"/>
            <a:stretch/>
          </p:blipFill>
          <p:spPr>
            <a:xfrm>
              <a:off x="0" y="5229360"/>
              <a:ext cx="50184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934560" y="5235120"/>
              <a:ext cx="4284720" cy="1100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233280" indent="-233280">
                <a:lnSpc>
                  <a:spcPct val="85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Franklin Gothic Medium"/>
                  <a:ea typeface="Arial"/>
                </a:rPr>
                <a:t>             </a:t>
              </a:r>
              <a:r>
                <a:rPr b="0" lang="en-US" sz="2000" spc="-1" strike="noStrike">
                  <a:solidFill>
                    <a:srgbClr val="00ff00"/>
                  </a:solidFill>
                  <a:latin typeface="Franklin Gothic Medium"/>
                  <a:ea typeface="Arial"/>
                </a:rPr>
                <a:t>advantag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33280" indent="-233280">
                <a:lnSpc>
                  <a:spcPct val="85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Franklin Gothic Medium"/>
                  <a:ea typeface="Arial"/>
                </a:rPr>
                <a:t>             </a:t>
              </a:r>
              <a:r>
                <a:rPr b="0" lang="en-US" sz="2000" spc="-1" strike="noStrike">
                  <a:solidFill>
                    <a:srgbClr val="ff9900"/>
                  </a:solidFill>
                  <a:latin typeface="Franklin Gothic Medium"/>
                  <a:ea typeface="Arial"/>
                </a:rPr>
                <a:t>disadvantag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33280" indent="-233280">
                <a:lnSpc>
                  <a:spcPct val="85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ranklin Gothic Medium"/>
                  <a:ea typeface="Arial"/>
                </a:rPr>
                <a:t>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Franklin Gothic Medium"/>
                  <a:ea typeface="Arial"/>
                </a:rPr>
                <a:t>comme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0" y="260280"/>
            <a:ext cx="8964000" cy="1152360"/>
            <a:chOff x="0" y="260280"/>
            <a:chExt cx="8964000" cy="1152360"/>
          </a:xfrm>
        </p:grpSpPr>
        <p:pic>
          <p:nvPicPr>
            <p:cNvPr id="523" name="" descr=""/>
            <p:cNvPicPr/>
            <p:nvPr/>
          </p:nvPicPr>
          <p:blipFill>
            <a:blip r:embed="rId3"/>
            <a:stretch/>
          </p:blipFill>
          <p:spPr>
            <a:xfrm>
              <a:off x="0" y="288000"/>
              <a:ext cx="8514000" cy="11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1902960" y="260280"/>
              <a:ext cx="7061040" cy="115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233280" indent="-233280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c8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ff7c80"/>
                  </a:solidFill>
                  <a:latin typeface="Arial"/>
                </a:rPr>
                <a:t>My View on Multi-media Teaching</a:t>
              </a:r>
              <a:r>
                <a:rPr b="0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33336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76720" y="2060640"/>
            <a:ext cx="3598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0092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0504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1280" y="1916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media teaching is no longer something new to us. To some degree, it has become part of modern edu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0" y="620640"/>
            <a:ext cx="9143280" cy="1152720"/>
            <a:chOff x="0" y="620640"/>
            <a:chExt cx="9143280" cy="1152720"/>
          </a:xfrm>
        </p:grpSpPr>
        <p:pic>
          <p:nvPicPr>
            <p:cNvPr id="532" name="" descr="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87915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1637280" y="626400"/>
              <a:ext cx="7506000" cy="1100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233280" indent="-233280">
                <a:lnSpc>
                  <a:spcPct val="85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33280" indent="-233280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Franklin Gothic Medium"/>
                  <a:ea typeface="Arial"/>
                </a:rPr>
                <a:t>                           </a:t>
              </a:r>
              <a:r>
                <a:rPr b="1" lang="en-US" sz="4000" spc="-1" strike="noStrike">
                  <a:solidFill>
                    <a:srgbClr val="cc3300"/>
                  </a:solidFill>
                  <a:latin typeface="Franklin Gothic Medium"/>
                  <a:ea typeface="Arial"/>
                </a:rPr>
                <a:t>Phenomeno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620640"/>
            <a:ext cx="1511280" cy="11509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84360" y="285264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1280" y="3357720"/>
            <a:ext cx="3240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owever, as is the case with many issues, multi-media teaching has both positive and negative asp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2997360"/>
            <a:ext cx="4464000" cy="30542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659640" y="33577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Multi-media Tea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13744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-324000" y="476280"/>
            <a:ext cx="10728000" cy="1152000"/>
            <a:chOff x="-324000" y="476280"/>
            <a:chExt cx="10728000" cy="1152000"/>
          </a:xfrm>
        </p:grpSpPr>
        <p:pic>
          <p:nvPicPr>
            <p:cNvPr id="541" name="" descr=""/>
            <p:cNvPicPr/>
            <p:nvPr/>
          </p:nvPicPr>
          <p:blipFill>
            <a:blip r:embed="rId2"/>
            <a:stretch/>
          </p:blipFill>
          <p:spPr>
            <a:xfrm>
              <a:off x="-324000" y="476280"/>
              <a:ext cx="10728000" cy="115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2436840" y="576720"/>
              <a:ext cx="6510960" cy="93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lvl="2" marL="914400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   </a:t>
              </a: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Advantage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43" name=""/>
          <p:cNvGraphicFramePr/>
          <p:nvPr/>
        </p:nvGraphicFramePr>
        <p:xfrm>
          <a:off x="0" y="0"/>
          <a:ext cx="374760" cy="7429680"/>
        </p:xfrm>
        <a:graphic>
          <a:graphicData uri="http://schemas.openxmlformats.org/drawingml/2006/table">
            <a:tbl>
              <a:tblPr/>
              <a:tblGrid>
                <a:gridCol w="223200"/>
                <a:gridCol w="223200"/>
              </a:tblGrid>
              <a:tr h="742968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9999ff"/>
                          </a:solidFill>
                          <a:uFillTx/>
                          <a:latin typeface="Arial"/>
                          <a:hlinkClick r:id="rId3"/>
                        </a:rPr>
                        <a:t>  </a:t>
                      </a:r>
                      <a:r>
                        <a:rPr b="0" lang="en-US" sz="6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3500280"/>
            <a:ext cx="4392360" cy="28814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476280"/>
            <a:ext cx="1800360" cy="11523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643280" y="38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Multi-media Tea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95280" y="1628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dfdef6"/>
                </a:solidFill>
                <a:latin typeface="Times New Roman"/>
              </a:rPr>
              <a:t>On the positive side, with the combination of word, pictures, animation, sound, video and etc. multi-media education creates positive atmosphere in the classroom, thus motivating the learners. Another underl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5280" y="335772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Times New Roman"/>
              </a:rPr>
              <a:t>advantage is that multi-media teaching with its rich contents and colorful screen makes learning both instructive and enjoy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0" y="476280"/>
            <a:ext cx="9430920" cy="1223640"/>
            <a:chOff x="0" y="476280"/>
            <a:chExt cx="9430920" cy="1223640"/>
          </a:xfrm>
        </p:grpSpPr>
        <p:pic>
          <p:nvPicPr>
            <p:cNvPr id="552" name="" descr=""/>
            <p:cNvPicPr/>
            <p:nvPr/>
          </p:nvPicPr>
          <p:blipFill>
            <a:blip r:embed="rId2"/>
            <a:stretch/>
          </p:blipFill>
          <p:spPr>
            <a:xfrm>
              <a:off x="0" y="505800"/>
              <a:ext cx="8957160" cy="117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002320" y="476280"/>
              <a:ext cx="7428600" cy="1223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233280" indent="-233280">
                <a:lnSpc>
                  <a:spcPct val="85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33280" indent="-233280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        </a:t>
              </a: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Disadvantages</a:t>
              </a:r>
              <a:r>
                <a:rPr b="0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3573360"/>
            <a:ext cx="4392360" cy="280836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611280" y="2924280"/>
            <a:ext cx="51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549360"/>
            <a:ext cx="1656000" cy="107928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468360" y="170028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gative side, multi-media teaching sometimes  lacks classroom interaction between the teacher and learners, which may have a bad effect on improving teaching efficiency. Besides, it take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3429000"/>
            <a:ext cx="3598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able amount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to produce the teaching courseware on the part of teachers, thus drastically multiplying teachers’ working loa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32720" y="4005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Multi-media Tea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-324000" y="476280"/>
            <a:ext cx="10583640" cy="1223640"/>
            <a:chOff x="-324000" y="476280"/>
            <a:chExt cx="10583640" cy="1223640"/>
          </a:xfrm>
        </p:grpSpPr>
        <p:pic>
          <p:nvPicPr>
            <p:cNvPr id="561" name="" descr=""/>
            <p:cNvPicPr/>
            <p:nvPr/>
          </p:nvPicPr>
          <p:blipFill>
            <a:blip r:embed="rId2"/>
            <a:stretch/>
          </p:blipFill>
          <p:spPr>
            <a:xfrm>
              <a:off x="-324000" y="476280"/>
              <a:ext cx="10583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399400" y="583200"/>
              <a:ext cx="6423480" cy="993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lvl="2" marL="914400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     </a:t>
              </a: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Comment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39640" y="191628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ensible people will deny that multi-media teaching has both benefits and drawbacks but on balance the advantages of multi-media teaching outweigh its disadvantages since such a teaching approach has become an integral part of  modern edu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549360"/>
            <a:ext cx="1656000" cy="10792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5651640" y="256536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Cellular phone, laptop computer and pagers photo"/>
          <p:cNvPicPr/>
          <p:nvPr/>
        </p:nvPicPr>
        <p:blipFill>
          <a:blip r:embed="rId5"/>
          <a:stretch/>
        </p:blipFill>
        <p:spPr>
          <a:xfrm>
            <a:off x="5219640" y="2060640"/>
            <a:ext cx="3313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06A9-710E-424C-A97B-B0F214C4E0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2:55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4:12:05Z</dcterms:modified>
  <cp:revision>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c05000000000001024140</vt:lpwstr>
  </property>
</Properties>
</file>