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B86B-A146-4BAC-87BD-FFB521A0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2646-2850-401F-B17A-2D2C13FA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2782-AD92-4DEE-B2C4-A9E3254A1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A8F4-5008-4007-981B-ED9B94EB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03A5-D6B7-4689-B262-0AE6102F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FA84-8499-4DBD-BA2F-3FBA0C5F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305A-3235-4B25-8EE1-4C822A57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E86E-8F53-4AD6-8F21-AC0C3CDE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5A59-9B23-4CC3-862F-F0442C43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6CB9-A8A3-4EA8-A5DE-DC3F6B1F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50F6-7B3C-448C-BD9E-1F688A7D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3C0D-C8DF-4DD3-9D50-46CF59E5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D1CD-575A-4571-918A-39C5C14E28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元智能理论与学校教育改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35232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XXX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学校长培训中心书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XXXX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学院书记、副院长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XXX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教授  博士生导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借鉴多元智能理论，开发学生潜能的实验研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实验目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让课堂更有活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让教学更富创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让学生更加聪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让发展更为全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语 言 智 能 教 学 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6933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引入故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堂讨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录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写日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出版与交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283500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数理逻辑智能教学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553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算与等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类与分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苏格拉底式问答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研究性学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科学素养和科学思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 flipH="1">
            <a:off x="6705720" y="2819520"/>
            <a:ext cx="1768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视觉—空间智能教学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05740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形象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色彩记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图画比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思维速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图解符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05520" y="3067200"/>
            <a:ext cx="235080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身体运动智能教学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563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肢体回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堂剧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运作意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手思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身体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 flipH="1">
            <a:off x="914400" y="2743200"/>
            <a:ext cx="14572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音乐智能教学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28800" y="2285640"/>
            <a:ext cx="5867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节奏和唱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背景音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情感音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1320" y="3048120"/>
            <a:ext cx="1600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人际交往智能教学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同学分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体雕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合作小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图版游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724280" y="3244680"/>
            <a:ext cx="274320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自我认识智能教学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分钟反应时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联系自我体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选择时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感情色彩时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制定目标时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 flipH="1">
            <a:off x="5781240" y="3352680"/>
            <a:ext cx="1847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讲 座 提 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、背景介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、多元智能理论的基本内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、多元智能理论与智力开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四、多元智能理论对教育改革的启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五、在课堂教学中如何培养学生的多种智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背 景 介 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加德纳：《智力的结构：多元智力理论》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98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世纪主流教育思想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程改革的支柱理论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传统的智力理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单一智能：智力仅与认知有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高度遗传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可塑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高度可评估性：可以脱离具体情景判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可以测试：智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391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i="1" lang="zh-CN" sz="4800" spc="-1" strike="noStrike">
                <a:solidFill>
                  <a:srgbClr val="000000"/>
                </a:solidFill>
                <a:latin typeface="Times New Roman"/>
              </a:rPr>
              <a:t>加德纳关于智力的定义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281952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智力是在特定文化背景或社会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中解决问题或制作产品的能力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八 种 智 能 理 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619760" cy="4800600"/>
          </a:xfrm>
          <a:prstGeom prst="rect">
            <a:avLst/>
          </a:prstGeom>
          <a:solidFill>
            <a:srgbClr val="ffcc00"/>
          </a:solidFill>
          <a:ln w="9360">
            <a:solidFill>
              <a:srgbClr val="99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语言智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音乐智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数理逻辑智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视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空间智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身体运动智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际交往智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我认识智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然智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800600" y="3065400"/>
            <a:ext cx="251460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多元智能理论与智力开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560" y="1828440"/>
            <a:ext cx="5715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脑部定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智力发展轨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方面因素的协调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体不同的智力组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教育与智力开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开启智力与关闭智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多元智能理论对教育改革的启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素质教育提供了最好的理论诠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正确、全面认识每一个学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形成多样化的教学策略和方法：教上的多元切入点，学上的强项切入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课堂教学中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起点：叙述起点、数量起点、逻辑起点、存在起点、美学起点、亲身实践起点、人际关系起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改进教师的教学行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imes New Roman"/>
              </a:rPr>
              <a:t>教育过程中如何培养学生的多元智能（美国的实验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学前教育——多彩光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小学教育——重点实验学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初中教育——学校实用智能项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高中教育——艺术推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多元智能 学校 教育</cp:keywords>
  <dc:language>en-US</dc:language>
  <cp:lastModifiedBy/>
  <cp:revision>0</cp:revision>
  <dc:subject/>
  <dc:title/>
</cp:coreProperties>
</file>