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D13C-3CDB-4E90-919E-DDE35958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9640" y="3829320"/>
            <a:ext cx="800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F5B8-E15D-4C99-BC7E-BA37A9D8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9640" y="382932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40400" y="382932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9E86-7CC3-4B2A-A122-F157AB7D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45400" y="155700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51160" y="155700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9640" y="382932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45400" y="382932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51160" y="382932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0BAE-AE08-428E-9012-600231AC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DEC8-EB0C-48E2-BE04-CB9D8322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729B-2A6B-4B0E-A3C0-43F98E52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1228-EB4E-47EF-BDE2-107AC183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5251-D3CB-434A-A51C-1D6987C5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4278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946A-7508-406B-AB25-4C53849F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640" y="382932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6793-4BCD-404A-91A6-8CDFB14D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40400" y="382932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3252-D930-49B0-83B0-0C495FEE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9640" y="3829320"/>
            <a:ext cx="800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67AE-574F-4B00-82C5-69918E9C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標楷體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027-62CE-4FA5-B7D4-7FB577634BFA}" type="slidenum"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260280"/>
            <a:ext cx="7308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341360"/>
            <a:ext cx="822636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6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ftr" idx="3"/>
          </p:nvPr>
        </p:nvSpPr>
        <p:spPr>
          <a:xfrm>
            <a:off x="350496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A305-AD7A-4AA1-83B2-8F4685A37B86}" type="slidenum">
              <a:rPr b="0" lang="zh-TW" sz="10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8456760" cy="21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標楷體"/>
              </a:rPr>
              <a:t>服务提升</a:t>
            </a:r>
            <a:br>
              <a:rPr sz="5400"/>
            </a:br>
            <a:r>
              <a:rPr b="0" lang="zh-CN" sz="5400" spc="-1" strike="noStrike">
                <a:solidFill>
                  <a:srgbClr val="ff3300"/>
                </a:solidFill>
                <a:latin typeface="標楷體"/>
              </a:rPr>
              <a:t>业绩倍增</a:t>
            </a:r>
            <a:endParaRPr b="0" lang="en-US" sz="5400" spc="-1" strike="noStrike">
              <a:solidFill>
                <a:srgbClr val="ff33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關心客戶的五大步驟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五　正面回應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讓自己和客戶像夥伴一樣的講話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取得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同意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或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提供一些建議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將焦點集中在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正面的思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表現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自信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尊重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客戶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83059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67080" y="1324080"/>
            <a:ext cx="4208400" cy="420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店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Arial"/>
                <a:ea typeface="標楷體"/>
              </a:rPr>
              <a:t>接待顧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何謂接待顧客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?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接待顧客不是指賣東西，討好顧客，而是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讓顧客有一個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舒適的環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以專業的知識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協助顧客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讓顧客選擇自己最適合的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商品與服務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目的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讓顧客有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愉快的心情購物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，選擇適合的商品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接待顧客應有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觀察力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與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狀況判斷力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接待顧客的六項原則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00244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</a:rPr>
              <a:t>保持專業銷售意識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</a:rPr>
              <a:t>了解商品知識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關於商品本身的知識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用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功能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特徵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使用方法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使用上的注意事項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商品種類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商品成分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自己對商品的體驗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公司資訊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商品概念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商品未來動向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業界情報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和其他商品的比較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)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媒體情報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客戶問題的回答方法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26708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接待顧客的六項原則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9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2 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了解商品知識須有好的商品知識的來源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紀錄以下資訊成為銷售幫手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公司資訊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書籍 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業界的雜誌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媒體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網路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使用者的感受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接待顧客的基本原則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站在顧客的立場來思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顧客進到營業場所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顧客等候時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客戶看到設備或產品時的想法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隨時重視客戶的感受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不以外表來判斷客戶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差別與區別的不同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團隊合作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接待顧客的八個流程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540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準備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等待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迎接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提議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銷售 提示 說明 體驗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定案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結帳 要求轉介紹 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送客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提升客戶接待技巧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0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站立的位置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要帶領客戶時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坐下的位置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讓顧客等候時的做法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說明商品時的方法 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多用詢問句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向客戶提問時的方式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限定提問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擴大提問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不能有的七種服務態度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6242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漠不關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視若無睹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機器化動作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冷淡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僅按程序做事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把顧客當小孩子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互推皮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95640" y="2421000"/>
            <a:ext cx="223200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人網</a:t>
            </a:r>
            <a:br>
              <a:rPr sz="3600"/>
            </a:br>
            <a:r>
              <a:rPr b="0" lang="zh-TW" sz="3600" spc="-1" strike="noStrike">
                <a:solidFill>
                  <a:srgbClr val="0000ff"/>
                </a:solidFill>
                <a:latin typeface="Arial"/>
                <a:ea typeface="標楷體"/>
              </a:rPr>
              <a:t>關心顧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349360"/>
            <a:ext cx="22323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店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Arial"/>
                <a:ea typeface="標楷體"/>
              </a:rPr>
              <a:t>接待顧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4000" y="1557360"/>
            <a:ext cx="6984720" cy="3889440"/>
            <a:chOff x="324000" y="1557360"/>
            <a:chExt cx="6984720" cy="3889440"/>
          </a:xfrm>
        </p:grpSpPr>
        <p:sp>
          <p:nvSpPr>
            <p:cNvPr id="140" name=""/>
            <p:cNvSpPr/>
            <p:nvPr/>
          </p:nvSpPr>
          <p:spPr>
            <a:xfrm>
              <a:off x="324000" y="1557360"/>
              <a:ext cx="6984720" cy="38894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75960" y="2158920"/>
              <a:ext cx="729000" cy="25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產品成交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76280"/>
            <a:ext cx="1116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6840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從時代改變看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顧客滿意度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服務人員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應有服務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關心客戶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五大步驟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接待顧客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六項原則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提升客戶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接待技巧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產品成交的步驟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產品成交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技巧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服務與銷售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關鍵字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929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標楷體"/>
              </a:rPr>
              <a:t>課　程　大 綱</a:t>
            </a:r>
            <a:endParaRPr b="0" lang="en-US" sz="4400" spc="-1" strike="noStrike">
              <a:solidFill>
                <a:srgbClr val="ff3300"/>
              </a:solidFill>
              <a:latin typeface="標楷體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28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一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9880" y="1371240"/>
            <a:ext cx="800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吸引注意力</a:t>
            </a:r>
            <a:br>
              <a:rPr sz="4000"/>
            </a:b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好的詢問方式可以吸引顧客注意力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依照分析結果看來，您是不是平常常會感覺疲倦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您有沒有覺得現代人的飲食營養不均衡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您知道有一種最新的健康器材能讓您在短時間內就達到〝有氧運動〞的最佳效果嗎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您知道有酵素可以幫助調整體質、促進新陳代謝，以維持體內各機能的平衡發展嗎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練習看看將分析結果與產品改成問句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二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了解顧客的需求</a:t>
            </a:r>
            <a:endParaRPr b="0" lang="en-US" sz="40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要知道顧客族群的特性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是因為什麼原因而來到這裡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日常生活的狀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作息時間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休閒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..)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要知道顧客最在意什麼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平常最缺乏什麼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健康的狀況最需要什麼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未來想改善的地方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三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用我們的產品來改善顧客的生活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顧客使用療程之後會有什麼好處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補充保健食品身體會獲得什麼改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使用美容保養系列後皮膚會如何完美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使用環保用品系列對家人有什麼幫助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介紹的產品一定要與顧客的生活有需求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練習將一些產品與顧客的生活做結合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四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解除顧客關心的領域與成交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</a:rPr>
              <a:t>回答客戶問題的原則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是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簡單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告知優點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好的肯定式詢問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假設成交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強調產品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唯一性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最後說出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總投資金額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與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每日投資金額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價錢一定要在最後說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從高而低說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說了就要嘗試成交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掌握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成交時機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立即使用療程，馬上讓身體更健康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五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31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要求轉介紹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業績倍增的秘訣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成交之後請客戶轉介紹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適當的詢問與請求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覺得在你週遭有沒有人和您一樣關心健康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有朋友也是缺乏運動嗎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覺得這麼好的產品可以推薦給誰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會想告訴誰剛剛的感覺很好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也可以幫助朋友讓身體更健康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技巧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(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說服力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)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成為卓越服務人員的秘訣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顧客會買的理由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想要的感覺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問題的解決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顧客不會買的理由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	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不夠痛苦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強調客戶沒有這些商品的缺點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要用別的替代方式改善健康是一件麻煩的事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不改善身體的狀況會如何的影響健康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服務與銷售關鍵字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1483920"/>
            <a:ext cx="2016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價格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訂金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合約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購買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簽名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便宜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問題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約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1484280"/>
            <a:ext cx="393696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投資金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第一次投資金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確認單  同意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擁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物超所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挑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拜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服務提升  業績倍增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將服務客戶納入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系統化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有效運用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表格工具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運用科技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</a:rPr>
              <a:t>(e-mail)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或卡片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關心客戶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將每次的服務心得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紀錄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下來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電話是良好的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服務和邀約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工具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每一句服務與銷售話語都與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顧客相關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每一分每一秒都做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最有生產力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的事情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0" y="1447920"/>
          <a:ext cx="457200" cy="34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1447920"/>
                    <a:ext cx="457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Q &amp; A</a:t>
            </a:r>
            <a:endParaRPr b="0" lang="en-US" sz="8800" spc="-1" strike="noStrike">
              <a:solidFill>
                <a:srgbClr val="ff33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從時代改變看顧客滿意度 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9880" y="1523520"/>
            <a:ext cx="8002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時代的變化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0920" y="2276640"/>
            <a:ext cx="2160360" cy="1008000"/>
            <a:chOff x="250920" y="2276640"/>
            <a:chExt cx="2160360" cy="1008000"/>
          </a:xfrm>
        </p:grpSpPr>
        <p:sp>
          <p:nvSpPr>
            <p:cNvPr id="62" name=""/>
            <p:cNvSpPr/>
            <p:nvPr/>
          </p:nvSpPr>
          <p:spPr>
            <a:xfrm>
              <a:off x="608040" y="25160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貧乏</a:t>
              </a: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的時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0920" y="2276640"/>
              <a:ext cx="2160360" cy="100800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77" y="0"/>
                  </a:lnTo>
                  <a:lnTo>
                    <a:pt x="21600" y="10800"/>
                  </a:lnTo>
                  <a:lnTo>
                    <a:pt x="1627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484360" y="2276640"/>
            <a:ext cx="2160720" cy="1019880"/>
            <a:chOff x="2484360" y="2276640"/>
            <a:chExt cx="2160720" cy="1019880"/>
          </a:xfrm>
        </p:grpSpPr>
        <p:sp>
          <p:nvSpPr>
            <p:cNvPr id="65" name=""/>
            <p:cNvSpPr/>
            <p:nvPr/>
          </p:nvSpPr>
          <p:spPr>
            <a:xfrm>
              <a:off x="2913480" y="2349360"/>
              <a:ext cx="103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追求</a:t>
              </a: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數量</a:t>
              </a:r>
              <a:br>
                <a:rPr sz="2800"/>
              </a:b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的時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84360" y="227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77" y="0"/>
                  </a:lnTo>
                  <a:lnTo>
                    <a:pt x="21600" y="10800"/>
                  </a:lnTo>
                  <a:lnTo>
                    <a:pt x="1627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16360" y="2276640"/>
            <a:ext cx="2160720" cy="1019880"/>
            <a:chOff x="4716360" y="2276640"/>
            <a:chExt cx="2160720" cy="1019880"/>
          </a:xfrm>
        </p:grpSpPr>
        <p:sp>
          <p:nvSpPr>
            <p:cNvPr id="68" name=""/>
            <p:cNvSpPr/>
            <p:nvPr/>
          </p:nvSpPr>
          <p:spPr>
            <a:xfrm>
              <a:off x="5074200" y="2349360"/>
              <a:ext cx="103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追求</a:t>
              </a: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品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的時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16360" y="227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77" y="0"/>
                  </a:lnTo>
                  <a:lnTo>
                    <a:pt x="21600" y="10800"/>
                  </a:lnTo>
                  <a:lnTo>
                    <a:pt x="1627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983280" y="2276640"/>
            <a:ext cx="2160720" cy="1019880"/>
            <a:chOff x="6983280" y="2276640"/>
            <a:chExt cx="2160720" cy="1019880"/>
          </a:xfrm>
        </p:grpSpPr>
        <p:sp>
          <p:nvSpPr>
            <p:cNvPr id="71" name=""/>
            <p:cNvSpPr/>
            <p:nvPr/>
          </p:nvSpPr>
          <p:spPr>
            <a:xfrm>
              <a:off x="7378920" y="234936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追求服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的時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83280" y="227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77" y="0"/>
                  </a:lnTo>
                  <a:lnTo>
                    <a:pt x="21600" y="10800"/>
                  </a:lnTo>
                  <a:lnTo>
                    <a:pt x="1627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324520" y="3645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每個人都想擁有的商品，已變成人人皆有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572000"/>
            <a:ext cx="8076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消費者意識抬頭   製造導向變成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顧客導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30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因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服務的魅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而購買 ＞ 因為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商品的魅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而購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超越顧客滿意度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75240" y="1700280"/>
            <a:ext cx="6430320" cy="703440"/>
            <a:chOff x="975240" y="1700280"/>
            <a:chExt cx="6430320" cy="703440"/>
          </a:xfrm>
        </p:grpSpPr>
        <p:sp>
          <p:nvSpPr>
            <p:cNvPr id="78" name=""/>
            <p:cNvSpPr/>
            <p:nvPr/>
          </p:nvSpPr>
          <p:spPr>
            <a:xfrm>
              <a:off x="975240" y="177336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事前期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67600" y="177336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事後評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8160" y="1773360"/>
              <a:ext cx="124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滿意度差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66440" y="17510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6960" y="1700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75240" y="2708280"/>
            <a:ext cx="6430320" cy="774720"/>
            <a:chOff x="975240" y="2708280"/>
            <a:chExt cx="6430320" cy="774720"/>
          </a:xfrm>
        </p:grpSpPr>
        <p:sp>
          <p:nvSpPr>
            <p:cNvPr id="84" name=""/>
            <p:cNvSpPr/>
            <p:nvPr/>
          </p:nvSpPr>
          <p:spPr>
            <a:xfrm>
              <a:off x="975240" y="285264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事前期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67600" y="285264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事後評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8160" y="2852640"/>
              <a:ext cx="124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符合滿意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87680" y="2708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06960" y="2779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975240" y="3787920"/>
            <a:ext cx="6430320" cy="703440"/>
            <a:chOff x="975240" y="3787920"/>
            <a:chExt cx="6430320" cy="703440"/>
          </a:xfrm>
        </p:grpSpPr>
        <p:sp>
          <p:nvSpPr>
            <p:cNvPr id="90" name=""/>
            <p:cNvSpPr/>
            <p:nvPr/>
          </p:nvSpPr>
          <p:spPr>
            <a:xfrm>
              <a:off x="975240" y="386064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事前期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67600" y="386064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事後評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58160" y="3860640"/>
              <a:ext cx="124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超越滿意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67520" y="3838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</a:rPr>
                <a:t>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6960" y="3787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975240" y="5084640"/>
            <a:ext cx="5861160" cy="703440"/>
            <a:chOff x="975240" y="5084640"/>
            <a:chExt cx="5861160" cy="703440"/>
          </a:xfrm>
        </p:grpSpPr>
        <p:sp>
          <p:nvSpPr>
            <p:cNvPr id="96" name=""/>
            <p:cNvSpPr/>
            <p:nvPr/>
          </p:nvSpPr>
          <p:spPr>
            <a:xfrm>
              <a:off x="975240" y="515772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事前期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67600" y="515772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事後評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5600" y="5157720"/>
              <a:ext cx="820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不滿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7520" y="51354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6960" y="5084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服務帶動產品成交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421000"/>
            <a:ext cx="223200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人網</a:t>
            </a:r>
            <a:br>
              <a:rPr sz="3600"/>
            </a:br>
            <a:r>
              <a:rPr b="0" lang="zh-TW" sz="3600" spc="-1" strike="noStrike">
                <a:solidFill>
                  <a:srgbClr val="0000ff"/>
                </a:solidFill>
                <a:latin typeface="Arial"/>
                <a:ea typeface="標楷體"/>
              </a:rPr>
              <a:t>關心顧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349360"/>
            <a:ext cx="22323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店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Arial"/>
                <a:ea typeface="標楷體"/>
              </a:rPr>
              <a:t>接待顧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1557360"/>
            <a:ext cx="6984720" cy="3889440"/>
            <a:chOff x="324000" y="1557360"/>
            <a:chExt cx="6984720" cy="3889440"/>
          </a:xfrm>
        </p:grpSpPr>
        <p:sp>
          <p:nvSpPr>
            <p:cNvPr id="105" name=""/>
            <p:cNvSpPr/>
            <p:nvPr/>
          </p:nvSpPr>
          <p:spPr>
            <a:xfrm>
              <a:off x="324000" y="1557360"/>
              <a:ext cx="6984720" cy="38894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5960" y="2158920"/>
              <a:ext cx="729000" cy="25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產品成交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35280" y="1557360"/>
            <a:ext cx="6984720" cy="3889440"/>
            <a:chOff x="1835280" y="1557360"/>
            <a:chExt cx="6984720" cy="3889440"/>
          </a:xfrm>
        </p:grpSpPr>
        <p:sp>
          <p:nvSpPr>
            <p:cNvPr id="108" name=""/>
            <p:cNvSpPr/>
            <p:nvPr/>
          </p:nvSpPr>
          <p:spPr>
            <a:xfrm>
              <a:off x="1835280" y="1557360"/>
              <a:ext cx="6984720" cy="38894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29040" y="2158920"/>
              <a:ext cx="729000" cy="25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持續服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457200" y="609480"/>
            <a:ext cx="7848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3600" y="1290600"/>
            <a:ext cx="4275000" cy="427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人網</a:t>
            </a:r>
            <a:br>
              <a:rPr sz="4800"/>
            </a:br>
            <a:r>
              <a:rPr b="0" lang="zh-TW" sz="4800" spc="-1" strike="noStrike">
                <a:solidFill>
                  <a:srgbClr val="0000ff"/>
                </a:solidFill>
                <a:latin typeface="Arial"/>
                <a:ea typeface="標楷體"/>
              </a:rPr>
              <a:t>關心顧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服務人員的應有服務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920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關心客戶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良好的禮儀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適當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儀容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親切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態度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適當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問候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愉快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表情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正確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用字遣詞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正確的接待流程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符合客戶需求的成交方式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關心客戶的五大步驟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站在與客戶相同的立場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以客戶的想法來感同身受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隨時注意顧客的感覺和表情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711360" indent="-711360">
              <a:spcBef>
                <a:spcPts val="20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表現願意提供客戶協助的意願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透過以下的方式表示熱誠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聲音和語調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肢體語言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用字遣詞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關心客戶的五大步驟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用心傾聽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排除外在的干擾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如電話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鼓勵客戶說出想法或感受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讓客戶知道您是了解他的感受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對顧客的情況感同身受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感謝客戶所做的事或所說的話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對客戶狀況表示了解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保證為客戶提供良好的服務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服务 提升 业绩</cp:keywords>
  <dc:language>en-US</dc:language>
  <cp:lastModifiedBy/>
  <cp:revision>0</cp:revision>
  <dc:subject/>
  <dc:title/>
</cp:coreProperties>
</file>