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002-4457-4C20-ADE6-E61E666F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47920" y="420624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6E1-4265-44C2-AA09-87FDBA1A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228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B45-24C5-4DA0-B0A5-0D090EAF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1860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8928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4792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1860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8928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8B0-A3D3-4656-938D-3B51BBC4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2B45-4EF4-4E83-8D8D-70B41472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041A-FF76-4A79-89E0-791EBC39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89EC-C0BE-41B0-BB1F-4E88BEDD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3E47-A912-425E-8202-F654C408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87D0-4994-4439-8DF7-3A707E0D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2FDF-8DE8-486A-9408-4C71F5D4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F823-F9C7-4689-BF92-ACFAC590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768-5ACE-4DA0-B78E-F3C0E4EA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9228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0639-372F-4B46-B183-9DF7069E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8D11-6DE6-4493-A370-5A38855F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7920" y="420624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263F-DC89-4107-950B-4FD39BDD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9228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603B-9CF0-4984-9C0D-9B054EE3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1860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8928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792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1860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8928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10B6-C61B-4795-B2C0-0200AB95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4AE-DCC4-48C8-9A48-97CCE87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DE0-046A-42A4-9271-6D256687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FF8-AD38-4A65-9DEC-F1A239F9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388-40D5-47D1-AFBF-959008E8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323-9D66-4AF0-B143-88408A0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228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5DB-A966-4522-A9B7-EBE2E742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C06-0447-49E9-BF42-D7A1B226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EBDB-630B-428B-9D72-5851FFF67D31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990720" y="1676520"/>
            <a:ext cx="7772400" cy="129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76320"/>
            <a:ext cx="1042920" cy="28728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章目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16080" y="434160"/>
            <a:ext cx="300960" cy="1443240"/>
            <a:chOff x="316080" y="434160"/>
            <a:chExt cx="300960" cy="1443240"/>
          </a:xfrm>
        </p:grpSpPr>
        <p:sp>
          <p:nvSpPr>
            <p:cNvPr id="9" name="">
              <a:hlinkClick r:id="" action="ppaction://hlinkshowjump?jump=previousslide"/>
            </p:cNvPr>
            <p:cNvSpPr/>
            <p:nvPr/>
          </p:nvSpPr>
          <p:spPr>
            <a:xfrm flipH="1" rot="16136400">
              <a:off x="108720" y="650520"/>
              <a:ext cx="715680" cy="287640"/>
            </a:xfrm>
            <a:prstGeom prst="leftArrow">
              <a:avLst>
                <a:gd name="adj1" fmla="val 50000"/>
                <a:gd name="adj2" fmla="val 158732"/>
              </a:avLst>
            </a:prstGeom>
            <a:solidFill>
              <a:srgbClr val="ffffff"/>
            </a:solidFill>
            <a:ln cap="sq" w="1260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>
              <a:hlinkClick r:id="" action="ppaction://hlinkshowjump?jump=nextslide"/>
            </p:cNvPr>
            <p:cNvSpPr/>
            <p:nvPr/>
          </p:nvSpPr>
          <p:spPr>
            <a:xfrm flipH="1" rot="16249200">
              <a:off x="153000" y="1416960"/>
              <a:ext cx="627840" cy="289080"/>
            </a:xfrm>
            <a:prstGeom prst="rightArrow">
              <a:avLst>
                <a:gd name="adj1" fmla="val 50000"/>
                <a:gd name="adj2" fmla="val 138576"/>
              </a:avLst>
            </a:prstGeom>
            <a:solidFill>
              <a:srgbClr val="ffffff"/>
            </a:solidFill>
            <a:ln cap="sq" w="1260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561960" y="641880"/>
            <a:ext cx="42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上一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47920" y="1408680"/>
            <a:ext cx="42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eb32"/>
                </a:solidFill>
                <a:latin typeface="Times New Roman"/>
              </a:rPr>
              <a:t>下一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1280" y="1949400"/>
            <a:ext cx="900360" cy="28908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节目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7"/>
          <a:stretch/>
        </p:blipFill>
        <p:spPr>
          <a:xfrm>
            <a:off x="3713040" y="3078000"/>
            <a:ext cx="1710000" cy="7034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-238680" y="2590920"/>
            <a:ext cx="12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6c3"/>
                </a:solidFill>
                <a:latin typeface="华文行楷"/>
                <a:ea typeface="华文行楷"/>
              </a:rPr>
              <a:t>管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33FA-FD2A-416A-9FE8-779E43DD70A9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705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第二章     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一节   管理原理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二节   系统管理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三节   人本管理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四节   权变管理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五节   创新管理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三、人本管理原理的内容与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本管理原理主要包括人本管理的理想、人本管理的方针和人本管理的战略。具体内容和形式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（一）人本管理思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活动坚持以人为本，强调新生人，充分信任员工，紧紧依靠员工实现组织发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做好人的工作，首先要抓好人的思想，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调动员工积极性的根本途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织为人的需要而存在，为人的需要而产生，主张人和组织的共同发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（二）人本管理方针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本管理方针多体现为在管理实践中，贯彻全员参与管理、依靠全体员工推动组织发展的方针，在组织的舆导向、体制安排、政策规定和作风形成等方面，都要与此方针相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（三）人本管理战略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本管理战略主要表现为全面开发人力资源的战备，主要任务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人才的吸引和补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保持组织正常运转所需人才和合格劳动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员工的培训和专门人才的储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充分发挥既有人才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成以上全面开发人力资源的战略任务，应从组织的公共关系策略、组织策略、人事策略及全体策略等方面入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第四节   权变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一、权变管理的涵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权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权衡变化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权变管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管理要根据组织的内、外部条件的变化情况作相应的调整，即管理无定式，应因地、因时、因人而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权变管理的依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权变管理是人类长期实践经验的总结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实行权变管理，是由组织系统的特点及其运行规律决定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实行权变管理是大势所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权变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三、权变的环境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一）技术革命、经济动荡、市场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二）经济体制改革和制度变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三）跨文化管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四）价值观的变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权变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四、权变管理的主要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权变管理的实践要解决两个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一，环境的变化要求组织作出反应，组织能够作业哪些改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二，组织如何根据内外环境的变化特点选择相应的管理策略模式？有学者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权变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82520"/>
            <a:ext cx="7307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应从以下四个方面制定权变策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思想观念与技能的权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管理体制的权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领导方式的权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竞争策略的权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第五节   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766520"/>
            <a:ext cx="73072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新管理与权变管理一脉相承，只有树立了权变的观念，才能理解创新的必要性和重要性；只有通过创新，才能使权变管理的思想变成现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一、创新的涵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666600"/>
                </a:solidFill>
                <a:latin typeface="Times New Roman"/>
              </a:rPr>
              <a:t>从哲学的范畴看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种否定，是积极的、辩正的否定，是“扬弃”旧事物、生成新事物的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666600"/>
                </a:solidFill>
                <a:latin typeface="Times New Roman"/>
              </a:rPr>
              <a:t>管理领域阶段的创新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一种思想和原则以及在这种思想、原则指导下，组织所从事的不断适应环境变化、满足社会需求的实践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创新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一）创新是组织适应环境变化的基本途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二）创新是保持组织活动力，提高组织竞争力的保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三）创新与维持相结合，实现组织最优化的存在状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三、创新的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按不同的依据，从不同的角度，可以将创新分为不同的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一）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创新的程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，可分为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局部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整体创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二）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组织的处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，可分为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防御型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积极建设型创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一、管理原理范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管理原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指管理活动的根本依据和准则，是管理学的基本理论，它是管理学在不同业务领域都需应用的概念、理论、准则和方法，反映了管理的基本规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00"/>
                </a:solidFill>
                <a:latin typeface="Times New Roman"/>
              </a:rPr>
              <a:t>第一节    管理原理概述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三）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创新的组织工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，可分为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自发的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有组织的创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四）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创新所对应的组织寿命周期阶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，可分为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初创时期的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运营时期的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307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四、创新管理的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管理认为，创新的内容可以为组织外部环境的创新和组织内部条件的创新；而组织外部环境的创新相对困难，这里仅就组织内部创新的内容作一定的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组织制度创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组织目标创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技术创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四）观念及文化创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重要的管理原理，创新已成为组织发展的重要保证，是组织的灵魂。在管理实践中，各种组织既要牢固树立创新的思想，又要采取切实步骤进行创新活动；既要看到创新为组织发展提供了强大的动力，又要注意分析和防范创新的风险，没有无风险的创新；另外，还要将创新纳入组织制度的体系，使其有章可循，获得保障。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1193760"/>
            <a:ext cx="7010280" cy="32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管理原理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管理原理阐明了管理的实质及基本任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管理原理蕴涵着管理的基本观念和基本指导思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管理原理突出了管理的关键和重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四）管理原理提供了管理的基本手段和途径、基本方法和技巧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00"/>
                </a:solidFill>
                <a:latin typeface="Times New Roman"/>
              </a:rPr>
              <a:t>管理原理概述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三、管理原理体系</a:t>
            </a:r>
            <a:r>
              <a:rPr b="0" lang="zh-CN" sz="3200" spc="-1" strike="noStrike">
                <a:solidFill>
                  <a:srgbClr val="66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当今的社会技术经济环境下，管理原理体系应包括以下四个基本组成部分，即：系统管理原理、人本管理原理、权变管理原理及创新管理原理。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以上构成管理原理体系的四个基本管理原理，都是现代管理不可缺少的指导思想和管理哲学，是不可违背的管理的基本规律，它们既相互独立，又相互联系、相互渗透，从而构成一个有机的体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00"/>
                </a:solidFill>
                <a:latin typeface="Times New Roman"/>
              </a:rPr>
              <a:t>管理原理概述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系统管理原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表述为：组织是一个复杂的、动态的社会经济技术学说，管理就是为了达到一定的目的、实现组织目标而设计并运作好这个系统的活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一、系统及其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（一） 系统的含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系统是指由若干相互联系、相互作用的部分组成，在一定的环境中具有特定功能的有机整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（二） 系统的特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系统的一般特征包括整体性、层次性、相关性、具有特定的功能、环境适应性和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第二节  系统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系统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系统分析方法的内在要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意事物的整体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研究事物的内部结构及联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强调系统的开放性和动态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系统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0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三、系统管理模式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管理优化的整体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管理目标的系统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管理过程的完整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四）管理主体的全员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五）管理职能的综合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六）管理方法的先进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七）管理程序的循环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四、系统原理对管理工作的指导意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00"/>
                </a:solidFill>
                <a:latin typeface="Times New Roman"/>
              </a:rPr>
              <a:t>第三节   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一、人本管理原理的实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666600"/>
                </a:solidFill>
                <a:latin typeface="Times New Roman"/>
              </a:rPr>
              <a:t>人本管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以人为本的管理。人本管理原理可以表述为：管理的本质是激励、引导人们去实现预定的目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本管理原理的</a:t>
            </a:r>
            <a:r>
              <a:rPr b="1" lang="zh-CN" sz="2400" spc="-1" strike="noStrike">
                <a:solidFill>
                  <a:srgbClr val="666600"/>
                </a:solidFill>
                <a:latin typeface="Times New Roman"/>
              </a:rPr>
              <a:t>实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于：在管理中，应当把人看作最主要的管理对象和发重要的资源，确立以人为本的指导思想及依靠广大员工实现组织发展，运用各种激励手段，调动和充分发挥人的积极性和创造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3880" y="304920"/>
            <a:ext cx="72392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坚持人本原理的必然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人的主观能动性以及其具有的决定性作用，要求在管理中必须坚持人本管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管理的科学性和艺术性的统一，要求必须做好人的工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心理科学和行为科学理论的发展，为实施人本提供了理解支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 原理</cp:keywords>
  <dc:language>en-US</dc:language>
  <cp:lastModifiedBy/>
  <cp:revision>0</cp:revision>
  <dc:subject/>
  <dc:title/>
</cp:coreProperties>
</file>