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camera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A27-715D-446A-947D-63D97AFA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17E-653D-43C3-84AC-1C05B6BC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DFA-4474-4EA4-A293-8883397A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407-04E8-4D8C-B7B1-4B0A5DD8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7A5A-7C12-4C8B-9257-D4D0365B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B417-2511-4676-972C-4BC0A72D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6F71-BD4F-48BD-8964-8F0E25E2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5E15-E74A-4396-ADB1-E809DDFC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64F9-03D6-402B-AD7A-DB08B557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CD73-0D53-425E-9C82-69C9FF33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788D-479C-467C-AA54-9FD4B85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FB5-12E4-4775-A1E2-7E812BF5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3922-53AC-477B-96D4-E8BC3424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325C-4B12-4019-924A-B6DDEDA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63DA-A725-478E-87D5-7D074976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B946-5399-4DA8-80F9-4FAE53E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120E-E238-400B-8C53-6BD03B88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7CA-EDDA-4E59-A8FF-7E487F14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71D-DC5A-4471-8209-F558132E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368-3658-40BD-A402-FBEF690D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53C-F2CD-4ADE-B3F9-077E1844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DF2-2098-4FBA-BFF0-212E7551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55C-9298-43C6-9F95-DE474C5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CEC-2618-4087-BF50-1CA514F8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CE73-7927-4DAE-8E8E-DD889C12757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0FF4-B2D7-4AB7-8048-85227F2B3BE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505120"/>
            <a:ext cx="7793280" cy="1200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36147" dir="2700000" blurRad="0" rotWithShape="0">
              <a:srgbClr val="1c1c1c"/>
            </a:outerShdw>
          </a:effectLst>
        </p:spPr>
        <p:txBody>
          <a:bodyPr lIns="94680" rIns="94680" tIns="51480" bIns="51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200" spc="-1" strike="noStrike">
              <a:solidFill>
                <a:srgbClr val="000000"/>
              </a:solidFill>
              <a:latin typeface="Tahoma"/>
              <a:ea typeface="汉鼎简美黑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343400"/>
            <a:ext cx="655308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ahoma"/>
                <a:ea typeface="隶书"/>
              </a:rPr>
              <a:t>物流管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76720" y="2895480"/>
            <a:ext cx="2781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汉鼎简美黑"/>
              </a:rPr>
              <a:t>教研室</a:t>
            </a:r>
            <a:endParaRPr b="1" lang="en-US" sz="72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汉鼎简美黑"/>
              <a:ea typeface="汉鼎简美黑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124080"/>
            <a:ext cx="2209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OG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8999600">
            <a:off x="6553440" y="3276360"/>
            <a:ext cx="2438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962520"/>
            <a:ext cx="2971800" cy="398880"/>
          </a:xfrm>
          <a:prstGeom prst="rect">
            <a:avLst/>
          </a:prstGeom>
          <a:solidFill>
            <a:srgbClr val="766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Tahoma"/>
                <a:ea typeface="隶书"/>
              </a:rPr>
              <a:t>专业代码：</a:t>
            </a:r>
            <a:r>
              <a:rPr b="1" lang="zh-CN" sz="2000" spc="-1" strike="noStrike">
                <a:solidFill>
                  <a:srgbClr val="33cc33"/>
                </a:solidFill>
                <a:latin typeface="Tahoma"/>
                <a:ea typeface="隶书"/>
              </a:rPr>
              <a:t>110210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、物流的存在空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以供应链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581280"/>
            <a:ext cx="304560" cy="824040"/>
          </a:xfrm>
          <a:prstGeom prst="rect">
            <a:avLst/>
          </a:prstGeom>
          <a:solidFill>
            <a:srgbClr val="54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供应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657600"/>
            <a:ext cx="304920" cy="824040"/>
          </a:xfrm>
          <a:prstGeom prst="rect">
            <a:avLst/>
          </a:prstGeom>
          <a:solidFill>
            <a:srgbClr val="6676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e4a8"/>
                </a:solidFill>
                <a:latin typeface="Tahoma"/>
              </a:rPr>
              <a:t>生产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3276720"/>
            <a:ext cx="762120" cy="107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批发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分销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581280"/>
            <a:ext cx="381240" cy="951120"/>
          </a:xfrm>
          <a:prstGeom prst="rect">
            <a:avLst/>
          </a:prstGeom>
          <a:solidFill>
            <a:srgbClr val="6676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e4a8"/>
                </a:solidFill>
                <a:latin typeface="Tahoma"/>
              </a:rPr>
              <a:t>零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e4a8"/>
                </a:solidFill>
                <a:latin typeface="Tahoma"/>
              </a:rPr>
              <a:t>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3733920"/>
            <a:ext cx="38124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41911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4191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3341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19720" y="49525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952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52578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09588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0481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048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8195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28195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3124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1240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32004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0120" y="32004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572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4952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620120" y="4495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286000"/>
            <a:ext cx="8001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物流企业业务空间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---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运输、仓储、加工、包装及配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6248520"/>
            <a:ext cx="56390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前向或后向一体化的成本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4724280"/>
            <a:ext cx="914400" cy="581400"/>
          </a:xfrm>
          <a:prstGeom prst="rect">
            <a:avLst/>
          </a:prstGeom>
          <a:solidFill>
            <a:srgbClr val="8d6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仓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4800600"/>
            <a:ext cx="304560" cy="30492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31240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32004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4724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142640" y="30481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44956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51814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590920" y="457164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41911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724280"/>
            <a:ext cx="914400" cy="581400"/>
          </a:xfrm>
          <a:prstGeom prst="rect">
            <a:avLst/>
          </a:prstGeom>
          <a:solidFill>
            <a:srgbClr val="8d6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仓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5029200"/>
            <a:ext cx="9144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流通加工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包装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2590920"/>
            <a:ext cx="8153640" cy="2717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baed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生产物流      ？降低成本         工艺流程再造？进入否？凭何进入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、企业供应物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、企业销售物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回收物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冶金行业每年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千万吨，占总产量的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30%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左右） ？进入否？凭何进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废弃物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70960" y="10666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物流的存在空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191120" y="3047760"/>
            <a:ext cx="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54100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4495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40384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35812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28195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18288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6172200"/>
            <a:ext cx="5791320" cy="398880"/>
          </a:xfrm>
          <a:prstGeom prst="rect">
            <a:avLst/>
          </a:prstGeom>
          <a:solidFill>
            <a:srgbClr val="3333cc"/>
          </a:solidFill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如何高效、成本低？？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5562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）、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企业物流、物流企业的发展策略与运作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个性决定的发展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网络化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区域化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柔性化             及时、安全、迅速完成四流合一的物流，同时创造规模效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个性决定的运作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隶书"/>
              </a:rPr>
              <a:t>采取综合物流代理为主要形式的客户定制服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657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国有大中企业不景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42670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不作太大投资，进行闲置资产整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00400" y="3962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低成本、高扩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40384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2514600"/>
            <a:ext cx="2819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将主要成本部门及产品服务的生产部门的大部分业务外包，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注重建立自己的销售队伍，并将协作单位纳入自己的经营轨道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公司经营的核心能力仅是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综合物流代理业务的销售、采购、协调管理、组织设计的方法和经验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注重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业务流程创新和组织机制创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提高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管理效率和效益，实行</a:t>
            </a:r>
            <a:r>
              <a:rPr b="1" lang="zh-CN" sz="1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3333cc"/>
                </a:solidFill>
                <a:latin typeface="Tahoma"/>
              </a:rPr>
              <a:t>低成本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运作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坚持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品牌经营、产品（服务）经营和资本经营相结合的系统经营理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105520"/>
            <a:ext cx="784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企业发展目标与员工、供应商、经营商发展目标充分结合，形成利益共同体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重视员工和外部协作经营商的培训，协助其实现目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建立和完善企业的物流网络，分级管理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职责明确，责、权、利对等，操作和行销分开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实行优先认股的内部管理机制，促进企业发展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组建客户俱乐部，稳定客户群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开发建立物流信息系统，应用物流先进技术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逐步引入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4038480"/>
            <a:ext cx="1752480" cy="9144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4419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具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措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3" idx="0"/>
            <a:endCxn id="282" idx="0"/>
          </p:cNvCxnSpPr>
          <p:nvPr/>
        </p:nvCxnSpPr>
        <p:spPr>
          <a:xfrm flipV="1">
            <a:off x="4190760" y="4295520"/>
            <a:ext cx="14482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066680" y="58672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9625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41148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2057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71600" y="304920"/>
            <a:ext cx="69343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管理打造“物流”              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是在特定的环境下，对组织所拥有的资源，进行有效的计划、组织、指挥、协调和控制，实现组织既定目标的活动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本身无目的，只能依附于组织，为实现组织目标有效服务 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的过程是一系列相互关联连续进行的工作构成的 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追求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效率和效益 ＃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是在一定的环境下进行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管得住：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员工的行为一致奔向企业目标，形成统一、高效、规范的集体行为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团队精神。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职权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+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制度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+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企业文化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实现管理的双二重性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※基础：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不错位和计划严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理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理得顺：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企业内外各部门能有效沟通，信息畅通，步调一致，系统整体优化。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※基础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组织结构符合企业可持续发展的要求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岗位职责明确，制度完善，控制到位，管理无缝隙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员工成熟度高，积极履行职责，主动创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53352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5562720"/>
            <a:ext cx="7467480" cy="398880"/>
          </a:xfrm>
          <a:prstGeom prst="rect">
            <a:avLst/>
          </a:prstGeom>
          <a:gradFill rotWithShape="0">
            <a:gsLst>
              <a:gs pos="0">
                <a:srgbClr val="66767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管理理论：经营管理学、生产与运作管理、经营战略学、公司理财、营销管理学、成本控制学、价值链管理学、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7S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5W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、人力资源管理、管理经济学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219320" y="4572000"/>
            <a:ext cx="6858000" cy="886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Tahoma"/>
              </a:rPr>
              <a:t>物流管理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ahoma"/>
                <a:ea typeface="隶书"/>
              </a:rPr>
              <a:t>就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ahoma"/>
                <a:ea typeface="隶书"/>
              </a:rPr>
              <a:t>如何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ahoma"/>
                <a:ea typeface="隶书"/>
              </a:rPr>
              <a:t>高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解决生产和消费之间存在着的数量、质量、时间和空间上的矛盾，实现生产和消费间高质量的结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----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通过创造时间、空间经济价值，为企业赢得市场优势，获得可持续发展的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81080"/>
            <a:ext cx="761976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理论与物流个性的融合，使物流的发展具有了强目标性、计划性、整合性、质量性、理论性、附值性、技术性、畅通性、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--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创造了最大的时间、空间价值，促进了物流的健康发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97956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理论与物流个性的融合创造了物流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143000" y="60948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物流管理专业的个性           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以系统、权变管理理论结晶出物流管理必须实施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“供应链管理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的战略思想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管理过程注重“管理的双二重性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管理的具体方案采取目标管理、全面计划管理、全面质量管理和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JUST IN TIM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等先进技术，并在实践中技术创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2057400"/>
            <a:ext cx="6781680" cy="703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供应链管理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SUPPLY CHAIN MANAGEMENT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使物流企业融入到商品供应者、需求者之间，与之真诚合作，追求共同利益，体现“双赢”，打造企业“航母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53280" y="1523880"/>
            <a:ext cx="457200" cy="533520"/>
          </a:xfrm>
          <a:prstGeom prst="wedgeEllipseCallout">
            <a:avLst>
              <a:gd name="adj1" fmla="val -30208"/>
              <a:gd name="adj2" fmla="val 69939"/>
            </a:avLst>
          </a:prstGeom>
          <a:gradFill rotWithShape="0">
            <a:gsLst>
              <a:gs pos="0">
                <a:srgbClr val="0066ff"/>
              </a:gs>
              <a:gs pos="100000">
                <a:srgbClr val="00e4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ubChord"/>
          <p:cNvSpPr/>
          <p:nvPr/>
        </p:nvSpPr>
        <p:spPr>
          <a:xfrm rot="1626000">
            <a:off x="5562720" y="3124080"/>
            <a:ext cx="2266920" cy="22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9030084"/>
                <a:close/>
              </a:path>
            </a:pathLst>
          </a:custGeom>
          <a:solidFill>
            <a:srgbClr val="6676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ubChord"/>
          <p:cNvSpPr/>
          <p:nvPr/>
        </p:nvSpPr>
        <p:spPr>
          <a:xfrm rot="8288400">
            <a:off x="5104800" y="3123720"/>
            <a:ext cx="2266920" cy="22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79" y="1066"/>
                </a:moveTo>
                <a:arcTo wR="10800" hR="10800" stAng="-3859654" swAng="-913408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21429600">
            <a:off x="6705720" y="3505320"/>
            <a:ext cx="457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效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效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3352680"/>
            <a:ext cx="914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自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3657600"/>
            <a:ext cx="3124440" cy="39888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人机有效结合，创造效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4495680"/>
            <a:ext cx="3124440" cy="39888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有效沟通，铸造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8380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二、物流管理专业发展前景较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供应企业、需求企业现存问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专业物流企业现存问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2546280" y="12938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企业急需物流管理人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2590920"/>
            <a:ext cx="4648320" cy="132624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认识到位，物流管理集成不到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物流规划能力较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物流管理技术落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2819520"/>
            <a:ext cx="2057400" cy="86256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物流理念尚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无专业技术人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3124080"/>
            <a:ext cx="1218960" cy="60984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2819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造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1447920"/>
            <a:ext cx="35053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通过对中州铝业集团、北京箱包集团、金诚制造集团、济南炼油、济南钢铁、润华集团、试金集团、冠鲁集团、鲁能润瑞等十四行业分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41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21337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4800600"/>
            <a:ext cx="4647960" cy="181908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物流管理战略思想错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物流运作过程控制技术较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物流管理技术概念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物流营销能力落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电子商务应用能力处于概念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191120"/>
            <a:ext cx="36576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通过对盖家沟国际物流中心、黄台物流中心分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9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5105520"/>
            <a:ext cx="2361960" cy="703800"/>
          </a:xfrm>
          <a:prstGeom prst="rect">
            <a:avLst/>
          </a:prstGeom>
          <a:noFill/>
          <a:ln w="9360">
            <a:solidFill>
              <a:srgbClr val="766e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总经理理念超前，员工能力较差，经常出现管理错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548640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029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造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为学生提供的岗位（群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专业物流企业的管理和技术岗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连锁企业配送中心的管理和技术岗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现代货运企业、仓储企业的管理和技术岗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现代商业企业、工业企业的相应管理和技术岗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4114800"/>
            <a:ext cx="7162920" cy="862560"/>
          </a:xfrm>
          <a:prstGeom prst="rect">
            <a:avLst/>
          </a:prstGeom>
          <a:solidFill>
            <a:srgbClr val="766e72"/>
          </a:solidFill>
          <a:ln w="9360">
            <a:solidFill>
              <a:srgbClr val="766e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技术岗位（群）：物流计划员、配装员、接货员、理货员、仓保员、结算员、配送员、配送加工员、调度员、成本控制员、报关员、核算员                                             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（共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12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管理岗位（群）：项目管理、市场拓展、大客户服务与管理、质量控制、物流规划、供应链运作管理            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（共 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6 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57200" y="3581280"/>
            <a:ext cx="8305920" cy="2703960"/>
          </a:xfrm>
          <a:prstGeom prst="rect">
            <a:avLst/>
          </a:prstGeom>
          <a:gradFill rotWithShape="0">
            <a:gsLst>
              <a:gs pos="0">
                <a:srgbClr val="ecfffa"/>
              </a:gs>
              <a:gs pos="100000">
                <a:srgbClr val="99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供应链物流系统的操作技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业务外包与资源外购的操作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流运作过程的控制技术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4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供应物流系统的集成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5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配送物流的高效技术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一体化物流的操作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617400"/>
            <a:ext cx="872640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三、教育特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教学计划特色      （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）、（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编制教学计划特色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教学计划是在如何运作企业经营的基础上编制的，具有较强的可操作性和前瞻性，符合企业对人才的要求，并提出执行教学计划时要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突出控制六个要点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15238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完成教学计划特色的设想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c6c6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教师要经常参与企业的物流管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要为教师创造条件参与省、市经济论坛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要为教师创造条件进行院校间的合作与交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在济南市建立专业物流企业、连锁企业配送中心、现代货运企业、仓储企业、现代商业企业、工业企业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个实习基地，并建立长期合作关系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建设综合实验室、演练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制定“控制要素”的前期、中期、后期控制方案及运作方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7467480" y="2057400"/>
            <a:ext cx="1295640" cy="10666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22096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提高教师业务能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2057400"/>
            <a:ext cx="762120" cy="1143000"/>
          </a:xfrm>
          <a:prstGeom prst="rightArrowCallout">
            <a:avLst>
              <a:gd name="adj1" fmla="val 37497"/>
              <a:gd name="adj2" fmla="val 37494"/>
              <a:gd name="adj3" fmla="val 16667"/>
              <a:gd name="adj4" fmla="val 6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2209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师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4038480"/>
            <a:ext cx="510516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？仓储、配送实训在基地，其他实训在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4191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专业代码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10210W-----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工商管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专业特点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以管理学为主，顾及工学，达到经济学的目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研究方法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建立“对立统一的思想”，用矛盾分析法，研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物流管理理论和技术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人才层次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博士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----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物流战略和大系统决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硕士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-----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物流业务经营决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本科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-----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物流作业过程管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专科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-----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物流过程的实际操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257800"/>
            <a:ext cx="1143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管理原理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技术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方法、经济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 rot="383400">
            <a:off x="3733560" y="5486400"/>
            <a:ext cx="1876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168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8265c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隶书"/>
              </a:rPr>
              <a:t>培养方法</a:t>
            </a:r>
            <a:endParaRPr b="1" lang="en-US" sz="2400" spc="1" strike="noStrike">
              <a:ln w="316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8265c9"/>
                  </a:gs>
                  <a:gs pos="100000">
                    <a:srgbClr val="ff00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387520" indent="-238752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隶书"/>
              </a:rPr>
              <a:t>培养的学生特色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87520" indent="-23875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培养学生有五个特色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87520" indent="-2387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2209680"/>
            <a:ext cx="8305560" cy="448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6440" indent="-2476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树立一个理念：以系统、权变理论，构建起“供应链管理”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理论体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保证两个定位：管理理论知识宽厚，物流操作技术实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现三个目标：基础课        素质高，专业课           能力强，               实习、实训、演练课                        操作技能过硬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突出四个阶段：素质教育打基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特长生制展个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校企联合找出路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案指导求发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考取五种证书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专科外语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PE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证书（部分学生获取英语四级证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ct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助理电子商务师证书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级计算机网络证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部分学生获取报关员证书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物流配送员证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专业教师应具备的特色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706840"/>
          </a:xfrm>
          <a:prstGeom prst="rect">
            <a:avLst/>
          </a:prstGeom>
          <a:gradFill rotWithShape="0">
            <a:gsLst>
              <a:gs pos="0">
                <a:srgbClr val="e6e6fe"/>
              </a:gs>
              <a:gs pos="100000">
                <a:srgbClr val="6666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具有求实创新的教学理念和较强的责任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了解物流业发展方向，具有与企业接轨的能力，并得到企业的  认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具有宽厚的管理专业理论知识和实际操作技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了解“物流”和“物流管理”的个性，掌握其发展趋势，有超前的知识储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考取物流管理专业的资格证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200400" y="6019920"/>
            <a:ext cx="685800" cy="6094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172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师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66320" y="533160"/>
            <a:ext cx="780444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819520" y="205740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结束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19320" y="457200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各位领导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培养方法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133720"/>
            <a:ext cx="4800600" cy="4419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2819520"/>
            <a:ext cx="3353040" cy="2971800"/>
          </a:xfrm>
          <a:prstGeom prst="ellipse">
            <a:avLst/>
          </a:prstGeom>
          <a:solidFill>
            <a:srgbClr val="6676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429000"/>
            <a:ext cx="1676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133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管理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663800">
            <a:off x="5707080" y="40449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运筹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58672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经济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547800">
            <a:off x="1935000" y="4769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系统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040600">
            <a:off x="3263760" y="29937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1800" spc="-1" strike="noStrike">
                <a:solidFill>
                  <a:srgbClr val="ffcf01"/>
                </a:solidFill>
                <a:latin typeface="Tahoma"/>
              </a:rPr>
              <a:t>供应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1800" spc="-1" strike="noStrike">
                <a:solidFill>
                  <a:srgbClr val="ffcf01"/>
                </a:solidFill>
                <a:latin typeface="Tahoma"/>
              </a:rPr>
              <a:t>制造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648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1800" spc="-1" strike="noStrike">
                <a:solidFill>
                  <a:srgbClr val="ffcf01"/>
                </a:solidFill>
                <a:latin typeface="Tahoma"/>
              </a:rPr>
              <a:t>消费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413800">
            <a:off x="3962520" y="518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f01"/>
                </a:solidFill>
                <a:latin typeface="Tahoma"/>
              </a:rPr>
              <a:t>流通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809880"/>
            <a:ext cx="990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物流管理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原理、技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方法、经济        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5715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物流管理专业介绍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何认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物流管理</a:t>
            </a:r>
            <a:br>
              <a:rPr sz="3200"/>
            </a:br>
            <a:br>
              <a:rPr sz="3200"/>
            </a:b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二、前景展望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三、教育特色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2057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f01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9051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905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22860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666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16765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市场孕育“物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20574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管理打造“物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2438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物流管理的个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352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27672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276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9625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企业急需专业人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38098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就业“岗位群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5720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5720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5410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4800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培养特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51814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师资应有特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4419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教学计划特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-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685800"/>
            <a:ext cx="78044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一、如何认识物流管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市场孕育“物流”               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3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4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5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6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7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市场的变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840" y="45165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商品力单轴指向时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320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267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3809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商品力、销售力双轴指向时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5053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048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商品力、销售力、形象力三轴指向时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4800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4038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00800" y="4038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9608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6386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67080" y="4800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010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5181480"/>
            <a:ext cx="3962520" cy="398880"/>
          </a:xfrm>
          <a:prstGeom prst="rect">
            <a:avLst/>
          </a:prstGeom>
          <a:solidFill>
            <a:srgbClr val="6666ff"/>
          </a:solidFill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企业如何获得竞争优势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7696080" y="56386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7493"/>
                </a:moveTo>
                <a:lnTo>
                  <a:pt x="32467" y="7493"/>
                </a:lnTo>
                <a:lnTo>
                  <a:pt x="32467" y="12828"/>
                </a:lnTo>
                <a:cubicBezTo>
                  <a:pt x="32467" y="13751"/>
                  <a:pt x="33268" y="14482"/>
                  <a:pt x="34304" y="14482"/>
                </a:cubicBezTo>
                <a:lnTo>
                  <a:pt x="35966" y="14482"/>
                </a:lnTo>
                <a:cubicBezTo>
                  <a:pt x="37002" y="14482"/>
                  <a:pt x="37803" y="13751"/>
                  <a:pt x="37803" y="12828"/>
                </a:cubicBezTo>
                <a:lnTo>
                  <a:pt x="37803" y="7493"/>
                </a:lnTo>
                <a:lnTo>
                  <a:pt x="35966" y="7493"/>
                </a:lnTo>
                <a:lnTo>
                  <a:pt x="39474" y="3985"/>
                </a:lnTo>
                <a:lnTo>
                  <a:pt x="43147" y="7493"/>
                </a:lnTo>
                <a:lnTo>
                  <a:pt x="41310" y="7493"/>
                </a:lnTo>
                <a:lnTo>
                  <a:pt x="41310" y="12828"/>
                </a:lnTo>
                <a:cubicBezTo>
                  <a:pt x="41310" y="15596"/>
                  <a:pt x="38734" y="18155"/>
                  <a:pt x="35966" y="18155"/>
                </a:cubicBezTo>
                <a:lnTo>
                  <a:pt x="34304" y="18155"/>
                </a:lnTo>
                <a:cubicBezTo>
                  <a:pt x="31536" y="18155"/>
                  <a:pt x="28960" y="15596"/>
                  <a:pt x="28960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16200">
            <a:off x="7924320" y="3123720"/>
            <a:ext cx="152640" cy="2286000"/>
          </a:xfrm>
          <a:prstGeom prst="upArrow">
            <a:avLst>
              <a:gd name="adj1" fmla="val 50000"/>
              <a:gd name="adj2" fmla="val 37441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6002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-4593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150920" y="457200"/>
            <a:ext cx="7804080" cy="56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市场孕育“物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经营形态的变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3434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产品生产             商品生产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971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资本经营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36576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生产经营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133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知识经营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124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生产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4038480"/>
            <a:ext cx="1066680" cy="53352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276720"/>
            <a:ext cx="1066680" cy="60948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2514600"/>
            <a:ext cx="1066680" cy="76212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4388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7958600">
            <a:off x="2057040" y="320004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4648320"/>
            <a:ext cx="0" cy="457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257800"/>
            <a:ext cx="1905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仅考虑生产，以提高生产效率为主研究市场不深，主要追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创业阶段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038480"/>
            <a:ext cx="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5257800"/>
            <a:ext cx="2361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两手抓、两手都要硬。实现效率、效益的二重性。（中国大多数企业）。参与市场的激烈竞争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竞争者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稳定阶段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3276720"/>
            <a:ext cx="0" cy="838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4191120"/>
            <a:ext cx="28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注重“立体”效益，开始注重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CI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，完成资本积累，分散风险，进行资本的增值保值。（中国大中型效益较好企业）。逐渐成为市场的领导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发展阶段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2819520"/>
            <a:ext cx="19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以知识资源、无形资产为第一配置要素，追求高附加值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生命周期较短，企业实力的真正体现。（中国高新技术产业）。第四方物流企业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腾飞阶段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5638680"/>
            <a:ext cx="2666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 rot="20207400">
            <a:off x="7391520" y="579132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98" h="21600">
                <a:moveTo>
                  <a:pt x="28943" y="7493"/>
                </a:moveTo>
                <a:lnTo>
                  <a:pt x="32450" y="7493"/>
                </a:lnTo>
                <a:lnTo>
                  <a:pt x="32450" y="12828"/>
                </a:lnTo>
                <a:cubicBezTo>
                  <a:pt x="32450" y="13751"/>
                  <a:pt x="33251" y="14482"/>
                  <a:pt x="34287" y="14482"/>
                </a:cubicBezTo>
                <a:lnTo>
                  <a:pt x="35949" y="14482"/>
                </a:lnTo>
                <a:cubicBezTo>
                  <a:pt x="36985" y="14482"/>
                  <a:pt x="37786" y="13751"/>
                  <a:pt x="37786" y="12828"/>
                </a:cubicBezTo>
                <a:lnTo>
                  <a:pt x="37786" y="7493"/>
                </a:lnTo>
                <a:lnTo>
                  <a:pt x="35949" y="7493"/>
                </a:lnTo>
                <a:lnTo>
                  <a:pt x="39457" y="3985"/>
                </a:lnTo>
                <a:lnTo>
                  <a:pt x="43130" y="7493"/>
                </a:lnTo>
                <a:lnTo>
                  <a:pt x="41293" y="7493"/>
                </a:lnTo>
                <a:lnTo>
                  <a:pt x="41293" y="12828"/>
                </a:lnTo>
                <a:cubicBezTo>
                  <a:pt x="41293" y="15596"/>
                  <a:pt x="38717" y="18155"/>
                  <a:pt x="35949" y="18155"/>
                </a:cubicBezTo>
                <a:lnTo>
                  <a:pt x="34287" y="18155"/>
                </a:lnTo>
                <a:cubicBezTo>
                  <a:pt x="31519" y="18155"/>
                  <a:pt x="28943" y="15596"/>
                  <a:pt x="28943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20095200">
            <a:off x="4983120" y="5275440"/>
            <a:ext cx="3951000" cy="398880"/>
          </a:xfrm>
          <a:prstGeom prst="rect">
            <a:avLst/>
          </a:prstGeom>
          <a:solidFill>
            <a:srgbClr val="6666ff"/>
          </a:solidFill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处于各阶段的企业如何持续发展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可持续发展的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企业要在市场中获得竞争优势         获得可持续发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1828800"/>
            <a:ext cx="99072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432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438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971800"/>
            <a:ext cx="1066680" cy="163512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研究消费的差异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确定细分市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需求调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结合企业资源实际确定服务对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抓机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971800"/>
            <a:ext cx="685800" cy="140364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铸形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消费者由认识到认可再到认同、信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895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2209680"/>
            <a:ext cx="2286000" cy="45972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经营成本降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276720"/>
            <a:ext cx="609480" cy="139752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工作过程中的成本核算，实行成本倒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（节约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</a:rPr>
              <a:t>第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</a:rPr>
              <a:t>利润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3352680"/>
            <a:ext cx="609480" cy="155592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提高劳动效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</a:rPr>
              <a:t>第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</a:rPr>
              <a:t>利润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276720"/>
            <a:ext cx="2743200" cy="132156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物流成本占商品货币成本的                               </a:t>
            </a: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30—4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             </a:t>
            </a: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占时间成本的</a:t>
            </a: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Tahoma"/>
              </a:rPr>
              <a:t>企业脚下的金矿</a:t>
            </a:r>
            <a:r>
              <a:rPr b="1" lang="zh-CN" sz="1600" spc="-1" strike="noStrike">
                <a:solidFill>
                  <a:srgbClr val="ff0066"/>
                </a:solidFill>
                <a:latin typeface="Tahoma"/>
              </a:rPr>
              <a:t>--------</a:t>
            </a:r>
            <a:r>
              <a:rPr b="1" lang="zh-CN" sz="1600" spc="-1" strike="noStrike">
                <a:solidFill>
                  <a:srgbClr val="ff0066"/>
                </a:solidFill>
                <a:latin typeface="Tahoma"/>
              </a:rPr>
              <a:t>企业第三利润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867280"/>
            <a:ext cx="3657600" cy="398880"/>
          </a:xfrm>
          <a:prstGeom prst="rect">
            <a:avLst/>
          </a:prstGeom>
          <a:solidFill>
            <a:srgbClr val="6666ff"/>
          </a:solidFill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降低物流成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209680"/>
            <a:ext cx="761760" cy="1295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38282"/>
                <a:lnTo>
                  <a:pt x="1387" y="5504"/>
                </a:lnTo>
                <a:arcTo wR="10800" hR="10800" stAng="-9038282" swAng="903828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8769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物流的产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企业将风险转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企业要集中精力顾及核心业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24382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28195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2362320"/>
            <a:ext cx="2971800" cy="955800"/>
          </a:xfrm>
          <a:prstGeom prst="rect">
            <a:avLst/>
          </a:prstGeom>
          <a:noFill/>
          <a:ln w="9360">
            <a:solidFill>
              <a:srgbClr val="994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、技术活动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创造商品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、研究市场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创造销售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、导入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CI------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铸造形象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43828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581280"/>
            <a:ext cx="8382240" cy="16304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949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找一个物流技术专业化企业：既能保证及时供应，又能降低成本，使企业整体效益最大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时代孕育了：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隶书"/>
              </a:rPr>
              <a:t>物流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---------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物质实体由供应者向需求者的物理移动，它是一系列创造时间价值和空间价值的经济活动，它包括运输、保管、配送、包装、装卸、流通加工及物质信息处理等多项基本活动的统一。（西方发达国家占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GDP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的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－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11%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；我国占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GDP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的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20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－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33%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同时也孕育了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物流企业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-----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为物质实体的供应者和需求者提供专业服务的企业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--- 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目标：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、货物及时、准确、安全送达；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B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、发挥专业技术优势，使物流成本最小化，为客户创造低成本的市场优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303200" y="770040"/>
            <a:ext cx="780444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、如何认识物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(a)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物流个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完成实体产品的空间、时间位移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无形产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外表表现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服务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？？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b)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四流合一【商  流、物  流、资 金 流、信 息 流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</a:t>
            </a:r>
            <a:r>
              <a:rPr b="1" lang="zh-CN" sz="1200" spc="-1" strike="noStrike">
                <a:solidFill>
                  <a:srgbClr val="ff0066"/>
                </a:solidFill>
                <a:latin typeface="隶书"/>
                <a:ea typeface="隶书"/>
              </a:rPr>
              <a:t>物流的先导     商流的基础   服务的另一渠道  企业综合水平的展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物流供应商在物流过程中是以交替出现在市场中，解决生产和消费之间存在着的数量、质量、时间和空间上的矛盾，实现生产和消费间高质量的结合。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-------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？？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物流 管理</cp:keywords>
  <dc:language>en-US</dc:language>
  <cp:lastModifiedBy/>
  <cp:revision>0</cp:revision>
  <dc:subject/>
  <dc:title/>
</cp:coreProperties>
</file>