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52C-26EB-4DDA-B2AD-2E5DADFF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411-AD0D-427E-AF27-FDDA96B8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B27-1573-4002-9531-E545BEE1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0F8-6F56-4A49-903A-227A6DF2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3F52-ADCC-44B2-BE91-7A06537F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70C9B-1166-445A-987E-E36DD6C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8BABE-7AD4-4A0A-8EF4-16FFFD3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9B01B-8863-4FFA-89DF-6BC92F71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E1377-C536-4715-BBF0-4AABB66B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88C7A-4DFA-4A5D-A4C6-BC40EA4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A628-593A-4266-96CC-95E1C3D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773-14B3-4FEF-83E6-F0F4130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6C74C-6388-4D81-A41B-EF315AE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72E57-94DF-4DDB-A123-1605ABB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23261-89D4-4A8C-95C3-D099320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8F90-E562-41F1-8D94-38C42106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CF29-682E-48C8-BE02-84A43B77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9F8-68DC-4854-B1F3-05692A5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917-D1D3-4125-BAAE-920C223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E54-4158-4EAC-AE5E-B41D310A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410-6D32-48CB-B79C-220ADE4A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CB7-1C1F-4FBB-8395-1D65B4D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E38-B366-4EA7-A607-7BC99B9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352-4D34-458A-84B7-B078A20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B79A-F8D1-4D5F-A8E7-823F0EA6B92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19CD-F909-46CE-8DAE-42498EA18E1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54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感受高中新课程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——关于课程方案、课程标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    准与管理者的对话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黑体"/>
                <a:ea typeface="黑体"/>
              </a:rPr>
              <a:t>                   </a:t>
            </a:r>
            <a:br>
              <a:rPr sz="4000"/>
            </a:b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新课程因其设计理念的先进性、触及问题的尖锐性、影响所及的广泛性，引起了全社会的高度重视，也不同程度的引发了学术观点的碰撞和讨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新课程本身并不十全十美，尤其是在新旧课程并行交替的阶段更面临观念上和制度上的挑战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4740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组织保障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值得反思的倒挂现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—校长—教研员—局长—县、市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使课程改革成为行政管理部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门的内在自觉需求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制度建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化滋养制度，制度促进文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在新旧课程交替过程中，如何通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过制度建设，促进新课程的理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深入人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评价考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成长记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学业考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综合素质评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高考改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是课程决定评价还是评价决定课程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如何建立与新课程相适 应的考试制度？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师资队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专业化是教师教育的核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建立以校为本的教研制度是促进教师专业发展的基本制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建立课程改革与教师成长的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相互促进机制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专业支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课程改革实践呼唤理论研究的深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何把师生互动、自主探究、合作学习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动活泼与教学上的散漫、随意、肤浅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热闹区别开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着新课程的推进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新奇、兴奋感减弱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因挑战而生困惑、因习以为常而生厌倦，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师需要持续的专业支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7846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e3ff"/>
                </a:solidFill>
                <a:latin typeface="Arial"/>
                <a:ea typeface="楷体_GB2312"/>
              </a:rPr>
              <a:t>课堂教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新课程，关注教学的生成性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新课程，不需要预设吗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要处理好预设与生成的关系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预设，为了更好地生成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建立有效、持续的专业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支持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国家和省两级基础教育教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指导委员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大力推进以校为本教研制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162000">
              <a:spcBef>
                <a:spcPts val="79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网络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师成长的关键要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学生时代的经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在职培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自身的教学经验与反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和同事的日常交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参加有效的专业活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26200" y="765000"/>
            <a:ext cx="367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关于以校为本教研制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20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e3ff"/>
                </a:solidFill>
                <a:latin typeface="黑体"/>
                <a:ea typeface="黑体"/>
              </a:rPr>
              <a:t>1.</a:t>
            </a: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目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使研究成为每一位教师的职业特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e3e3ff"/>
                </a:solidFill>
                <a:latin typeface="黑体"/>
                <a:ea typeface="黑体"/>
              </a:rPr>
              <a:t>2.</a:t>
            </a:r>
            <a:r>
              <a:rPr b="1" lang="zh-CN" sz="3800" spc="-1" strike="noStrike">
                <a:solidFill>
                  <a:srgbClr val="ffff00"/>
                </a:solidFill>
                <a:latin typeface="黑体"/>
                <a:ea typeface="黑体"/>
              </a:rPr>
              <a:t>关键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问题来源于教师的日常教学过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教师是教学研究的主体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楷体_GB2312"/>
              </a:rPr>
              <a:t>目的在于解决教学实际问题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1125000"/>
            <a:ext cx="7257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一、改革的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二、普通高中课程方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及课程标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三、回顾与反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219320" y="1523880"/>
          <a:ext cx="6553080" cy="4402080"/>
        </p:xfrm>
        <a:graphic>
          <a:graphicData uri="http://schemas.openxmlformats.org/drawingml/2006/table">
            <a:tbl>
              <a:tblPr/>
              <a:tblGrid>
                <a:gridCol w="3235320"/>
                <a:gridCol w="3317760"/>
              </a:tblGrid>
              <a:tr h="4592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625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核心要素</a:t>
                      </a:r>
                      <a:endParaRPr b="0" lang="en-US" sz="4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教师个体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教师同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专业人员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625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基本策略</a:t>
                      </a:r>
                      <a:endParaRPr b="0" lang="en-US" sz="4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实践与反思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交流与合作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spcBef>
                          <a:spcPts val="2500"/>
                        </a:spcBef>
                        <a:buClr>
                          <a:srgbClr val="e3e3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引领与创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7280" indent="-287280">
              <a:buClr>
                <a:srgbClr val="00ffcc"/>
              </a:buClr>
              <a:buFont typeface="Wingdings" charset="2"/>
              <a:buChar char=""/>
              <a:tabLst>
                <a:tab algn="l" pos="0"/>
                <a:tab algn="l" pos="378000"/>
                <a:tab algn="l" pos="48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个体的实践与反思是实施以校为本教研制度的基础与前提；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教师同伴的交流与合作是实施以校为本教研制度的标志与灵魂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280" y="4076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专业人员的有效参与是以校为本教研制度可持续、向纵深发展的关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．社会环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家长、社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学术界、企业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舆论界：报纸、杂志、电视、广播、网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民间：学术团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问题：如何形成课程发展与社区环境的良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互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1520" y="1341360"/>
            <a:ext cx="8863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思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挑战自我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—进一步增进对课程改革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责任感、紧迫感和使命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e3e3ff"/>
                </a:solidFill>
                <a:latin typeface="Arial"/>
              </a:rPr>
              <a:t>冷静分析国际经济和教育发展生态，进一步增强课程改革的紧迫感，坚定课程改革的信心。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2360" y="1413000"/>
            <a:ext cx="28954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题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认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勤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刻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踏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谨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……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65760" y="1341360"/>
            <a:ext cx="11559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践能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造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奇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兴趣爱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生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价值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教育发展生态图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541440" y="692280"/>
            <a:ext cx="10009440" cy="75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势与问题同样突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的优势正是西方教育所力图解决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的问题也正是西方教育的优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论是优势还是问题，都与文化背景密切相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发展的角度看，我们面临更严峻的挑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的优势需要在认真分析的基础上继承与发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关键词：寻找平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cc"/>
              </a:buClr>
              <a:buSzPct val="175000"/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1720" indent="-3175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我们的共同追求：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982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每一位高中生成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每一位高中教师成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每一所高中学校成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76720" y="2421000"/>
            <a:ext cx="3311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064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一、改革的背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906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90640" indent="0" algn="ctr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普通高中课程实施现状调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0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二、普通高中课程方案与课程标准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1752120"/>
            <a:ext cx="5638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1.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课程改革的具体目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.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普通高中培养目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20000"/>
              </a:lnSpc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课程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20000"/>
              </a:lnSpc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课程标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三、回顾与反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341360"/>
            <a:ext cx="79250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思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追问—新课程“新”在哪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新课程“新”在哪里？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程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堂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研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管理文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民主、开放、科学，平等、对话、协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26640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问题：实施新课程需要多久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-3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-8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-100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1341360"/>
            <a:ext cx="79250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反思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e3e3ff"/>
                </a:solidFill>
                <a:latin typeface="Times New Roman"/>
                <a:ea typeface="楷体_GB2312"/>
              </a:rPr>
              <a:t>倾听—来自课程实践的呼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新课程 方案 课程标准</cp:keywords>
  <dc:language>en-US</dc:language>
  <cp:lastModifiedBy/>
  <cp:revision>0</cp:revision>
  <dc:subject/>
  <dc:title/>
</cp:coreProperties>
</file>