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47D-4105-41D2-B156-72393432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ECD-D324-446F-A109-A10A4F34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9FD-9146-481C-AE27-08E21ADE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FB6-CDC2-4418-94AA-E5B0E7CF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0E1-D28B-469A-A142-69DBE226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D78-2C36-4F21-A03F-BA5584C4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E9B-25A8-408C-B0A4-D90221D8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EBC-C7A9-4EFC-BECB-700583CE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375-1BCD-41A5-90F5-7108971E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680-C5D0-4D27-899D-B5D2B44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150-5A3E-4D9D-BE87-CAB07D94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F39-DFFA-483A-A922-74689D3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2074-43C0-4D2B-9A53-4E9ACFE2C2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1720" y="1557360"/>
            <a:ext cx="8638920" cy="17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对研究生教育形势的基本判断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近两年发展和改革重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X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学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院　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.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868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当前研究生教育面临的主要矛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912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教育的总体水平不能适应建设世界一流的农业大学的需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研究型大学的研究生教育管理模式还需要积极探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868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当前研究生教育面临的主要矛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912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培养质量，特别是博士生的培养质量还需要继续提高，一些重要办学指标如全国百篇优秀博士学位论文入选数量，研究生发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SC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E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等论文的数量和质量与学校发展的要求还有较大的差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现行的招生制度、培养制度和培养模式的改革有待于进一步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　　四、今后两年研究生教育工作的基本方针：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统筹协调，积极发展，优化结构，改革创新，提高质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1912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统筹协调是确保研究生教育科学发展的基础。要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教育与本科生教育；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基础学科与应用学科、传统学科与新兴学科、高新技术学科的建设，合理布局；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博士生、硕士生和专业学位研究生教育；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学术建设与思想建设；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校内外研究生教育资源，加强导师队伍建设，加大投入；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统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院和各学院（平台）研究生教育和管理工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205080" y="115560"/>
            <a:ext cx="25192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统筹协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1912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积极发展是我校研究生教育的主题。在保证质量的前提下，稳步发展全日制研究生教育，积极发展专业学位教育。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200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年，全日制研究生规模稳定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6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人左右，其中博士生达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2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人，专业学位研究生数量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3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人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05080" y="115560"/>
            <a:ext cx="25192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积极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5080" y="115560"/>
            <a:ext cx="25192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优化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优化结构是学校发展目标和定位的需要。要积极建设并优化与世界一流的农业大学相适应的学科结构；确立科学合理的研究生教育层次结构，集中力量，重点抓好博士生教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5080" y="115560"/>
            <a:ext cx="25192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改革创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912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改革创新是研究生教育进步的根本动力。抓住当前研究生教育发展的主要矛盾和矛盾的主要方面，深化管理体制、招生培养制度、培养机制改革，适时积极推动研究生教育发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05080" y="115560"/>
            <a:ext cx="25192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提高质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质量是研究生教育的生命线。要进一步强化质量第一的观念，以提高招生质量、教学质量和论文质量为重点，把思想政治、品德教育和学风建设放在突出位置，切实提高研究生培养质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　　五、研究生教育发展和改革的重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868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（一）深化研究生教育管理体制改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12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加强学院研究生教育管理工作，发挥学院在研究生教育管理中的主体地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;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建立、健全校、院两级学位评定委员会职能，发挥其对研究生教育的决策和指导作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以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98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工程”建设为契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在构建科技创新平台的基础上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把研究生组织到创新平台的科技工作中，使科技创新平台成为研究生培养的基本单位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华文中宋"/>
              </a:rPr>
              <a:t>报告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9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院建设的基本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教育进入新的发展阶段的主要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当前研究生教育面临的主要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加强和改进研究生教育的基本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近两年我校研究生教育工作发展改革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2091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二）进一步加强学科建设，提高学科建设效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912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调整和优化学科结构，有计划、分阶段地构建符合办学目标的学科结构体系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加强现有国家重点学科建设，力争“十一五”国家级重点学科申报有新的突破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加强新增学科的建设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围绕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98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工程”科技创新平台建设，推动学科交叉和融合，为提高研究生创新能力营造良好学科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091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三）加强和改进研究生党建与思想政治工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912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理顺研究生党建与思政工作管理体制，完善工作体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积极推进研究生“三助”工作 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加强研究生党支部的建设工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加强研究生导师教书育人工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加强和改进研究生思想政治理论教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四）进一步加强研究生导师队伍建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912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全面落实研究生导师负责制，发挥导师在人才培养过程中的关键作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统筹校内外人才资源 ，建立一支适应学校发展的研究生导师、特别是博士生导师队伍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完善研究生导师、特别是博士生导师选聘办法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认真开展新增导师的培训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五）全面推进论文质量管理，提高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研究生科技 产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3480" y="1917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强化导师责任感和质量意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实施和完善优秀论文的奖励和激励机制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提高学位论文的监督检查力度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充分发挥各学位分委员会对研究生培养过程的学术管理作用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六）招生与培养制度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34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深化研究生招生制度改革，推进按专业招生和按创新学术团队招生，赋予学术团队和研究生导师更大的招生选拔权和管理权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加强对导师招生能力的审核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积极调整招生结构，提高研究生生源、特别是博士生生源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以硕士生两年制培养制度改革为重点，进一步完善硕博连读、直博生和提前攻博等相关的政策制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七）加强教风建设，深化教学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040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完善教师管理制度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充分发挥学院在教学管理工作中的核心作用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切实推进研究生教学国际化进程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继续实施研究生精品课程和重点课程建设计划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八）积极推动专业学位教育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统筹规划学术型学位教育和专业学位教育，适度扩大专业学位研究生教育规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借鉴国内外专业学位教育的成功做法，进一步提高质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加强师资队伍、教材、案例库、实践基地等方面的基础建设工作，提高校院两级开展专业学位教育的积极性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努力推进专业学位教育体制的创新，保障专业学位教育健康有序发展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37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九）构建与新阶段相适应的质量评估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90400" y="191772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建立健全学校研究生教育质量自我评估体系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近两年重点开展教学质量评估、博士生学位论文质量评估、博士生导师指导能力评估工作。适时开展新增学科建设水平评估和两年制硕士生培养质量评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15640"/>
            <a:ext cx="81374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（十）进一步加强对研究生教育的领导，加大研究生教育的投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0400" y="19908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逐步建设适应研究型大学发展的研究生教育管理结构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加大学科建设的投入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进一步改善我校研究生教学条件和教学环境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912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谢　谢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46040" y="250344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一、研究生院建设的基本经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中宋"/>
              </a:rPr>
              <a:t>研究生院建设的基本经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912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坚持正确的办学方向，全面贯彻落实科教兴国、人才强国战略，积极适应经济社会发展、科技发展的需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加强领导，理顺关系，营造全校办研究生院的氛围和环境，逐步完善全校办研究生教育的机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始终坚持以学科建设为重点，带动人才培养、导师队伍建设、科学研究、条件建设全面协调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中宋"/>
              </a:rPr>
              <a:t>研究生院建设的基本经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912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改革探索，抓住不同时期研究生教育发展的主要矛盾，不断提升对研究生教育规律性的认识，吸纳、借鉴国内外先进经验办法已成为推动研究生教育发展的主要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不断加强研究生院自身建设，建设一支高素质的管理队伍，完善组织管理机构，确保研究生管理有序进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　　二、研究生教育进入新的发展阶段的主要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868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研究生教育进入新阶段的主要特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912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全日制研究生的规模已经达到五千人，新的教育思想和管理模式正在建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建立了较为完善的学科结构体系，以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985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科技创新平台建设为目标的学科建设的新模式正在形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以两年制为重点的培养制度改革已进入实质性的运行阶段，以“三助”为主线的培养机制改革正在酝酿和推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868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中宋"/>
              </a:rPr>
              <a:t>研究生教育进入新阶段的主要特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9120" y="1773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教育管理已经进入了以招生质量、教学质量、论文质量为重点的全面质量管理阶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研究生党建与思想政治工作管理体制进一步理顺，管理体系建设初见成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　　三、当前研究生教育面临的主要矛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教育形势 基本判断 发展 改革</cp:keywords>
  <dc:language>en-US</dc:language>
  <cp:lastModifiedBy/>
  <cp:revision>0</cp:revision>
  <dc:subject/>
  <dc:title/>
</cp:coreProperties>
</file>