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3F51-92C2-4045-A0D1-92BBC8D9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592-CD74-4297-B63C-E6A3B417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A36-4195-4298-8C1F-C9895372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09B6-DFAE-48F2-95EB-4D61F7EE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1490-B1AC-4724-9848-2569311A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03CF-BC7B-4C20-867D-E9A676BF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B876-3F48-49CF-A8EF-DE50E397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7ED9-91D9-400B-A512-C7957061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6FA3-E6C8-4D03-97BA-5C725D72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8113-AAE4-4C3A-AE50-CDC5E664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AFF0-A382-4EEB-9A86-CFCE43DC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517-2521-43D0-909A-DCD46B1C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DE16-D096-4B36-88EB-C1AE293A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8F1A-9B70-49DD-9355-27ECB939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A1DC-0740-4F94-81AB-EB0C9C1F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D302-B34A-491E-9C2C-DB1BE1B2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20E4-44C1-4126-8501-E48BB7E1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01BD-6F1D-4332-A474-81195076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F70-2B1C-49C3-B2F5-9F85116C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D744-5430-4EED-AF27-563E6EE5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23AC-481C-46CA-A479-C5F8C497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23E-C645-46E2-9991-DFDD8FAB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3D6-A07D-4D86-8976-2FC58D78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C8B-2523-4365-AF1F-2A400B74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a7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3B90-47AC-4C37-B649-A8A8F76C4DDF}" type="slidenum"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a7cc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68a7be"/>
                </a:gs>
                <a:gs pos="100000">
                  <a:srgbClr val="a7cc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68a7be"/>
                </a:gs>
                <a:gs pos="50000">
                  <a:srgbClr val="a7ccd9"/>
                </a:gs>
                <a:gs pos="100000">
                  <a:srgbClr val="68a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a7ccd9"/>
                </a:gs>
                <a:gs pos="100000">
                  <a:srgbClr val="68a7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D759-F39A-4A9B-B08B-B7768FA775FA}" type="slidenum"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7F35-34D3-45A6-A0EB-612E6518F424}" type="slidenum"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55851"/>
                </a:solidFill>
                <a:latin typeface="Tahoma"/>
              </a:rPr>
              <a:t>舉足輕重的科技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76000" y="1981080"/>
            <a:ext cx="705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〝必然要滿足</a:t>
            </a:r>
            <a:r>
              <a:rPr b="1" lang="zh-TW" sz="3200" spc="-1" strike="noStrike" u="sng">
                <a:solidFill>
                  <a:srgbClr val="545472"/>
                </a:solidFill>
                <a:uFillTx/>
                <a:latin typeface="Tahoma"/>
              </a:rPr>
              <a:t>現代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旅行者的需求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!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〞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高水準之生活科技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完善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、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有趣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、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有益之基本科技服務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3933720"/>
            <a:ext cx="2592360" cy="1224000"/>
          </a:xfrm>
          <a:custGeom>
            <a:avLst/>
            <a:gdLst>
              <a:gd name="textAreaLeft" fmla="*/ 0 w 2592360"/>
              <a:gd name="textAreaRight" fmla="*/ 2592360 w 259236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EY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科技技術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3933720"/>
            <a:ext cx="2881440" cy="1224000"/>
          </a:xfrm>
          <a:custGeom>
            <a:avLst/>
            <a:gdLst>
              <a:gd name="textAreaLeft" fmla="*/ 0 w 2881440"/>
              <a:gd name="textAreaRight" fmla="*/ 2881800 w 28814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提供更好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的顧客服務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0360" y="3933720"/>
            <a:ext cx="2592360" cy="1224000"/>
          </a:xfrm>
          <a:prstGeom prst="flowChartProcess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持續增加載客量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廣告競爭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460692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高達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2%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的新航所得用於廣告和促銷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XXX</a:t>
            </a: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女孩”！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－浪漫為導向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,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較受歐美國家的歡迎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新穎且現代化的機隊”！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－高科技為導向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,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較受亞洲國家的歡迎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647960" y="1981080"/>
            <a:ext cx="380988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D10-96CA-4CA0-9174-FAD4EB63D8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售賣和配銷系統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84360" y="1989000"/>
            <a:ext cx="59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1973</a:t>
            </a: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年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,KRISCOM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1991</a:t>
            </a: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年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,</a:t>
            </a: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被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Abacus</a:t>
            </a: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取代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－擴大集客的服務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航空公司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飯店預約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場地安排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99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地方旅遊訊息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A40-933C-4924-8280-7BD77CD916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技術與地面服務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76360" y="1981080"/>
            <a:ext cx="69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地勤服務部門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－負責處理旅客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,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行李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,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貨物和郵件的工作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9595ff"/>
                </a:solidFill>
                <a:uFillTx/>
                <a:latin typeface="Tahoma"/>
              </a:rPr>
              <a:t>同理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9595ff"/>
                </a:solidFill>
                <a:uFillTx/>
                <a:latin typeface="Tahoma"/>
              </a:rPr>
              <a:t>地面優質服務計劃</a:t>
            </a:r>
            <a:r>
              <a:rPr b="0" lang="en-US" sz="3200" spc="-1" strike="noStrike" u="sng">
                <a:solidFill>
                  <a:srgbClr val="9595ff"/>
                </a:solidFill>
                <a:uFillTx/>
                <a:latin typeface="Tahoma"/>
              </a:rPr>
              <a:t>(OSG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A70-BB99-4602-9D53-13893D0FF1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科技與空中服務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1640" y="1981080"/>
            <a:ext cx="748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空中的辦公室和休閒中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一連串的問題：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－顧客價值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－可行性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－競爭優勢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ahoma"/>
              </a:rPr>
              <a:t>重點都還是人性化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E3E-3355-441E-85CB-2698BA49A6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92d5b"/>
                </a:solidFill>
                <a:latin typeface="Tahoma"/>
              </a:rPr>
              <a:t>Ang</a:t>
            </a: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蓄勢待發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76720" y="191628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現代航空器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地面服務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空中品質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DE68-C100-4B29-91FB-9A86C1D0D7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213372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Thank you for your attention!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1F96-1BA4-4E0E-BDDE-A0C1F20EF1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1970</a:t>
            </a:r>
            <a:r>
              <a:rPr b="0" lang="zh-TW" sz="4400" spc="-1" strike="noStrike">
                <a:solidFill>
                  <a:srgbClr val="892d5b"/>
                </a:solidFill>
                <a:latin typeface="Tahoma"/>
              </a:rPr>
              <a:t>年代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1960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年代—成長迅速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載運量每五年倍增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1970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年代—重要發展契機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公司—增闢國際航線、購入新高科技客機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政府—吸引外商進駐新加坡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07FD-B48D-4017-AA6F-D3E11046FB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92d5b"/>
                </a:solidFill>
                <a:latin typeface="Tahoma"/>
              </a:rPr>
              <a:t>市場行銷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Impact"/>
                <a:ea typeface="宋体"/>
              </a:rPr>
              <a:t>Mark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〝國際性及保留亞洲人的個性風格〞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24B5-229C-4F87-B440-00F211C473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 flipV="1">
            <a:off x="647640" y="3428640"/>
            <a:ext cx="7848720" cy="3124080"/>
          </a:xfrm>
          <a:prstGeom prst="downArrow">
            <a:avLst>
              <a:gd name="adj1" fmla="val 78537"/>
              <a:gd name="adj2" fmla="val 17060"/>
            </a:avLst>
          </a:prstGeom>
          <a:solidFill>
            <a:srgbClr val="ddfc84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〝</a:t>
            </a:r>
            <a:r>
              <a:rPr b="0" lang="zh-TW" sz="2800" spc="-1" strike="noStrike">
                <a:solidFill>
                  <a:srgbClr val="060402"/>
                </a:solidFill>
                <a:latin typeface="Tahoma"/>
              </a:rPr>
              <a:t>對於客人的服務〞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53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60402"/>
                </a:solidFill>
                <a:latin typeface="Tahoma"/>
              </a:rPr>
              <a:t>    —  </a:t>
            </a:r>
            <a:r>
              <a:rPr b="0" lang="zh-TW" sz="2800" spc="-1" strike="noStrike">
                <a:solidFill>
                  <a:srgbClr val="060402"/>
                </a:solidFill>
                <a:latin typeface="Tahoma"/>
              </a:rPr>
              <a:t>生存的唯一理由 </a:t>
            </a:r>
            <a:r>
              <a:rPr b="0" lang="zh-TW" sz="2800" spc="-1" strike="noStrike">
                <a:solidFill>
                  <a:srgbClr val="060402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60402"/>
                </a:solidFill>
                <a:latin typeface="Tahoma"/>
              </a:rPr>
              <a:t>自然與親切 </a:t>
            </a:r>
            <a:r>
              <a:rPr b="1" lang="zh-TW" sz="3200" spc="-1" strike="noStrike">
                <a:solidFill>
                  <a:srgbClr val="060402"/>
                </a:solidFill>
                <a:latin typeface="Tahoma"/>
              </a:rPr>
              <a:t>→</a:t>
            </a:r>
            <a:r>
              <a:rPr b="0" lang="zh-TW" sz="2800" spc="-1" strike="noStrike">
                <a:solidFill>
                  <a:srgbClr val="060402"/>
                </a:solidFill>
                <a:latin typeface="Tahoma"/>
              </a:rPr>
              <a:t> 高品質的飛行服務        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60402"/>
                </a:solidFill>
                <a:latin typeface="Tahoma"/>
              </a:rPr>
              <a:t>               </a:t>
            </a:r>
            <a:r>
              <a:rPr b="0" lang="zh-TW" sz="2800" spc="-1" strike="noStrike">
                <a:solidFill>
                  <a:srgbClr val="060402"/>
                </a:solidFill>
                <a:latin typeface="Tahoma"/>
              </a:rPr>
              <a:t>免費提供設備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60402"/>
                </a:solidFill>
                <a:latin typeface="Tahoma"/>
              </a:rPr>
              <a:t>           </a:t>
            </a:r>
            <a:r>
              <a:rPr b="0" lang="zh-TW" sz="2800" spc="-1" strike="noStrike">
                <a:solidFill>
                  <a:srgbClr val="060402"/>
                </a:solidFill>
                <a:latin typeface="Tahoma"/>
              </a:rPr>
              <a:t>『新加坡女孩』 </a:t>
            </a:r>
            <a:r>
              <a:rPr b="1" lang="zh-TW" sz="3200" spc="-1" strike="noStrike">
                <a:solidFill>
                  <a:srgbClr val="060402"/>
                </a:solidFill>
                <a:latin typeface="Tahoma"/>
              </a:rPr>
              <a:t>→</a:t>
            </a:r>
            <a:r>
              <a:rPr b="0" lang="zh-TW" sz="2800" spc="-1" strike="noStrike">
                <a:solidFill>
                  <a:srgbClr val="060402"/>
                </a:solidFill>
                <a:latin typeface="Tahoma"/>
              </a:rPr>
              <a:t>高品質個人服務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92d5b"/>
                </a:solidFill>
                <a:latin typeface="Tahoma"/>
              </a:rPr>
              <a:t>空中服務</a:t>
            </a:r>
            <a:endParaRPr b="0" lang="en-US" sz="32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2438280"/>
            <a:ext cx="71625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ea7b3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ea7b30"/>
                </a:solidFill>
                <a:latin typeface="Times New Roman"/>
                <a:ea typeface="超研澤特明"/>
              </a:rPr>
              <a:t>堅決創造在旅客心中的良好形象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58C-99C6-4990-8BD6-F66D6F45A8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996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92d5b"/>
                </a:solidFill>
                <a:latin typeface="Tahoma"/>
              </a:rPr>
              <a:t>  </a:t>
            </a:r>
            <a:r>
              <a:rPr b="1" lang="zh-TW" sz="3200" spc="-1" strike="noStrike">
                <a:solidFill>
                  <a:srgbClr val="892d5b"/>
                </a:solidFill>
                <a:latin typeface="Tahoma"/>
              </a:rPr>
              <a:t>地面服務</a:t>
            </a:r>
            <a:endParaRPr b="0" lang="en-US" sz="32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A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新加坡機場航站服務公司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   —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最高效率地勤服務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   —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最有力的後盾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擴展規模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與英航策略聯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增購巨型客機機隊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拓展航線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6DC-4F3D-4644-AD5F-9EE869FEEB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92d5b"/>
                </a:solidFill>
                <a:latin typeface="Tahoma"/>
              </a:rPr>
              <a:t>1991</a:t>
            </a: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年的局面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58560" y="1557000"/>
            <a:ext cx="71247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波斯灣戰爭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優勢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全球最高營運利潤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亞洲服務利潤最高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最年輕的機隊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吸引顧客 提高可靠度 低燃料 提高服務品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全球十大航空公司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航線延伸至橫越大西洋  法國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—</a:t>
            </a: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紐約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545472"/>
                </a:solidFill>
                <a:latin typeface="Tahoma"/>
              </a:rPr>
              <a:t>樟怡國際機場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1E8-1532-4801-8336-5AE0FEC461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892d5b"/>
                </a:solidFill>
                <a:latin typeface="Tahoma"/>
              </a:rPr>
              <a:t>同理心</a:t>
            </a:r>
            <a:endParaRPr b="0" lang="en-US" sz="5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7344-25C0-4497-83BC-EF5DEED522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92d5b"/>
                </a:solidFill>
                <a:latin typeface="Tahoma"/>
              </a:rPr>
              <a:t>顧客在意的小細節：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想要迅速通關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機場可能太擠或太少的登機門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大排長龍的隊伍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運務櫃檯所徵收的超額行李費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是否能提供旅客所滿意的座位分配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（事實證明有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30%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的旅客會抱怨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班機異常的即時資訊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B35-2C47-4B8F-9CC8-E56A0DB0E6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92d5b"/>
                </a:solidFill>
                <a:latin typeface="Tahoma"/>
              </a:rPr>
              <a:t>地面優質服務計劃</a:t>
            </a: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(OSG)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FB61-5A6D-44A0-985E-886B98F420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892d5b"/>
                </a:solidFill>
                <a:latin typeface="Tahoma"/>
              </a:rPr>
              <a:t>帶給旅客不同的感受：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在貴賓室提供尊榮與便利的裝備及服務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樟怡機場第二航站啟用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,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引入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CS9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簡單而快速的劃位過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劃位資料上有登機證和行李條碼的暗碼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登機證上有確認特別餐請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CS90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把關最後一道門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A6F-891B-418C-B509-6C924E1F54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92d5b"/>
                </a:solidFill>
                <a:latin typeface="Tahoma"/>
              </a:rPr>
              <a:t>1991</a:t>
            </a: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年的局面</a:t>
            </a:r>
            <a:r>
              <a:rPr b="1" lang="en-US" sz="4400" spc="-1" strike="noStrike">
                <a:solidFill>
                  <a:srgbClr val="892d5b"/>
                </a:solidFill>
                <a:latin typeface="Tahoma"/>
              </a:rPr>
              <a:t>(</a:t>
            </a: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續</a:t>
            </a:r>
            <a:r>
              <a:rPr b="1" lang="en-US" sz="4400" spc="-1" strike="noStrike">
                <a:solidFill>
                  <a:srgbClr val="892d5b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79640" y="1981080"/>
            <a:ext cx="64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威脅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亞洲區航空新秀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特色雷同之制服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轉變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旅客服務上策略聯盟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加入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ATA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會員國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9379-C80B-4539-8B9B-5043F10304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顧客服務哲學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79640" y="1981080"/>
            <a:ext cx="64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顧客至上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地勤服務訓練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旅客選擇權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正視抱怨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服務生產力指標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(SPI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經驗傳承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做不可能的事，處理合理的問題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B8B4-9C76-4474-9E9F-40F5B76D2A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顧客評論和生產線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47640" y="1981080"/>
            <a:ext cx="691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9595ff"/>
                </a:solidFill>
                <a:uFillTx/>
                <a:latin typeface="Tahoma"/>
              </a:rPr>
              <a:t>客艙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—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頭等艙 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5%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            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萊佛士商務艙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10%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             </a:t>
            </a: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經濟艙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85%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目標客戶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—</a:t>
            </a: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長程航線外國商務旅客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75%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外國乘客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25%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本地人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長途商務旅客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→</a:t>
            </a: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頭等艙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AC2-10D1-4BBC-A27A-93D8981C9E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2d5b"/>
                </a:solidFill>
                <a:latin typeface="Tahoma"/>
              </a:rPr>
              <a:t>                             </a:t>
            </a:r>
            <a:r>
              <a:rPr b="0" lang="en-US" sz="2400" spc="-1" strike="noStrike">
                <a:solidFill>
                  <a:srgbClr val="892d5b"/>
                </a:solidFill>
                <a:latin typeface="Tahoma"/>
              </a:rPr>
              <a:t>Up to 3hrs   4-8hrs    9hrs+</a:t>
            </a:r>
            <a:endParaRPr b="0" lang="en-US" sz="2400" spc="-1" strike="noStrike">
              <a:solidFill>
                <a:srgbClr val="892d5b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403280" y="2060640"/>
          <a:ext cx="6618240" cy="3936960"/>
        </p:xfrm>
        <a:graphic>
          <a:graphicData uri="http://schemas.openxmlformats.org/drawingml/2006/table">
            <a:tbl>
              <a:tblPr/>
              <a:tblGrid>
                <a:gridCol w="2376360"/>
                <a:gridCol w="1727280"/>
                <a:gridCol w="1224000"/>
                <a:gridCol w="12906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light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0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8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2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evenue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5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5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0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Mainly during day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LL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0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5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Mainly during night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0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75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 flipV="1">
            <a:off x="3780000" y="5013360"/>
            <a:ext cx="1726920" cy="9367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86B-AD70-4717-A78B-D6BE270D94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抓住商務旅客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195640" y="1980720"/>
            <a:ext cx="518472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技術是使服務進步的鑰匙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經常性的提升與改進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好還要更好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抓住偏好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6804000" y="4076640"/>
            <a:ext cx="1604880" cy="1981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932360" y="4149720"/>
            <a:ext cx="1905120" cy="1924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250920" y="3500280"/>
            <a:ext cx="1552320" cy="243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4DEA-926B-43B1-A8E9-EE856DFF44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技術上的革新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050920" y="1989000"/>
            <a:ext cx="640728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提高服務品質以增加旅客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45472"/>
                </a:solidFill>
                <a:latin typeface="Tahoma"/>
              </a:rPr>
              <a:t>－ 技術上好還要更好！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PPS(</a:t>
            </a:r>
            <a:r>
              <a:rPr b="1" lang="zh-TW" sz="3200" spc="-1" strike="noStrike">
                <a:solidFill>
                  <a:srgbClr val="545472"/>
                </a:solidFill>
                <a:latin typeface="Tahoma"/>
              </a:rPr>
              <a:t>優先旅客服務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B91-0D34-455B-990F-AC3F16E7B1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92d5b"/>
                </a:solidFill>
                <a:latin typeface="Tahoma"/>
              </a:rPr>
              <a:t>PPS</a:t>
            </a:r>
            <a:r>
              <a:rPr b="1" lang="zh-TW" sz="4400" spc="-1" strike="noStrike">
                <a:solidFill>
                  <a:srgbClr val="892d5b"/>
                </a:solidFill>
                <a:latin typeface="Tahoma"/>
              </a:rPr>
              <a:t>所享有的利益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增加免費行李重量的額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自動飛行確認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候補的優先權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雜誌優待訂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額外項目的打折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45472"/>
                </a:solidFill>
                <a:latin typeface="Tahoma"/>
              </a:rPr>
              <a:t>座位餐點模式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45472"/>
                </a:solidFill>
                <a:latin typeface="Tahoma"/>
              </a:rPr>
              <a:t>－這些只是開始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29D-6A3A-46FB-B3BA-A9A666ACF1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举足轻重 科技</cp:keywords>
  <dc:language>en-US</dc:language>
  <cp:lastModifiedBy/>
  <cp:revision>0</cp:revision>
  <dc:subject/>
  <dc:title/>
</cp:coreProperties>
</file>