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39C-56CA-4E63-9898-672B850F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496-0E71-4ED6-89DE-1F8BBEFA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867-9848-4664-BFBB-EB06211D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A6F-733C-4167-B55A-4BBBE972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FAE-B586-4FEB-993C-371B8C05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C6E-E27F-4890-B6AC-B4AA5127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8CA-F0BF-446D-8A41-568570C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1CF-0C0A-4E13-B90F-32063934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8A8-EEB2-4260-BF6C-A9E41F9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526-A360-4F8F-AC8C-D963B554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59C-EEDA-420E-AF2B-1A020749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326-00D2-4777-8799-D6D14343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"/>
          <p:cNvSpPr/>
          <p:nvPr/>
        </p:nvSpPr>
        <p:spPr>
          <a:xfrm>
            <a:off x="8686800" y="6465960"/>
            <a:ext cx="533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C658-B394-4665-B86C-9752EE4B05D3}" type="slidenum">
              <a:rPr b="0" lang="en-US" sz="1800" spc="-1" strike="noStrike">
                <a:solidFill>
                  <a:srgbClr val="200b5b"/>
                </a:solidFill>
                <a:latin typeface="宋体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57F1-2A84-4121-BBD3-86831910A25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19320" y="4572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华文行楷"/>
                <a:ea typeface="华文行楷"/>
              </a:rPr>
              <a:t>实验   矩阵、向量和线性方程组的运算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2178000"/>
            <a:ext cx="36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黑体"/>
              </a:rPr>
              <a:t>试验目的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971800"/>
            <a:ext cx="7238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200b5b"/>
                </a:solidFill>
                <a:latin typeface="黑体"/>
                <a:ea typeface="黑体"/>
              </a:rPr>
              <a:t>掌握矩阵初等变换、求矩阵的秩、求向量组的最大无关组操作。熟悉非齐次方程组求通解的方法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457200"/>
            <a:ext cx="731520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五、线性方程组的通解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447920"/>
          <a:ext cx="5956200" cy="29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447920"/>
                    <a:ext cx="595620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447920" y="457200"/>
          <a:ext cx="5689440" cy="17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57200"/>
                    <a:ext cx="568944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447920" y="2286000"/>
          <a:ext cx="5460840" cy="176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286000"/>
                    <a:ext cx="546084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447920" y="4114800"/>
          <a:ext cx="6730920" cy="24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4114800"/>
                    <a:ext cx="673092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57200"/>
            <a:ext cx="731520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六、实验内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13716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将下列矩阵化为行阶梯形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19520" y="2057400"/>
          <a:ext cx="2819160" cy="17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057400"/>
                    <a:ext cx="28191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40384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上矩阵的秩，并用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rref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化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7242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两向量的模与夹角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5334120"/>
            <a:ext cx="6629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1=[1  -1  0  1 ]         a2=[2  0  1  0 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457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下列向量的最大无关组，并把其它向量用最大无关组表示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81080" y="1676520"/>
          <a:ext cx="5829480" cy="110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676520"/>
                    <a:ext cx="58294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447920" y="2971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下列方程组的通解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133720" y="3657600"/>
          <a:ext cx="4533840" cy="181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657600"/>
                    <a:ext cx="45338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457200"/>
            <a:ext cx="2362320" cy="64260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黑体"/>
              </a:rPr>
              <a:t>预备知识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219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实现矩阵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初等行变换命令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8892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(1)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交换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第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行与第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j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行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([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j]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=A([j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i]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32767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(2)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将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第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行乘以数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(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=k*A(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46483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(3)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将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第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j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行的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倍加到第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行上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(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=A(i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+k*A(j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:)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838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矩阵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秩命令：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rank(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1523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将矩阵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化为最简行阶梯形矩阵命令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rref(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2743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两个向量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与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内积命令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dot(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9164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求向量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长度命令：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norm(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73800" y="4648320"/>
            <a:ext cx="271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、将计算结果表示成分数形式用命令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format  r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380880"/>
            <a:ext cx="678168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一、矩阵行变换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1371600"/>
          <a:ext cx="6362640" cy="36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371600"/>
                    <a:ext cx="636264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457200"/>
            <a:ext cx="731520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二、矩阵的秩与最简行阶梯形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84200" y="1397160"/>
          <a:ext cx="6489720" cy="35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4200" y="1397160"/>
                    <a:ext cx="64897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457200"/>
            <a:ext cx="731520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三、向量的内积与夹角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066680"/>
            <a:ext cx="739116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求两个行向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1=[1  -1  0  1 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a2=[2  0  1  0 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的内积以及它们之间的夹角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52480" y="3809880"/>
          <a:ext cx="5715000" cy="10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809880"/>
                    <a:ext cx="571500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752480" y="5181480"/>
          <a:ext cx="2146320" cy="96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5181480"/>
                    <a:ext cx="21463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457200"/>
            <a:ext cx="7315200" cy="703440"/>
          </a:xfrm>
          <a:prstGeom prst="rect">
            <a:avLst/>
          </a:prstGeom>
          <a:gradFill rotWithShape="0">
            <a:gsLst>
              <a:gs pos="0">
                <a:srgbClr val="f7dd99"/>
              </a:gs>
              <a:gs pos="100000">
                <a:srgbClr val="eeb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隶书"/>
              </a:rPr>
              <a:t>四、向量的内积与夹角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371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给定向量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2133720"/>
          <a:ext cx="5829120" cy="110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133720"/>
                    <a:ext cx="5829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71600" y="3505320"/>
            <a:ext cx="7391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黑体"/>
              </a:rPr>
              <a:t>求该向量组的秩和一个最大无关组，并将其余向量用最大无关组线性表出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447920" y="457200"/>
          <a:ext cx="365760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57200"/>
                    <a:ext cx="3657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447920" y="990720"/>
          <a:ext cx="6916680" cy="234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990720"/>
                    <a:ext cx="691668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447920" y="3809880"/>
          <a:ext cx="7038720" cy="239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809880"/>
                    <a:ext cx="703872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447920" y="457200"/>
          <a:ext cx="336528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57200"/>
                    <a:ext cx="3365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447920" y="1066680"/>
          <a:ext cx="7467480" cy="176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066680"/>
                    <a:ext cx="746748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447920" y="3035160"/>
          <a:ext cx="5473440" cy="237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035160"/>
                    <a:ext cx="54734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47920" y="5715000"/>
          <a:ext cx="604512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5715000"/>
                    <a:ext cx="6045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矩阵 向量 线性方程组</cp:keywords>
  <dc:language>en-US</dc:language>
  <cp:lastModifiedBy/>
  <cp:revision>0</cp:revision>
  <dc:subject/>
  <dc:title/>
</cp:coreProperties>
</file>