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glass.wav" ContentType="audio/x-wav"/>
  <Override PartName="/ppt/media/laser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4A2-C7D8-433D-8A58-3EB44AFB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49B-BA7F-4F84-BD35-24B7DC4E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D2D-6241-4171-B9FD-B056C8D8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1C-0A46-4E9D-A118-8BE511AF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2C850-629B-4408-B9F5-D938268E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5A4DE-130B-4568-AACC-3AD5BEB5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5C45-911B-48FD-9A97-05F22031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80C2-62E7-4CAC-8245-C9C9336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D0B51-5917-4F7C-80E9-4C553F2E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C65BE-775B-4C56-849A-2D542B8C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4B4B-E134-4435-8830-ACB69BD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740-E2B0-49C8-B462-AE8A8481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B1811-3126-412A-851C-457107D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B3F53-9F4A-4443-92D4-A668E5F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2F152-4F72-4D95-8445-49CFB45E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9C71E-90D2-4EC4-8F25-AA8B580D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8B808-68DF-49BA-AC8E-8136FDB1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E38-3996-41AF-A5EF-12D9E810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9E6-0E33-454E-AFFD-2D3FAB77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3F6-B2E7-416D-B79D-44388F5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307-0EDA-495C-BA7F-8DE77170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6A9-8EA3-48E0-8D33-45D1BAB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110-F75F-4BC6-A280-7B3D2A2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300-E71D-4121-8952-1F7F929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0D52-BE71-4C39-8131-0E16C5E86CE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E802-D4C7-4BF0-A470-500FD6C8418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71800" y="1654200"/>
            <a:ext cx="246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科学记数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2728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复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3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乘方运算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意义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8600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计算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254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70080" y="3114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70080" y="39085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70080" y="4746600"/>
            <a:ext cx="2568600" cy="1260360"/>
            <a:chOff x="3070080" y="4746600"/>
            <a:chExt cx="2568600" cy="1260360"/>
          </a:xfrm>
        </p:grpSpPr>
        <p:sp>
          <p:nvSpPr>
            <p:cNvPr id="130" name=""/>
            <p:cNvSpPr/>
            <p:nvPr/>
          </p:nvSpPr>
          <p:spPr>
            <a:xfrm>
              <a:off x="3070080" y="4746600"/>
              <a:ext cx="256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…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122000">
              <a:off x="3825720" y="499068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73280" y="54864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个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214280"/>
            <a:ext cx="8534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看以下数据资料，对这些较大的数字，我们可以怎样来表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北京故宫的占地面积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720000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米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一只苍蝇腹内细菌多达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8 000 000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光的速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00 000 000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米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1066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把一个绝对值大于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数表示成</a:t>
            </a:r>
            <a:r>
              <a:rPr b="0" lang="zh-CN" sz="3600" spc="-1" strike="noStrike">
                <a:solidFill>
                  <a:srgbClr val="ff237c"/>
                </a:solidFill>
                <a:latin typeface="Arial"/>
              </a:rPr>
              <a:t>a×10</a:t>
            </a:r>
            <a:r>
              <a:rPr b="0" lang="zh-CN" sz="3600" spc="-1" strike="noStrike" baseline="30000">
                <a:solidFill>
                  <a:srgbClr val="ff237c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形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其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整数位只有一位的数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整数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，使用的是科学记数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65640" y="38545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3440" y="3809880"/>
            <a:ext cx="335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用科学记数法表示一个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位整数时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的指数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48760" y="457200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例题讲解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927000"/>
            <a:ext cx="8915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、用科学记数法表示下列各数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①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中国森林面积约有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28 630 00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公顷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②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全世界人口数大约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6100 000 00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人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3581280"/>
            <a:ext cx="8610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求下列用科学记数法表示的数的原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①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2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② 6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③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25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④ 1.234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8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试一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2193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用科学记数法表示一个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位整数时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指数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；用科学记数法表示一个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位整数时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指数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720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2286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6880" y="3886200"/>
            <a:ext cx="881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已知光的速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00 000 00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米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秒，太阳光到达地球的时间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秒。计算太阳与地球的距离大约多少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千米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28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归纳总结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1430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科学记数法把绝对值大于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数表示成</a:t>
            </a:r>
            <a:r>
              <a:rPr b="0" lang="zh-CN" sz="3600" spc="-1" strike="noStrike">
                <a:solidFill>
                  <a:srgbClr val="ff237c"/>
                </a:solidFill>
                <a:latin typeface="Arial"/>
              </a:rPr>
              <a:t>a×10</a:t>
            </a:r>
            <a:r>
              <a:rPr b="0" lang="zh-CN" sz="3600" spc="-1" strike="noStrike" baseline="30000">
                <a:solidFill>
                  <a:srgbClr val="ff237c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形式，</a:t>
            </a:r>
            <a:r>
              <a:rPr b="0" lang="zh-CN" sz="3600" spc="-1" strike="noStrike">
                <a:solidFill>
                  <a:srgbClr val="ff237c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一定是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整数位只有一位的数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是整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429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用科学记数法表示一个数时，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的指数比整数位数少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44136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803680"/>
            <a:ext cx="73152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教材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P54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练习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1,2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P57    5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63640" y="1268280"/>
            <a:ext cx="482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科学 记数法</cp:keywords>
  <dc:language>en-US</dc:language>
  <cp:lastModifiedBy/>
  <cp:revision>0</cp:revision>
  <dc:subject/>
  <dc:title/>
</cp:coreProperties>
</file>