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F0D-7831-4CDE-B963-E52BF5C1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869-FC57-4175-8A50-81B1F3BA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917F-0945-4A1B-90D8-800404A5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E9A-AEB6-4844-9EC7-48EF353E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653-D53C-4A95-8650-F719D94F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921-4707-48E3-AD49-D322D1EB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C71-CE6E-4DAE-812E-52DEF0A6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115-2C6E-4C3B-A180-AFE08446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1BF-EA5B-4A9C-83E6-24DB078C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A1E-73D6-4D66-AF0D-A06AF5C8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CC9-2579-431A-804B-22523E72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135-8048-49C8-B535-D905B55A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8FF4-1ED4-4136-94A0-EDCD77D367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旅行社的采购管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本章的教学目的与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227664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本章的学习，了解旅行社旅游服务采购的内涵与任务；了解旅行社协作网络的建立与旅游服务采购的关系；掌握旅行社旅游服务采购的管理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2544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本章的教学重点与难点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8560" y="50817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旅行社旅游服务采购的管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章   旅行社的采购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一节   旅行社旅游服务的采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07008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二节   旅行社协作网络与旅游服务的采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00860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三节   旅行社旅游服务采购的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 旅行社旅游服务的采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77156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旅行社旅游服务采购的内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7874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旅行社旅游服务采购的任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  旅行社协作网络与旅游服务的采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9400" y="1852560"/>
            <a:ext cx="72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与交通部门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4600" y="2422440"/>
            <a:ext cx="79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、与住宿部门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4600" y="2990880"/>
            <a:ext cx="81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、与餐饮部门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74600" y="3554280"/>
            <a:ext cx="72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、与参观游览部门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74600" y="4124160"/>
            <a:ext cx="79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五、与购物商店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7560" y="4718160"/>
            <a:ext cx="81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六、与娱乐部门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74600" y="5276880"/>
            <a:ext cx="81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七、与保险公司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74600" y="5865840"/>
            <a:ext cx="72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八、与相关旅行社的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877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  旅行社旅游服务采购的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9400" y="1852560"/>
            <a:ext cx="72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建立广泛的采购协作网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74600" y="2473200"/>
            <a:ext cx="79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、正确处理保证供应与降低成本的关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74600" y="3105000"/>
            <a:ext cx="81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、正确处理集中采购与分散采购的关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4600" y="3745080"/>
            <a:ext cx="72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、正确处理预定与退定的关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74600" y="4390920"/>
            <a:ext cx="79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五、加强对采购合同的管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旅行社 采购 管理</cp:keywords>
  <dc:language>en-US</dc:language>
  <cp:lastModifiedBy/>
  <cp:revision>0</cp:revision>
  <dc:subject/>
  <dc:title/>
</cp:coreProperties>
</file>