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F0A-309C-44BB-97D1-6ED670C4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7BB-BA8C-4BBC-A836-7EC48B7E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593-2A34-4F23-A4B3-28FE4BE7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221-B30C-47F2-91D0-C82CA90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C70-D524-4EFA-966A-C29B0200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CB0-FB0D-4789-AC98-9FCD2C5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E56-4204-4153-B9CE-E6681685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645-96A6-4BEF-A058-72EF2BE7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E5A-219D-4EE4-A6C9-D2C02F07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E04-A4C7-4C7B-B18D-73D60B2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B04-FF75-47BB-A96B-44CA034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24C-0F8B-4AB5-B83D-1E1AEC2B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1F11-6E56-4830-87F7-94026EA3E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旅行社的财务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73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目的与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9461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本章的学习，了解旅行社资本金的构成；掌握旅行社六定资产与固定资产的管理；掌握旅行社成本费用的管理；掌握旅行社营业收入与利润的管理；了解旅行社的税金管理；掌握旅行社的结算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1911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重点与难点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4827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流动资产和固定资产的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8560" y="5348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成本费用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58816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营业收入与利润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八章   旅行社的财务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213372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节   旅行社流动资产和固定资产的管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6960" y="307008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二节   旅行社成本费用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6960" y="40086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三节   旅行社营业收入与利润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9482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四节   旅行社的结算管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 旅行社流动资产和固定资产的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0131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流动资产的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3029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固定资产的管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  旅行社成本费用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20131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的成本与费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029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成本费用的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 旅行社营业收入与利润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771560"/>
            <a:ext cx="75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营业收入的概念、构成和核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7874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应收帐款的管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37908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旅行社利润的管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    旅行社的结算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20131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的国际结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3029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的国内结算管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行社 财务管理</cp:keywords>
  <dc:language>en-US</dc:language>
  <cp:lastModifiedBy/>
  <cp:revision>0</cp:revision>
  <dc:subject/>
  <dc:title/>
</cp:coreProperties>
</file>