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3AC-5D24-45FA-9F97-E1EA9F41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EC4-2BA9-4D35-B37A-2CDEF593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E43-A0BF-40E4-84D9-1C2B4A0E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3F7-4F79-42EF-A17B-65E89BE0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815-A2ED-4766-9BE5-04995A50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962-2FBB-4615-A7DA-5B855BDF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43F-DE73-4823-AEA9-9073C84C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1DC-7AE4-4518-B7DE-D7396F39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B21-D2C9-433C-9187-06AE5ED6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1D5-C69B-4578-BEDE-4582075A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913-FFD3-4676-B49B-1D49D025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613-4269-4EC5-9842-62DB5463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2411-1CDE-4113-944F-F58F326A2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_水边的阿狄丽娜.MP3" descr=""/>
          <p:cNvPicPr/>
          <p:nvPr/>
        </p:nvPicPr>
        <p:blipFill>
          <a:blip r:embed="rId2"/>
          <a:stretch/>
        </p:blipFill>
        <p:spPr>
          <a:xfrm>
            <a:off x="8172360" y="623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xinsrc_cbcb9086b41011d6b5d200b0d03f0b06"/>
          <p:cNvPicPr/>
          <p:nvPr/>
        </p:nvPicPr>
        <p:blipFill>
          <a:blip r:embed="rId3"/>
          <a:stretch/>
        </p:blipFill>
        <p:spPr>
          <a:xfrm>
            <a:off x="1979640" y="2060640"/>
            <a:ext cx="4486320" cy="403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10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91600" y="33336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轮椅上的霍金》优质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465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316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333399"/>
                </a:solidFill>
                <a:latin typeface="华文彩云"/>
                <a:ea typeface="华文彩云"/>
              </a:rPr>
              <a:t>课后作业</a:t>
            </a:r>
            <a:r>
              <a:rPr b="1" lang="en-US" sz="4400" spc="-1" strike="noStrike">
                <a:solidFill>
                  <a:srgbClr val="333399"/>
                </a:solidFill>
                <a:latin typeface="华文彩云"/>
                <a:ea typeface="华文彩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7632720" cy="26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以“轮椅上的霍金，我想对您说”为题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写一段话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 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课外阅读（选其一）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假如给我三天光明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海伦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凯勒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钢铁是怎样炼成的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奥斯特洛夫斯基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042920" y="2912760"/>
            <a:ext cx="7131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霍金先生，病魔已将您永远固定在轮椅上，你不认为命运让你失去太多了吗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908000" y="1647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方正北魏楷书简体"/>
              </a:rPr>
              <a:t>悲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886120" y="4005360"/>
            <a:ext cx="15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.  .  .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4932360" y="2249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xinsrc_cbcb9086b41011d6b5d200b0d03f0b06"/>
          <p:cNvPicPr/>
          <p:nvPr/>
        </p:nvPicPr>
        <p:blipFill>
          <a:blip r:embed="rId20"/>
          <a:stretch/>
        </p:blipFill>
        <p:spPr>
          <a:xfrm>
            <a:off x="1690560" y="1628640"/>
            <a:ext cx="518652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8288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霍金的魅力不仅在于他是一个充满传奇色彩的物理天才，更因为他是一个令人折服的生活强者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755640" y="191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虽然，他的身体一点也没有离开过轮椅，但是，他的思维却飞出了地球，飞出了太阳系，飞出了银河系，飞到了上百亿光年外的宇宙深处，飞向了神秘莫测的黑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1522800" y="3357720"/>
            <a:ext cx="5284080" cy="2503440"/>
            <a:chOff x="1522800" y="3357720"/>
            <a:chExt cx="5284080" cy="2503440"/>
          </a:xfrm>
        </p:grpSpPr>
        <p:sp>
          <p:nvSpPr>
            <p:cNvPr id="58" name="Text Box 4"/>
            <p:cNvSpPr/>
            <p:nvPr/>
          </p:nvSpPr>
          <p:spPr>
            <a:xfrm>
              <a:off x="2459520" y="3357720"/>
              <a:ext cx="73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5661360" y="3375000"/>
              <a:ext cx="114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2060640" y="3933720"/>
              <a:ext cx="114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2109960" y="4581360"/>
              <a:ext cx="155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  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1522800" y="5157720"/>
              <a:ext cx="73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98288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霍金的魅力不仅在于</a:t>
            </a:r>
            <a:r>
              <a:rPr b="1" lang="zh-CN" sz="3700" spc="-1" strike="noStrike" u="sng">
                <a:solidFill>
                  <a:srgbClr val="333399"/>
                </a:solidFill>
                <a:uFillTx/>
                <a:latin typeface="Arial"/>
              </a:rPr>
              <a:t>他是一个充满传奇色彩的物理天才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，更因为</a:t>
            </a:r>
            <a:r>
              <a:rPr b="1" lang="zh-CN" sz="3700" spc="-1" strike="noStrike" u="sng">
                <a:solidFill>
                  <a:srgbClr val="333399"/>
                </a:solidFill>
                <a:uFillTx/>
                <a:latin typeface="Arial"/>
              </a:rPr>
              <a:t>他是一个令人折服的生活强者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。他</a:t>
            </a:r>
            <a:r>
              <a:rPr b="1" lang="zh-CN" sz="3700" spc="-1" strike="noStrike" u="sng">
                <a:solidFill>
                  <a:srgbClr val="333399"/>
                </a:solidFill>
                <a:uFillTx/>
                <a:latin typeface="Arial"/>
              </a:rPr>
              <a:t>不断求索的科学精神和勇敢顽强的人格力量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深深地感动了大众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806436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我的手指还能活动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我的大脑还能思维；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我有终生追求的理想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有我爱和爱我的亲人和朋友；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对了，我还有一颗感恩的心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19240" y="771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Verdana"/>
                <a:ea typeface="楷体_GB2312"/>
              </a:rPr>
              <a:t>依然充满恬静的微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DE8-E9D2-4FBB-907D-D88C13E56C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96300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Verdana"/>
                <a:ea typeface="华文彩云"/>
              </a:rPr>
              <a:t>霍金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68360" y="1989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上帝既造就天才，也造就傻瓜，这不取决于天赋，完全是个人努力程度不同的结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当你面临着夭折的可能性，你就会意识到，生命是宝贵的，你有大量的事情要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0:25:21Z</dcterms:created>
  <dc:creator/>
  <dc:description/>
  <cp:keywords>幻灯片之家 http:/www.eeppt.com</cp:keywords>
  <dc:language>en-US</dc:language>
  <cp:lastModifiedBy/>
  <dcterms:modified xsi:type="dcterms:W3CDTF">2015-07-20T01:29:5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