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70-2600-4EE8-A4C4-F9B10A3F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A5C-7330-41CF-BC99-ED538AA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310-0DC7-4BDC-9635-A097276C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00B-4DB5-44A7-B0F4-97B01B78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AF8C-0E2E-4AA6-8338-EF867094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58D-F200-4DAA-8FEF-3DF9021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072D-021B-4124-BF03-1E08E40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F62-BF0B-408B-A98E-614C046D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4417-BD42-422F-916F-157AEB5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8F0F-0382-4FAC-B62A-08BD5F4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8F5F-B7E6-4F5F-8A7B-354E994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BF3-7586-4359-99C4-B108915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03B-1D51-49AA-825B-C224E2D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3A6-7C48-45FA-9CE9-5F681A3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7B3-36C7-4A45-862D-36682DC0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351-B7D9-4BF3-8AA1-11ED8F2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514-5AB6-4DCE-960C-1B1DD4DE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240-2856-4F49-BB57-38294DC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DEB-9437-4F26-AF84-46AF1FE3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CF3-EDC5-4933-8A5B-EEB6060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2FF-7FE8-458F-B072-F25EA0A7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CCA-CCCB-4EBE-AB14-52DEDD2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2D3-C7F8-4A5A-A256-EF615DF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22C-2A68-4D26-B7A3-A086036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16A-AC4F-42A9-99D2-50FA2AC7574B}" type="slidenum">
              <a:rPr b="0" lang="zh-TW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97A-CD6B-4C8A-919A-E1D8FAC44D93}" type="slidenum">
              <a:rPr b="0" lang="zh-TW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隨著網際網路電子商務蓬勃發展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網路旅遊相關的服務一直是滿重要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發展領域，更成為除了電腦週邊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書籍產品以外，網路使用者上網交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易的主要目的之一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結         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電子商務的時代已經來臨了！現在旅遊風氣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盛行，國內旅遊網站如雨後春筍，在旅遊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站上占有一席之地，除了必須提供實用、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時的旅遊資訊而且操作便利外，結合飯店成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為便捷的聯合訂房中心、提供最廉價機票、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優惠房價或旅遊行程等，都是旅遊網站搶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的策略，希望能提供我們消費者更便利、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惠的選擇 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全 球 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在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國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年的電子商務總營收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530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億美元中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網的市場就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了其中三分之一的收入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全 球 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年有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1780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萬人是透過網路完成訂機票、旅館、租車服務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7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年透過網路完成訂購服務的   人，將超過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3700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萬人，是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兩倍左右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資料來源：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XXX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市場研究公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820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根據資策會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MIC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調查顯示，目前在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最受歡迎的電子商務商品是旅遊相關的服務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5652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主 要 分 成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7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原生旅遊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傳統旅遊企業經營之旅遊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入口網站、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ICP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B2B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仲介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原 生 旅 遊 網 站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SzPct val="1183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根據旅遊業界估計，每年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約有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300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億元的消費市場，旅遊類就佔了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52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％，旅遊網站市場潛力可見一斑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200" spc="-1" strike="noStrike">
                <a:solidFill>
                  <a:srgbClr val="ccecff"/>
                </a:solidFill>
                <a:latin typeface="Arial"/>
              </a:rPr>
              <a:t>傳統旅遊企業經營之旅遊網站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主要提供服務：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DIY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行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網路訂房及訂票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SzPct val="118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網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轉投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華網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轉投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遊入口網站、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ICP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只是純粹提供旅遊內容，不負責線上下單的工作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番薯藤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B2B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仲 介 網 站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SzPct val="1183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這類網站主要是類似旅行社和消費者之間的交流管道，以仲介的角色進行經營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，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一方面提供消費者買賣平台，一方面提供旅遊產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網旅遊服務有限公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商机</cp:keywords>
  <dc:language>en-US</dc:language>
  <cp:lastModifiedBy/>
  <cp:revision>0</cp:revision>
  <dc:subject/>
  <dc:title/>
</cp:coreProperties>
</file>