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09320" y="152280"/>
            <a:ext cx="63248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2303640" y="1268280"/>
            <a:ext cx="3960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5653080" y="35020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陈寿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3600" y="1628640"/>
            <a:ext cx="3248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3333"/>
                </a:solidFill>
                <a:latin typeface="Times New Roman"/>
              </a:rPr>
              <a:t>隆中对</a:t>
            </a:r>
            <a:r>
              <a:rPr b="1" lang="en-US" sz="4500" spc="-1" strike="noStrike">
                <a:solidFill>
                  <a:srgbClr val="333333"/>
                </a:solidFill>
                <a:latin typeface="Times New Roman"/>
              </a:rPr>
              <a:t>PPT</a:t>
            </a:r>
            <a:r>
              <a:rPr b="1" lang="zh-CN" sz="4500" spc="-1" strike="noStrike">
                <a:solidFill>
                  <a:srgbClr val="333333"/>
                </a:solidFill>
                <a:latin typeface="Times New Roman"/>
              </a:rPr>
              <a:t>课件</a:t>
            </a:r>
            <a:endParaRPr b="0" lang="en-US" sz="45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31046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因此，刘备就去拜访诸葛亮，总共去了三次，才见到诸葛亮。于是叫（旁边的人）避开说：“汉朝的统治衰败了，奸巨董卓、曹操之流先后专 权，皇上遭难出奔。我不衡量自己的德行能否服人，估计自己的力量能否胜人，要想在天下仰张正义，但是缺乏智谋，因此失败，一直到今天。 但是我的志向还不罢休，您看该采取怎样的办法 ？”</a:t>
            </a: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882440" y="762120"/>
            <a:ext cx="5340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亮答曰：“自董卓已来，豪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并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起，跨州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郡者不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胜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数。曹操比于袁绍，则名微而众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寡，然操遂能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克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绍，以弱为强者，非惟天时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抑亦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谋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也。今操已拥百万之众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挟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天子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令诸侯，此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诚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不可与争锋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651640" y="119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一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064960" y="2163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尽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743200" y="3154320"/>
            <a:ext cx="204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战胜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476360" y="40766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谋划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451600" y="518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确实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400800" y="4191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挟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851280" y="1197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通“以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9280" y="329004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诸葛亮回答说：“自从董卓以来，英雄豪杰纷纷起兵，占领州县的数也数不清。曹操跟袁绍相比，名气低微并且兵力薄弱。但曹操最终能战胜袁绍，从弱者变为强者的原因，不仅是机时好，而且也是人的筹划得当。现在曹操已经拥有百万的兵力，挟持皇帝来号召令诸侯，这确实不可以跟他争强争胜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113920" y="855720"/>
            <a:ext cx="5057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孙权据有江东，已历三世，国险而民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附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贤能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之用，此可以为援而不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图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也。荆州北据汉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沔，利尽南海，东连吴会，西通巴、蜀，此用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武之国，而其主不能守，此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殆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天所以资将军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将军岂有意乎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629400" y="1295280"/>
            <a:ext cx="19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依附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88440" y="2233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被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5029200" y="2286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谋取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5029200" y="4221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大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28411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孙权占据江东（长江下游）一带地方，已经经历了三代，地势险要，民众归附。有才能的人被他利用，这只可以把他结为外援，而不可以谋取他。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荆州北面占据汉水中下游一带，一直到南海的物资都能得到，东面接连吴会，西面通往巴郡蜀郡，这是兵家都要争夺的地方，但是它的主人不能守住，这大概是天拿它来资助将军您的，您愿意得到它吗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2030400"/>
            <a:ext cx="88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益州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险塞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沃野千里，天府之土，高祖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之以成帝业。刘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暗弱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张鲁在北，民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国富而不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存恤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。智能之士思得明君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84360" y="2440080"/>
            <a:ext cx="25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险要的地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948360" y="25653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凭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877080" y="3500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富裕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132000" y="3500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昏庸懦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340000" y="4508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爱惜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468360" y="449280"/>
            <a:ext cx="777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益州地势险要，肥沃的田野十分广大，这是自然条件优越，物产丰饶的地方，高祖刘邦靠它创建了汉朝的基业。刘璋昏庸懦弱，张鲁占据北方，人民兴旺国家富裕却不懂得爱惜。有智慧有才能的人想得到贤明的君主来治理。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85800" y="685800"/>
            <a:ext cx="7467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将军既帝室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胄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，信义著于四海，总揽英雄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思贤若渴，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跨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荆、益，保其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岩阻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，西和诸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戎，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抚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夷越，外结好孙权，内修政理；天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有变，则命一上将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将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荆州之军以向宛、洛，将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军身率益州之众出于秦川，百姓孰敢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箪食壶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浆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以迎将军乎？诚于是，则霸业可成，汉室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兴矣。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32480" y="1068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后代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756520" y="1905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占据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765800" y="2743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安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518280" y="3611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带领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507400" y="449568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谁 （用）箪盛着饭食（用）壶装着酒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724280" y="1905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险要的地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79280" y="289440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将军您既然是皇家的后代，诚信仁义显明于天下，广泛地罗致英雄人物，思慕贤人如口渴急于喝水一般，如果占据荆、益两个州，守住形势险要的地方，西面与少数民族和好，南面安抚各族人民，国外与东吴孙权友好往来，国内修明政台；等待天下 有变，就命令一个上将军率领荆州的军队向中原一带进攻，将军您亲自率领益州的部队，出兵秦川，老百姓怎么敢不用箪盛着粮食，用壶装着酒浆来迎接您呢？确实如此，那么您的称霸的理想就可以实现，汉代就可以兴旺了。” </a:t>
            </a:r>
            <a:br>
              <a:rPr sz="3200"/>
            </a:b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091960" y="1600200"/>
            <a:ext cx="4954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先主曰：“善！”于是与亮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情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好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日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密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关羽、张飞等不悦，先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解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之曰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孤之有孔明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犹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鱼之有水也。愿诸君勿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复言。”羽飞乃止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651640" y="1982880"/>
            <a:ext cx="12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感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019920" y="299556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解释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276720" y="3986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好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858000" y="1981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一天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447920" y="9144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762120" y="380880"/>
            <a:ext cx="78483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关于</a:t>
            </a: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三国志</a:t>
            </a: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三国志</a:t>
            </a: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是历史散文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作者：陈寿（</a:t>
            </a: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233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隶书"/>
              </a:rPr>
              <a:t>—</a:t>
            </a: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297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），字承祚，巴西安汉（今四川南充市北）人，仕蜀，后在晋任著作郎（史官），著史书</a:t>
            </a: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三国志</a:t>
            </a: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六十五卷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三国志</a:t>
            </a: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分为</a:t>
            </a: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魏书</a:t>
            </a: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蜀书</a:t>
            </a: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吴书</a:t>
            </a: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。属纪传体的分国史。它善于叙事，总是选取最有代表性的事件和情节，进行简洁描述和重点刻划，从而突出中心，表现人物性格物征，文学价值很高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三国志</a:t>
            </a: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在二十四史中，与</a:t>
            </a: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史记</a:t>
            </a: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汉书</a:t>
            </a: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后汉书</a:t>
            </a:r>
            <a:r>
              <a:rPr b="0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一起被称为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隶书"/>
              </a:rPr>
              <a:t>“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四史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  <a:ea typeface="隶书"/>
              </a:rPr>
              <a:t>”</a:t>
            </a:r>
            <a:r>
              <a:rPr b="0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179280" y="1775880"/>
            <a:ext cx="83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刘备说：“好啊！”于是跟诸葛亮的感情一天比一天亲密。 </a:t>
            </a:r>
            <a:br>
              <a:rPr sz="3600"/>
            </a:b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关羽张飞等不高兴，刘备劝解他们说：“我得到孔明，就像鱼得到了水一样。希望各位不要再说了。”关羽、张飞才停止（不说了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) 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45720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总结：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320" y="1268280"/>
            <a:ext cx="9115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方正舒体"/>
                <a:ea typeface="方正舒体"/>
              </a:rPr>
              <a:t>隆  中  对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600200" y="5335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从各方面来描写诸葛亮这个中心人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19320" y="12952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第一部分：诸葛亮隐居的情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295280" y="19810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第二部分：徐庶推荐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295280" y="2895480"/>
            <a:ext cx="73915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第三部分：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刘备三顾茅庐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隆中对策</a:t>
            </a: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表现诸葛亮的远见卓识和杰出的才能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295280" y="4038480"/>
            <a:ext cx="69343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第四部分：刘备对关、张的解释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                     </a:t>
            </a:r>
            <a:r>
              <a:rPr b="0" lang="zh-CN" sz="2000" spc="-1" strike="noStrike">
                <a:solidFill>
                  <a:srgbClr val="333333"/>
                </a:solidFill>
                <a:latin typeface="Times New Roman"/>
              </a:rPr>
              <a:t>为了强调诸葛亮的重要作用，使形象更加完美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1066680" y="1371600"/>
            <a:ext cx="228600" cy="3124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838080" y="52578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本文简要介绍诸葛亮隐居隆中的生活情况，重点写他隆中对策，表现了他政治远见和高度的分析能力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0" y="837720"/>
            <a:ext cx="80312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词语积累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、一词多义：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谓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说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谓为信然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对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··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说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谓先主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已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停止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然志犹未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通“以”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自董卓已来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       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已经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  已历三世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信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确实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谓为信然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诚信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信义著于四海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同“伸”，伸张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欲信大义于天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然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这样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谓为信然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但是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然志犹未已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用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因此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遂用猖獗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利用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贤能为之用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运用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此用武之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324000" y="1328040"/>
            <a:ext cx="828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、词性活用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箪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用箪    名词作状语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百姓孰敢不箪食壶浆以迎将军者乎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壶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用水壶   名词作状语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、通假字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信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通“伸”伸张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欲伸大义于天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已，通“以”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 自董卓已来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871800" y="1267560"/>
            <a:ext cx="1612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．句式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）判断句。诸葛孔明者，卧龙也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）省略句。君与俱来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（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）倒装句。时人莫之许也 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68360" y="2574720"/>
            <a:ext cx="551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二、新课讲授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、找出文中所有的人物名字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明确：亮、管仲、乐毅、崔州平、徐庶元直、先主（刘备）、董卓、曹操、袁绍、孙权、高祖、刘邦、刘表、刘璋、张鲁、关羽、张飞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324000" y="2829600"/>
            <a:ext cx="79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、、如此众多的人物，他们之间是什么关系、他们的身份、地位是怎样？请同学们分成四人小组，探讨这个问题，记得提供原文根据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95280" y="270828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明确：诸葛亮：隐居隆中，种田人。（“亮躬耕陇亩”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管仲、乐毅：春秋战国有名的将相，辅佐国君成霸业，诸葛亮自比二人。（“每自比于管仲、乐毅，，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崔州平、徐庶元直：是诸葛亮的朋友（“与亮友善，谓为信然”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0" y="4762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先主（刘备）：是帝室的后代，其父中山靖王刘胜是汉景帝刘启的儿子，以光复汉室为由屯兵新野，三顾茅庐，请诸葛亮出山。为什么？请在原文中找答案。（“孤不度德量力，欲信大义于天下，而智术短浅，遂用猖撅，至于今日，然志犹未已”；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董卓：杀死东汉少帝刘辩，独掌大权，导致天下大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曹操：开始没有名声，兵力也弱，现在有百万军队，挟持皇帝号令诸侯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袁绍：汉末冀州牧，几十万军队与几万人作战，大败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孙权：继承父兄之业占据江东，是江东之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高祖：刘邦，西汉开国皇帝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刘表：荆州牧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刘璋：益州牧，昏庸懦弱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张鲁：占据汉中，在益州的北面，国富民强却不知爱惜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关羽、张飞：是刘备的手下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时代背景：东汉末年，汉室倾颓，群雄割据，国家处于分裂状态。汉室后裔刘备想兴复汉室，完成统一大业，但苦于势单力薄，无力与曹操、孙权抗衡。于是，刘备广揽人才，筹谋大计，壮大力量。公元</a:t>
            </a:r>
            <a:r>
              <a:rPr b="0" lang="en-US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07</a:t>
            </a:r>
            <a:r>
              <a:rPr b="0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，徐庶把隐居在隆中（今湖北襄樊市西）的诸葛亮推荐给刘备，刘备就先后三顾茅庐，征询诸葛亮对兴复大业的意见。本文写的就是刘备第三次到草庐时与诸葛亮的谈话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684360" y="1533960"/>
            <a:ext cx="74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、人物的身份、地位现在都清楚了，对于三顾茅庐请诸葛亮出山的刘备来说，哪些人特别重要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明确：曹操和孙权、刘表、刘璋、张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0" y="132696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、诸葛亮替刘备设计的政治蓝图是什么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0" y="2708280"/>
            <a:ext cx="831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明确：诸葛亮替刘备设计的政治蓝图是“霸业可成”“汉室可兴”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194292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、诸葛亮为达到这个目标提出了什么战略方针？根据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明确：内政和外交方面应遵循的方针是：“西和诸戎，南抚夷越，外结好孙权，内修政理”。诸葛亮先论述了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占据荆州的必要性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，“荆州北据汉、沔，利尽南海，东连吴会，西通巴、蜀，此用武之国”。再论述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占据荆州的可能性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，“其主不能守”。又论述了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占据益州的必要性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，“益州险塞，沃野千里，天府之土，高祖因之以成帝业”。最后论述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占据益州的可能性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，“刘璋暗弱，张鲁在北，民殷国富而不知存恤，智能之士思得明君”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-1093680" y="533520"/>
            <a:ext cx="23749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隆中对策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447920" y="228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总的形势：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自董卓以来，豪杰并起，跨州连郡者不可胜数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447920" y="685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曹操靠人谋取胜，不可与争锋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600200" y="1676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江东国险民附，人才济济，不可谋取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600200" y="2743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荆州可取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160020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益州也可取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1219320" y="304920"/>
            <a:ext cx="457200" cy="236196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523880" y="3809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刘备的有利条件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1600200" y="45720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跨有荆益，联吴抗曹，可以图霸业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1219320" y="2895480"/>
            <a:ext cx="380880" cy="2057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AutoShape 14"/>
          <p:cNvSpPr/>
          <p:nvPr/>
        </p:nvSpPr>
        <p:spPr>
          <a:xfrm>
            <a:off x="990720" y="1219320"/>
            <a:ext cx="152280" cy="2819160"/>
          </a:xfrm>
          <a:custGeom>
            <a:avLst/>
            <a:gdLst>
              <a:gd name="textAreaLeft" fmla="*/ 44640 w 152280"/>
              <a:gd name="textAreaRight" fmla="*/ 152640 w 152280"/>
              <a:gd name="textAreaTop" fmla="*/ 117360 h 2819160"/>
              <a:gd name="textAreaBottom" fmla="*/ 270180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1547640" y="5589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刘备全部采纳了诸葛亮的意见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676520" y="167652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1523880" y="11430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今操已拥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此诚不可与争锋”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1600200" y="22096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孙权据有江东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此可以为援而不可图也。”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3124080" y="28195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其主不能守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将军岂可有意乎”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3657600" y="3352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刘璋暗弱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……”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3962520" y="38098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帝室之胄，信义著于四海，总揽英雄，思贤若渴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0" y="76212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三、赏析本文刻画人物形象的方法。学生细细体味，同桌之间交流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9280" y="1557360"/>
            <a:ext cx="871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使用规范说明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明确：从各个方面描写刻画诸葛亮这个中心人物，是本文最主要的写作特点。开头一段写诸葛亮，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从正面写他的非凡抱负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；徐庶向刘备推荐诸葛亮，则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从侧面来写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。刘诸问答从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正面通过人物自身的语言塑造形象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，充分表现诸葛亮的天才预见，而刘备三顾茅庐、密谈后“与亮情好日密”、关张不悦、刘鱼水相答都从侧面表现诸葛亮的非凡才能。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正面描写与侧面描写相照应</a:t>
            </a:r>
            <a:r>
              <a:rPr b="0" lang="zh-CN" sz="2800" spc="-1" strike="noStrike">
                <a:solidFill>
                  <a:srgbClr val="333333"/>
                </a:solidFill>
                <a:latin typeface="Times New Roman"/>
              </a:rPr>
              <a:t>，使诸葛亮这个人物形象更丰满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4"/>
          <p:cNvSpPr/>
          <p:nvPr/>
        </p:nvSpPr>
        <p:spPr>
          <a:xfrm>
            <a:off x="984240" y="213372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8" name="Picture 4" descr="zhugeliang"/>
          <p:cNvPicPr/>
          <p:nvPr/>
        </p:nvPicPr>
        <p:blipFill>
          <a:blip r:embed="rId2"/>
          <a:stretch/>
        </p:blipFill>
        <p:spPr>
          <a:xfrm>
            <a:off x="304920" y="609480"/>
            <a:ext cx="2019240" cy="4267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743200" y="1523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公元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207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年，刘备屡败，只好投靠刘表，寄居新野，势单力孤。渴求贤者辅佐其成就大业，于是三顾茅庐，问计于诸葛亮。诸葛亮被刘备的三顾之情所打动。这篇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隆中对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就是诸葛亮当时纵谈天下大事的一段记载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179280" y="266328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【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课堂小结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】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本文自始至终围绕着隆中对策这个中心，围绕诸葛亮这个人物形象进行叙事议论，层次极为清晰，结构十分谨严，语言概括精练，人物形象丰满，五百余字的篇幅，内蕴极丰，言简意赅，是史传中的精品。让我们悉心品味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隆中对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，汲取史学文学精华；用心解读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亮，树远大志向，成有用之才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9900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762120" y="1525680"/>
            <a:ext cx="8001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亮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躬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耕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陇亩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好为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梁父吟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。身长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八尺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每自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比于管仲、乐毅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时人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莫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也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惟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博陵崔州平，颖川徐庶元直与亮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善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谓为信然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706760" y="1935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亲自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146680" y="2895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经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537200" y="3916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只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71840" y="4906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说是确实这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886200" y="1935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喜欢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819520" y="1935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田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7709400" y="2895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赞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5638680" y="2925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当时的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395280" y="2365200"/>
            <a:ext cx="7626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诸葛亮亲自在田地里耕种，喜欢唱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梁父吟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》</a:t>
            </a: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。身高八尺，常常把自 己跟管仲、乐毅相比，当时人们不承认他有这种才能。只有博陵的崔州 平，颖川的徐庶跟诸葛亮是好朋友，认为确是这样。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33520" y="1068480"/>
            <a:ext cx="800100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时先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屯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新野。徐庶见先主。先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器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之。谓先主曰：“诸葛孔明者，卧龙也，将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军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岂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愿见之乎？”先主曰：“君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俱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来。”庶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曰：“此人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就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见，不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屈致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也。将军宜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驾顾之。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27720" y="342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难道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823120" y="4449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靠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7391520" y="1477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器重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438280" y="1523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驻扎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4572000" y="4419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委屈招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6172200" y="3429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一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24000" y="260892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imes New Roman"/>
              </a:rPr>
              <a:t>当时刘备在新野驻军。徐庶拜见刘备，刘备十分器重他。徐庶对 刘备说：“诸葛孔明是一条卧龙，您想见他吗？”刘备说：“你和他一齐来。”徐庶说：“这个人只可以去他那里拜访，不可以委屈他召他上门来。 您应当委屈自己去拜访他。”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268000" y="990720"/>
            <a:ext cx="4569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由是先主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诣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亮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凡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三往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见。因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人，曰：“汉室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倾颓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奸臣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窃命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主上蒙尘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孤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度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德量力，欲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信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大义于天下，而智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浅短，遂用猖獗，至于今日。然志犹未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已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谓计将安出？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204000" y="137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拜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13720" y="2362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崩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990720" y="33829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估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6019920" y="1371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才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191120" y="13716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总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343400" y="23623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窃取皇帝的命令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843280" y="342900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通“伸”，伸张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7086600" y="4495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停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02:54:06Z</dcterms:created>
  <dc:creator/>
  <dc:description/>
  <cp:keywords>幻灯片之家 http:/www.eeppt.com</cp:keywords>
  <dc:language>en-US</dc:language>
  <cp:lastModifiedBy/>
  <dcterms:modified xsi:type="dcterms:W3CDTF">2015-07-20T01:23:05Z</dcterms:modified>
  <cp:revision>7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