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E410-4FFD-4E98-86E0-4E8D0F3A0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5658-F658-481E-BCDF-8BDF7BA57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A87A-95E0-47E7-A10F-E0E262FA3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EC4A-0D8A-4C07-BCF2-7FE874D08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3AE2-991E-45B0-86C3-EF497C212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DFD3-2939-4F83-80AD-4A04F059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E9A4-1E9D-4409-8679-C3BFD205D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3F30-84C6-4338-834D-044B6D7E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7A503-2417-457F-B242-213BD887B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C124-B38C-411D-AADC-7FDAFA1B5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0FCA-6FE0-41A6-A501-C0EDF4B4A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C467-3CC9-45A6-8CA7-005A5BB3F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第一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模板网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-WWW.1PPT.COM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A62-89C4-40C3-831A-127E4D473DDB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798480" y="99360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六组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3025440" y="2781360"/>
            <a:ext cx="21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《莫泊桑拜师》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使用规范说明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66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1CB5-004B-40D6-A03F-F28DB2BF6D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4"/>
          <p:cNvSpPr/>
          <p:nvPr/>
        </p:nvSpPr>
        <p:spPr>
          <a:xfrm>
            <a:off x="684360" y="162864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过了一会儿，都德也来了。他一来就谈起巴黎的事情，讲叙着这个贪图享受、寻欢作乐并十分活跃和愉快的巴黎。他只用几句话，就勾画出某人滑稽的轮廓。他用他那独特的、具有南方风味和吸引人的讽刺口吻谈论着一切事物和一切人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……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他的头很小却很漂亮，乌木色的浓密卷发从头上一直披到肩上，和卷曲的胡须连成一片；他习惯用手捋着自己的胡子尖。他的眼睛像切开的长缝，眯缝着，但却从中射出一道墨一样的黑光。也许是由于过度近视，他的眼光有时很模糊；讲话时调子有些像唱歌。他举止活跃，手势生动，具有一切南方人的特征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8" name="Picture 5" descr="拓展学习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1042920" y="263700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楷体_GB2312"/>
              </a:rPr>
              <a:t>小练笔：学了本文后，你有什么收获？观察马路上来往的行人和车辆，抓住特点试写一段话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71" name="Picture 5" descr="拓展学习"/>
          <p:cNvPicPr/>
          <p:nvPr/>
        </p:nvPicPr>
        <p:blipFill>
          <a:blip r:embed="rId2"/>
          <a:stretch/>
        </p:blipFill>
        <p:spPr>
          <a:xfrm>
            <a:off x="611280" y="981000"/>
            <a:ext cx="1935000" cy="4780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06640" y="611820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336699"/>
                </a:solidFill>
                <a:uFillTx/>
                <a:latin typeface="楷体"/>
                <a:ea typeface="楷体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826920" y="1413000"/>
            <a:ext cx="7632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生字，理解生词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正确、流利、有感情地朗读课文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通过莫泊桑拜师的故事，知道，仔细观察、不断积累、勤奋练习是提高写作水平的必由之路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理解课文内容，感受福楼拜的循循善诱和莫泊桑虚心好学、勤学苦练的精神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611280" y="981000"/>
            <a:ext cx="25207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学习目标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"/>
          <p:cNvPicPr/>
          <p:nvPr/>
        </p:nvPicPr>
        <p:blipFill>
          <a:blip r:embed="rId2"/>
          <a:stretch/>
        </p:blipFill>
        <p:spPr>
          <a:xfrm>
            <a:off x="1042920" y="1557360"/>
            <a:ext cx="2305080" cy="3457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5"/>
          <p:cNvSpPr/>
          <p:nvPr/>
        </p:nvSpPr>
        <p:spPr>
          <a:xfrm>
            <a:off x="3635280" y="1596960"/>
            <a:ext cx="4608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福楼拜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中叶法国重要的批判现实主义作家，其作品反映了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848-1871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年间法国的时代风貌，揭露了丑恶鄙俗的资产阶级社会。他的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客观而无动于衷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的创作理论和精雕细刻的艺术风格，在法国文学史上独树一帜。著名作品有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包法利夫人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情感教育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1042920" y="1773360"/>
            <a:ext cx="2146320" cy="324000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3492360" y="1844640"/>
            <a:ext cx="48960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莫泊桑：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9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世纪后半期法国优秀的批判现实主义作家。一生创作了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部长篇小说和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56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篇中短篇小说，他的文学成就以短篇小说最为突出，被誉为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短篇小说之王</a:t>
            </a:r>
            <a:r>
              <a:rPr b="1" lang="zh-CN" sz="2400" spc="-1" strike="noStrike">
                <a:solidFill>
                  <a:srgbClr val="008000"/>
                </a:solidFill>
                <a:latin typeface="Arial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，对后世产生极大影响。著名作品有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项链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羊脂球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、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《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俊友</a:t>
            </a:r>
            <a:r>
              <a:rPr b="1" lang="en-US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》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初读感知"/>
          <p:cNvPicPr/>
          <p:nvPr/>
        </p:nvPicPr>
        <p:blipFill>
          <a:blip r:embed="rId2"/>
          <a:stretch/>
        </p:blipFill>
        <p:spPr>
          <a:xfrm>
            <a:off x="611280" y="981000"/>
            <a:ext cx="2079360" cy="5032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124000" y="2060640"/>
            <a:ext cx="63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用自己喜欢的方式读课文，想想课文主要写了什么内容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3" name="Picture 6" descr="小女孩"/>
          <p:cNvPicPr/>
          <p:nvPr/>
        </p:nvPicPr>
        <p:blipFill>
          <a:blip r:embed="rId3"/>
          <a:stretch/>
        </p:blipFill>
        <p:spPr>
          <a:xfrm>
            <a:off x="755640" y="2060640"/>
            <a:ext cx="1967040" cy="32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971640" y="1773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不，不不！怎么能说没有什么东西好写呢？那富丽堂皇的马车，跟装饰简陋的马车是一样的走法吗？烈日炎炎下的马车是怎样走的？狂风暴雨中的马车是怎样走的？马车上坡时，马怎样用力？车下坡时，赶车人怎样吆喝？他的表情是什么样的？这一些你都能写得清楚吗？你看，怎么会没有什么好写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5" name="Picture 5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5"/>
          <p:cNvSpPr/>
          <p:nvPr/>
        </p:nvSpPr>
        <p:spPr>
          <a:xfrm>
            <a:off x="971640" y="20606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  <a:ea typeface="楷体_GB2312"/>
              </a:rPr>
              <a:t>那富丽堂皇的马车，跟装饰简陋的马车是一样的走法吗？烈日炎炎下的马车是怎样走的？狂风暴雨中的马车是怎样走的？马车上坡时，马怎样用力？车下坡时，赶车人怎样吆喝？他的表情是什么样的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" name="Picture 6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1042920" y="1700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青年人贵在坚持，才气就是坚持写作的结果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971640" y="33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楷体_GB2312"/>
              </a:rPr>
              <a:t>对你所要写的东西，光仔细观察还不够，还要能发现别人没有发现和没有写过的特点。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Picture 6" descr="细读感悟"/>
          <p:cNvPicPr/>
          <p:nvPr/>
        </p:nvPicPr>
        <p:blipFill>
          <a:blip r:embed="rId2"/>
          <a:stretch/>
        </p:blipFill>
        <p:spPr>
          <a:xfrm>
            <a:off x="539640" y="907920"/>
            <a:ext cx="208764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755640" y="1484280"/>
            <a:ext cx="777708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Arial"/>
                <a:ea typeface="华文新魏"/>
              </a:rPr>
              <a:t>              </a:t>
            </a:r>
            <a:r>
              <a:rPr b="1" lang="zh-CN" sz="2800" spc="-1" strike="noStrike">
                <a:solidFill>
                  <a:srgbClr val="008000"/>
                </a:solidFill>
                <a:latin typeface="黑体"/>
                <a:ea typeface="黑体"/>
              </a:rPr>
              <a:t>福楼拜家的星期天 （节选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屠格涅夫仰坐在一个沙发上，用一种轻轻并有点犹豫的声调慢慢地讲着；但是不管什么事情一经他的嘴讲出，就都带上非凡的魅力和极大的趣味。福楼拜转动着蓝色的大眼睛盯着朋友这张白晳的脸，十分钦佩地听着。当他回答时，他的嗓音特别洪亮，仿佛在他那古高卢斗士式的大胡须下面吹响一把军号。他们的谈话很少涉及日常琐事，总是围绕着文学史方面的事件。屠格涅夫也常常带来一些外文书籍，并非常流利地翻译一些歌德和普希金的诗句。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3" name="Picture 6" descr="拓展学习"/>
          <p:cNvPicPr/>
          <p:nvPr/>
        </p:nvPicPr>
        <p:blipFill>
          <a:blip r:embed="rId2"/>
          <a:stretch/>
        </p:blipFill>
        <p:spPr>
          <a:xfrm>
            <a:off x="539640" y="981000"/>
            <a:ext cx="1935360" cy="4780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00:38:26Z</dcterms:created>
  <dc:creator/>
  <dc:description/>
  <cp:keywords>幻灯片之家 http:/www.eeppt.com</cp:keywords>
  <dc:language>en-US</dc:language>
  <cp:lastModifiedBy/>
  <dcterms:modified xsi:type="dcterms:W3CDTF">2015-07-03T11:39:47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